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6.png" ContentType="image/png"/>
  <Override PartName="/ppt/media/image15.jpeg" ContentType="image/jpeg"/>
  <Override PartName="/ppt/media/image1.gif" ContentType="image/gif"/>
  <Override PartName="/ppt/media/image2.gif" ContentType="image/gif"/>
  <Override PartName="/ppt/media/image3.gif" ContentType="image/gif"/>
  <Override PartName="/ppt/media/image11.wmf" ContentType="image/x-wmf"/>
  <Override PartName="/ppt/media/image10.wmf" ContentType="image/x-wmf"/>
  <Override PartName="/ppt/media/image4.jpeg" ContentType="image/jpeg"/>
  <Override PartName="/ppt/media/image5.gif" ContentType="image/gif"/>
  <Override PartName="/ppt/media/image17.wmf" ContentType="image/x-wmf"/>
  <Override PartName="/ppt/media/image6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9E2-04DD-4A9F-94AA-19E9C9B1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509-010E-4B0C-A8A9-23A4169B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5D2-805D-458E-BB09-EDBDB370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79A-6AA4-46AD-AC54-37F037BA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A46-E65F-4DF8-ADFC-518A07BA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B62-10E9-4954-8868-9A4433C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782-3056-4133-BBDD-CD856B9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04D-7F6A-4E2F-9F1F-70BE797A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D5D-F149-407F-919F-E0F8195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8C7-CAD4-434B-80D0-FE308A08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5B0-B623-49BD-AAB0-847B321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569-8E8C-4382-B865-713C82B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B63-C381-4539-9F01-2E43CA07F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png"/><Relationship Id="rId3" Type="http://schemas.openxmlformats.org/officeDocument/2006/relationships/slide" Target="slide3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6.png"/><Relationship Id="rId3" Type="http://schemas.openxmlformats.org/officeDocument/2006/relationships/slide" Target="slide4.xm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0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221940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11280" y="3278160"/>
            <a:ext cx="7848360" cy="60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5280" y="4724280"/>
            <a:ext cx="5545080" cy="7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音楽の知識（基礎編ドリル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2573" t="2584" r="1838" b="6251"/>
          <a:stretch/>
        </p:blipFill>
        <p:spPr>
          <a:xfrm>
            <a:off x="324000" y="260280"/>
            <a:ext cx="8640720" cy="5616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5921280"/>
            <a:ext cx="936720" cy="8654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68360" y="5877000"/>
            <a:ext cx="2160720" cy="576360"/>
          </a:xfrm>
          <a:prstGeom prst="wedgeRoundRectCallout">
            <a:avLst>
              <a:gd name="adj1" fmla="val -58449"/>
              <a:gd name="adj2" fmla="val 7148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ここをクリックしてＱ２へ進も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3127" t="3125" r="1270" b="5710"/>
          <a:stretch/>
        </p:blipFill>
        <p:spPr>
          <a:xfrm>
            <a:off x="324000" y="189000"/>
            <a:ext cx="7921440" cy="5825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1280" y="5877000"/>
            <a:ext cx="938160" cy="981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8000" y="5950080"/>
            <a:ext cx="2160720" cy="576000"/>
          </a:xfrm>
          <a:prstGeom prst="wedgeRoundRectCallout">
            <a:avLst>
              <a:gd name="adj1" fmla="val -65870"/>
              <a:gd name="adj2" fmla="val 367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ここをクリックしてＱ３へ進も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3429000"/>
            <a:ext cx="172872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ラ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半音下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8720" y="3500280"/>
            <a:ext cx="180000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シャー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半音上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2492280"/>
            <a:ext cx="1800000" cy="93672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3336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１　次の変化記号の読み方はなんと読みます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2494080"/>
            <a:ext cx="1800360" cy="86364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51280" y="522936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51640" y="4797360"/>
            <a:ext cx="2808000" cy="1152720"/>
          </a:xfrm>
          <a:prstGeom prst="wedgeEllipseCallout">
            <a:avLst>
              <a:gd name="adj1" fmla="val -59722"/>
              <a:gd name="adj2" fmla="val 31129"/>
            </a:avLst>
          </a:prstGeom>
          <a:solidFill>
            <a:srgbClr val="bbe0e3"/>
          </a:solidFill>
          <a:ln w="9360">
            <a:solidFill>
              <a:srgbClr val="0401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0139"/>
                </a:solidFill>
                <a:latin typeface="Arial"/>
              </a:rPr>
              <a:t>もっと変化記号を見たい人はここをクリックして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28464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335772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２　次の速度標語の読み方と意味はなんでしょう。下から選んで考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の言葉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645000"/>
            <a:ext cx="2303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ゆっくり歩くよう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さ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49228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ンダン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9640" y="3645000"/>
            <a:ext cx="2303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ぐらいの速さ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49228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モデラ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134136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Ｍｏｄｅｒａｔ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88000" y="3645000"/>
            <a:ext cx="2232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249228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レグ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134136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ｎｄａｎｔ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1341360"/>
            <a:ext cx="2303280" cy="1079640"/>
          </a:xfrm>
          <a:prstGeom prst="roundRect">
            <a:avLst>
              <a:gd name="adj" fmla="val 16667"/>
            </a:avLst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ｌｅｇｒ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869000"/>
            <a:ext cx="7345440" cy="10810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モデラート　　アレグロ　　ラルゴ　　アンダン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く　　中ぐらいの速さで　　ゆっくり歩くような速さ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6093000"/>
            <a:ext cx="2519280" cy="504720"/>
          </a:xfrm>
          <a:prstGeom prst="wedgeRoundRectCallout">
            <a:avLst>
              <a:gd name="adj1" fmla="val 59768"/>
              <a:gd name="adj2" fmla="val -16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40139"/>
                </a:solidFill>
                <a:latin typeface="Arial"/>
              </a:rPr>
              <a:t>速度標語についてもっと知りたい人はここをクリックしてね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5641920"/>
            <a:ext cx="1187280" cy="1023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92360" y="3500280"/>
            <a:ext cx="360360" cy="217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2349360"/>
            <a:ext cx="360360" cy="217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42100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1640" y="2349360"/>
            <a:ext cx="360360" cy="217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3500280"/>
            <a:ext cx="360360" cy="217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1640" y="3500280"/>
            <a:ext cx="360360" cy="217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26028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３　次の速度標語①～④を速い順に並べ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5805360"/>
            <a:ext cx="7632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616572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5950080"/>
            <a:ext cx="1008360" cy="43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0139"/>
                </a:solidFill>
                <a:latin typeface="Arial"/>
              </a:rPr>
              <a:t>速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6000" y="5950080"/>
            <a:ext cx="1008000" cy="431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0139"/>
                </a:solidFill>
                <a:latin typeface="Arial"/>
              </a:rPr>
              <a:t>遅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276640"/>
            <a:ext cx="1800000" cy="107928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Ｌａｒｇ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2276640"/>
            <a:ext cx="1944720" cy="107928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Ａｌｌｅｇｒ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60640"/>
            <a:ext cx="2016360" cy="12240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ｌｌｅｇｒ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レグ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速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276640"/>
            <a:ext cx="2016360" cy="107928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Ａｎｄａｎｔ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3860640"/>
            <a:ext cx="2087640" cy="122400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ｎｄａｎｔｅ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ンダン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ゆっくり歩くような速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2276640"/>
            <a:ext cx="1944720" cy="107928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Ａｄａｇｉ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3860640"/>
            <a:ext cx="2040120" cy="124632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Ａｄａｇｉ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ダージ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ゆるやか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20000" y="3789360"/>
            <a:ext cx="1944720" cy="129528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Ｌａｒｇ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ラル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幅広くゆるやか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74760" y="429264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51480" y="429264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429264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0.04741 L 0.7441 0.22572 E">
                                      <p:cBhvr>
                                        <p:cTn id="5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0.00532 L -0.24809 0.23612 E">
                                      <p:cBhvr>
                                        <p:cTn id="5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1 0.00532 L -0.2401 0.24653 E">
                                      <p:cBhvr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0.00532 L -0.23229 0.23612 E">
                                      <p:cBhvr>
                                        <p:cTn id="74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33336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４　次の作曲家の代表作品の一つを選んで答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300640"/>
            <a:ext cx="6696000" cy="129528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フーガト短調，キラキラ星変奏曲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ブルタバ，交響曲第５番（運命），魔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2133720"/>
            <a:ext cx="172872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モーツァル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2133720"/>
            <a:ext cx="151128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スメタ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133720"/>
            <a:ext cx="172872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シューベル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2133720"/>
            <a:ext cx="172872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Ｊ，Ｓバッ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4000" y="3141720"/>
            <a:ext cx="180036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ーガト短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3141720"/>
            <a:ext cx="172872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魔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3141720"/>
            <a:ext cx="151128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ブルタ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280" y="3141720"/>
            <a:ext cx="197964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キラキラ星変奏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1640" y="3141720"/>
            <a:ext cx="1513080" cy="7920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響曲第５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運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2133720"/>
            <a:ext cx="169236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ベートーヴ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92428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292428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924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2924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01080" y="292428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33336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５　次の曲名の作曲をした作曲家を選んで答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5157720"/>
            <a:ext cx="7058160" cy="1008000"/>
          </a:xfrm>
          <a:prstGeom prst="flowChart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山田　耕筰　　　滝　廉太郎　　　團　伊玖磨　　八橋　検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5229360"/>
            <a:ext cx="1368720" cy="21564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だん　いく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5229360"/>
            <a:ext cx="1800360" cy="287280"/>
          </a:xfrm>
          <a:prstGeom prst="flowChartAlternate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やつはしけんぎょ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2708280"/>
            <a:ext cx="1871640" cy="86364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赤とん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2708280"/>
            <a:ext cx="1871640" cy="86364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花の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708280"/>
            <a:ext cx="1872000" cy="86364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荒城の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2708280"/>
            <a:ext cx="1871640" cy="86364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箏曲「六段の調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4760" y="4005360"/>
            <a:ext cx="187164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山田　耕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96960" y="4005360"/>
            <a:ext cx="187200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團　伊玖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68840" y="4005360"/>
            <a:ext cx="187164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滝　廉太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4005360"/>
            <a:ext cx="1871640" cy="86364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八橋　検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6000" y="371628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71628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371628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3716280"/>
            <a:ext cx="360360" cy="21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40464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６　次のオーケストラの楽器名から楽器群を選んで答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2492280"/>
            <a:ext cx="1584360" cy="720720"/>
          </a:xfrm>
          <a:prstGeom prst="flowChartAlternateProcess">
            <a:avLst/>
          </a:prstGeom>
          <a:solidFill>
            <a:srgbClr val="888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フルー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2492280"/>
            <a:ext cx="1584360" cy="720720"/>
          </a:xfrm>
          <a:prstGeom prst="flowChartAlternateProcess">
            <a:avLst/>
          </a:prstGeom>
          <a:solidFill>
            <a:srgbClr val="888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ヴァイオリ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08360" y="2492280"/>
            <a:ext cx="1584360" cy="720720"/>
          </a:xfrm>
          <a:prstGeom prst="flowChartAlternateProcess">
            <a:avLst/>
          </a:prstGeom>
          <a:solidFill>
            <a:srgbClr val="888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ティンパ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2492280"/>
            <a:ext cx="1584360" cy="720720"/>
          </a:xfrm>
          <a:prstGeom prst="flowChartAlternateProcess">
            <a:avLst/>
          </a:prstGeom>
          <a:solidFill>
            <a:srgbClr val="888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トランペ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2492280"/>
            <a:ext cx="1584000" cy="720720"/>
          </a:xfrm>
          <a:prstGeom prst="flowChartAlternateProcess">
            <a:avLst/>
          </a:prstGeom>
          <a:solidFill>
            <a:srgbClr val="8888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クラリネ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3860640"/>
            <a:ext cx="1512720" cy="57636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木管楽器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661000"/>
            <a:ext cx="7848720" cy="79236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0139"/>
                </a:solidFill>
                <a:latin typeface="Arial"/>
              </a:rPr>
              <a:t>弦楽器群，木管楽器群，金管楽器群，打楽器群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860640"/>
            <a:ext cx="1513080" cy="57636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弦楽器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860640"/>
            <a:ext cx="1512720" cy="57636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楽器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860640"/>
            <a:ext cx="1513080" cy="576360"/>
          </a:xfrm>
          <a:prstGeom prst="flowChartAlternateProcess">
            <a:avLst/>
          </a:prstGeom>
          <a:solidFill>
            <a:srgbClr val="5f5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金管楽器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80360" y="3852720"/>
            <a:ext cx="1512720" cy="57636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木管楽器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35772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357720"/>
            <a:ext cx="3585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335772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33354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56720" y="3335400"/>
            <a:ext cx="3585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1106280" cy="588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1549440"/>
            <a:ext cx="912960" cy="876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26920" y="1484280"/>
            <a:ext cx="474840" cy="996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524720" y="1482840"/>
            <a:ext cx="981000" cy="936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924360" y="1844640"/>
            <a:ext cx="592200" cy="630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 rot="21424200">
            <a:off x="4500360" y="1773000"/>
            <a:ext cx="6602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55640" y="333360"/>
            <a:ext cx="7632720" cy="1224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Ｑ７　次の混声合唱の形態で声の響きの高い方から，①～⑥の順で答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それぞれをクリックすると正解がでる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5661000"/>
            <a:ext cx="8064720" cy="7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高い　　　　　　　　　　　　　　　　　　　　　　　　　　　　　　　　　　　低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6093000"/>
            <a:ext cx="45370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3357720"/>
            <a:ext cx="1260720" cy="72072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アル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86680" y="3301920"/>
            <a:ext cx="1439640" cy="720720"/>
          </a:xfrm>
          <a:prstGeom prst="flowChartAlternateProcess">
            <a:avLst/>
          </a:prstGeom>
          <a:solidFill>
            <a:srgbClr val="5f5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テノ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59280" y="3357720"/>
            <a:ext cx="1439640" cy="720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バリト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429000"/>
            <a:ext cx="1152360" cy="649440"/>
          </a:xfrm>
          <a:prstGeom prst="flowChartAlternateProcess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バ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4722840"/>
            <a:ext cx="1439640" cy="722160"/>
          </a:xfrm>
          <a:prstGeom prst="flowChartAlternateProcess">
            <a:avLst/>
          </a:prstGeom>
          <a:solidFill>
            <a:srgbClr val="ed6f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ル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3357720"/>
            <a:ext cx="1513080" cy="64764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メッゾソプラ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3284640"/>
            <a:ext cx="1081080" cy="72072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ソプラ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2000" y="4724280"/>
            <a:ext cx="1224000" cy="743040"/>
          </a:xfrm>
          <a:prstGeom prst="flowChartAlternateProcess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4653000"/>
            <a:ext cx="1584360" cy="792000"/>
          </a:xfrm>
          <a:prstGeom prst="flowChartAlternateProcess">
            <a:avLst/>
          </a:prstGeom>
          <a:solidFill>
            <a:srgbClr val="14ca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メッゾソプラ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0" y="4724280"/>
            <a:ext cx="1332000" cy="72252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ソプラ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4724280"/>
            <a:ext cx="1440000" cy="72072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バリト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5080" y="4724280"/>
            <a:ext cx="1439640" cy="720720"/>
          </a:xfrm>
          <a:prstGeom prst="flowChartAlternateProcess">
            <a:avLst/>
          </a:prstGeom>
          <a:solidFill>
            <a:srgbClr val="5f5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テノ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501336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0401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508464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0401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501336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0401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501336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0401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508464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0401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6735E-006 L 0.31493 0.19935 E">
                                      <p:cBhvr>
                                        <p:cTn id="16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7789E-006 L 0.68125 0.19912 E">
                                      <p:cBhvr>
                                        <p:cTn id="168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023 L 0.35452 0.19912 E">
                                      <p:cBhvr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0694 L -0.35035 0.19588 E">
                                      <p:cBhvr>
                                        <p:cTn id="184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-0.00254 L -0.17952 0.20745 E">
                                      <p:cBhvr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0.01041 L -0.85451 0.20976 E">
                                      <p:cBhvr>
                                        <p:cTn id="200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3995640" y="3429000"/>
            <a:ext cx="121932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0:27:05Z</dcterms:created>
  <dc:creator>moriuchi-masami-1</dc:creator>
  <dc:description/>
  <dc:language>en-US</dc:language>
  <cp:lastModifiedBy>moriuchi-masami-1</cp:lastModifiedBy>
  <dcterms:modified xsi:type="dcterms:W3CDTF">2008-01-30T03:47:59Z</dcterms:modified>
  <cp:revision>54</cp:revision>
  <dc:subject/>
  <dc:title>スライド 1</dc:title>
</cp:coreProperties>
</file>