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12.wmf" ContentType="image/x-wmf"/>
  <Override PartName="/ppt/media/image7.wmf" ContentType="image/x-wmf"/>
  <Override PartName="/ppt/media/image4.gif" ContentType="image/gif"/>
  <Override PartName="/ppt/media/image1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DC1-9C82-46EE-8A54-7A720F69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318-C608-47F9-B3D2-D462850A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E14-4E63-4C14-992C-C3C8F5CB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772-10D0-4DA9-83E7-ADE46B29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3FB-37B0-4C9A-A4F0-932AF732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2D8-1B48-421F-A8D5-BF14D4F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9ED-E4A0-4F56-B060-3DB18CA5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3B2-6865-45FB-84DC-F84040E4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1DA-75A2-44D1-8352-E7EE8BDB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E1B-E095-4BF0-94CD-001E088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F96-F50A-4FAC-8E67-00C8591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5FC-7870-462A-8A52-E841A03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EFB-8B43-43CC-8A15-A34AEEAA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32000" y="2349360"/>
            <a:ext cx="6191280" cy="1081080"/>
          </a:xfrm>
          <a:prstGeom prst="flowChartAlternateProcess">
            <a:avLst/>
          </a:prstGeom>
          <a:solidFill>
            <a:srgbClr val="f6f2a8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わたしはだれでしょ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作曲家の名前をあてて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24360" y="476280"/>
            <a:ext cx="1139760" cy="1824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03640" y="4797360"/>
            <a:ext cx="255276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５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384280" cy="132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88200" y="1551600"/>
            <a:ext cx="7601040" cy="346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ロシア生まれ。（１８４０～１８９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法律を学び役人となってい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２１歳で音楽を本格的に学び始め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３５歳で「ピアノ協奏曲第１番」を初演し，世界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高い評価を得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バレエ音楽で有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260280"/>
            <a:ext cx="2663640" cy="935280"/>
          </a:xfrm>
          <a:custGeom>
            <a:avLst/>
            <a:gdLst>
              <a:gd name="textAreaLeft" fmla="*/ 666000 w 2663640"/>
              <a:gd name="textAreaRight" fmla="*/ 1998000 w 2663640"/>
              <a:gd name="textAreaTop" fmla="*/ 0 h 935280"/>
              <a:gd name="textAreaBottom" fmla="*/ 818640 h 93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2133720"/>
            <a:ext cx="67676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ピョートル＝イリイチ＝チャイコフスキー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3860640"/>
            <a:ext cx="5400720" cy="2448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響曲第６番「悲愴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バレエ音楽「白鳥の湖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くるみ割り人形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眠りの森の美女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弦楽セレナー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3789360"/>
            <a:ext cx="2520720" cy="2087640"/>
          </a:xfrm>
          <a:prstGeom prst="wedgeEllipseCallout">
            <a:avLst>
              <a:gd name="adj1" fmla="val -67949"/>
              <a:gd name="adj2" fmla="val -71370"/>
            </a:avLst>
          </a:prstGeom>
          <a:solidFill>
            <a:srgbClr val="f6f2a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エピソー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フォン・メック夫人が援助。作曲活動を進めたが，生涯で二人が会うことはなかっ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６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99840" y="1452960"/>
            <a:ext cx="7620480" cy="280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東京都生まれ。（１８７９～１９０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小さい頃からヴァイオリンや尺八を演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東京音楽学校に進み，ドイツに留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留学中に病気になり，２３歳の若さで世を去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作品に「雪やこんこん」が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948360" y="3429000"/>
            <a:ext cx="860400" cy="806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551664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260280"/>
            <a:ext cx="2663640" cy="935280"/>
          </a:xfrm>
          <a:custGeom>
            <a:avLst/>
            <a:gdLst>
              <a:gd name="textAreaLeft" fmla="*/ 666000 w 2663640"/>
              <a:gd name="textAreaRight" fmla="*/ 1998000 w 2663640"/>
              <a:gd name="textAreaTop" fmla="*/ 0 h 935280"/>
              <a:gd name="textAreaBottom" fmla="*/ 818640 h 93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2133720"/>
            <a:ext cx="547200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滝　廉太郎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3789360"/>
            <a:ext cx="5400720" cy="2448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組曲「四季」より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荒城の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箱根八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雪やこんこ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お正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859280" y="4797360"/>
            <a:ext cx="1440000" cy="115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380360" y="1125360"/>
            <a:ext cx="13716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1268280"/>
            <a:ext cx="8229600" cy="3456000"/>
          </a:xfrm>
          <a:prstGeom prst="wedgeRoundRectCallout">
            <a:avLst>
              <a:gd name="adj1" fmla="val -42726"/>
              <a:gd name="adj2" fmla="val 58500"/>
              <a:gd name="adj3" fmla="val 16667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東京都生まれ。（１８８６～１９６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東京音楽学校卒業後，ベルリンに留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日本語を大切にした，たくさんの歌曲を作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が国最初の交響楽団をつく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「日本の交響楽の父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７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260280"/>
            <a:ext cx="2663640" cy="935280"/>
          </a:xfrm>
          <a:custGeom>
            <a:avLst/>
            <a:gdLst>
              <a:gd name="textAreaLeft" fmla="*/ 666000 w 2663640"/>
              <a:gd name="textAreaRight" fmla="*/ 1998000 w 2663640"/>
              <a:gd name="textAreaTop" fmla="*/ 0 h 935280"/>
              <a:gd name="textAreaBottom" fmla="*/ 818640 h 93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2133720"/>
            <a:ext cx="547200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田　耕筰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3933720"/>
            <a:ext cx="5400720" cy="2448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この道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からたちの花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待ちぼうけ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赤とんぼ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2361960" cy="1471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1877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8360" y="1413000"/>
            <a:ext cx="8229600" cy="3600360"/>
          </a:xfrm>
          <a:prstGeom prst="wedgeRoundRectCallout">
            <a:avLst>
              <a:gd name="adj1" fmla="val -40277"/>
              <a:gd name="adj2" fmla="val 59125"/>
              <a:gd name="adj3" fmla="val 16667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東京都生まれ。（１９２４～２００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１９４２年，東京音楽学校作曲科に入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歌曲，映画音楽などの多くの作品を残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文化功労者にな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童謡「ぞうさん」を作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８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4000" y="260280"/>
            <a:ext cx="2663640" cy="935280"/>
          </a:xfrm>
          <a:custGeom>
            <a:avLst/>
            <a:gdLst>
              <a:gd name="textAreaLeft" fmla="*/ 666000 w 2663640"/>
              <a:gd name="textAreaRight" fmla="*/ 1998000 w 2663640"/>
              <a:gd name="textAreaTop" fmla="*/ 0 h 935280"/>
              <a:gd name="textAreaBottom" fmla="*/ 818640 h 935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2133720"/>
            <a:ext cx="547200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團　伊玖磨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4005360"/>
            <a:ext cx="5400720" cy="2448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オペラ「夕鶴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歌曲「花の街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童謡「ぞうさん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響曲，吹奏楽，映画音楽，校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な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812000" y="5445000"/>
            <a:ext cx="939960" cy="1062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1595520" cy="1833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4365720"/>
            <a:ext cx="1657080" cy="1511280"/>
          </a:xfrm>
          <a:prstGeom prst="wedgeEllipseCallout">
            <a:avLst>
              <a:gd name="adj1" fmla="val 82472"/>
              <a:gd name="adj2" fmla="val -66597"/>
            </a:avLst>
          </a:prstGeom>
          <a:solidFill>
            <a:srgbClr val="f6f2a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エピソード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芥川也寸志，黛敏郎と「三人の会」を結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962520" y="3124080"/>
            <a:ext cx="1218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１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544500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95280" y="0"/>
            <a:ext cx="2797200" cy="1919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87280" y="1557360"/>
            <a:ext cx="7129800" cy="4030560"/>
          </a:xfrm>
          <a:prstGeom prst="wedgeRoundRectCallout">
            <a:avLst>
              <a:gd name="adj1" fmla="val -45634"/>
              <a:gd name="adj2" fmla="val 58745"/>
              <a:gd name="adj3" fmla="val 16667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ドイツのアイゼナハ生まれ。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１６８５～１７５０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２００年ほどの間に５０人の音楽家をだした家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バロック時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多声音楽フーガの技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メンデルスゾーンにより「マタイ受難曲」が再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「音楽の父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2492280"/>
            <a:ext cx="561528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ヨハン＝セバスチャン＝バッハ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333360"/>
            <a:ext cx="2664000" cy="934920"/>
          </a:xfrm>
          <a:custGeom>
            <a:avLst/>
            <a:gdLst>
              <a:gd name="textAreaLeft" fmla="*/ 666000 w 2664000"/>
              <a:gd name="textAreaRight" fmla="*/ 1998000 w 2664000"/>
              <a:gd name="textAreaTop" fmla="*/ 0 h 934920"/>
              <a:gd name="textAreaBottom" fmla="*/ 818280 h 934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76640"/>
            <a:ext cx="6050160" cy="242100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ロ短調ミサ曲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管弦楽曲第２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ブランデンブルク協奏曲第５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イタリア協奏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フーガト短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２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58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2448000" cy="1922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1628640"/>
            <a:ext cx="8066160" cy="4032360"/>
          </a:xfrm>
          <a:prstGeom prst="wedgeRoundRectCallout">
            <a:avLst>
              <a:gd name="adj1" fmla="val -42523"/>
              <a:gd name="adj2" fmla="val 59606"/>
              <a:gd name="adj3" fmla="val 16667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オーストリアのザルツブルク生ま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１７５６～１７９１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６歳から音楽旅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ザルツブルクの宮廷オルガニストとして仕えた。その後ウィーンで活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１７９１年レクイエム作曲中３５歳で世を去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古典派時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幼い頃より天才的才能から神童と呼ばれ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6000" y="333360"/>
            <a:ext cx="2664000" cy="934920"/>
          </a:xfrm>
          <a:custGeom>
            <a:avLst/>
            <a:gdLst>
              <a:gd name="textAreaLeft" fmla="*/ 666000 w 2664000"/>
              <a:gd name="textAreaRight" fmla="*/ 1998000 w 2664000"/>
              <a:gd name="textAreaTop" fmla="*/ 0 h 934920"/>
              <a:gd name="textAreaBottom" fmla="*/ 818280 h 934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2060640"/>
            <a:ext cx="734400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ヴォルフガング＝アマデウス＝モーツァルト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3573360"/>
            <a:ext cx="6408720" cy="2924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オペラ「フィガロの結婚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ドン・ジョバンニ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魔笛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交響曲４０番ト短調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レクイエム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ピアノソナタ「イ短調ｋ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３１（トルコ行進曲つき）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「アイネ　クライネ　ナハトムジーク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213000"/>
            <a:ext cx="2808360" cy="2016360"/>
          </a:xfrm>
          <a:prstGeom prst="wedgeEllipseCallout">
            <a:avLst>
              <a:gd name="adj1" fmla="val -52995"/>
              <a:gd name="adj2" fmla="val -45277"/>
            </a:avLst>
          </a:prstGeom>
          <a:solidFill>
            <a:srgbClr val="f6f2a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エピソー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演奏会ではマリー・アントワネットに求愛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妻のコンスタンツェは浪費家で生活は困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３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5877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51280" cy="1954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122480" y="1657440"/>
            <a:ext cx="7401240" cy="433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ドイツのボン生まれ。 （１７７０～１８２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古典派時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宮廷音楽家であった父から音楽の手ほどきを受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「楽聖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２１歳でウィーンに出てピアノ奏者として活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ハイドンに師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３０歳ころから耳に異常を感じ始め聴力を失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絶望から遺書を書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強い精神力でそれを乗り越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５６歳で，なくなるまで作品を書き続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6000" y="333360"/>
            <a:ext cx="2664000" cy="934920"/>
          </a:xfrm>
          <a:custGeom>
            <a:avLst/>
            <a:gdLst>
              <a:gd name="textAreaLeft" fmla="*/ 666000 w 2664000"/>
              <a:gd name="textAreaRight" fmla="*/ 1998000 w 2664000"/>
              <a:gd name="textAreaTop" fmla="*/ 0 h 934920"/>
              <a:gd name="textAreaBottom" fmla="*/ 818280 h 934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2205000"/>
            <a:ext cx="651672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ルートヴィヒ＝ヴァン＝ベートーヴェン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3573360"/>
            <a:ext cx="6408720" cy="2924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響曲第３番「英雄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５番「運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６番「田園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９番合唱付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ピアノソナタ「悲愴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七重奏曲　変ホ長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４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44280"/>
            <a:ext cx="2376360" cy="1865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051200" y="1559520"/>
            <a:ext cx="7401240" cy="366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ポーランド生まれ。 （１８１０～１８４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ロマン派時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作品のほとんどがピアノ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古典的な形式の中で感情表現が豊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独創性に満ちあふれた音楽をサロンな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で演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「ピアノの詩人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16000" y="333360"/>
            <a:ext cx="2664000" cy="934920"/>
          </a:xfrm>
          <a:custGeom>
            <a:avLst/>
            <a:gdLst>
              <a:gd name="textAreaLeft" fmla="*/ 666000 w 2664000"/>
              <a:gd name="textAreaRight" fmla="*/ 1998000 w 2664000"/>
              <a:gd name="textAreaTop" fmla="*/ 0 h 934920"/>
              <a:gd name="textAreaBottom" fmla="*/ 818280 h 9349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2133720"/>
            <a:ext cx="648036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フレデリック＝フランソワ＝ショパンで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3573360"/>
            <a:ext cx="6408720" cy="29242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主な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ピアノ曲集「１２のエチュード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「別れの曲」「革命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ピアノ曲「幻想即興曲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英雄ポロネーズ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「子犬のワルツ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ワルツ，ノクターン（夜想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バラード，マズル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372360" y="3789360"/>
            <a:ext cx="2520720" cy="1871640"/>
          </a:xfrm>
          <a:prstGeom prst="wedgeEllipseCallout">
            <a:avLst>
              <a:gd name="adj1" fmla="val -67949"/>
              <a:gd name="adj2" fmla="val -73833"/>
            </a:avLst>
          </a:prstGeom>
          <a:solidFill>
            <a:srgbClr val="f6f2a8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エピソー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女流作家ジョジュ＝サンドと交流し，様々な音楽を創り出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01:10:46Z</dcterms:created>
  <dc:creator>moriuchi-masami-1</dc:creator>
  <dc:description/>
  <dc:language>en-US</dc:language>
  <cp:lastModifiedBy>moriuchi-masami-1</cp:lastModifiedBy>
  <dcterms:modified xsi:type="dcterms:W3CDTF">2008-01-30T03:48:33Z</dcterms:modified>
  <cp:revision>77</cp:revision>
  <dc:subject/>
  <dc:title>わたしはだれでしょう？</dc:title>
</cp:coreProperties>
</file>