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07F-6B72-4958-A832-A75180E0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E41-C21D-4452-9891-D03B2974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946-13E1-4A96-A6E9-FB03059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56E-545F-46A6-82F2-16DEBCF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B34-FA4E-44EC-A961-DA46F2C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95C-EA13-4F89-B643-73C7FC3A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1E5-F3F0-4D7E-9E0C-3A7A8D42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172-6A65-4307-8415-F67DE70E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8BC-078E-441B-9142-1453624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929-B900-4B99-8822-9EAFF86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B60-4EB2-492E-975C-BBB0584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608-E584-4599-BED1-0F6F312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378E-5896-4510-9763-678EC779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404640"/>
            <a:ext cx="244620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わり進む筆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011320" y="296388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28840" y="2881440"/>
            <a:ext cx="8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720" y="28544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85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7952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843280" y="2781360"/>
            <a:ext cx="358560" cy="720720"/>
            <a:chOff x="2843280" y="2781360"/>
            <a:chExt cx="358560" cy="720720"/>
          </a:xfrm>
        </p:grpSpPr>
        <p:sp>
          <p:nvSpPr>
            <p:cNvPr id="48" name=""/>
            <p:cNvSpPr/>
            <p:nvPr/>
          </p:nvSpPr>
          <p:spPr>
            <a:xfrm rot="16200000">
              <a:off x="2662200" y="296244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2872800" y="286848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14560" y="328608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14560" y="335736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220640" y="15573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÷ 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計算を，わり切れるまでし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720" y="234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23880" y="3246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8560" y="3718080"/>
            <a:ext cx="86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5040" y="3697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035240" y="2354400"/>
            <a:ext cx="1303200" cy="1929240"/>
            <a:chOff x="4035240" y="2354400"/>
            <a:chExt cx="1303200" cy="1929240"/>
          </a:xfrm>
        </p:grpSpPr>
        <p:sp>
          <p:nvSpPr>
            <p:cNvPr id="58" name=""/>
            <p:cNvSpPr/>
            <p:nvPr/>
          </p:nvSpPr>
          <p:spPr>
            <a:xfrm rot="5400000">
              <a:off x="4137840" y="2968560"/>
              <a:ext cx="503280" cy="293400"/>
            </a:xfrm>
            <a:prstGeom prst="blockArc">
              <a:avLst>
                <a:gd name="adj1" fmla="val 12064740"/>
                <a:gd name="adj2" fmla="val 20335260"/>
                <a:gd name="adj3" fmla="val 227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56080" y="2886120"/>
              <a:ext cx="8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9960" y="285912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.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5240" y="2859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39960" y="2354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51120" y="3251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65440" y="3722760"/>
              <a:ext cx="865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62280" y="3702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959360" y="2808360"/>
            <a:ext cx="358920" cy="720720"/>
            <a:chOff x="4959360" y="2808360"/>
            <a:chExt cx="358920" cy="720720"/>
          </a:xfrm>
        </p:grpSpPr>
        <p:sp>
          <p:nvSpPr>
            <p:cNvPr id="67" name=""/>
            <p:cNvSpPr/>
            <p:nvPr/>
          </p:nvSpPr>
          <p:spPr>
            <a:xfrm rot="16200000">
              <a:off x="4778280" y="298908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4989240" y="289512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31000" y="331308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1000" y="338436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54760" y="336060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7480" y="2386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9400" y="2359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78400" y="4618080"/>
            <a:ext cx="86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6072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49680" y="41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38760" y="41148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38760" y="4618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289560" y="2389320"/>
            <a:ext cx="1303200" cy="1929240"/>
            <a:chOff x="6289560" y="2389320"/>
            <a:chExt cx="1303200" cy="1929240"/>
          </a:xfrm>
        </p:grpSpPr>
        <p:sp>
          <p:nvSpPr>
            <p:cNvPr id="80" name=""/>
            <p:cNvSpPr/>
            <p:nvPr/>
          </p:nvSpPr>
          <p:spPr>
            <a:xfrm rot="5400000">
              <a:off x="6392160" y="3003480"/>
              <a:ext cx="503280" cy="293400"/>
            </a:xfrm>
            <a:prstGeom prst="blockArc">
              <a:avLst>
                <a:gd name="adj1" fmla="val 12064740"/>
                <a:gd name="adj2" fmla="val 20335260"/>
                <a:gd name="adj3" fmla="val 227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10400" y="2921040"/>
              <a:ext cx="88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94280" y="28940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.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89560" y="2894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280" y="2389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05440" y="3286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19760" y="3757680"/>
              <a:ext cx="865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6600" y="3737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213680" y="2843280"/>
            <a:ext cx="358560" cy="720720"/>
            <a:chOff x="7213680" y="2843280"/>
            <a:chExt cx="358560" cy="720720"/>
          </a:xfrm>
        </p:grpSpPr>
        <p:sp>
          <p:nvSpPr>
            <p:cNvPr id="89" name=""/>
            <p:cNvSpPr/>
            <p:nvPr/>
          </p:nvSpPr>
          <p:spPr>
            <a:xfrm rot="16200000">
              <a:off x="7032600" y="302436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7243200" y="293040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84960" y="334800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84960" y="341928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308720" y="339552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144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73720" y="239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32720" y="4647960"/>
            <a:ext cx="101592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5040" y="375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3600" y="46576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35800" y="2390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8040" y="50259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0640" y="50259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5000" y="5513400"/>
            <a:ext cx="86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88280" y="546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5573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進む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195640" y="907920"/>
            <a:ext cx="1870920" cy="396720"/>
            <a:chOff x="2195640" y="907920"/>
            <a:chExt cx="1870920" cy="396720"/>
          </a:xfrm>
        </p:grpSpPr>
        <p:sp>
          <p:nvSpPr>
            <p:cNvPr id="110" name=""/>
            <p:cNvSpPr/>
            <p:nvPr/>
          </p:nvSpPr>
          <p:spPr>
            <a:xfrm>
              <a:off x="2195640" y="90792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47840" y="90792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0440" y="47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進む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945960" y="33606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4200" y="327456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94800" y="328464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70000" y="3260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41240" y="265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993240" y="33606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311120" y="32745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2080" y="328464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328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8520" y="265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6842160" y="33494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159680" y="3257640"/>
            <a:ext cx="15159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91360" y="3284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5480" y="324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36720" y="26449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33960" y="1628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の筆算を，わり切れるまでし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195640" y="907920"/>
            <a:ext cx="1799640" cy="396720"/>
            <a:chOff x="2195640" y="907920"/>
            <a:chExt cx="1799640" cy="396720"/>
          </a:xfrm>
        </p:grpSpPr>
        <p:sp>
          <p:nvSpPr>
            <p:cNvPr id="130" name=""/>
            <p:cNvSpPr/>
            <p:nvPr/>
          </p:nvSpPr>
          <p:spPr>
            <a:xfrm>
              <a:off x="2195640" y="907920"/>
              <a:ext cx="179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46040" y="907920"/>
              <a:ext cx="17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850440" y="47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進む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945960" y="33606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64200" y="327456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4800" y="328464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000" y="3260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41240" y="265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993240" y="33606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11120" y="32745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42080" y="328464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28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8520" y="26557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842160" y="33494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59680" y="3257640"/>
            <a:ext cx="15159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91360" y="3284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65480" y="324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720" y="26449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33960" y="1628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の筆算を，わり切れるまでし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42680" y="90792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90320" y="27082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９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278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8:36Z</dcterms:created>
  <dc:creator>kangawa-kaori-1</dc:creator>
  <dc:description/>
  <dc:language>en-US</dc:language>
  <cp:lastModifiedBy>kangawa-kaori-1</cp:lastModifiedBy>
  <dcterms:modified xsi:type="dcterms:W3CDTF">2007-11-14T06:24:34Z</dcterms:modified>
  <cp:revision>118</cp:revision>
  <dc:subject/>
  <dc:title>スライド 1</dc:title>
</cp:coreProperties>
</file>