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EAF-6EED-4E4B-B9F5-7FE3E9C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12D-0372-4BC3-B4D5-2073332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105-ACAE-4CF6-BEF8-338F504F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FDB-C5ED-4BFD-BC34-2A79A72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82-6D97-4354-B673-3197CCAE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69C-BD7E-4312-AAF6-A1DFB2BD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572-A322-4903-BC20-4A29AD0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70B-DE19-4971-B8CA-4423A6EF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EB3-7CA6-4B17-BD1B-15986239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772-DBAA-4D5B-8513-F0719BD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3EB-87E1-4CDF-AFE0-4A4AC2A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463-37B0-48D0-B9D1-E64693C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7DD-80A8-48D2-BA35-F52C8CF5D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26828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404640"/>
            <a:ext cx="244620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わり算の筆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6280" y="1216080"/>
            <a:ext cx="1870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スープ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つのなべに同じように分け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つのなべは，何ℓにな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03480" y="2492280"/>
            <a:ext cx="3476520" cy="432000"/>
            <a:chOff x="2103480" y="2492280"/>
            <a:chExt cx="3476520" cy="432000"/>
          </a:xfrm>
        </p:grpSpPr>
        <p:sp>
          <p:nvSpPr>
            <p:cNvPr id="45" name=""/>
            <p:cNvSpPr/>
            <p:nvPr/>
          </p:nvSpPr>
          <p:spPr>
            <a:xfrm>
              <a:off x="2103480" y="249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22560" y="292428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330200" y="3500280"/>
            <a:ext cx="511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・・・・・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　　　　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573360"/>
            <a:ext cx="5040360" cy="18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22120" y="58053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数のわり算の筆算の方法を考えよ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2000" y="1616040"/>
            <a:ext cx="2716920" cy="1668600"/>
            <a:chOff x="6012000" y="1616040"/>
            <a:chExt cx="2716920" cy="1668600"/>
          </a:xfrm>
        </p:grpSpPr>
        <p:grpSp>
          <p:nvGrpSpPr>
            <p:cNvPr id="51" name=""/>
            <p:cNvGrpSpPr/>
            <p:nvPr/>
          </p:nvGrpSpPr>
          <p:grpSpPr>
            <a:xfrm>
              <a:off x="6877080" y="1616040"/>
              <a:ext cx="938160" cy="878040"/>
              <a:chOff x="6877080" y="1616040"/>
              <a:chExt cx="938160" cy="8780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877080" y="1773360"/>
                <a:ext cx="938160" cy="720720"/>
                <a:chOff x="6877080" y="1773360"/>
                <a:chExt cx="938160" cy="72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021800" y="1773360"/>
                  <a:ext cx="647640" cy="72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16200000">
                  <a:off x="6877800" y="1845000"/>
                  <a:ext cx="287640" cy="289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 rot="5400000">
                  <a:off x="7526880" y="1845000"/>
                  <a:ext cx="287640" cy="2887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7115040" y="2060640"/>
                <a:ext cx="144720" cy="144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19960" y="2060640"/>
                <a:ext cx="144360" cy="144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8100000">
                <a:off x="7054200" y="1735560"/>
                <a:ext cx="576720" cy="57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6012000" y="2997360"/>
              <a:ext cx="575640" cy="287280"/>
              <a:chOff x="6012000" y="2997360"/>
              <a:chExt cx="575640" cy="28728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012000" y="2997360"/>
                <a:ext cx="575640" cy="287280"/>
                <a:chOff x="6012000" y="2997360"/>
                <a:chExt cx="575640" cy="28728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012000" y="2997360"/>
                  <a:ext cx="575640" cy="287280"/>
                  <a:chOff x="6012000" y="2997360"/>
                  <a:chExt cx="575640" cy="2872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6084720" y="2997360"/>
                    <a:ext cx="432000" cy="287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6200000">
                    <a:off x="6012000" y="303012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H="1" rot="5400000">
                    <a:off x="6442920" y="302868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6119640" y="3103560"/>
                  <a:ext cx="14472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335640" y="3105000"/>
                  <a:ext cx="14436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 flipV="1">
                  <a:off x="6149160" y="3106080"/>
                  <a:ext cx="289080" cy="1443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119640" y="3103560"/>
                <a:ext cx="144720" cy="11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6713640" y="2986200"/>
              <a:ext cx="575640" cy="287280"/>
              <a:chOff x="6713640" y="2986200"/>
              <a:chExt cx="575640" cy="28728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6713640" y="2986200"/>
                <a:ext cx="575640" cy="287280"/>
                <a:chOff x="6713640" y="2986200"/>
                <a:chExt cx="575640" cy="287280"/>
              </a:xfrm>
            </p:grpSpPr>
            <p:grpSp>
              <p:nvGrpSpPr>
                <p:cNvPr id="71" name=""/>
                <p:cNvGrpSpPr/>
                <p:nvPr/>
              </p:nvGrpSpPr>
              <p:grpSpPr>
                <a:xfrm>
                  <a:off x="6713640" y="2986200"/>
                  <a:ext cx="575640" cy="287280"/>
                  <a:chOff x="6713640" y="2986200"/>
                  <a:chExt cx="575640" cy="287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6786360" y="2986200"/>
                    <a:ext cx="432000" cy="287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6200000">
                    <a:off x="6713640" y="301896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 rot="5400000">
                    <a:off x="7144560" y="301752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>
                  <a:off x="6821280" y="3092400"/>
                  <a:ext cx="14472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037280" y="3093840"/>
                  <a:ext cx="14436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>
                  <a:off x="6850800" y="3094920"/>
                  <a:ext cx="289080" cy="1443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21280" y="3092400"/>
                <a:ext cx="144720" cy="11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442280" y="2976480"/>
              <a:ext cx="575640" cy="287280"/>
              <a:chOff x="7442280" y="2976480"/>
              <a:chExt cx="575640" cy="2872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7442280" y="2976480"/>
                <a:ext cx="575640" cy="287280"/>
                <a:chOff x="7442280" y="2976480"/>
                <a:chExt cx="575640" cy="28728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7442280" y="2976480"/>
                  <a:ext cx="575640" cy="287280"/>
                  <a:chOff x="7442280" y="2976480"/>
                  <a:chExt cx="575640" cy="28728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515000" y="2976480"/>
                    <a:ext cx="432000" cy="287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6200000">
                    <a:off x="7442280" y="300924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 rot="5400000">
                    <a:off x="7873200" y="300780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"/>
                <p:cNvSpPr/>
                <p:nvPr/>
              </p:nvSpPr>
              <p:spPr>
                <a:xfrm>
                  <a:off x="7549920" y="3082680"/>
                  <a:ext cx="14472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765920" y="3084120"/>
                  <a:ext cx="14436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flipV="1">
                  <a:off x="7579440" y="3085200"/>
                  <a:ext cx="289080" cy="1443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7549920" y="3082680"/>
                <a:ext cx="144720" cy="11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8153280" y="2986200"/>
              <a:ext cx="575640" cy="287280"/>
              <a:chOff x="8153280" y="2986200"/>
              <a:chExt cx="575640" cy="28728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153280" y="2986200"/>
                <a:ext cx="575640" cy="287280"/>
                <a:chOff x="8153280" y="2986200"/>
                <a:chExt cx="575640" cy="28728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153280" y="2986200"/>
                  <a:ext cx="575640" cy="287280"/>
                  <a:chOff x="8153280" y="2986200"/>
                  <a:chExt cx="575640" cy="2872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8226000" y="2986200"/>
                    <a:ext cx="432000" cy="2872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153280" y="301896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5400000">
                    <a:off x="8584200" y="3017520"/>
                    <a:ext cx="144360" cy="14436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"/>
                <p:cNvSpPr/>
                <p:nvPr/>
              </p:nvSpPr>
              <p:spPr>
                <a:xfrm>
                  <a:off x="8260920" y="3092400"/>
                  <a:ext cx="14472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76920" y="3093840"/>
                  <a:ext cx="144360" cy="11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flipV="1">
                  <a:off x="8290440" y="3094920"/>
                  <a:ext cx="289080" cy="1443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8260920" y="3092400"/>
                <a:ext cx="144720" cy="11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882920" y="1773360"/>
              <a:ext cx="6091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2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300720" y="2492280"/>
              <a:ext cx="719280" cy="4320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7640" y="2492280"/>
              <a:ext cx="719280" cy="4320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19640" y="2565360"/>
              <a:ext cx="144360" cy="35892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24720" y="2565360"/>
              <a:ext cx="144360" cy="35892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216680" y="3573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3280" y="400536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2 ÷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8360" y="4468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49118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57520" y="247500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980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3080" y="765000"/>
            <a:ext cx="26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 ÷ 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筆算のしか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31720" cy="79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5400000">
            <a:off x="1066680" y="2784240"/>
            <a:ext cx="50292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2701800"/>
            <a:ext cx="84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7800" y="2708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3080" y="270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00240" y="27986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7760" y="2716200"/>
            <a:ext cx="84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1080" y="2708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7800" y="270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920" y="223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1360" y="3089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13080" y="3586320"/>
            <a:ext cx="84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9920" y="3511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5037120" y="278928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706840"/>
            <a:ext cx="84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7080" y="26877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16240" y="268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46440" y="2227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8240" y="3079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9960" y="3576600"/>
            <a:ext cx="84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6440" y="35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85480" y="22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16600" y="320508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59280" y="35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7156440" y="280656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73960" y="2724120"/>
            <a:ext cx="84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9640" y="2698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2720" y="269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65760" y="224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67560" y="309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9280" y="3594240"/>
            <a:ext cx="84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65760" y="351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04800" y="230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28000" y="322272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78600" y="351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07040" y="2243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78720" y="3854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91200" y="3852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9280" y="4336920"/>
            <a:ext cx="84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69240" y="4316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16000" y="4149720"/>
            <a:ext cx="1727280" cy="934920"/>
            <a:chOff x="1116000" y="4149720"/>
            <a:chExt cx="1727280" cy="934920"/>
          </a:xfrm>
        </p:grpSpPr>
        <p:sp>
          <p:nvSpPr>
            <p:cNvPr id="152" name=""/>
            <p:cNvSpPr/>
            <p:nvPr/>
          </p:nvSpPr>
          <p:spPr>
            <a:xfrm>
              <a:off x="1116000" y="4149720"/>
              <a:ext cx="1727280" cy="934920"/>
            </a:xfrm>
            <a:prstGeom prst="wedgeEllipseCallout">
              <a:avLst>
                <a:gd name="adj1" fmla="val -24263"/>
                <a:gd name="adj2" fmla="val 5763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8280" y="4292640"/>
              <a:ext cx="1155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整数と同じよう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　　計算する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360" y="5157720"/>
            <a:ext cx="880920" cy="647280"/>
            <a:chOff x="684360" y="5157720"/>
            <a:chExt cx="880920" cy="647280"/>
          </a:xfrm>
        </p:grpSpPr>
        <p:grpSp>
          <p:nvGrpSpPr>
            <p:cNvPr id="155" name=""/>
            <p:cNvGrpSpPr/>
            <p:nvPr/>
          </p:nvGrpSpPr>
          <p:grpSpPr>
            <a:xfrm>
              <a:off x="749520" y="5157720"/>
              <a:ext cx="712800" cy="647280"/>
              <a:chOff x="749520" y="5157720"/>
              <a:chExt cx="712800" cy="647280"/>
            </a:xfrm>
          </p:grpSpPr>
          <p:sp>
            <p:nvSpPr>
              <p:cNvPr id="156" name=""/>
              <p:cNvSpPr/>
              <p:nvPr/>
            </p:nvSpPr>
            <p:spPr>
              <a:xfrm>
                <a:off x="749520" y="515772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9520" y="515772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1301760" y="5448240"/>
              <a:ext cx="13824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35080" y="5449680"/>
              <a:ext cx="109440" cy="54000"/>
              <a:chOff x="1135080" y="5449680"/>
              <a:chExt cx="109440" cy="54000"/>
            </a:xfrm>
          </p:grpSpPr>
          <p:sp>
            <p:nvSpPr>
              <p:cNvPr id="160" name=""/>
              <p:cNvSpPr/>
              <p:nvPr/>
            </p:nvSpPr>
            <p:spPr>
              <a:xfrm>
                <a:off x="1135080" y="54496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35080" y="54496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960480" y="5465520"/>
              <a:ext cx="112680" cy="54000"/>
              <a:chOff x="960480" y="5465520"/>
              <a:chExt cx="112680" cy="54000"/>
            </a:xfrm>
          </p:grpSpPr>
          <p:sp>
            <p:nvSpPr>
              <p:cNvPr id="163" name=""/>
              <p:cNvSpPr/>
              <p:nvPr/>
            </p:nvSpPr>
            <p:spPr>
              <a:xfrm>
                <a:off x="960480" y="546552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0480" y="546552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973080" y="5594400"/>
              <a:ext cx="276480" cy="144360"/>
              <a:chOff x="973080" y="5594400"/>
              <a:chExt cx="276480" cy="144360"/>
            </a:xfrm>
          </p:grpSpPr>
          <p:sp>
            <p:nvSpPr>
              <p:cNvPr id="166" name=""/>
              <p:cNvSpPr/>
              <p:nvPr/>
            </p:nvSpPr>
            <p:spPr>
              <a:xfrm>
                <a:off x="973080" y="559440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73080" y="559440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H="1" flipV="1">
              <a:off x="766800" y="540972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 flipH="1">
              <a:off x="1332000" y="5230800"/>
              <a:ext cx="23328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4360" y="5302080"/>
              <a:ext cx="1188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205600" y="620640"/>
            <a:ext cx="2751120" cy="865080"/>
            <a:chOff x="5205600" y="620640"/>
            <a:chExt cx="2751120" cy="865080"/>
          </a:xfrm>
        </p:grpSpPr>
        <p:sp>
          <p:nvSpPr>
            <p:cNvPr id="172" name=""/>
            <p:cNvSpPr/>
            <p:nvPr/>
          </p:nvSpPr>
          <p:spPr>
            <a:xfrm>
              <a:off x="5205600" y="620640"/>
              <a:ext cx="2751120" cy="865080"/>
            </a:xfrm>
            <a:prstGeom prst="wedgeRoundRectCallout">
              <a:avLst>
                <a:gd name="adj1" fmla="val -5740"/>
                <a:gd name="adj2" fmla="val 6302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2120" y="717480"/>
              <a:ext cx="170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わられる数の小数点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そろえて，小数点をうつ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608040" cy="72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5867280" y="1628640"/>
            <a:ext cx="649440" cy="86364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97360" y="2565360"/>
            <a:ext cx="144720" cy="14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270828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4869000"/>
            <a:ext cx="2376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点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後でうたない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にうちましょ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50360" y="4350240"/>
            <a:ext cx="1233360" cy="968760"/>
            <a:chOff x="4050360" y="4350240"/>
            <a:chExt cx="1233360" cy="968760"/>
          </a:xfrm>
        </p:grpSpPr>
        <p:sp>
          <p:nvSpPr>
            <p:cNvPr id="180" name=""/>
            <p:cNvSpPr/>
            <p:nvPr/>
          </p:nvSpPr>
          <p:spPr>
            <a:xfrm rot="20446200">
              <a:off x="4127040" y="4509720"/>
              <a:ext cx="1079640" cy="649440"/>
            </a:xfrm>
            <a:prstGeom prst="irregularSeal1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458800">
              <a:off x="4398840" y="4620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大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871640" y="2563920"/>
            <a:ext cx="358920" cy="720720"/>
            <a:chOff x="1871640" y="2563920"/>
            <a:chExt cx="358920" cy="720720"/>
          </a:xfrm>
        </p:grpSpPr>
        <p:sp>
          <p:nvSpPr>
            <p:cNvPr id="183" name=""/>
            <p:cNvSpPr/>
            <p:nvPr/>
          </p:nvSpPr>
          <p:spPr>
            <a:xfrm rot="16200000">
              <a:off x="1690560" y="274464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1901520" y="265068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3280" y="306864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43280" y="31399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08440" y="2567160"/>
            <a:ext cx="358920" cy="720720"/>
            <a:chOff x="3808440" y="2567160"/>
            <a:chExt cx="358920" cy="720720"/>
          </a:xfrm>
        </p:grpSpPr>
        <p:sp>
          <p:nvSpPr>
            <p:cNvPr id="188" name=""/>
            <p:cNvSpPr/>
            <p:nvPr/>
          </p:nvSpPr>
          <p:spPr>
            <a:xfrm rot="16200000">
              <a:off x="3627360" y="274788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3838320" y="265392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0080" y="307188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0080" y="314316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842080" y="2546280"/>
            <a:ext cx="358560" cy="720720"/>
            <a:chOff x="5842080" y="2546280"/>
            <a:chExt cx="358560" cy="720720"/>
          </a:xfrm>
        </p:grpSpPr>
        <p:sp>
          <p:nvSpPr>
            <p:cNvPr id="193" name=""/>
            <p:cNvSpPr/>
            <p:nvPr/>
          </p:nvSpPr>
          <p:spPr>
            <a:xfrm rot="16200000">
              <a:off x="5661000" y="272736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5871600" y="263340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3360" y="305100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13360" y="312228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692680" y="3019320"/>
            <a:ext cx="144720" cy="14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980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124000" y="1052640"/>
            <a:ext cx="1944360" cy="396720"/>
            <a:chOff x="2124000" y="1052640"/>
            <a:chExt cx="1944360" cy="396720"/>
          </a:xfrm>
        </p:grpSpPr>
        <p:sp>
          <p:nvSpPr>
            <p:cNvPr id="200" name=""/>
            <p:cNvSpPr/>
            <p:nvPr/>
          </p:nvSpPr>
          <p:spPr>
            <a:xfrm>
              <a:off x="2124000" y="105264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8360" y="105264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85980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42560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43120" y="2774880"/>
            <a:ext cx="84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672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164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1341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筆算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764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216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708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308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82632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14384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744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236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1836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2124000" y="907920"/>
            <a:ext cx="1944360" cy="396720"/>
            <a:chOff x="2124000" y="907920"/>
            <a:chExt cx="1944360" cy="396720"/>
          </a:xfrm>
        </p:grpSpPr>
        <p:sp>
          <p:nvSpPr>
            <p:cNvPr id="220" name=""/>
            <p:cNvSpPr/>
            <p:nvPr/>
          </p:nvSpPr>
          <p:spPr>
            <a:xfrm>
              <a:off x="2124000" y="90792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8360" y="90792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5980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の筆算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142560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43120" y="2774880"/>
            <a:ext cx="84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672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164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45000" y="14842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筆算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764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216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708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308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682632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14384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744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3236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18360" y="2205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87040" y="90792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88840" y="22273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6760" y="22273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1800" y="22208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4:47Z</dcterms:modified>
  <cp:revision>124</cp:revision>
  <dc:subject/>
  <dc:title>スライド 1</dc:title>
</cp:coreProperties>
</file>