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F08-1279-4C92-88AE-98AE6A6C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159-4280-455D-BAEA-268EC307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9AA-F465-4689-8DBE-827073BF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2286-4775-4CD5-A8CD-5F2AC084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A9E-C951-4807-A10F-65CD7D45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9D76-2679-40CC-A42B-DAC6AF94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6163-F3B5-4300-B9EF-82D3403A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58EB-3728-43F5-9E55-BE4145F3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84F1-2DE2-4A03-912E-96FDDDB5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2EB5-9C47-464A-97EA-4A9DC519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9C32-E94B-4B56-9B79-E999C4DF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D87-6F2C-4C4E-AB06-582817EF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0AC3-DD45-47C0-8266-AF325FC38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9200" y="1292400"/>
            <a:ext cx="1062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マフラーを１１２０円で買いました。これは，定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倍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定価は，何円でしょう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86880" y="3240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もとにする量を求める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333360"/>
            <a:ext cx="360072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もとにする量を求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59040" y="5589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くらべ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65520" y="5589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もとにす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03840" y="5678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96520" y="558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割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93280" y="62197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ポイント　絶対覚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67360" y="6149880"/>
            <a:ext cx="787320" cy="70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6800" y="1325520"/>
            <a:ext cx="96984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1403280"/>
            <a:ext cx="269640" cy="27000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81640" y="22147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33960" y="288144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37200" y="3003480"/>
            <a:ext cx="283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874000" y="2871720"/>
            <a:ext cx="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63000" y="287028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rot="20883000">
            <a:off x="6011280" y="2584080"/>
            <a:ext cx="2044080" cy="42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627000">
            <a:off x="7302600" y="2622600"/>
            <a:ext cx="157032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23" y="419"/>
                </a:moveTo>
                <a:arcTo wR="10800" hR="10800" stAng="-6360157" swAng="6360157"/>
                <a:lnTo>
                  <a:pt x="10800" y="10800"/>
                </a:lnTo>
                <a:close/>
              </a:path>
              <a:path fill="none" w="21600" h="21600">
                <a:moveTo>
                  <a:pt x="7823" y="419"/>
                </a:moveTo>
                <a:arcTo wR="10800" hR="10800" stAng="-6360157" swAng="636015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 rot="717000">
            <a:off x="6002280" y="3152160"/>
            <a:ext cx="1704240" cy="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20883000">
            <a:off x="6652440" y="3100320"/>
            <a:ext cx="1551600" cy="12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rot="20883000">
            <a:off x="6004080" y="2787840"/>
            <a:ext cx="1704240" cy="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717000">
            <a:off x="6641640" y="2792520"/>
            <a:ext cx="15516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 rot="717000">
            <a:off x="6005520" y="3006000"/>
            <a:ext cx="2044080" cy="42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 rot="20973000">
            <a:off x="7301160" y="2872440"/>
            <a:ext cx="1569600" cy="50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23" y="419"/>
                </a:moveTo>
                <a:arcTo wR="10800" hR="10800" stAng="-6360157" swAng="6360157"/>
                <a:lnTo>
                  <a:pt x="10800" y="10800"/>
                </a:lnTo>
                <a:close/>
              </a:path>
              <a:path fill="none" w="21600" h="21600">
                <a:moveTo>
                  <a:pt x="7823" y="419"/>
                </a:moveTo>
                <a:arcTo wR="10800" hR="10800" stAng="-6360157" swAng="636015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067360" y="1673280"/>
            <a:ext cx="528480" cy="144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21280" y="1682640"/>
            <a:ext cx="493920" cy="18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1403280"/>
            <a:ext cx="269640" cy="27000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7920" y="2303640"/>
            <a:ext cx="455040" cy="368280"/>
          </a:xfrm>
          <a:prstGeom prst="rect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定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17840" y="2495520"/>
            <a:ext cx="1890360" cy="0"/>
          </a:xfrm>
          <a:prstGeom prst="line">
            <a:avLst/>
          </a:prstGeom>
          <a:ln w="1584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63520" y="2303640"/>
            <a:ext cx="455040" cy="368280"/>
          </a:xfrm>
          <a:prstGeom prst="rect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代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04520" y="2484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23960" y="2543040"/>
            <a:ext cx="270000" cy="27000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06080" y="2168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76600" y="24717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97480" y="2527200"/>
            <a:ext cx="269640" cy="27000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42840" y="2714760"/>
            <a:ext cx="270000" cy="269640"/>
          </a:xfrm>
          <a:prstGeom prst="rect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06360" y="2701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27440" y="2303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40280" y="3068640"/>
            <a:ext cx="7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Arial"/>
              </a:rPr>
              <a:t>1120</a:t>
            </a:r>
            <a:r>
              <a:rPr b="0" lang="zh-CN" sz="1200" spc="-1" strike="noStrike">
                <a:solidFill>
                  <a:srgbClr val="ff00ff"/>
                </a:solidFill>
                <a:latin typeface="Arial"/>
              </a:rPr>
              <a:t>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1080" y="3357720"/>
            <a:ext cx="269640" cy="269640"/>
          </a:xfrm>
          <a:prstGeom prst="rect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70360" y="3298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83880" y="479124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式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67000" y="52308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57360" y="483876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49520" y="4780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4822920"/>
            <a:ext cx="29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え（　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400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46320" y="315288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×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27720" y="568656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6640" y="5454720"/>
            <a:ext cx="6345360" cy="8096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42000" y="1674720"/>
            <a:ext cx="544680" cy="3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33320" y="2670120"/>
            <a:ext cx="12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69160" y="2619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74760" y="3089160"/>
            <a:ext cx="2475000" cy="946440"/>
          </a:xfrm>
          <a:prstGeom prst="wedgeRoundRectCallout">
            <a:avLst>
              <a:gd name="adj1" fmla="val -43777"/>
              <a:gd name="adj2" fmla="val 67115"/>
              <a:gd name="adj3" fmla="val 16667"/>
            </a:avLst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46280" y="3406680"/>
            <a:ext cx="225360" cy="2253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62000" y="3519360"/>
            <a:ext cx="112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6400" y="3367080"/>
            <a:ext cx="72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20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873080" y="3592440"/>
            <a:ext cx="1152720" cy="127080"/>
          </a:xfrm>
          <a:custGeom>
            <a:avLst/>
            <a:gdLst>
              <a:gd name="textAreaLeft" fmla="*/ 257760 w 1152720"/>
              <a:gd name="textAreaRight" fmla="*/ 780120 w 1152720"/>
              <a:gd name="textAreaTop" fmla="*/ 16920 h 127080"/>
              <a:gd name="textAreaBottom" fmla="*/ 11016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-3099610"/>
                <a:lnTo>
                  <a:pt x="21048" y="7200"/>
                </a:lnTo>
                <a:lnTo>
                  <a:pt x="19376" y="0"/>
                </a:lnTo>
                <a:lnTo>
                  <a:pt x="16600" y="7200"/>
                </a:lnTo>
                <a:lnTo>
                  <a:pt x="18760" y="7200"/>
                </a:lnTo>
                <a:arcTo wR="9656" hR="21600" stAng="2300390" swAng="3089424"/>
                <a:lnTo>
                  <a:pt x="9720" y="21600"/>
                </a:lnTo>
                <a:arcTo wR="9656" hR="21600" stAng="5410186" swAng="5389814"/>
                <a:close/>
              </a:path>
              <a:path fill="darkenLess"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10186"/>
                <a:lnTo>
                  <a:pt x="9720" y="21600"/>
                </a:lnTo>
                <a:arcTo wR="9656" hR="21600" stAng="5410186" swAng="5389814"/>
                <a:close/>
              </a:path>
            </a:pathLst>
          </a:cu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52440" y="3678120"/>
            <a:ext cx="6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÷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677000" y="1268280"/>
            <a:ext cx="949320" cy="1079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22360" y="3789360"/>
            <a:ext cx="7174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86880" y="3240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もとにする量を求める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681280" y="414360"/>
            <a:ext cx="1368000" cy="396720"/>
            <a:chOff x="2681280" y="414360"/>
            <a:chExt cx="1368000" cy="396720"/>
          </a:xfrm>
        </p:grpSpPr>
        <p:sp>
          <p:nvSpPr>
            <p:cNvPr id="103" name=""/>
            <p:cNvSpPr/>
            <p:nvPr/>
          </p:nvSpPr>
          <p:spPr>
            <a:xfrm>
              <a:off x="2681280" y="41436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19440" y="41436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285920" y="998640"/>
            <a:ext cx="71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 音楽クラブの希望者は４８人で，これは定員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倍にあたるそうです。音楽クラブの定員は何人で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6280" y="3924360"/>
            <a:ext cx="72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 バスに３６人乗っています。これは，バスの定員の０．８倍です。バスの定員は，何人で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15920" y="1042920"/>
            <a:ext cx="349920" cy="349920"/>
            <a:chOff x="1015920" y="1042920"/>
            <a:chExt cx="349920" cy="349920"/>
          </a:xfrm>
        </p:grpSpPr>
        <p:sp>
          <p:nvSpPr>
            <p:cNvPr id="108" name="SH_02_20071025112756"/>
            <p:cNvSpPr/>
            <p:nvPr/>
          </p:nvSpPr>
          <p:spPr>
            <a:xfrm>
              <a:off x="1015920" y="1042920"/>
              <a:ext cx="349920" cy="349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1072080" y="1099080"/>
              <a:ext cx="237600" cy="23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"/>
          <p:cNvGrpSpPr/>
          <p:nvPr/>
        </p:nvGrpSpPr>
        <p:grpSpPr>
          <a:xfrm>
            <a:off x="1035000" y="3917880"/>
            <a:ext cx="349920" cy="349920"/>
            <a:chOff x="1035000" y="3917880"/>
            <a:chExt cx="349920" cy="349920"/>
          </a:xfrm>
        </p:grpSpPr>
        <p:sp>
          <p:nvSpPr>
            <p:cNvPr id="111" name="SH_02_20071025112806"/>
            <p:cNvSpPr/>
            <p:nvPr/>
          </p:nvSpPr>
          <p:spPr>
            <a:xfrm>
              <a:off x="1035000" y="3917880"/>
              <a:ext cx="349920" cy="349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091520" y="3974040"/>
              <a:ext cx="236880" cy="23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1195560" y="198900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76640" y="22147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02000" y="198900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78400" y="1895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27880" y="32828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46280" y="3745080"/>
            <a:ext cx="423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85520" y="342900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30920" y="1900080"/>
            <a:ext cx="0" cy="803520"/>
          </a:xfrm>
          <a:prstGeom prst="line">
            <a:avLst/>
          </a:prstGeom>
          <a:ln w="1584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4840" y="482436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85920" y="5049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11640" y="482436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87680" y="47307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37160" y="6118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55920" y="6580080"/>
            <a:ext cx="42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55160" y="612936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40200" y="4735440"/>
            <a:ext cx="0" cy="803520"/>
          </a:xfrm>
          <a:prstGeom prst="line">
            <a:avLst/>
          </a:prstGeom>
          <a:ln w="1584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1280" y="2394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　　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56920" y="24051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　　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09080" y="5265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　　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25240" y="5265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　　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986880" y="3240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もとにする量を求める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681280" y="414360"/>
            <a:ext cx="1368000" cy="396720"/>
            <a:chOff x="2681280" y="414360"/>
            <a:chExt cx="1368000" cy="396720"/>
          </a:xfrm>
        </p:grpSpPr>
        <p:sp>
          <p:nvSpPr>
            <p:cNvPr id="135" name=""/>
            <p:cNvSpPr/>
            <p:nvPr/>
          </p:nvSpPr>
          <p:spPr>
            <a:xfrm>
              <a:off x="2681280" y="41436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9440" y="41436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285920" y="998640"/>
            <a:ext cx="71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 音楽クラブの希望者は４８人で，これは定員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倍にあたるそうです。音楽クラブの定員は何人で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76280" y="3924360"/>
            <a:ext cx="72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 バスに３６人乗っています。これは，バスの定員の０．８倍です。バスの定員は，何人で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15920" y="1042920"/>
            <a:ext cx="349920" cy="349920"/>
            <a:chOff x="1015920" y="1042920"/>
            <a:chExt cx="349920" cy="349920"/>
          </a:xfrm>
        </p:grpSpPr>
        <p:sp>
          <p:nvSpPr>
            <p:cNvPr id="140" name="SH_02_20071025112756"/>
            <p:cNvSpPr/>
            <p:nvPr/>
          </p:nvSpPr>
          <p:spPr>
            <a:xfrm>
              <a:off x="1015920" y="1042920"/>
              <a:ext cx="349920" cy="349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1072080" y="1099080"/>
              <a:ext cx="237600" cy="23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1035000" y="3917880"/>
            <a:ext cx="349920" cy="349920"/>
            <a:chOff x="1035000" y="3917880"/>
            <a:chExt cx="349920" cy="349920"/>
          </a:xfrm>
        </p:grpSpPr>
        <p:sp>
          <p:nvSpPr>
            <p:cNvPr id="143" name="SH_02_20071025112806"/>
            <p:cNvSpPr/>
            <p:nvPr/>
          </p:nvSpPr>
          <p:spPr>
            <a:xfrm>
              <a:off x="1035000" y="3917880"/>
              <a:ext cx="349920" cy="349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1091520" y="3974040"/>
              <a:ext cx="236880" cy="23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"/>
          <p:cNvSpPr/>
          <p:nvPr/>
        </p:nvSpPr>
        <p:spPr>
          <a:xfrm>
            <a:off x="1195560" y="198900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76640" y="22147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02000" y="198900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78400" y="1895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27880" y="32828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46280" y="3745080"/>
            <a:ext cx="423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16000" y="34290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４０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30920" y="1900080"/>
            <a:ext cx="0" cy="803520"/>
          </a:xfrm>
          <a:prstGeom prst="line">
            <a:avLst/>
          </a:prstGeom>
          <a:ln w="1584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04840" y="482436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85920" y="5049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11640" y="482436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87680" y="47307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37160" y="6118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5920" y="6580080"/>
            <a:ext cx="42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60560" y="626436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　４５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40200" y="4735440"/>
            <a:ext cx="0" cy="803520"/>
          </a:xfrm>
          <a:prstGeom prst="line">
            <a:avLst/>
          </a:prstGeom>
          <a:ln w="1584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20400" y="27936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55480" y="198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定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32680" y="1058760"/>
            <a:ext cx="269640" cy="27000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26240" y="3984480"/>
            <a:ext cx="270000" cy="27000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52960" y="3989520"/>
            <a:ext cx="270000" cy="26964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50040" y="1063800"/>
            <a:ext cx="269640" cy="26964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85920" y="2394000"/>
            <a:ext cx="270000" cy="27000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85920" y="5229360"/>
            <a:ext cx="270000" cy="26964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69800" y="4818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定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9280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希望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93880" y="4788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乗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4520" y="2249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05400" y="2305080"/>
            <a:ext cx="269640" cy="27000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87680" y="5089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08560" y="5145120"/>
            <a:ext cx="269640" cy="27000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1280" y="2394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　　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62400" y="243036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8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50120" y="5276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　　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84920" y="5291280"/>
            <a:ext cx="14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6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67000" y="5364000"/>
            <a:ext cx="225360" cy="225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19200" y="2481120"/>
            <a:ext cx="225360" cy="225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31440" y="1898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.2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77440" y="47070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275920" y="2303640"/>
            <a:ext cx="988920" cy="126720"/>
          </a:xfrm>
          <a:custGeom>
            <a:avLst/>
            <a:gdLst>
              <a:gd name="textAreaLeft" fmla="*/ 220680 w 988920"/>
              <a:gd name="textAreaRight" fmla="*/ 668520 w 988920"/>
              <a:gd name="textAreaTop" fmla="*/ 16920 h 126720"/>
              <a:gd name="textAreaBottom" fmla="*/ 109800 h 12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-3099610"/>
                <a:lnTo>
                  <a:pt x="21048" y="7200"/>
                </a:lnTo>
                <a:lnTo>
                  <a:pt x="19376" y="0"/>
                </a:lnTo>
                <a:lnTo>
                  <a:pt x="16600" y="7200"/>
                </a:lnTo>
                <a:lnTo>
                  <a:pt x="18760" y="7200"/>
                </a:lnTo>
                <a:arcTo wR="9656" hR="21600" stAng="2300390" swAng="3089424"/>
                <a:lnTo>
                  <a:pt x="9720" y="21600"/>
                </a:lnTo>
                <a:arcTo wR="9656" hR="21600" stAng="5410186" swAng="5389814"/>
                <a:close/>
              </a:path>
              <a:path fill="darkenLess"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10186"/>
                <a:lnTo>
                  <a:pt x="9720" y="21600"/>
                </a:lnTo>
                <a:arcTo wR="9656" hR="21600" stAng="5410186" swAng="5389814"/>
                <a:close/>
              </a:path>
            </a:pathLst>
          </a:cu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233440" y="5154480"/>
            <a:ext cx="989280" cy="127080"/>
          </a:xfrm>
          <a:custGeom>
            <a:avLst/>
            <a:gdLst>
              <a:gd name="textAreaLeft" fmla="*/ 221400 w 989280"/>
              <a:gd name="textAreaRight" fmla="*/ 669600 w 989280"/>
              <a:gd name="textAreaTop" fmla="*/ 16920 h 127080"/>
              <a:gd name="textAreaBottom" fmla="*/ 11016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-3099610"/>
                <a:lnTo>
                  <a:pt x="21048" y="7200"/>
                </a:lnTo>
                <a:lnTo>
                  <a:pt x="19376" y="0"/>
                </a:lnTo>
                <a:lnTo>
                  <a:pt x="16600" y="7200"/>
                </a:lnTo>
                <a:lnTo>
                  <a:pt x="18760" y="7200"/>
                </a:lnTo>
                <a:arcTo wR="9656" hR="21600" stAng="2300390" swAng="3089424"/>
                <a:lnTo>
                  <a:pt x="9720" y="21600"/>
                </a:lnTo>
                <a:arcTo wR="9656" hR="21600" stAng="5410186" swAng="5389814"/>
                <a:close/>
              </a:path>
              <a:path fill="darkenLess" w="21600" h="21600">
                <a:moveTo>
                  <a:pt x="0" y="0"/>
                </a:moveTo>
                <a:arcTo wR="9656" hR="21600" stAng="10800000" swAng="-5400000"/>
                <a:lnTo>
                  <a:pt x="9784" y="21600"/>
                </a:lnTo>
                <a:arcTo wR="9656" hR="21600" stAng="5400000" swAng="10186"/>
                <a:lnTo>
                  <a:pt x="9720" y="21600"/>
                </a:lnTo>
                <a:arcTo wR="9656" hR="21600" stAng="5410186" swAng="5389814"/>
                <a:close/>
              </a:path>
            </a:pathLst>
          </a:cu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64920" y="2394000"/>
            <a:ext cx="6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÷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33240" y="5288040"/>
            <a:ext cx="6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÷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13720" y="32097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8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.2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23080" y="607212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6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8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54760" y="244800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958000" y="2568600"/>
            <a:ext cx="231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78920" y="2449440"/>
            <a:ext cx="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083440" y="2436840"/>
            <a:ext cx="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rot="20883000">
            <a:off x="5931720" y="2150640"/>
            <a:ext cx="2044080" cy="42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627000">
            <a:off x="6810120" y="2182680"/>
            <a:ext cx="1475280" cy="50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23" y="419"/>
                </a:moveTo>
                <a:arcTo wR="10800" hR="10800" stAng="-6360157" swAng="6360157"/>
                <a:lnTo>
                  <a:pt x="10800" y="10800"/>
                </a:lnTo>
                <a:close/>
              </a:path>
              <a:path fill="none" w="21600" h="21600">
                <a:moveTo>
                  <a:pt x="7823" y="419"/>
                </a:moveTo>
                <a:arcTo wR="10800" hR="10800" stAng="-6360157" swAng="636015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 rot="717000">
            <a:off x="5923080" y="2718720"/>
            <a:ext cx="1704240" cy="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 rot="20883000">
            <a:off x="6572520" y="2666520"/>
            <a:ext cx="155232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rot="20883000">
            <a:off x="5924520" y="2354400"/>
            <a:ext cx="1704240" cy="8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717000">
            <a:off x="6561720" y="2358720"/>
            <a:ext cx="155232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 rot="717000">
            <a:off x="5919840" y="2609280"/>
            <a:ext cx="1812240" cy="364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 rot="20973000">
            <a:off x="6882840" y="2433240"/>
            <a:ext cx="1390680" cy="50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23" y="419"/>
                </a:moveTo>
                <a:arcTo wR="10800" hR="10800" stAng="-6360157" swAng="6360157"/>
                <a:lnTo>
                  <a:pt x="10800" y="10800"/>
                </a:lnTo>
                <a:close/>
              </a:path>
              <a:path fill="none" w="21600" h="21600">
                <a:moveTo>
                  <a:pt x="7823" y="419"/>
                </a:moveTo>
                <a:arcTo wR="10800" hR="10800" stAng="-6360157" swAng="636015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24240" y="2179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23440" y="1943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21640" y="2619360"/>
            <a:ext cx="269640" cy="27000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46640" y="2592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11560" y="2573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37120" y="2835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４８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08760" y="519120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012000" y="5311800"/>
            <a:ext cx="231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32920" y="5192640"/>
            <a:ext cx="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137440" y="5180040"/>
            <a:ext cx="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rot="20883000">
            <a:off x="5985720" y="4893840"/>
            <a:ext cx="2044080" cy="42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627000">
            <a:off x="6864120" y="4925880"/>
            <a:ext cx="1475280" cy="50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23" y="419"/>
                </a:moveTo>
                <a:arcTo wR="10800" hR="10800" stAng="-6360157" swAng="6360157"/>
                <a:lnTo>
                  <a:pt x="10800" y="10800"/>
                </a:lnTo>
                <a:close/>
              </a:path>
              <a:path fill="none" w="21600" h="21600">
                <a:moveTo>
                  <a:pt x="7823" y="419"/>
                </a:moveTo>
                <a:arcTo wR="10800" hR="10800" stAng="-6360157" swAng="636015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 rot="717000">
            <a:off x="5977080" y="5461920"/>
            <a:ext cx="1704240" cy="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 rot="20883000">
            <a:off x="6626880" y="5410080"/>
            <a:ext cx="1551600" cy="12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rot="20883000">
            <a:off x="5978520" y="5097600"/>
            <a:ext cx="1704240" cy="8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717000">
            <a:off x="6615720" y="5101920"/>
            <a:ext cx="155232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 rot="717000">
            <a:off x="5973840" y="5352480"/>
            <a:ext cx="1812240" cy="364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 rot="20973000">
            <a:off x="6936840" y="5176440"/>
            <a:ext cx="1390680" cy="50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23" y="419"/>
                </a:moveTo>
                <a:arcTo wR="10800" hR="10800" stAng="-6360157" swAng="6360157"/>
                <a:lnTo>
                  <a:pt x="10800" y="10800"/>
                </a:lnTo>
                <a:close/>
              </a:path>
              <a:path fill="none" w="21600" h="21600">
                <a:moveTo>
                  <a:pt x="7823" y="419"/>
                </a:moveTo>
                <a:arcTo wR="10800" hR="10800" stAng="-6360157" swAng="636015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32240" y="4665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00840" y="5754600"/>
            <a:ext cx="270000" cy="27000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00640" y="5380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03720" y="5710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184880" y="5724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23440" y="4915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22000" y="5365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7:39:48Z</dcterms:created>
  <dc:creator>kangawa-kaori-1</dc:creator>
  <dc:description/>
  <dc:language>en-US</dc:language>
  <cp:lastModifiedBy>kangawa-kaori-1</cp:lastModifiedBy>
  <dcterms:modified xsi:type="dcterms:W3CDTF">2007-11-14T06:20:26Z</dcterms:modified>
  <cp:revision>61</cp:revision>
  <dc:subject/>
  <dc:title>スライド 1</dc:title>
</cp:coreProperties>
</file>