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F1D-7F49-45DB-88F8-46BF396A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B26-9117-4EC6-AA5D-F38DBCFF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6C1-0C31-4E4E-8BEA-BCA91AD8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B02-CF17-4EC7-BFC3-DE15B18C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D94-ECF2-4150-B783-C3FD5BE0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AAD-B3FF-428A-8F20-22977945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3701-37D9-4F38-9AA5-4A838CA0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D27-7CD8-422E-86A1-FF1D0CFD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9F6-54AA-469B-A68E-DF30F644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B34-3838-48B2-87E7-707594C0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704-3A69-4995-9331-A18D6648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A24-8266-4973-9FCA-343E64CB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749F-305A-4670-B8DD-CE83BEB3C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76640" y="458640"/>
            <a:ext cx="4162320" cy="5781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何倍になるかを考えて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62720" y="2793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何倍になるかを考えて（２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15920" y="1224000"/>
            <a:ext cx="99072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57000" y="1257480"/>
            <a:ext cx="52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いちごのケーキを３００円で売っています。来月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０％値上げして売ることにな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来月からいちごのケーキはいくらになるの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42360" y="1403280"/>
            <a:ext cx="952200" cy="115272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243080" y="3492360"/>
            <a:ext cx="3598560" cy="844560"/>
            <a:chOff x="1243080" y="3492360"/>
            <a:chExt cx="3598560" cy="844560"/>
          </a:xfrm>
        </p:grpSpPr>
        <p:sp>
          <p:nvSpPr>
            <p:cNvPr id="47" name=""/>
            <p:cNvSpPr/>
            <p:nvPr/>
          </p:nvSpPr>
          <p:spPr>
            <a:xfrm flipH="1">
              <a:off x="1243080" y="3504960"/>
              <a:ext cx="2878560" cy="83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3800" y="3492360"/>
              <a:ext cx="2967840" cy="83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243080" y="3571200"/>
            <a:ext cx="3603600" cy="1043280"/>
            <a:chOff x="1243080" y="3571200"/>
            <a:chExt cx="3603600" cy="1043280"/>
          </a:xfrm>
        </p:grpSpPr>
        <p:sp>
          <p:nvSpPr>
            <p:cNvPr id="50" name=""/>
            <p:cNvSpPr/>
            <p:nvPr/>
          </p:nvSpPr>
          <p:spPr>
            <a:xfrm>
              <a:off x="1243080" y="37195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43080" y="3898800"/>
              <a:ext cx="36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46680" y="37195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1243080" y="3596760"/>
              <a:ext cx="2247120" cy="61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594520" y="3570840"/>
              <a:ext cx="2247120" cy="64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85440" y="4033800"/>
              <a:ext cx="114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現在の値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28160" y="3230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Arial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843440" y="3719520"/>
            <a:ext cx="358920" cy="358560"/>
            <a:chOff x="4843440" y="3719520"/>
            <a:chExt cx="358920" cy="358560"/>
          </a:xfrm>
        </p:grpSpPr>
        <p:sp>
          <p:nvSpPr>
            <p:cNvPr id="58" name=""/>
            <p:cNvSpPr/>
            <p:nvPr/>
          </p:nvSpPr>
          <p:spPr>
            <a:xfrm>
              <a:off x="4843440" y="389880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02360" y="37195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823640" y="3808440"/>
            <a:ext cx="399960" cy="268920"/>
            <a:chOff x="4823640" y="3808440"/>
            <a:chExt cx="399960" cy="268920"/>
          </a:xfrm>
        </p:grpSpPr>
        <p:sp>
          <p:nvSpPr>
            <p:cNvPr id="61" name=""/>
            <p:cNvSpPr/>
            <p:nvPr/>
          </p:nvSpPr>
          <p:spPr>
            <a:xfrm>
              <a:off x="4866480" y="3808440"/>
              <a:ext cx="3571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894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89457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823640" y="3808440"/>
              <a:ext cx="3571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894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89457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799160" y="3435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62000" y="1854360"/>
            <a:ext cx="1214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376280" y="1942920"/>
            <a:ext cx="54000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600" y="23050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％（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243080" y="2977920"/>
            <a:ext cx="3951000" cy="1820160"/>
            <a:chOff x="1243080" y="2977920"/>
            <a:chExt cx="3951000" cy="1820160"/>
          </a:xfrm>
        </p:grpSpPr>
        <p:sp>
          <p:nvSpPr>
            <p:cNvPr id="68" name=""/>
            <p:cNvSpPr/>
            <p:nvPr/>
          </p:nvSpPr>
          <p:spPr>
            <a:xfrm flipV="1">
              <a:off x="3038400" y="2977560"/>
              <a:ext cx="2155680" cy="179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1242720" y="2998080"/>
              <a:ext cx="2339280" cy="179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735640" y="4619520"/>
            <a:ext cx="110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来月からの値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？　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1520" y="2798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97360" y="2562120"/>
            <a:ext cx="0" cy="1935360"/>
          </a:xfrm>
          <a:prstGeom prst="line">
            <a:avLst/>
          </a:prstGeom>
          <a:ln w="19080">
            <a:solidFill>
              <a:srgbClr val="3399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959440" y="3249720"/>
            <a:ext cx="883080" cy="675000"/>
            <a:chOff x="5959440" y="3249720"/>
            <a:chExt cx="883080" cy="675000"/>
          </a:xfrm>
        </p:grpSpPr>
        <p:sp>
          <p:nvSpPr>
            <p:cNvPr id="74" name=""/>
            <p:cNvSpPr/>
            <p:nvPr/>
          </p:nvSpPr>
          <p:spPr>
            <a:xfrm>
              <a:off x="6066720" y="3249720"/>
              <a:ext cx="455040" cy="3682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現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59440" y="3617640"/>
              <a:ext cx="8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円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885000" y="3386160"/>
            <a:ext cx="887400" cy="93600"/>
          </a:xfrm>
          <a:prstGeom prst="rightArrow">
            <a:avLst>
              <a:gd name="adj1" fmla="val 50000"/>
              <a:gd name="adj2" fmla="val 23701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809840" y="3228840"/>
            <a:ext cx="1055520" cy="675360"/>
            <a:chOff x="7809840" y="3228840"/>
            <a:chExt cx="1055520" cy="675360"/>
          </a:xfrm>
        </p:grpSpPr>
        <p:sp>
          <p:nvSpPr>
            <p:cNvPr id="78" name=""/>
            <p:cNvSpPr/>
            <p:nvPr/>
          </p:nvSpPr>
          <p:spPr>
            <a:xfrm>
              <a:off x="7964640" y="3228840"/>
              <a:ext cx="729360" cy="3682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来月か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809840" y="3597120"/>
              <a:ext cx="105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 　？ 　円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699960" y="29923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倍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59560" y="5273640"/>
            <a:ext cx="38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式　　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１　＋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1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83440" y="578160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0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.1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24120" y="6162840"/>
            <a:ext cx="250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え（　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330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円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4680" y="1584360"/>
            <a:ext cx="7873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0760" y="2168640"/>
            <a:ext cx="48373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041640" y="638280"/>
            <a:ext cx="1368000" cy="396720"/>
            <a:chOff x="3041640" y="638280"/>
            <a:chExt cx="1368000" cy="396720"/>
          </a:xfrm>
        </p:grpSpPr>
        <p:sp>
          <p:nvSpPr>
            <p:cNvPr id="87" name=""/>
            <p:cNvSpPr/>
            <p:nvPr/>
          </p:nvSpPr>
          <p:spPr>
            <a:xfrm>
              <a:off x="3041640" y="63828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79800" y="63828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462720" y="2793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何倍になるかを考えて（２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1179360"/>
            <a:ext cx="711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４００円のキャンディを買うと，５％の消費税がかかり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いくらはらったで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280" y="1179360"/>
            <a:ext cx="99036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8520" y="4643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式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04400" y="536400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え（　　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92240" y="2664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0" y="2619360"/>
            <a:ext cx="0" cy="1935000"/>
          </a:xfrm>
          <a:prstGeom prst="line">
            <a:avLst/>
          </a:prstGeom>
          <a:ln w="19080">
            <a:solidFill>
              <a:srgbClr val="3399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80120" y="3325680"/>
            <a:ext cx="1095120" cy="675360"/>
            <a:chOff x="6180120" y="3325680"/>
            <a:chExt cx="1095120" cy="675360"/>
          </a:xfrm>
        </p:grpSpPr>
        <p:sp>
          <p:nvSpPr>
            <p:cNvPr id="97" name=""/>
            <p:cNvSpPr/>
            <p:nvPr/>
          </p:nvSpPr>
          <p:spPr>
            <a:xfrm>
              <a:off x="6180120" y="3325680"/>
              <a:ext cx="1095120" cy="3682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02520" y="369396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　　  円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242120" y="3462480"/>
            <a:ext cx="887400" cy="93600"/>
          </a:xfrm>
          <a:prstGeom prst="rightArrow">
            <a:avLst>
              <a:gd name="adj1" fmla="val 50000"/>
              <a:gd name="adj2" fmla="val 23701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8008920" y="3305160"/>
            <a:ext cx="1095120" cy="675360"/>
            <a:chOff x="8008920" y="3305160"/>
            <a:chExt cx="1095120" cy="675360"/>
          </a:xfrm>
        </p:grpSpPr>
        <p:sp>
          <p:nvSpPr>
            <p:cNvPr id="101" name=""/>
            <p:cNvSpPr/>
            <p:nvPr/>
          </p:nvSpPr>
          <p:spPr>
            <a:xfrm>
              <a:off x="8008920" y="3305160"/>
              <a:ext cx="1095120" cy="3682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31320" y="367344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 　　 円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963840" y="305424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58080" y="1673280"/>
            <a:ext cx="9525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771640" y="593640"/>
            <a:ext cx="1368360" cy="396720"/>
            <a:chOff x="2771640" y="593640"/>
            <a:chExt cx="1368360" cy="396720"/>
          </a:xfrm>
        </p:grpSpPr>
        <p:sp>
          <p:nvSpPr>
            <p:cNvPr id="106" name=""/>
            <p:cNvSpPr/>
            <p:nvPr/>
          </p:nvSpPr>
          <p:spPr>
            <a:xfrm>
              <a:off x="2771640" y="593640"/>
              <a:ext cx="13665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09800" y="593640"/>
              <a:ext cx="133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462720" y="2793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何倍になるかを考えて（２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1179360"/>
            <a:ext cx="711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４００円のキャンディを買うと，５％の消費税がかかり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いくらはらったで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6280" y="1179360"/>
            <a:ext cx="99036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47040" y="5724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2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7600" y="2168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42000" y="2460600"/>
            <a:ext cx="0" cy="1935360"/>
          </a:xfrm>
          <a:prstGeom prst="line">
            <a:avLst/>
          </a:prstGeom>
          <a:ln w="19080">
            <a:solidFill>
              <a:srgbClr val="3399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049080" y="3294000"/>
            <a:ext cx="1024560" cy="675360"/>
            <a:chOff x="6049080" y="3294000"/>
            <a:chExt cx="1024560" cy="675360"/>
          </a:xfrm>
        </p:grpSpPr>
        <p:sp>
          <p:nvSpPr>
            <p:cNvPr id="115" name=""/>
            <p:cNvSpPr/>
            <p:nvPr/>
          </p:nvSpPr>
          <p:spPr>
            <a:xfrm>
              <a:off x="6207120" y="3294000"/>
              <a:ext cx="866520" cy="3682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00"/>
                  </a:solidFill>
                  <a:latin typeface="Arial"/>
                </a:rPr>
                <a:t>キャンデ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49080" y="3662280"/>
              <a:ext cx="93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400 </a:t>
              </a:r>
              <a:r>
                <a:rPr b="0" lang="zh-CN" sz="1400" spc="-1" strike="noStrike">
                  <a:solidFill>
                    <a:srgbClr val="ff3300"/>
                  </a:solidFill>
                  <a:latin typeface="Arial"/>
                </a:rPr>
                <a:t>円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242120" y="3462480"/>
            <a:ext cx="887400" cy="93600"/>
          </a:xfrm>
          <a:prstGeom prst="rightArrow">
            <a:avLst>
              <a:gd name="adj1" fmla="val 50000"/>
              <a:gd name="adj2" fmla="val 23701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52640" y="3305160"/>
            <a:ext cx="455040" cy="36828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代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08280" y="3654360"/>
            <a:ext cx="83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zh-CN" sz="1400" spc="-1" strike="noStrike">
                <a:solidFill>
                  <a:srgbClr val="ff3300"/>
                </a:solidFill>
                <a:latin typeface="Arial"/>
              </a:rPr>
              <a:t>？円　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09200" y="3062160"/>
            <a:ext cx="13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0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58080" y="1673280"/>
            <a:ext cx="952560" cy="971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95040" y="36828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89120" y="325584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89120" y="3419640"/>
            <a:ext cx="289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83160" y="324648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84960" y="3024360"/>
            <a:ext cx="1799280" cy="80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690560" y="3009960"/>
            <a:ext cx="1800000" cy="80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783520" y="3205800"/>
            <a:ext cx="179928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1692360" y="3180600"/>
            <a:ext cx="1799280" cy="47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594320" y="34164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32590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02600" y="3332160"/>
            <a:ext cx="272160" cy="15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587120" y="3330720"/>
            <a:ext cx="271800" cy="15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70" y="13"/>
                </a:moveTo>
                <a:arcTo wR="10800" hR="10800" stAng="-5568771" swAng="5568771"/>
                <a:lnTo>
                  <a:pt x="10800" y="10800"/>
                </a:lnTo>
                <a:close/>
              </a:path>
              <a:path fill="none" w="21600" h="21600">
                <a:moveTo>
                  <a:pt x="10270" y="13"/>
                </a:moveTo>
                <a:arcTo wR="10800" hR="10800" stAng="-5568771" swAng="556877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60840" y="3503520"/>
            <a:ext cx="7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0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08160" y="2798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11640" y="1538280"/>
            <a:ext cx="54000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69520" y="2033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81640" y="1584360"/>
            <a:ext cx="0" cy="449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4360" y="29448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278080" y="2740680"/>
            <a:ext cx="2606400" cy="12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687680" y="2751840"/>
            <a:ext cx="2348640" cy="12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44080" y="3809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？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06000" y="4869000"/>
            <a:ext cx="41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式　　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１　＋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05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47520" y="54100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0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.05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67360" y="5589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36640" y="1854360"/>
            <a:ext cx="247500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23920" y="1517760"/>
            <a:ext cx="77652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7:49:32Z</dcterms:created>
  <dc:creator>kangawa-kaori-1</dc:creator>
  <dc:description/>
  <dc:language>en-US</dc:language>
  <cp:lastModifiedBy>kangawa-kaori-1</cp:lastModifiedBy>
  <dcterms:modified xsi:type="dcterms:W3CDTF">2007-11-14T06:16:32Z</dcterms:modified>
  <cp:revision>29</cp:revision>
  <dc:subject/>
  <dc:title>スライド 1</dc:title>
</cp:coreProperties>
</file>