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76F4-8E8A-4A0B-AA75-A438396A6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A6B1-F175-4290-9B55-01F81D0C6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1D83-CD40-45A9-B528-270ECBE17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8B8F-1BEF-4AB6-9373-F1ABE6F67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95E5-CE46-49D4-AE99-040A1333B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26FE-0E67-4353-974A-BD0ACFE36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94A6-1254-4EDF-9D66-AC97728B7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67E1-4D8C-491A-BD99-48E34BC7B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4D70-30E3-415B-ADBC-2A8E62C0C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9B32-F3EB-4022-9492-28FDCF7B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33CA-14DC-49AC-9A18-C1679DD3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9E52-9F17-47F1-89CA-ED202AB2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A2E26-244C-429D-9B38-18A3E1D01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227720" y="189000"/>
            <a:ext cx="134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数の大小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02000" y="503280"/>
            <a:ext cx="2070000" cy="57780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数の大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476280" y="1216080"/>
            <a:ext cx="4219200" cy="459720"/>
            <a:chOff x="476280" y="1216080"/>
            <a:chExt cx="4219200" cy="459720"/>
          </a:xfrm>
        </p:grpSpPr>
        <p:sp>
          <p:nvSpPr>
            <p:cNvPr id="44" name=""/>
            <p:cNvSpPr/>
            <p:nvPr/>
          </p:nvSpPr>
          <p:spPr>
            <a:xfrm>
              <a:off x="476280" y="1290600"/>
              <a:ext cx="360360" cy="360360"/>
            </a:xfrm>
            <a:prstGeom prst="star5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622160" y="1216080"/>
              <a:ext cx="307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次の数を大きい順にならべかえましょう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833400" y="1854360"/>
            <a:ext cx="19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701800" y="1673280"/>
            <a:ext cx="700200" cy="820080"/>
            <a:chOff x="2701800" y="1673280"/>
            <a:chExt cx="700200" cy="820080"/>
          </a:xfrm>
        </p:grpSpPr>
        <p:sp>
          <p:nvSpPr>
            <p:cNvPr id="48" name=""/>
            <p:cNvSpPr/>
            <p:nvPr/>
          </p:nvSpPr>
          <p:spPr>
            <a:xfrm>
              <a:off x="2701800" y="2094120"/>
              <a:ext cx="490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84240" y="203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84240" y="16732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217680" y="188604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3162960" y="1808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41920" y="1684440"/>
            <a:ext cx="699480" cy="820080"/>
            <a:chOff x="3841920" y="1684440"/>
            <a:chExt cx="699480" cy="820080"/>
          </a:xfrm>
        </p:grpSpPr>
        <p:sp>
          <p:nvSpPr>
            <p:cNvPr id="54" name=""/>
            <p:cNvSpPr/>
            <p:nvPr/>
          </p:nvSpPr>
          <p:spPr>
            <a:xfrm>
              <a:off x="3841920" y="2105280"/>
              <a:ext cx="490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924000" y="2044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924000" y="16844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357440" y="189720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302720" y="1819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976640" y="1673280"/>
            <a:ext cx="700200" cy="820080"/>
            <a:chOff x="4976640" y="1673280"/>
            <a:chExt cx="700200" cy="820080"/>
          </a:xfrm>
        </p:grpSpPr>
        <p:sp>
          <p:nvSpPr>
            <p:cNvPr id="60" name=""/>
            <p:cNvSpPr/>
            <p:nvPr/>
          </p:nvSpPr>
          <p:spPr>
            <a:xfrm>
              <a:off x="4976640" y="2094120"/>
              <a:ext cx="490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059080" y="203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59080" y="16732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92520" y="188604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708800" y="1854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097000" y="5904000"/>
            <a:ext cx="5257440" cy="759960"/>
            <a:chOff x="2097000" y="5904000"/>
            <a:chExt cx="5257440" cy="759960"/>
          </a:xfrm>
        </p:grpSpPr>
        <p:grpSp>
          <p:nvGrpSpPr>
            <p:cNvPr id="66" name=""/>
            <p:cNvGrpSpPr/>
            <p:nvPr/>
          </p:nvGrpSpPr>
          <p:grpSpPr>
            <a:xfrm>
              <a:off x="6384960" y="5931000"/>
              <a:ext cx="969480" cy="664920"/>
              <a:chOff x="6384960" y="5931000"/>
              <a:chExt cx="969480" cy="664920"/>
            </a:xfrm>
          </p:grpSpPr>
          <p:graphicFrame>
            <p:nvGraphicFramePr>
              <p:cNvPr id="67" name=""/>
              <p:cNvGraphicFramePr/>
              <p:nvPr/>
            </p:nvGraphicFramePr>
            <p:xfrm>
              <a:off x="7216200" y="6151320"/>
              <a:ext cx="138240" cy="1328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68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7216200" y="6151320"/>
                        <a:ext cx="138240" cy="132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69" name=""/>
              <p:cNvGrpSpPr/>
              <p:nvPr/>
            </p:nvGrpSpPr>
            <p:grpSpPr>
              <a:xfrm>
                <a:off x="6556320" y="5948280"/>
                <a:ext cx="713880" cy="647640"/>
                <a:chOff x="6556320" y="5948280"/>
                <a:chExt cx="713880" cy="64764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6556320" y="5948280"/>
                  <a:ext cx="713880" cy="647640"/>
                </a:xfrm>
                <a:custGeom>
                  <a:avLst/>
                  <a:gdLst/>
                  <a:ahLst/>
                  <a:rect l="l" t="t" r="r" b="b"/>
                  <a:pathLst>
                    <a:path w="484" h="395">
                      <a:moveTo>
                        <a:pt x="242" y="0"/>
                      </a:moveTo>
                      <a:lnTo>
                        <a:pt x="0" y="395"/>
                      </a:lnTo>
                      <a:lnTo>
                        <a:pt x="484" y="395"/>
                      </a:lnTo>
                      <a:lnTo>
                        <a:pt x="242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6556320" y="5948280"/>
                  <a:ext cx="713880" cy="647640"/>
                </a:xfrm>
                <a:custGeom>
                  <a:avLst/>
                  <a:gdLst/>
                  <a:ahLst/>
                  <a:rect l="l" t="t" r="r" b="b"/>
                  <a:pathLst>
                    <a:path w="484" h="395">
                      <a:moveTo>
                        <a:pt x="242" y="0"/>
                      </a:moveTo>
                      <a:lnTo>
                        <a:pt x="0" y="395"/>
                      </a:lnTo>
                      <a:lnTo>
                        <a:pt x="484" y="395"/>
                      </a:lnTo>
                      <a:lnTo>
                        <a:pt x="242" y="0"/>
                      </a:lnTo>
                      <a:close/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" name=""/>
              <p:cNvSpPr/>
              <p:nvPr/>
            </p:nvSpPr>
            <p:spPr>
              <a:xfrm flipV="1">
                <a:off x="7110360" y="6238440"/>
                <a:ext cx="138240" cy="79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" name=""/>
              <p:cNvGrpSpPr/>
              <p:nvPr/>
            </p:nvGrpSpPr>
            <p:grpSpPr>
              <a:xfrm>
                <a:off x="6942240" y="6240600"/>
                <a:ext cx="110520" cy="54000"/>
                <a:chOff x="6942240" y="6240600"/>
                <a:chExt cx="110520" cy="5400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6942240" y="6240600"/>
                  <a:ext cx="110520" cy="54000"/>
                </a:xfrm>
                <a:custGeom>
                  <a:avLst/>
                  <a:gdLst/>
                  <a:ahLst/>
                  <a:rect l="l" t="t" r="r" b="b"/>
                  <a:pathLst>
                    <a:path w="908" h="425">
                      <a:moveTo>
                        <a:pt x="0" y="425"/>
                      </a:moveTo>
                      <a:cubicBezTo>
                        <a:pt x="6" y="188"/>
                        <a:pt x="208" y="0"/>
                        <a:pt x="454" y="0"/>
                      </a:cubicBezTo>
                      <a:cubicBezTo>
                        <a:pt x="700" y="0"/>
                        <a:pt x="901" y="188"/>
                        <a:pt x="908" y="425"/>
                      </a:cubicBezTo>
                      <a:cubicBezTo>
                        <a:pt x="901" y="188"/>
                        <a:pt x="700" y="0"/>
                        <a:pt x="454" y="0"/>
                      </a:cubicBezTo>
                      <a:cubicBezTo>
                        <a:pt x="208" y="0"/>
                        <a:pt x="6" y="188"/>
                        <a:pt x="0" y="425"/>
                      </a:cubicBezTo>
                    </a:path>
                  </a:pathLst>
                </a:custGeom>
                <a:solidFill>
                  <a:srgbClr val="bbe0e3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6942240" y="6240600"/>
                  <a:ext cx="110520" cy="54000"/>
                </a:xfrm>
                <a:custGeom>
                  <a:avLst/>
                  <a:gdLst/>
                  <a:ahLst/>
                  <a:rect l="l" t="t" r="r" b="b"/>
                  <a:pathLst>
                    <a:path w="109" h="51">
                      <a:moveTo>
                        <a:pt x="0" y="51"/>
                      </a:moveTo>
                      <a:cubicBezTo>
                        <a:pt x="1" y="22"/>
                        <a:pt x="25" y="0"/>
                        <a:pt x="55" y="0"/>
                      </a:cubicBezTo>
                      <a:cubicBezTo>
                        <a:pt x="84" y="0"/>
                        <a:pt x="108" y="22"/>
                        <a:pt x="109" y="51"/>
                      </a:cubicBezTo>
                      <a:cubicBezTo>
                        <a:pt x="108" y="22"/>
                        <a:pt x="84" y="0"/>
                        <a:pt x="55" y="0"/>
                      </a:cubicBezTo>
                      <a:cubicBezTo>
                        <a:pt x="25" y="0"/>
                        <a:pt x="1" y="22"/>
                        <a:pt x="0" y="51"/>
                      </a:cubicBezTo>
                    </a:path>
                  </a:pathLst>
                </a:custGeom>
                <a:noFill/>
                <a:ln cap="rnd"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6768360" y="6255720"/>
                <a:ext cx="111960" cy="54000"/>
                <a:chOff x="6768360" y="6255720"/>
                <a:chExt cx="111960" cy="5400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6768360" y="6255720"/>
                  <a:ext cx="111960" cy="54000"/>
                </a:xfrm>
                <a:custGeom>
                  <a:avLst/>
                  <a:gdLst/>
                  <a:ahLst/>
                  <a:rect l="l" t="t" r="r" b="b"/>
                  <a:pathLst>
                    <a:path w="916" h="425">
                      <a:moveTo>
                        <a:pt x="0" y="425"/>
                      </a:moveTo>
                      <a:cubicBezTo>
                        <a:pt x="6" y="188"/>
                        <a:pt x="209" y="0"/>
                        <a:pt x="458" y="0"/>
                      </a:cubicBezTo>
                      <a:cubicBezTo>
                        <a:pt x="706" y="0"/>
                        <a:pt x="909" y="188"/>
                        <a:pt x="916" y="425"/>
                      </a:cubicBezTo>
                      <a:cubicBezTo>
                        <a:pt x="909" y="188"/>
                        <a:pt x="706" y="0"/>
                        <a:pt x="458" y="0"/>
                      </a:cubicBezTo>
                      <a:cubicBezTo>
                        <a:pt x="209" y="0"/>
                        <a:pt x="6" y="188"/>
                        <a:pt x="0" y="425"/>
                      </a:cubicBezTo>
                    </a:path>
                  </a:pathLst>
                </a:custGeom>
                <a:solidFill>
                  <a:srgbClr val="bbe0e3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6768360" y="6255720"/>
                  <a:ext cx="111960" cy="54000"/>
                </a:xfrm>
                <a:custGeom>
                  <a:avLst/>
                  <a:gdLst/>
                  <a:ahLst/>
                  <a:rect l="l" t="t" r="r" b="b"/>
                  <a:pathLst>
                    <a:path w="110" h="51">
                      <a:moveTo>
                        <a:pt x="0" y="51"/>
                      </a:moveTo>
                      <a:cubicBezTo>
                        <a:pt x="1" y="22"/>
                        <a:pt x="25" y="0"/>
                        <a:pt x="55" y="0"/>
                      </a:cubicBezTo>
                      <a:cubicBezTo>
                        <a:pt x="85" y="0"/>
                        <a:pt x="109" y="22"/>
                        <a:pt x="110" y="51"/>
                      </a:cubicBezTo>
                      <a:cubicBezTo>
                        <a:pt x="109" y="22"/>
                        <a:pt x="85" y="0"/>
                        <a:pt x="55" y="0"/>
                      </a:cubicBezTo>
                      <a:cubicBezTo>
                        <a:pt x="25" y="0"/>
                        <a:pt x="1" y="22"/>
                        <a:pt x="0" y="51"/>
                      </a:cubicBezTo>
                    </a:path>
                  </a:pathLst>
                </a:custGeom>
                <a:noFill/>
                <a:ln cap="rnd"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6780600" y="6384600"/>
                <a:ext cx="276840" cy="144720"/>
                <a:chOff x="6780600" y="6384600"/>
                <a:chExt cx="276840" cy="14472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6780600" y="6384600"/>
                  <a:ext cx="276840" cy="144720"/>
                </a:xfrm>
                <a:custGeom>
                  <a:avLst/>
                  <a:gdLst/>
                  <a:ahLst/>
                  <a:rect l="l" t="t" r="r" b="b"/>
                  <a:pathLst>
                    <a:path w="1600" h="808">
                      <a:moveTo>
                        <a:pt x="0" y="404"/>
                      </a:moveTo>
                      <a:cubicBezTo>
                        <a:pt x="0" y="627"/>
                        <a:pt x="358" y="808"/>
                        <a:pt x="800" y="808"/>
                      </a:cubicBezTo>
                      <a:cubicBezTo>
                        <a:pt x="1242" y="808"/>
                        <a:pt x="1600" y="627"/>
                        <a:pt x="1600" y="404"/>
                      </a:cubicBezTo>
                      <a:lnTo>
                        <a:pt x="1600" y="0"/>
                      </a:lnTo>
                      <a:lnTo>
                        <a:pt x="0" y="0"/>
                      </a:lnTo>
                      <a:lnTo>
                        <a:pt x="0" y="40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6780600" y="6384600"/>
                  <a:ext cx="276840" cy="144720"/>
                </a:xfrm>
                <a:custGeom>
                  <a:avLst/>
                  <a:gdLst/>
                  <a:ahLst/>
                  <a:rect l="l" t="t" r="r" b="b"/>
                  <a:pathLst>
                    <a:path w="1600" h="808">
                      <a:moveTo>
                        <a:pt x="0" y="404"/>
                      </a:moveTo>
                      <a:cubicBezTo>
                        <a:pt x="0" y="627"/>
                        <a:pt x="358" y="808"/>
                        <a:pt x="800" y="808"/>
                      </a:cubicBezTo>
                      <a:cubicBezTo>
                        <a:pt x="1242" y="808"/>
                        <a:pt x="1600" y="627"/>
                        <a:pt x="1600" y="404"/>
                      </a:cubicBezTo>
                      <a:lnTo>
                        <a:pt x="1600" y="0"/>
                      </a:lnTo>
                      <a:lnTo>
                        <a:pt x="0" y="0"/>
                      </a:lnTo>
                      <a:lnTo>
                        <a:pt x="0" y="404"/>
                      </a:lnTo>
                      <a:close/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" name=""/>
              <p:cNvSpPr/>
              <p:nvPr/>
            </p:nvSpPr>
            <p:spPr>
              <a:xfrm flipH="1" flipV="1">
                <a:off x="6573600" y="6199920"/>
                <a:ext cx="131040" cy="128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3" name="" descr=""/>
              <p:cNvPicPr/>
              <p:nvPr/>
            </p:nvPicPr>
            <p:blipFill>
              <a:blip r:embed="rId3"/>
              <a:stretch/>
            </p:blipFill>
            <p:spPr>
              <a:xfrm rot="20973000">
                <a:off x="6418080" y="5947920"/>
                <a:ext cx="226800" cy="386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4" name=""/>
            <p:cNvSpPr/>
            <p:nvPr/>
          </p:nvSpPr>
          <p:spPr>
            <a:xfrm flipH="1">
              <a:off x="2097000" y="5904000"/>
              <a:ext cx="4122720" cy="717480"/>
            </a:xfrm>
            <a:prstGeom prst="wedgeEllipseCallout">
              <a:avLst>
                <a:gd name="adj1" fmla="val -55587"/>
                <a:gd name="adj2" fmla="val 1459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931120" y="6083280"/>
              <a:ext cx="2497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分数を小数になおしてから，比べよう！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1285920" y="3249720"/>
            <a:ext cx="881280" cy="820080"/>
            <a:chOff x="1285920" y="3249720"/>
            <a:chExt cx="881280" cy="820080"/>
          </a:xfrm>
        </p:grpSpPr>
        <p:sp>
          <p:nvSpPr>
            <p:cNvPr id="87" name=""/>
            <p:cNvSpPr/>
            <p:nvPr/>
          </p:nvSpPr>
          <p:spPr>
            <a:xfrm>
              <a:off x="1285920" y="3670560"/>
              <a:ext cx="490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368360" y="36100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68360" y="3249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49320" y="346248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894680" y="3429000"/>
            <a:ext cx="27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４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５　＝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285920" y="4059360"/>
            <a:ext cx="881280" cy="820080"/>
            <a:chOff x="1285920" y="4059360"/>
            <a:chExt cx="881280" cy="820080"/>
          </a:xfrm>
        </p:grpSpPr>
        <p:sp>
          <p:nvSpPr>
            <p:cNvPr id="93" name=""/>
            <p:cNvSpPr/>
            <p:nvPr/>
          </p:nvSpPr>
          <p:spPr>
            <a:xfrm>
              <a:off x="1285920" y="4480200"/>
              <a:ext cx="490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368360" y="4419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368360" y="40593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49320" y="427212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1752120" y="4238640"/>
            <a:ext cx="36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８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３　＝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6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308240" y="4954680"/>
            <a:ext cx="880560" cy="820080"/>
            <a:chOff x="1308240" y="4954680"/>
            <a:chExt cx="880560" cy="820080"/>
          </a:xfrm>
        </p:grpSpPr>
        <p:sp>
          <p:nvSpPr>
            <p:cNvPr id="99" name=""/>
            <p:cNvSpPr/>
            <p:nvPr/>
          </p:nvSpPr>
          <p:spPr>
            <a:xfrm>
              <a:off x="1308240" y="5375520"/>
              <a:ext cx="490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390320" y="5315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390320" y="4954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70920" y="516744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1040040" y="5135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21480" y="5113440"/>
            <a:ext cx="85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１　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1640" y="5543640"/>
            <a:ext cx="1216080" cy="0"/>
          </a:xfrm>
          <a:prstGeom prst="line">
            <a:avLst/>
          </a:prstGeom>
          <a:ln w="22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5699160" y="5528880"/>
            <a:ext cx="876240" cy="4680"/>
          </a:xfrm>
          <a:prstGeom prst="line">
            <a:avLst/>
          </a:prstGeom>
          <a:ln w="22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53040" y="2573280"/>
            <a:ext cx="761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答え（　　　　　　　　　　　　　　　　　　　　　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6280" y="3294000"/>
            <a:ext cx="8506080" cy="0"/>
          </a:xfrm>
          <a:prstGeom prst="line">
            <a:avLst/>
          </a:prstGeom>
          <a:ln w="19080">
            <a:solidFill>
              <a:srgbClr val="ff66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27000" y="1898640"/>
            <a:ext cx="719280" cy="360360"/>
          </a:xfrm>
          <a:prstGeom prst="ellipse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55720" y="1898640"/>
            <a:ext cx="719280" cy="360360"/>
          </a:xfrm>
          <a:prstGeom prst="ellipse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928240" y="509436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３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４　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08440" y="5106960"/>
            <a:ext cx="238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１　＋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7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04520" y="50943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21040" y="3478320"/>
            <a:ext cx="773280" cy="393480"/>
          </a:xfrm>
          <a:prstGeom prst="ellipse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40200" y="4273560"/>
            <a:ext cx="772920" cy="393840"/>
          </a:xfrm>
          <a:prstGeom prst="ellipse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037280" y="5145120"/>
            <a:ext cx="773280" cy="393840"/>
          </a:xfrm>
          <a:prstGeom prst="ellipse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057560" y="2565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262760" y="2347920"/>
            <a:ext cx="967680" cy="818640"/>
            <a:chOff x="4262760" y="2347920"/>
            <a:chExt cx="967680" cy="818640"/>
          </a:xfrm>
        </p:grpSpPr>
        <p:sp>
          <p:nvSpPr>
            <p:cNvPr id="119" name=""/>
            <p:cNvSpPr/>
            <p:nvPr/>
          </p:nvSpPr>
          <p:spPr>
            <a:xfrm>
              <a:off x="4530600" y="2792520"/>
              <a:ext cx="4903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74880" y="2706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00"/>
                  </a:solidFill>
                  <a:latin typeface="Arial"/>
                </a:rPr>
                <a:t>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74880" y="2347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00"/>
                  </a:solidFill>
                  <a:latin typeface="Arial"/>
                </a:rPr>
                <a:t>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46480" y="258444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262760" y="2552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5082480" y="2664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091760" y="2664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541680" y="2347920"/>
            <a:ext cx="490320" cy="820080"/>
            <a:chOff x="3541680" y="2347920"/>
            <a:chExt cx="490320" cy="820080"/>
          </a:xfrm>
        </p:grpSpPr>
        <p:sp>
          <p:nvSpPr>
            <p:cNvPr id="127" name=""/>
            <p:cNvSpPr/>
            <p:nvPr/>
          </p:nvSpPr>
          <p:spPr>
            <a:xfrm>
              <a:off x="3541680" y="2773080"/>
              <a:ext cx="4903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598560" y="27082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00"/>
                  </a:solidFill>
                  <a:latin typeface="Arial"/>
                </a:rPr>
                <a:t>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98560" y="2347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00"/>
                  </a:solidFill>
                  <a:latin typeface="Arial"/>
                </a:rPr>
                <a:t>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5470560" y="2565360"/>
            <a:ext cx="67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1.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184880" y="2330280"/>
            <a:ext cx="490680" cy="837720"/>
            <a:chOff x="7184880" y="2330280"/>
            <a:chExt cx="490680" cy="837720"/>
          </a:xfrm>
        </p:grpSpPr>
        <p:sp>
          <p:nvSpPr>
            <p:cNvPr id="132" name=""/>
            <p:cNvSpPr/>
            <p:nvPr/>
          </p:nvSpPr>
          <p:spPr>
            <a:xfrm>
              <a:off x="7184880" y="2768760"/>
              <a:ext cx="4906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45000" y="27082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00"/>
                  </a:solidFill>
                  <a:latin typeface="Arial"/>
                </a:rPr>
                <a:t>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245000" y="23302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00"/>
                  </a:solidFill>
                  <a:latin typeface="Arial"/>
                </a:rPr>
                <a:t>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6282720" y="256716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0.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494400" y="56340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ヒントく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562720" y="593640"/>
            <a:ext cx="3333600" cy="1079640"/>
            <a:chOff x="5562720" y="593640"/>
            <a:chExt cx="3333600" cy="1079640"/>
          </a:xfrm>
        </p:grpSpPr>
        <p:pic>
          <p:nvPicPr>
            <p:cNvPr id="138" name="" descr=""/>
            <p:cNvPicPr/>
            <p:nvPr/>
          </p:nvPicPr>
          <p:blipFill>
            <a:blip r:embed="rId4"/>
            <a:stretch/>
          </p:blipFill>
          <p:spPr>
            <a:xfrm>
              <a:off x="8442360" y="863640"/>
              <a:ext cx="453960" cy="5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562720" y="773280"/>
              <a:ext cx="2835000" cy="900000"/>
            </a:xfrm>
            <a:prstGeom prst="ellipse">
              <a:avLst/>
            </a:prstGeom>
            <a:noFill/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113880" y="746280"/>
              <a:ext cx="1926000" cy="82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　　　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HG丸ｺﾞｼｯｸM-PRO"/>
                </a:rPr>
                <a:t>　　</a:t>
              </a:r>
              <a:r>
                <a:rPr b="0" lang="zh-CN" sz="1400" spc="-1" strike="noStrike">
                  <a:solidFill>
                    <a:srgbClr val="333399"/>
                  </a:solidFill>
                  <a:latin typeface="Arial"/>
                  <a:ea typeface="HG丸ｺﾞｼｯｸM-PRO"/>
                </a:rPr>
                <a:t>答えをかく時は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99"/>
                  </a:solidFill>
                  <a:latin typeface="Arial"/>
                  <a:ea typeface="HG丸ｺﾞｼｯｸM-PRO"/>
                </a:rPr>
                <a:t>小数になおしたものではなくて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99"/>
                  </a:solidFill>
                  <a:latin typeface="Arial"/>
                  <a:ea typeface="HG丸ｺﾞｼｯｸM-PRO"/>
                </a:rPr>
                <a:t>　元の問題の通りかくんだよ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42680" y="59364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0000"/>
                  </a:solidFill>
                  <a:latin typeface="Arial"/>
                </a:rPr>
                <a:t>大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2627280" y="620640"/>
            <a:ext cx="1368000" cy="396720"/>
            <a:chOff x="2627280" y="620640"/>
            <a:chExt cx="1368000" cy="396720"/>
          </a:xfrm>
        </p:grpSpPr>
        <p:sp>
          <p:nvSpPr>
            <p:cNvPr id="143" name=""/>
            <p:cNvSpPr/>
            <p:nvPr/>
          </p:nvSpPr>
          <p:spPr>
            <a:xfrm>
              <a:off x="2627280" y="620640"/>
              <a:ext cx="136620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65440" y="620640"/>
              <a:ext cx="132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7227720" y="189000"/>
            <a:ext cx="134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数の大小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76280" y="1216080"/>
            <a:ext cx="4219200" cy="459720"/>
            <a:chOff x="476280" y="1216080"/>
            <a:chExt cx="4219200" cy="459720"/>
          </a:xfrm>
        </p:grpSpPr>
        <p:sp>
          <p:nvSpPr>
            <p:cNvPr id="147" name=""/>
            <p:cNvSpPr/>
            <p:nvPr/>
          </p:nvSpPr>
          <p:spPr>
            <a:xfrm>
              <a:off x="476280" y="1290600"/>
              <a:ext cx="360360" cy="360360"/>
            </a:xfrm>
            <a:prstGeom prst="star5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22160" y="1216080"/>
              <a:ext cx="307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次の数を大きい順にならべかえましょう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1150920" y="1717560"/>
            <a:ext cx="700200" cy="820080"/>
            <a:chOff x="1150920" y="1717560"/>
            <a:chExt cx="700200" cy="820080"/>
          </a:xfrm>
        </p:grpSpPr>
        <p:sp>
          <p:nvSpPr>
            <p:cNvPr id="150" name=""/>
            <p:cNvSpPr/>
            <p:nvPr/>
          </p:nvSpPr>
          <p:spPr>
            <a:xfrm>
              <a:off x="1150920" y="2138400"/>
              <a:ext cx="490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33360" y="2077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33360" y="1717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66800" y="193032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5021280" y="1673280"/>
            <a:ext cx="700200" cy="820080"/>
            <a:chOff x="5021280" y="1673280"/>
            <a:chExt cx="700200" cy="820080"/>
          </a:xfrm>
        </p:grpSpPr>
        <p:sp>
          <p:nvSpPr>
            <p:cNvPr id="155" name=""/>
            <p:cNvSpPr/>
            <p:nvPr/>
          </p:nvSpPr>
          <p:spPr>
            <a:xfrm>
              <a:off x="5021280" y="2094120"/>
              <a:ext cx="490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103720" y="203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03720" y="16732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537160" y="188604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1658160" y="1987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80360" y="189720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4094280" y="1673280"/>
            <a:ext cx="699480" cy="820080"/>
            <a:chOff x="4094280" y="1673280"/>
            <a:chExt cx="699480" cy="820080"/>
          </a:xfrm>
        </p:grpSpPr>
        <p:sp>
          <p:nvSpPr>
            <p:cNvPr id="162" name=""/>
            <p:cNvSpPr/>
            <p:nvPr/>
          </p:nvSpPr>
          <p:spPr>
            <a:xfrm>
              <a:off x="4094280" y="2094120"/>
              <a:ext cx="490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176360" y="203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176360" y="16732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609800" y="188604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3819240" y="1852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14840" y="1898640"/>
            <a:ext cx="3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941560" y="1886040"/>
            <a:ext cx="80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53040" y="2573280"/>
            <a:ext cx="761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答え（　　　　　　　　　　　　　　　　　　　　　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916280" y="5634000"/>
            <a:ext cx="5184720" cy="982080"/>
            <a:chOff x="1916280" y="5634000"/>
            <a:chExt cx="5184720" cy="982080"/>
          </a:xfrm>
        </p:grpSpPr>
        <p:sp>
          <p:nvSpPr>
            <p:cNvPr id="171" name=""/>
            <p:cNvSpPr/>
            <p:nvPr/>
          </p:nvSpPr>
          <p:spPr>
            <a:xfrm flipH="1">
              <a:off x="1916280" y="5724360"/>
              <a:ext cx="4122720" cy="717480"/>
            </a:xfrm>
            <a:prstGeom prst="wedgeEllipseCallout">
              <a:avLst>
                <a:gd name="adj1" fmla="val -55587"/>
                <a:gd name="adj2" fmla="val 1459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595960" y="5905440"/>
              <a:ext cx="2741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分数を小数になおしてから，比べるんだった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6207840" y="6023880"/>
              <a:ext cx="893160" cy="592200"/>
              <a:chOff x="6207840" y="6023880"/>
              <a:chExt cx="893160" cy="592200"/>
            </a:xfrm>
          </p:grpSpPr>
          <p:graphicFrame>
            <p:nvGraphicFramePr>
              <p:cNvPr id="174" name=""/>
              <p:cNvGraphicFramePr/>
              <p:nvPr/>
            </p:nvGraphicFramePr>
            <p:xfrm>
              <a:off x="6973920" y="6220800"/>
              <a:ext cx="127080" cy="1177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7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973920" y="6220800"/>
                        <a:ext cx="127080" cy="117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76" name=""/>
              <p:cNvSpPr/>
              <p:nvPr/>
            </p:nvSpPr>
            <p:spPr>
              <a:xfrm>
                <a:off x="6364440" y="6040080"/>
                <a:ext cx="658800" cy="576000"/>
              </a:xfrm>
              <a:custGeom>
                <a:avLst/>
                <a:gdLst/>
                <a:ahLst/>
                <a:rect l="l" t="t" r="r" b="b"/>
                <a:pathLst>
                  <a:path w="484" h="395">
                    <a:moveTo>
                      <a:pt x="242" y="0"/>
                    </a:moveTo>
                    <a:lnTo>
                      <a:pt x="0" y="395"/>
                    </a:lnTo>
                    <a:lnTo>
                      <a:pt x="484" y="395"/>
                    </a:lnTo>
                    <a:lnTo>
                      <a:pt x="242" y="0"/>
                    </a:lnTo>
                    <a:close/>
                  </a:path>
                </a:pathLst>
              </a:custGeom>
              <a:solidFill>
                <a:srgbClr val="66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364440" y="6040080"/>
                <a:ext cx="658800" cy="576000"/>
              </a:xfrm>
              <a:custGeom>
                <a:avLst/>
                <a:gdLst/>
                <a:ahLst/>
                <a:rect l="l" t="t" r="r" b="b"/>
                <a:pathLst>
                  <a:path w="484" h="395">
                    <a:moveTo>
                      <a:pt x="242" y="0"/>
                    </a:moveTo>
                    <a:lnTo>
                      <a:pt x="0" y="395"/>
                    </a:lnTo>
                    <a:lnTo>
                      <a:pt x="484" y="395"/>
                    </a:lnTo>
                    <a:lnTo>
                      <a:pt x="242" y="0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V="1">
                <a:off x="6875640" y="6298560"/>
                <a:ext cx="128520" cy="69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9" name=""/>
              <p:cNvGrpSpPr/>
              <p:nvPr/>
            </p:nvGrpSpPr>
            <p:grpSpPr>
              <a:xfrm>
                <a:off x="6721560" y="6300360"/>
                <a:ext cx="101520" cy="47520"/>
                <a:chOff x="6721560" y="6300360"/>
                <a:chExt cx="101520" cy="4752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6721560" y="6300360"/>
                  <a:ext cx="101520" cy="47520"/>
                </a:xfrm>
                <a:custGeom>
                  <a:avLst/>
                  <a:gdLst/>
                  <a:ahLst/>
                  <a:rect l="l" t="t" r="r" b="b"/>
                  <a:pathLst>
                    <a:path w="908" h="425">
                      <a:moveTo>
                        <a:pt x="0" y="425"/>
                      </a:moveTo>
                      <a:cubicBezTo>
                        <a:pt x="6" y="188"/>
                        <a:pt x="208" y="0"/>
                        <a:pt x="454" y="0"/>
                      </a:cubicBezTo>
                      <a:cubicBezTo>
                        <a:pt x="700" y="0"/>
                        <a:pt x="901" y="188"/>
                        <a:pt x="908" y="425"/>
                      </a:cubicBezTo>
                      <a:cubicBezTo>
                        <a:pt x="901" y="188"/>
                        <a:pt x="700" y="0"/>
                        <a:pt x="454" y="0"/>
                      </a:cubicBezTo>
                      <a:cubicBezTo>
                        <a:pt x="208" y="0"/>
                        <a:pt x="6" y="188"/>
                        <a:pt x="0" y="425"/>
                      </a:cubicBezTo>
                    </a:path>
                  </a:pathLst>
                </a:custGeom>
                <a:solidFill>
                  <a:srgbClr val="bbe0e3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6721560" y="6300360"/>
                  <a:ext cx="101520" cy="47520"/>
                </a:xfrm>
                <a:custGeom>
                  <a:avLst/>
                  <a:gdLst/>
                  <a:ahLst/>
                  <a:rect l="l" t="t" r="r" b="b"/>
                  <a:pathLst>
                    <a:path w="109" h="51">
                      <a:moveTo>
                        <a:pt x="0" y="51"/>
                      </a:moveTo>
                      <a:cubicBezTo>
                        <a:pt x="1" y="22"/>
                        <a:pt x="25" y="0"/>
                        <a:pt x="55" y="0"/>
                      </a:cubicBezTo>
                      <a:cubicBezTo>
                        <a:pt x="84" y="0"/>
                        <a:pt x="108" y="22"/>
                        <a:pt x="109" y="51"/>
                      </a:cubicBezTo>
                      <a:cubicBezTo>
                        <a:pt x="108" y="22"/>
                        <a:pt x="84" y="0"/>
                        <a:pt x="55" y="0"/>
                      </a:cubicBezTo>
                      <a:cubicBezTo>
                        <a:pt x="25" y="0"/>
                        <a:pt x="1" y="22"/>
                        <a:pt x="0" y="51"/>
                      </a:cubicBezTo>
                    </a:path>
                  </a:pathLst>
                </a:custGeom>
                <a:noFill/>
                <a:ln cap="rnd"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6559560" y="6312960"/>
                <a:ext cx="103320" cy="49320"/>
                <a:chOff x="6559560" y="6312960"/>
                <a:chExt cx="103320" cy="4932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6559560" y="6312960"/>
                  <a:ext cx="103320" cy="49320"/>
                </a:xfrm>
                <a:custGeom>
                  <a:avLst/>
                  <a:gdLst/>
                  <a:ahLst/>
                  <a:rect l="l" t="t" r="r" b="b"/>
                  <a:pathLst>
                    <a:path w="916" h="425">
                      <a:moveTo>
                        <a:pt x="0" y="425"/>
                      </a:moveTo>
                      <a:cubicBezTo>
                        <a:pt x="6" y="188"/>
                        <a:pt x="209" y="0"/>
                        <a:pt x="458" y="0"/>
                      </a:cubicBezTo>
                      <a:cubicBezTo>
                        <a:pt x="706" y="0"/>
                        <a:pt x="909" y="188"/>
                        <a:pt x="916" y="425"/>
                      </a:cubicBezTo>
                      <a:cubicBezTo>
                        <a:pt x="909" y="188"/>
                        <a:pt x="706" y="0"/>
                        <a:pt x="458" y="0"/>
                      </a:cubicBezTo>
                      <a:cubicBezTo>
                        <a:pt x="209" y="0"/>
                        <a:pt x="6" y="188"/>
                        <a:pt x="0" y="425"/>
                      </a:cubicBezTo>
                    </a:path>
                  </a:pathLst>
                </a:custGeom>
                <a:solidFill>
                  <a:srgbClr val="bbe0e3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6559560" y="6312960"/>
                  <a:ext cx="103320" cy="49320"/>
                </a:xfrm>
                <a:custGeom>
                  <a:avLst/>
                  <a:gdLst/>
                  <a:ahLst/>
                  <a:rect l="l" t="t" r="r" b="b"/>
                  <a:pathLst>
                    <a:path w="110" h="51">
                      <a:moveTo>
                        <a:pt x="0" y="51"/>
                      </a:moveTo>
                      <a:cubicBezTo>
                        <a:pt x="1" y="22"/>
                        <a:pt x="25" y="0"/>
                        <a:pt x="55" y="0"/>
                      </a:cubicBezTo>
                      <a:cubicBezTo>
                        <a:pt x="85" y="0"/>
                        <a:pt x="109" y="22"/>
                        <a:pt x="110" y="51"/>
                      </a:cubicBezTo>
                      <a:cubicBezTo>
                        <a:pt x="109" y="22"/>
                        <a:pt x="85" y="0"/>
                        <a:pt x="55" y="0"/>
                      </a:cubicBezTo>
                      <a:cubicBezTo>
                        <a:pt x="25" y="0"/>
                        <a:pt x="1" y="22"/>
                        <a:pt x="0" y="51"/>
                      </a:cubicBezTo>
                    </a:path>
                  </a:pathLst>
                </a:custGeom>
                <a:noFill/>
                <a:ln cap="rnd"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6572520" y="6427440"/>
                <a:ext cx="253800" cy="128520"/>
                <a:chOff x="6572520" y="6427440"/>
                <a:chExt cx="253800" cy="12852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6572520" y="6427440"/>
                  <a:ext cx="253800" cy="128520"/>
                </a:xfrm>
                <a:custGeom>
                  <a:avLst/>
                  <a:gdLst/>
                  <a:ahLst/>
                  <a:rect l="l" t="t" r="r" b="b"/>
                  <a:pathLst>
                    <a:path w="1600" h="808">
                      <a:moveTo>
                        <a:pt x="0" y="404"/>
                      </a:moveTo>
                      <a:cubicBezTo>
                        <a:pt x="0" y="627"/>
                        <a:pt x="358" y="808"/>
                        <a:pt x="800" y="808"/>
                      </a:cubicBezTo>
                      <a:cubicBezTo>
                        <a:pt x="1242" y="808"/>
                        <a:pt x="1600" y="627"/>
                        <a:pt x="1600" y="404"/>
                      </a:cubicBezTo>
                      <a:lnTo>
                        <a:pt x="1600" y="0"/>
                      </a:lnTo>
                      <a:lnTo>
                        <a:pt x="0" y="0"/>
                      </a:lnTo>
                      <a:lnTo>
                        <a:pt x="0" y="40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6572520" y="6427440"/>
                  <a:ext cx="253800" cy="128520"/>
                </a:xfrm>
                <a:custGeom>
                  <a:avLst/>
                  <a:gdLst/>
                  <a:ahLst/>
                  <a:rect l="l" t="t" r="r" b="b"/>
                  <a:pathLst>
                    <a:path w="1600" h="808">
                      <a:moveTo>
                        <a:pt x="0" y="404"/>
                      </a:moveTo>
                      <a:cubicBezTo>
                        <a:pt x="0" y="627"/>
                        <a:pt x="358" y="808"/>
                        <a:pt x="800" y="808"/>
                      </a:cubicBezTo>
                      <a:cubicBezTo>
                        <a:pt x="1242" y="808"/>
                        <a:pt x="1600" y="627"/>
                        <a:pt x="1600" y="404"/>
                      </a:cubicBezTo>
                      <a:lnTo>
                        <a:pt x="1600" y="0"/>
                      </a:lnTo>
                      <a:lnTo>
                        <a:pt x="0" y="0"/>
                      </a:lnTo>
                      <a:lnTo>
                        <a:pt x="0" y="404"/>
                      </a:lnTo>
                      <a:close/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"/>
              <p:cNvSpPr/>
              <p:nvPr/>
            </p:nvSpPr>
            <p:spPr>
              <a:xfrm flipH="1" flipV="1">
                <a:off x="6380280" y="6263640"/>
                <a:ext cx="12240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9" name="" descr=""/>
              <p:cNvPicPr/>
              <p:nvPr/>
            </p:nvPicPr>
            <p:blipFill>
              <a:blip r:embed="rId3"/>
              <a:stretch/>
            </p:blipFill>
            <p:spPr>
              <a:xfrm rot="20973000">
                <a:off x="6237000" y="6040080"/>
                <a:ext cx="209520" cy="342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0" name=""/>
            <p:cNvSpPr/>
            <p:nvPr/>
          </p:nvSpPr>
          <p:spPr>
            <a:xfrm>
              <a:off x="6313680" y="5634000"/>
              <a:ext cx="7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0000"/>
                  </a:solidFill>
                  <a:latin typeface="Arial"/>
                </a:rPr>
                <a:t>ヒントくん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5562720" y="593640"/>
            <a:ext cx="3333600" cy="1079640"/>
            <a:chOff x="5562720" y="593640"/>
            <a:chExt cx="3333600" cy="1079640"/>
          </a:xfrm>
        </p:grpSpPr>
        <p:pic>
          <p:nvPicPr>
            <p:cNvPr id="192" name="" descr=""/>
            <p:cNvPicPr/>
            <p:nvPr/>
          </p:nvPicPr>
          <p:blipFill>
            <a:blip r:embed="rId4"/>
            <a:stretch/>
          </p:blipFill>
          <p:spPr>
            <a:xfrm>
              <a:off x="8442360" y="863640"/>
              <a:ext cx="453960" cy="5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5562720" y="773280"/>
              <a:ext cx="2835000" cy="900000"/>
            </a:xfrm>
            <a:prstGeom prst="ellipse">
              <a:avLst/>
            </a:prstGeom>
            <a:noFill/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314040" y="907920"/>
              <a:ext cx="1354320" cy="58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99"/>
                  </a:solidFill>
                  <a:latin typeface="Arial"/>
                  <a:ea typeface="HG丸ｺﾞｼｯｸM-PRO"/>
                </a:rPr>
                <a:t>答えは，元の問題の通り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99"/>
                  </a:solidFill>
                  <a:latin typeface="Arial"/>
                  <a:ea typeface="HG丸ｺﾞｼｯｸM-PRO"/>
                </a:rPr>
                <a:t>かくんだったね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942680" y="59364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0000"/>
                  </a:solidFill>
                  <a:latin typeface="Arial"/>
                </a:rPr>
                <a:t>大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"/>
          <p:cNvGrpSpPr/>
          <p:nvPr/>
        </p:nvGrpSpPr>
        <p:grpSpPr>
          <a:xfrm>
            <a:off x="2627280" y="620640"/>
            <a:ext cx="1368000" cy="396720"/>
            <a:chOff x="2627280" y="620640"/>
            <a:chExt cx="1368000" cy="396720"/>
          </a:xfrm>
        </p:grpSpPr>
        <p:sp>
          <p:nvSpPr>
            <p:cNvPr id="197" name=""/>
            <p:cNvSpPr/>
            <p:nvPr/>
          </p:nvSpPr>
          <p:spPr>
            <a:xfrm>
              <a:off x="2627280" y="620640"/>
              <a:ext cx="136620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65440" y="620640"/>
              <a:ext cx="132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7227720" y="189000"/>
            <a:ext cx="134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数の大小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76280" y="1216080"/>
            <a:ext cx="4219200" cy="459720"/>
            <a:chOff x="476280" y="1216080"/>
            <a:chExt cx="4219200" cy="459720"/>
          </a:xfrm>
        </p:grpSpPr>
        <p:sp>
          <p:nvSpPr>
            <p:cNvPr id="201" name=""/>
            <p:cNvSpPr/>
            <p:nvPr/>
          </p:nvSpPr>
          <p:spPr>
            <a:xfrm>
              <a:off x="476280" y="1290600"/>
              <a:ext cx="360360" cy="360360"/>
            </a:xfrm>
            <a:prstGeom prst="star5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622160" y="1216080"/>
              <a:ext cx="307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次の数を大きい順にならべかえましょう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1150920" y="1717560"/>
            <a:ext cx="700200" cy="820080"/>
            <a:chOff x="1150920" y="1717560"/>
            <a:chExt cx="700200" cy="820080"/>
          </a:xfrm>
        </p:grpSpPr>
        <p:sp>
          <p:nvSpPr>
            <p:cNvPr id="204" name=""/>
            <p:cNvSpPr/>
            <p:nvPr/>
          </p:nvSpPr>
          <p:spPr>
            <a:xfrm>
              <a:off x="1150920" y="2138400"/>
              <a:ext cx="490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33360" y="2077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233360" y="1717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666800" y="193032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5021280" y="1673280"/>
            <a:ext cx="700200" cy="820080"/>
            <a:chOff x="5021280" y="1673280"/>
            <a:chExt cx="700200" cy="820080"/>
          </a:xfrm>
        </p:grpSpPr>
        <p:sp>
          <p:nvSpPr>
            <p:cNvPr id="209" name=""/>
            <p:cNvSpPr/>
            <p:nvPr/>
          </p:nvSpPr>
          <p:spPr>
            <a:xfrm>
              <a:off x="5021280" y="2094120"/>
              <a:ext cx="490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103720" y="203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103720" y="16732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537160" y="188604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1658160" y="1987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980360" y="189720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094280" y="1673280"/>
            <a:ext cx="699480" cy="820080"/>
            <a:chOff x="4094280" y="1673280"/>
            <a:chExt cx="699480" cy="820080"/>
          </a:xfrm>
        </p:grpSpPr>
        <p:sp>
          <p:nvSpPr>
            <p:cNvPr id="216" name=""/>
            <p:cNvSpPr/>
            <p:nvPr/>
          </p:nvSpPr>
          <p:spPr>
            <a:xfrm>
              <a:off x="4094280" y="2094120"/>
              <a:ext cx="490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76360" y="203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76360" y="16732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609800" y="188604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3819240" y="1852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14840" y="1898640"/>
            <a:ext cx="3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906640" y="1898640"/>
            <a:ext cx="80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553040" y="2573280"/>
            <a:ext cx="761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答え（　　　　　　　　　　　　　　　　　　　　　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962000" y="5819760"/>
            <a:ext cx="5184720" cy="982080"/>
            <a:chOff x="1962000" y="5819760"/>
            <a:chExt cx="5184720" cy="982080"/>
          </a:xfrm>
        </p:grpSpPr>
        <p:sp>
          <p:nvSpPr>
            <p:cNvPr id="225" name=""/>
            <p:cNvSpPr/>
            <p:nvPr/>
          </p:nvSpPr>
          <p:spPr>
            <a:xfrm flipH="1">
              <a:off x="1962000" y="5910120"/>
              <a:ext cx="4122720" cy="717480"/>
            </a:xfrm>
            <a:prstGeom prst="wedgeEllipseCallout">
              <a:avLst>
                <a:gd name="adj1" fmla="val -55587"/>
                <a:gd name="adj2" fmla="val 1459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41680" y="6091200"/>
              <a:ext cx="2741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分数を小数になおしてから，比べるんだった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6253560" y="6209640"/>
              <a:ext cx="893160" cy="592200"/>
              <a:chOff x="6253560" y="6209640"/>
              <a:chExt cx="893160" cy="592200"/>
            </a:xfrm>
          </p:grpSpPr>
          <p:graphicFrame>
            <p:nvGraphicFramePr>
              <p:cNvPr id="228" name=""/>
              <p:cNvGraphicFramePr/>
              <p:nvPr/>
            </p:nvGraphicFramePr>
            <p:xfrm>
              <a:off x="7019640" y="6406560"/>
              <a:ext cx="127080" cy="1177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29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7019640" y="6406560"/>
                        <a:ext cx="127080" cy="117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30" name=""/>
              <p:cNvSpPr/>
              <p:nvPr/>
            </p:nvSpPr>
            <p:spPr>
              <a:xfrm>
                <a:off x="6410160" y="6225840"/>
                <a:ext cx="658800" cy="576000"/>
              </a:xfrm>
              <a:custGeom>
                <a:avLst/>
                <a:gdLst/>
                <a:ahLst/>
                <a:rect l="l" t="t" r="r" b="b"/>
                <a:pathLst>
                  <a:path w="484" h="395">
                    <a:moveTo>
                      <a:pt x="242" y="0"/>
                    </a:moveTo>
                    <a:lnTo>
                      <a:pt x="0" y="395"/>
                    </a:lnTo>
                    <a:lnTo>
                      <a:pt x="484" y="395"/>
                    </a:lnTo>
                    <a:lnTo>
                      <a:pt x="242" y="0"/>
                    </a:lnTo>
                    <a:close/>
                  </a:path>
                </a:pathLst>
              </a:custGeom>
              <a:solidFill>
                <a:srgbClr val="66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410160" y="6225840"/>
                <a:ext cx="658800" cy="576000"/>
              </a:xfrm>
              <a:custGeom>
                <a:avLst/>
                <a:gdLst/>
                <a:ahLst/>
                <a:rect l="l" t="t" r="r" b="b"/>
                <a:pathLst>
                  <a:path w="484" h="395">
                    <a:moveTo>
                      <a:pt x="242" y="0"/>
                    </a:moveTo>
                    <a:lnTo>
                      <a:pt x="0" y="395"/>
                    </a:lnTo>
                    <a:lnTo>
                      <a:pt x="484" y="395"/>
                    </a:lnTo>
                    <a:lnTo>
                      <a:pt x="242" y="0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V="1">
                <a:off x="6921360" y="6484320"/>
                <a:ext cx="128520" cy="69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3" name=""/>
              <p:cNvGrpSpPr/>
              <p:nvPr/>
            </p:nvGrpSpPr>
            <p:grpSpPr>
              <a:xfrm>
                <a:off x="6767280" y="6486120"/>
                <a:ext cx="101520" cy="47520"/>
                <a:chOff x="6767280" y="6486120"/>
                <a:chExt cx="101520" cy="4752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6767280" y="6486120"/>
                  <a:ext cx="101520" cy="47520"/>
                </a:xfrm>
                <a:custGeom>
                  <a:avLst/>
                  <a:gdLst/>
                  <a:ahLst/>
                  <a:rect l="l" t="t" r="r" b="b"/>
                  <a:pathLst>
                    <a:path w="908" h="425">
                      <a:moveTo>
                        <a:pt x="0" y="425"/>
                      </a:moveTo>
                      <a:cubicBezTo>
                        <a:pt x="6" y="188"/>
                        <a:pt x="208" y="0"/>
                        <a:pt x="454" y="0"/>
                      </a:cubicBezTo>
                      <a:cubicBezTo>
                        <a:pt x="700" y="0"/>
                        <a:pt x="901" y="188"/>
                        <a:pt x="908" y="425"/>
                      </a:cubicBezTo>
                      <a:cubicBezTo>
                        <a:pt x="901" y="188"/>
                        <a:pt x="700" y="0"/>
                        <a:pt x="454" y="0"/>
                      </a:cubicBezTo>
                      <a:cubicBezTo>
                        <a:pt x="208" y="0"/>
                        <a:pt x="6" y="188"/>
                        <a:pt x="0" y="425"/>
                      </a:cubicBezTo>
                    </a:path>
                  </a:pathLst>
                </a:custGeom>
                <a:solidFill>
                  <a:srgbClr val="bbe0e3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6767280" y="6486120"/>
                  <a:ext cx="101520" cy="47520"/>
                </a:xfrm>
                <a:custGeom>
                  <a:avLst/>
                  <a:gdLst/>
                  <a:ahLst/>
                  <a:rect l="l" t="t" r="r" b="b"/>
                  <a:pathLst>
                    <a:path w="109" h="51">
                      <a:moveTo>
                        <a:pt x="0" y="51"/>
                      </a:moveTo>
                      <a:cubicBezTo>
                        <a:pt x="1" y="22"/>
                        <a:pt x="25" y="0"/>
                        <a:pt x="55" y="0"/>
                      </a:cubicBezTo>
                      <a:cubicBezTo>
                        <a:pt x="84" y="0"/>
                        <a:pt x="108" y="22"/>
                        <a:pt x="109" y="51"/>
                      </a:cubicBezTo>
                      <a:cubicBezTo>
                        <a:pt x="108" y="22"/>
                        <a:pt x="84" y="0"/>
                        <a:pt x="55" y="0"/>
                      </a:cubicBezTo>
                      <a:cubicBezTo>
                        <a:pt x="25" y="0"/>
                        <a:pt x="1" y="22"/>
                        <a:pt x="0" y="51"/>
                      </a:cubicBezTo>
                    </a:path>
                  </a:pathLst>
                </a:custGeom>
                <a:noFill/>
                <a:ln cap="rnd"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6605280" y="6498720"/>
                <a:ext cx="103320" cy="49320"/>
                <a:chOff x="6605280" y="6498720"/>
                <a:chExt cx="103320" cy="4932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6605280" y="6498720"/>
                  <a:ext cx="103320" cy="49320"/>
                </a:xfrm>
                <a:custGeom>
                  <a:avLst/>
                  <a:gdLst/>
                  <a:ahLst/>
                  <a:rect l="l" t="t" r="r" b="b"/>
                  <a:pathLst>
                    <a:path w="916" h="425">
                      <a:moveTo>
                        <a:pt x="0" y="425"/>
                      </a:moveTo>
                      <a:cubicBezTo>
                        <a:pt x="6" y="188"/>
                        <a:pt x="209" y="0"/>
                        <a:pt x="458" y="0"/>
                      </a:cubicBezTo>
                      <a:cubicBezTo>
                        <a:pt x="706" y="0"/>
                        <a:pt x="909" y="188"/>
                        <a:pt x="916" y="425"/>
                      </a:cubicBezTo>
                      <a:cubicBezTo>
                        <a:pt x="909" y="188"/>
                        <a:pt x="706" y="0"/>
                        <a:pt x="458" y="0"/>
                      </a:cubicBezTo>
                      <a:cubicBezTo>
                        <a:pt x="209" y="0"/>
                        <a:pt x="6" y="188"/>
                        <a:pt x="0" y="425"/>
                      </a:cubicBezTo>
                    </a:path>
                  </a:pathLst>
                </a:custGeom>
                <a:solidFill>
                  <a:srgbClr val="bbe0e3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6605280" y="6498720"/>
                  <a:ext cx="103320" cy="49320"/>
                </a:xfrm>
                <a:custGeom>
                  <a:avLst/>
                  <a:gdLst/>
                  <a:ahLst/>
                  <a:rect l="l" t="t" r="r" b="b"/>
                  <a:pathLst>
                    <a:path w="110" h="51">
                      <a:moveTo>
                        <a:pt x="0" y="51"/>
                      </a:moveTo>
                      <a:cubicBezTo>
                        <a:pt x="1" y="22"/>
                        <a:pt x="25" y="0"/>
                        <a:pt x="55" y="0"/>
                      </a:cubicBezTo>
                      <a:cubicBezTo>
                        <a:pt x="85" y="0"/>
                        <a:pt x="109" y="22"/>
                        <a:pt x="110" y="51"/>
                      </a:cubicBezTo>
                      <a:cubicBezTo>
                        <a:pt x="109" y="22"/>
                        <a:pt x="85" y="0"/>
                        <a:pt x="55" y="0"/>
                      </a:cubicBezTo>
                      <a:cubicBezTo>
                        <a:pt x="25" y="0"/>
                        <a:pt x="1" y="22"/>
                        <a:pt x="0" y="51"/>
                      </a:cubicBezTo>
                    </a:path>
                  </a:pathLst>
                </a:custGeom>
                <a:noFill/>
                <a:ln cap="rnd"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6618240" y="6613200"/>
                <a:ext cx="253800" cy="128520"/>
                <a:chOff x="6618240" y="6613200"/>
                <a:chExt cx="253800" cy="12852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6618240" y="6613200"/>
                  <a:ext cx="253800" cy="128520"/>
                </a:xfrm>
                <a:custGeom>
                  <a:avLst/>
                  <a:gdLst/>
                  <a:ahLst/>
                  <a:rect l="l" t="t" r="r" b="b"/>
                  <a:pathLst>
                    <a:path w="1600" h="808">
                      <a:moveTo>
                        <a:pt x="0" y="404"/>
                      </a:moveTo>
                      <a:cubicBezTo>
                        <a:pt x="0" y="627"/>
                        <a:pt x="358" y="808"/>
                        <a:pt x="800" y="808"/>
                      </a:cubicBezTo>
                      <a:cubicBezTo>
                        <a:pt x="1242" y="808"/>
                        <a:pt x="1600" y="627"/>
                        <a:pt x="1600" y="404"/>
                      </a:cubicBezTo>
                      <a:lnTo>
                        <a:pt x="1600" y="0"/>
                      </a:lnTo>
                      <a:lnTo>
                        <a:pt x="0" y="0"/>
                      </a:lnTo>
                      <a:lnTo>
                        <a:pt x="0" y="40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618240" y="6613200"/>
                  <a:ext cx="253800" cy="128520"/>
                </a:xfrm>
                <a:custGeom>
                  <a:avLst/>
                  <a:gdLst/>
                  <a:ahLst/>
                  <a:rect l="l" t="t" r="r" b="b"/>
                  <a:pathLst>
                    <a:path w="1600" h="808">
                      <a:moveTo>
                        <a:pt x="0" y="404"/>
                      </a:moveTo>
                      <a:cubicBezTo>
                        <a:pt x="0" y="627"/>
                        <a:pt x="358" y="808"/>
                        <a:pt x="800" y="808"/>
                      </a:cubicBezTo>
                      <a:cubicBezTo>
                        <a:pt x="1242" y="808"/>
                        <a:pt x="1600" y="627"/>
                        <a:pt x="1600" y="404"/>
                      </a:cubicBezTo>
                      <a:lnTo>
                        <a:pt x="1600" y="0"/>
                      </a:lnTo>
                      <a:lnTo>
                        <a:pt x="0" y="0"/>
                      </a:lnTo>
                      <a:lnTo>
                        <a:pt x="0" y="404"/>
                      </a:lnTo>
                      <a:close/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2" name=""/>
              <p:cNvSpPr/>
              <p:nvPr/>
            </p:nvSpPr>
            <p:spPr>
              <a:xfrm flipH="1" flipV="1">
                <a:off x="6426000" y="6449400"/>
                <a:ext cx="12240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3" name="" descr=""/>
              <p:cNvPicPr/>
              <p:nvPr/>
            </p:nvPicPr>
            <p:blipFill>
              <a:blip r:embed="rId3"/>
              <a:stretch/>
            </p:blipFill>
            <p:spPr>
              <a:xfrm rot="20973000">
                <a:off x="6282720" y="6225840"/>
                <a:ext cx="209520" cy="342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4" name=""/>
            <p:cNvSpPr/>
            <p:nvPr/>
          </p:nvSpPr>
          <p:spPr>
            <a:xfrm>
              <a:off x="6359400" y="5819760"/>
              <a:ext cx="7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0000"/>
                  </a:solidFill>
                  <a:latin typeface="Arial"/>
                </a:rPr>
                <a:t>ヒントくん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206280" y="3294000"/>
            <a:ext cx="8506080" cy="0"/>
          </a:xfrm>
          <a:prstGeom prst="line">
            <a:avLst/>
          </a:prstGeom>
          <a:ln w="19080">
            <a:solidFill>
              <a:srgbClr val="ff66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074600" y="3395520"/>
            <a:ext cx="882000" cy="820080"/>
            <a:chOff x="1074600" y="3395520"/>
            <a:chExt cx="882000" cy="820080"/>
          </a:xfrm>
        </p:grpSpPr>
        <p:sp>
          <p:nvSpPr>
            <p:cNvPr id="247" name=""/>
            <p:cNvSpPr/>
            <p:nvPr/>
          </p:nvSpPr>
          <p:spPr>
            <a:xfrm>
              <a:off x="1074600" y="3816360"/>
              <a:ext cx="490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157040" y="3755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157040" y="33955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638720" y="360828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223360" y="3544920"/>
            <a:ext cx="28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１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３　＝　０．３３３・・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1093680" y="4211640"/>
            <a:ext cx="882000" cy="820080"/>
            <a:chOff x="1093680" y="4211640"/>
            <a:chExt cx="882000" cy="820080"/>
          </a:xfrm>
        </p:grpSpPr>
        <p:sp>
          <p:nvSpPr>
            <p:cNvPr id="253" name=""/>
            <p:cNvSpPr/>
            <p:nvPr/>
          </p:nvSpPr>
          <p:spPr>
            <a:xfrm>
              <a:off x="1093680" y="4632480"/>
              <a:ext cx="490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176120" y="4572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176120" y="4211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657800" y="44244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819000" y="4390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788840" y="4394160"/>
            <a:ext cx="610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１　＋　１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２　＝　１　＋　０．５　＝　１．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095480" y="5170320"/>
            <a:ext cx="882000" cy="820080"/>
            <a:chOff x="1095480" y="5170320"/>
            <a:chExt cx="882000" cy="820080"/>
          </a:xfrm>
        </p:grpSpPr>
        <p:sp>
          <p:nvSpPr>
            <p:cNvPr id="260" name=""/>
            <p:cNvSpPr/>
            <p:nvPr/>
          </p:nvSpPr>
          <p:spPr>
            <a:xfrm>
              <a:off x="1095480" y="5591160"/>
              <a:ext cx="490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177920" y="5530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177920" y="517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659600" y="538308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1853280" y="5319720"/>
            <a:ext cx="29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９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４　＝　２．２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962000" y="1943280"/>
            <a:ext cx="773280" cy="393480"/>
          </a:xfrm>
          <a:prstGeom prst="ellipse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886120" y="1920960"/>
            <a:ext cx="772920" cy="393480"/>
          </a:xfrm>
          <a:prstGeom prst="ellipse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736800" y="3589200"/>
            <a:ext cx="1633680" cy="414360"/>
          </a:xfrm>
          <a:prstGeom prst="ellipse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67360" y="4438800"/>
            <a:ext cx="987480" cy="393480"/>
          </a:xfrm>
          <a:prstGeom prst="ellipse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662280" y="5373720"/>
            <a:ext cx="1255680" cy="393840"/>
          </a:xfrm>
          <a:prstGeom prst="ellipse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716280" y="2859120"/>
            <a:ext cx="4906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790800" y="2778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98720" y="2438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32160" y="26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238640" y="2693880"/>
            <a:ext cx="3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483440" y="25732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1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491080" y="2814480"/>
            <a:ext cx="4906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530680" y="2754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530680" y="2394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16400" y="2573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992920" y="2671920"/>
            <a:ext cx="3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970520" y="2671920"/>
            <a:ext cx="3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281640" y="2805120"/>
            <a:ext cx="4906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352920" y="2766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341760" y="2365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797520" y="2597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756480" y="2705040"/>
            <a:ext cx="3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47000" y="2573280"/>
            <a:ext cx="80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0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5562720" y="593640"/>
            <a:ext cx="3333600" cy="1079640"/>
            <a:chOff x="5562720" y="593640"/>
            <a:chExt cx="3333600" cy="1079640"/>
          </a:xfrm>
        </p:grpSpPr>
        <p:pic>
          <p:nvPicPr>
            <p:cNvPr id="289" name="" descr=""/>
            <p:cNvPicPr/>
            <p:nvPr/>
          </p:nvPicPr>
          <p:blipFill>
            <a:blip r:embed="rId4"/>
            <a:stretch/>
          </p:blipFill>
          <p:spPr>
            <a:xfrm>
              <a:off x="8442360" y="863640"/>
              <a:ext cx="453960" cy="5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5562720" y="773280"/>
              <a:ext cx="2835000" cy="900000"/>
            </a:xfrm>
            <a:prstGeom prst="ellipse">
              <a:avLst/>
            </a:prstGeom>
            <a:noFill/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314040" y="907920"/>
              <a:ext cx="1354320" cy="58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99"/>
                  </a:solidFill>
                  <a:latin typeface="Arial"/>
                  <a:ea typeface="HG丸ｺﾞｼｯｸM-PRO"/>
                </a:rPr>
                <a:t>答えは，元の問題の通り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99"/>
                  </a:solidFill>
                  <a:latin typeface="Arial"/>
                  <a:ea typeface="HG丸ｺﾞｼｯｸM-PRO"/>
                </a:rPr>
                <a:t>かくんだったね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942680" y="59364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0000"/>
                  </a:solidFill>
                  <a:latin typeface="Arial"/>
                </a:rPr>
                <a:t>大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7T05:21:33Z</dcterms:created>
  <dc:creator>kangawa-kaori-1</dc:creator>
  <dc:description/>
  <dc:language>en-US</dc:language>
  <cp:lastModifiedBy>kangawa-kaori-1</cp:lastModifiedBy>
  <dcterms:modified xsi:type="dcterms:W3CDTF">2007-11-14T06:21:33Z</dcterms:modified>
  <cp:revision>54</cp:revision>
  <dc:subject/>
  <dc:title>スライド 1</dc:title>
</cp:coreProperties>
</file>