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AC4C-2377-43FD-B066-BFF4BA46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EDD5-6CC7-49D6-8F37-02ABE6B2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DF88-1592-48A2-ABA9-CAE7C8DC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6BDB-19F7-4473-BFA4-57E873E7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C4AA-4D1F-49EA-A6C3-F0CA3664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c1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D7AB-B3E5-4BD8-AF51-86299B0A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CA0C-AD62-4035-B58B-7B71DC31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B5AB-866B-4BD1-B0CF-EABEB187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A520-62F8-4DCB-9912-543C2E5E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5c1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DABF-F3CC-40A2-B185-C81C062B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214F-5FFE-4DC3-BC44-4ECF2C79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5c1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A05-A076-48DB-B294-FDEE3F05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48AF-FCC0-4B96-9CF4-2954CC6D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3537-D29A-4EF2-AC26-85FCB55B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E793-A725-4684-A6CC-BAB95345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223A-BBF8-4FA2-8AB8-92995E87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0000-0C32-4B74-B78E-8FCA5EDA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199F-1A72-4EBA-989D-1D0CB774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463C-CCFF-4E56-8594-7559971A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7FD-35F6-4B3A-BACE-AC390A97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5c1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EE6-2F10-41E3-B8EB-FE00E1F8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E2B2-D9B3-4EB8-8163-A01E1544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0A6-8D63-465F-A28F-24541CE7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25D8-96BB-4CD8-A674-8F486D81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FBDC-AA52-4896-BF62-100A31238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 rot="209400">
            <a:off x="7427880" y="6219720"/>
            <a:ext cx="180036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cc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ＤＦ特太ゴシック体"/>
              </a:rPr>
              <a:t>K.Kangawa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cc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ＤＦ特太ゴシック体"/>
              <a:ea typeface="ＤＦ特太ゴシック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691920"/>
            <a:ext cx="842004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0D35-DC84-471E-8E9C-AAAEFABF9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248600" y="6399360"/>
            <a:ext cx="19047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3240">
                  <a:solidFill>
                    <a:srgbClr val="f5f5f5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ＭＳ Ｐゴシック"/>
              </a:rPr>
              <a:t>GanDen Software</a:t>
            </a:r>
            <a:endParaRPr b="0" i="1" lang="en-US" sz="2000" spc="1" strike="noStrike">
              <a:ln w="3240">
                <a:solidFill>
                  <a:srgbClr val="f5f5f5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ＭＳ Ｐゴシック"/>
              <a:ea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slide" Target="slide3.xml"/><Relationship Id="rId5" Type="http://schemas.openxmlformats.org/officeDocument/2006/relationships/image" Target="../media/image6.png"/><Relationship Id="rId6" Type="http://schemas.openxmlformats.org/officeDocument/2006/relationships/slide" Target="slide4.xml"/><Relationship Id="rId7" Type="http://schemas.openxmlformats.org/officeDocument/2006/relationships/image" Target="../media/image6.png"/><Relationship Id="rId8" Type="http://schemas.openxmlformats.org/officeDocument/2006/relationships/slide" Target="slide5.xml"/><Relationship Id="rId9" Type="http://schemas.openxmlformats.org/officeDocument/2006/relationships/image" Target="../media/image6.png"/><Relationship Id="rId10" Type="http://schemas.openxmlformats.org/officeDocument/2006/relationships/slide" Target="slide6.xml"/><Relationship Id="rId11" Type="http://schemas.openxmlformats.org/officeDocument/2006/relationships/image" Target="../media/image6.png"/><Relationship Id="rId12" Type="http://schemas.openxmlformats.org/officeDocument/2006/relationships/slide" Target="slide10.xml"/><Relationship Id="rId13" Type="http://schemas.openxmlformats.org/officeDocument/2006/relationships/image" Target="../media/image6.png"/><Relationship Id="rId14" Type="http://schemas.openxmlformats.org/officeDocument/2006/relationships/slide" Target="slide11.xml"/><Relationship Id="rId15" Type="http://schemas.openxmlformats.org/officeDocument/2006/relationships/image" Target="../media/image6.png"/><Relationship Id="rId16" Type="http://schemas.openxmlformats.org/officeDocument/2006/relationships/slide" Target="slide12.xml"/><Relationship Id="rId17" Type="http://schemas.openxmlformats.org/officeDocument/2006/relationships/image" Target="../media/image6.png"/><Relationship Id="rId18" Type="http://schemas.openxmlformats.org/officeDocument/2006/relationships/slide" Target="slide13.xml"/><Relationship Id="rId19" Type="http://schemas.openxmlformats.org/officeDocument/2006/relationships/image" Target="../media/image6.png"/><Relationship Id="rId20" Type="http://schemas.openxmlformats.org/officeDocument/2006/relationships/slide" Target="slide14.xml"/><Relationship Id="rId21" Type="http://schemas.openxmlformats.org/officeDocument/2006/relationships/image" Target="../media/image6.png"/><Relationship Id="rId22" Type="http://schemas.openxmlformats.org/officeDocument/2006/relationships/slide" Target="slide7.xml"/><Relationship Id="rId23" Type="http://schemas.openxmlformats.org/officeDocument/2006/relationships/image" Target="../media/image6.png"/><Relationship Id="rId24" Type="http://schemas.openxmlformats.org/officeDocument/2006/relationships/slide" Target="slide8.xml"/><Relationship Id="rId25" Type="http://schemas.openxmlformats.org/officeDocument/2006/relationships/image" Target="../media/image6.png"/><Relationship Id="rId26" Type="http://schemas.openxmlformats.org/officeDocument/2006/relationships/slide" Target="slide9.xml"/><Relationship Id="rId27" Type="http://schemas.openxmlformats.org/officeDocument/2006/relationships/image" Target="../media/image6.png"/><Relationship Id="rId28" Type="http://schemas.openxmlformats.org/officeDocument/2006/relationships/slide" Target="slide15.xml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ikitokeisan/keisannnokimari.ppt" TargetMode="External"/><Relationship Id="rId3" Type="http://schemas.openxmlformats.org/officeDocument/2006/relationships/hyperlink" Target="file:///sikitokeisan/keisannokimariwotukatte.ppt" TargetMode="External"/><Relationship Id="rId4" Type="http://schemas.openxmlformats.org/officeDocument/2006/relationships/hyperlink" Target="file:///sikitokeisan/sikinoyomikata.ppt" TargetMode="External"/><Relationship Id="rId5" Type="http://schemas.openxmlformats.org/officeDocument/2006/relationships/hyperlink" Target="file:///sikitokeisan/sikinoyomikatawotukatte.ppt" TargetMode="External"/><Relationship Id="rId6" Type="http://schemas.openxmlformats.org/officeDocument/2006/relationships/hyperlink" Target="file:///sikitokeisan/keisannnoaidanokankei.ppt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bunsuu/hitosiibunsuu.ppt" TargetMode="External"/><Relationship Id="rId3" Type="http://schemas.openxmlformats.org/officeDocument/2006/relationships/hyperlink" Target="file:///bunsuu/bunsuunotasizan.ppt" TargetMode="External"/><Relationship Id="rId4" Type="http://schemas.openxmlformats.org/officeDocument/2006/relationships/hyperlink" Target="file:///bunsuu/bunsuunohikizan.ppt" TargetMode="External"/><Relationship Id="rId5" Type="http://schemas.openxmlformats.org/officeDocument/2006/relationships/hyperlink" Target="file:///bunsuu/warizantobunsuu.ppt" TargetMode="External"/><Relationship Id="rId6" Type="http://schemas.openxmlformats.org/officeDocument/2006/relationships/hyperlink" Target="file:///bunsuu/bunsuuwoshousuuni.ppt" TargetMode="External"/><Relationship Id="rId7" Type="http://schemas.openxmlformats.org/officeDocument/2006/relationships/hyperlink" Target="file:///bunsuu/shousuuwobunsuuni.ppt" TargetMode="External"/><Relationship Id="rId8" Type="http://schemas.openxmlformats.org/officeDocument/2006/relationships/hyperlink" Target="file:///bunsuu/kazunodaishou.ppt" TargetMode="Externa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wariai/wariai.ppt" TargetMode="External"/><Relationship Id="rId3" Type="http://schemas.openxmlformats.org/officeDocument/2006/relationships/hyperlink" Target="file:///wariai/kuraberuryou.ppt" TargetMode="External"/><Relationship Id="rId4" Type="http://schemas.openxmlformats.org/officeDocument/2006/relationships/hyperlink" Target="file:///wariai/motonisururyou.ppt" TargetMode="External"/><Relationship Id="rId5" Type="http://schemas.openxmlformats.org/officeDocument/2006/relationships/hyperlink" Target="file:///wariai/haykubunritu.ppt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wariaiwotukatte/nanbaininarukawokangaete1.ppt" TargetMode="External"/><Relationship Id="rId3" Type="http://schemas.openxmlformats.org/officeDocument/2006/relationships/hyperlink" Target="file:///wariaiwotukatte/nanbaininarukawokangaete2.ppt" TargetMode="External"/><Relationship Id="rId4" Type="http://schemas.openxmlformats.org/officeDocument/2006/relationships/hyperlink" Target="file:///wariaiwotukatte/nanbaininarukawokangaete3.ppt" TargetMode="External"/><Relationship Id="rId5" Type="http://schemas.openxmlformats.org/officeDocument/2006/relationships/hyperlink" Target="file:///wariaiwotukatte/nanbaininarukawokangaete4.ppt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hitomoji/hitomoji.ppt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housuunosikumi/kazunosikummi.ppt" TargetMode="External"/><Relationship Id="rId3" Type="http://schemas.openxmlformats.org/officeDocument/2006/relationships/hyperlink" Target="file:///shousuunosikumi/10bai100bai.ppt" TargetMode="External"/><Relationship Id="rId4" Type="http://schemas.openxmlformats.org/officeDocument/2006/relationships/hyperlink" Target="file:///shousuunosikumi/10bunno1100bunnno1.ppt" TargetMode="External"/><Relationship Id="rId5" Type="http://schemas.openxmlformats.org/officeDocument/2006/relationships/hyperlink" Target="file:///shousuunosikumi/nannkoawasetakazu.ppt" TargetMode="External"/><Relationship Id="rId6" Type="http://schemas.openxmlformats.org/officeDocument/2006/relationships/hyperlink" Target="file:///shousuunosikumi/taniwokaeyou.ppt" TargetMode="Externa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uityokutoheikou/suityokutoheikou.ppt" TargetMode="External"/><Relationship Id="rId3" Type="http://schemas.openxmlformats.org/officeDocument/2006/relationships/hyperlink" Target="file:///suityokutoheikou/suityokuheikounokakikata.ppt" TargetMode="Externa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guusuutokisuu/guusuutokisuu.ppt" TargetMode="External"/><Relationship Id="rId3" Type="http://schemas.openxmlformats.org/officeDocument/2006/relationships/hyperlink" Target="file:///guusuutokisuu/guusuutokisuu(monndai).ppt" TargetMode="Externa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housuukakeruseisuu/shousuunokakezan.ppt" TargetMode="External"/><Relationship Id="rId3" Type="http://schemas.openxmlformats.org/officeDocument/2006/relationships/hyperlink" Target="file:///shousuukakeruseisuu/kakezannohissan.ppt" TargetMode="External"/><Relationship Id="rId4" Type="http://schemas.openxmlformats.org/officeDocument/2006/relationships/hyperlink" Target="file:///shousuukakeruseisuu/kakezannohissan(2keta2keta).ppt" TargetMode="External"/><Relationship Id="rId5" Type="http://schemas.openxmlformats.org/officeDocument/2006/relationships/hyperlink" Target="file:///shousuukakeruseisuu/bunshoudai.ppt" TargetMode="Externa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housuuwaruseisuu/shousuunowarizan1.ppt" TargetMode="External"/><Relationship Id="rId3" Type="http://schemas.openxmlformats.org/officeDocument/2006/relationships/hyperlink" Target="file:///shousuuwaruseisuu/shousuunowarizan2.ppt" TargetMode="External"/><Relationship Id="rId4" Type="http://schemas.openxmlformats.org/officeDocument/2006/relationships/hyperlink" Target="file:///shousuuwaruseisuu/warizannohissan1.ppt" TargetMode="External"/><Relationship Id="rId5" Type="http://schemas.openxmlformats.org/officeDocument/2006/relationships/hyperlink" Target="file:///shousuuwaruseisuu/warizannohissan2.ppt" TargetMode="External"/><Relationship Id="rId6" Type="http://schemas.openxmlformats.org/officeDocument/2006/relationships/hyperlink" Target="file:///shousuuwaruseisuu/warisusumuhissan.ppt" TargetMode="External"/><Relationship Id="rId7" Type="http://schemas.openxmlformats.org/officeDocument/2006/relationships/hyperlink" Target="file:///shousuuwaruseisuu/sisyagonyuu.ppt" TargetMode="External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ankakukeisikakukeinokaku/sankakukeinokaku.ppt" TargetMode="External"/><Relationship Id="rId3" Type="http://schemas.openxmlformats.org/officeDocument/2006/relationships/hyperlink" Target="file:///sankakukeisikakukeinokaku/sankakukeinokakutest.ppt" TargetMode="External"/><Relationship Id="rId4" Type="http://schemas.openxmlformats.org/officeDocument/2006/relationships/hyperlink" Target="file:///sankakukeisikakukeinokaku/sikakukeinokaku.ppt" TargetMode="External"/><Relationship Id="rId5" Type="http://schemas.openxmlformats.org/officeDocument/2006/relationships/hyperlink" Target="file:///sankakukeisikakukeinokaku/sikakukeinokakutest.ppt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housuukakerushousuu/shousuuwokakerukeisan.ppt" TargetMode="External"/><Relationship Id="rId3" Type="http://schemas.openxmlformats.org/officeDocument/2006/relationships/hyperlink" Target="file:///shousuukakerushousuu/hissannnosikata.ppt" TargetMode="External"/><Relationship Id="rId4" Type="http://schemas.openxmlformats.org/officeDocument/2006/relationships/hyperlink" Target="file:///shousuukakerushousuu/mensekinokousiki.ppt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housuudewarukeisan/shousuudewarukeisan.ppt" TargetMode="External"/><Relationship Id="rId3" Type="http://schemas.openxmlformats.org/officeDocument/2006/relationships/hyperlink" Target="file:///shousuudewarukeisan/hissannosikata.ppt" TargetMode="External"/><Relationship Id="rId4" Type="http://schemas.openxmlformats.org/officeDocument/2006/relationships/hyperlink" Target="file:///shousuudewarukeisan/warisusumukeisan.ppt" TargetMode="External"/><Relationship Id="rId5" Type="http://schemas.openxmlformats.org/officeDocument/2006/relationships/hyperlink" Target="file:///shousuudewarukeisan/sisyagonyuu.ppt" TargetMode="External"/><Relationship Id="rId6" Type="http://schemas.openxmlformats.org/officeDocument/2006/relationships/hyperlink" Target="file:///shousuudewarukeisan/shoutoamari.ppt" TargetMode="External"/><Relationship Id="rId7" Type="http://schemas.openxmlformats.org/officeDocument/2006/relationships/hyperlink" Target="file:///shousuudewarukeisan/sekishounoookisa.ppt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2360" y="233280"/>
            <a:ext cx="49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小学校　算数５年生　デジタル教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1163880" y="116064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</a:rPr>
              <a:t>小数のしく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1166040" y="1979640"/>
            <a:ext cx="20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</a:rPr>
              <a:t>垂直と平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6" action="ppaction://hlinksldjump"/>
          </p:cNvPr>
          <p:cNvSpPr/>
          <p:nvPr/>
        </p:nvSpPr>
        <p:spPr>
          <a:xfrm>
            <a:off x="1166040" y="2798640"/>
            <a:ext cx="20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</a:rPr>
              <a:t>偶数と奇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8" action="ppaction://hlinksldjump"/>
          </p:cNvPr>
          <p:cNvSpPr/>
          <p:nvPr/>
        </p:nvSpPr>
        <p:spPr>
          <a:xfrm>
            <a:off x="1113480" y="3619440"/>
            <a:ext cx="22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</a:rPr>
              <a:t>小数</a:t>
            </a: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×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</a:rPr>
              <a:t>整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0" action="ppaction://hlinksldjump"/>
          </p:cNvPr>
          <p:cNvSpPr/>
          <p:nvPr/>
        </p:nvSpPr>
        <p:spPr>
          <a:xfrm>
            <a:off x="1121040" y="4438800"/>
            <a:ext cx="22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</a:rPr>
              <a:t>小数</a:t>
            </a: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÷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</a:rPr>
              <a:t>整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2" action="ppaction://hlinksldjump"/>
          </p:cNvPr>
          <p:cNvSpPr/>
          <p:nvPr/>
        </p:nvSpPr>
        <p:spPr>
          <a:xfrm>
            <a:off x="5614920" y="245124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</a:rPr>
              <a:t>式と計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14" action="ppaction://hlinksldjump"/>
          </p:cNvPr>
          <p:cNvSpPr/>
          <p:nvPr/>
        </p:nvSpPr>
        <p:spPr>
          <a:xfrm>
            <a:off x="5408280" y="3156120"/>
            <a:ext cx="17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</a:rPr>
              <a:t>分　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6" action="ppaction://hlinksldjump"/>
          </p:cNvPr>
          <p:cNvSpPr/>
          <p:nvPr/>
        </p:nvSpPr>
        <p:spPr>
          <a:xfrm>
            <a:off x="5408280" y="3862440"/>
            <a:ext cx="17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</a:rPr>
              <a:t>割　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8" action="ppaction://hlinksldjump"/>
          </p:cNvPr>
          <p:cNvSpPr/>
          <p:nvPr/>
        </p:nvSpPr>
        <p:spPr>
          <a:xfrm>
            <a:off x="5751000" y="456732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</a:rPr>
              <a:t>割合を使っ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20" action="ppaction://hlinksldjump"/>
          </p:cNvPr>
          <p:cNvSpPr/>
          <p:nvPr/>
        </p:nvSpPr>
        <p:spPr>
          <a:xfrm>
            <a:off x="5576400" y="527364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</a:rPr>
              <a:t>人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2" action="ppaction://hlinksldjump"/>
          </p:cNvPr>
          <p:cNvSpPr/>
          <p:nvPr/>
        </p:nvSpPr>
        <p:spPr>
          <a:xfrm>
            <a:off x="2500200" y="5259240"/>
            <a:ext cx="11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</a:rPr>
              <a:t>三角形・四角形の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24" action="ppaction://hlinksldjump"/>
          </p:cNvPr>
          <p:cNvSpPr/>
          <p:nvPr/>
        </p:nvSpPr>
        <p:spPr>
          <a:xfrm>
            <a:off x="5653800" y="1039680"/>
            <a:ext cx="22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</a:rPr>
              <a:t>小数</a:t>
            </a: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×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</a:rPr>
              <a:t>小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26" action="ppaction://hlinksldjump"/>
          </p:cNvPr>
          <p:cNvSpPr/>
          <p:nvPr/>
        </p:nvSpPr>
        <p:spPr>
          <a:xfrm>
            <a:off x="5661360" y="1744560"/>
            <a:ext cx="22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</a:rPr>
              <a:t>小数</a:t>
            </a: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÷</a:t>
            </a:r>
            <a:r>
              <a:rPr b="0" lang="zh-CN" sz="3600" spc="-1" strike="noStrike">
                <a:solidFill>
                  <a:srgbClr val="0099ff"/>
                </a:solidFill>
                <a:latin typeface="Arial"/>
              </a:rPr>
              <a:t>小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27520" y="6219720"/>
            <a:ext cx="1935000" cy="406440"/>
          </a:xfrm>
          <a:prstGeom prst="ellipse">
            <a:avLst/>
          </a:prstGeom>
          <a:solidFill>
            <a:srgbClr val="ffffcc"/>
          </a:solidFill>
          <a:ln w="15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ＤＨＰ特太ゴシック体"/>
                <a:hlinkClick r:id="rId28" action="ppaction://hlinksldjump"/>
              </a:rPr>
              <a:t>ＥＮ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671280" y="458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式と計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973240" y="1449360"/>
            <a:ext cx="2889000" cy="642600"/>
            <a:chOff x="2973240" y="1449360"/>
            <a:chExt cx="2889000" cy="642600"/>
          </a:xfrm>
        </p:grpSpPr>
        <p:sp>
          <p:nvSpPr>
            <p:cNvPr id="262" name="">
              <a:hlinkClick r:id="rId2"/>
            </p:cNvPr>
            <p:cNvSpPr/>
            <p:nvPr/>
          </p:nvSpPr>
          <p:spPr>
            <a:xfrm>
              <a:off x="4035600" y="144936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計算のきま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73240" y="158400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973240" y="2379600"/>
            <a:ext cx="4251960" cy="642600"/>
            <a:chOff x="2973240" y="2379600"/>
            <a:chExt cx="4251960" cy="642600"/>
          </a:xfrm>
        </p:grpSpPr>
        <p:sp>
          <p:nvSpPr>
            <p:cNvPr id="265" name="">
              <a:hlinkClick r:id="rId3"/>
            </p:cNvPr>
            <p:cNvSpPr/>
            <p:nvPr/>
          </p:nvSpPr>
          <p:spPr>
            <a:xfrm>
              <a:off x="4301280" y="237960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計算のきまりを使っ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73240" y="251424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973240" y="3338640"/>
            <a:ext cx="2610360" cy="642600"/>
            <a:chOff x="2973240" y="3338640"/>
            <a:chExt cx="2610360" cy="642600"/>
          </a:xfrm>
        </p:grpSpPr>
        <p:sp>
          <p:nvSpPr>
            <p:cNvPr id="268" name="">
              <a:hlinkClick r:id="rId4"/>
            </p:cNvPr>
            <p:cNvSpPr/>
            <p:nvPr/>
          </p:nvSpPr>
          <p:spPr>
            <a:xfrm>
              <a:off x="4031280" y="33386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式のよみ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73240" y="347328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973240" y="4324320"/>
            <a:ext cx="3973320" cy="642600"/>
            <a:chOff x="2973240" y="4324320"/>
            <a:chExt cx="3973320" cy="642600"/>
          </a:xfrm>
        </p:grpSpPr>
        <p:sp>
          <p:nvSpPr>
            <p:cNvPr id="271" name="">
              <a:hlinkClick r:id="rId5"/>
            </p:cNvPr>
            <p:cNvSpPr/>
            <p:nvPr/>
          </p:nvSpPr>
          <p:spPr>
            <a:xfrm>
              <a:off x="4296960" y="4324320"/>
              <a:ext cx="26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式のよみ方を使っ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3240" y="445896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973240" y="5283360"/>
            <a:ext cx="3372840" cy="642600"/>
            <a:chOff x="2973240" y="5283360"/>
            <a:chExt cx="3372840" cy="642600"/>
          </a:xfrm>
        </p:grpSpPr>
        <p:sp>
          <p:nvSpPr>
            <p:cNvPr id="274" name="">
              <a:hlinkClick r:id="rId6"/>
            </p:cNvPr>
            <p:cNvSpPr/>
            <p:nvPr/>
          </p:nvSpPr>
          <p:spPr>
            <a:xfrm>
              <a:off x="4245120" y="528336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計算の間の関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73240" y="541800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 txBox="1"/>
          <p:nvPr/>
        </p:nvSpPr>
        <p:spPr>
          <a:xfrm rot="209400">
            <a:off x="7878240" y="6264000"/>
            <a:ext cx="16653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ＤＦ特太ゴシック体"/>
              </a:rPr>
              <a:t>A.Ishiyama</a:t>
            </a:r>
            <a:endParaRPr b="0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ＤＦ特太ゴシック体"/>
              <a:ea typeface="ＤＦ特太ゴシック体"/>
            </a:endParaRPr>
          </a:p>
        </p:txBody>
      </p:sp>
      <p:sp>
        <p:nvSpPr>
          <p:cNvPr id="277" name=""/>
          <p:cNvSpPr/>
          <p:nvPr/>
        </p:nvSpPr>
        <p:spPr>
          <a:xfrm>
            <a:off x="8732880" y="549360"/>
            <a:ext cx="630360" cy="628560"/>
          </a:xfrm>
          <a:custGeom>
            <a:avLst/>
            <a:gdLst>
              <a:gd name="textAreaLeft" fmla="*/ 40680 w 630360"/>
              <a:gd name="textAreaRight" fmla="*/ 589680 w 630360"/>
              <a:gd name="textAreaTop" fmla="*/ 40680 h 628560"/>
              <a:gd name="textAreaBottom" fmla="*/ 587880 h 62856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4" y="14299"/>
                </a:lnTo>
                <a:lnTo>
                  <a:pt x="11754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79440" y="6129360"/>
            <a:ext cx="38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各教材ページからは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キーでこのページにもどれ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65240" y="5965560"/>
            <a:ext cx="366480" cy="533520"/>
            <a:chOff x="165240" y="5965560"/>
            <a:chExt cx="366480" cy="533520"/>
          </a:xfrm>
        </p:grpSpPr>
        <p:sp>
          <p:nvSpPr>
            <p:cNvPr id="280" name=""/>
            <p:cNvSpPr/>
            <p:nvPr/>
          </p:nvSpPr>
          <p:spPr>
            <a:xfrm>
              <a:off x="165240" y="6133320"/>
              <a:ext cx="366480" cy="36576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12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76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12400" y="5965200"/>
              <a:ext cx="268560" cy="462600"/>
            </a:xfrm>
            <a:prstGeom prst="blockArc">
              <a:avLst>
                <a:gd name="adj1" fmla="val 13604259"/>
                <a:gd name="adj2" fmla="val 18795741"/>
                <a:gd name="adj3" fmla="val 0"/>
              </a:avLst>
            </a:prstGeom>
            <a:solidFill>
              <a:srgbClr val="bbe0e3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093920" y="189000"/>
            <a:ext cx="14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分　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838600" y="998640"/>
            <a:ext cx="2575440" cy="642600"/>
            <a:chOff x="2838600" y="998640"/>
            <a:chExt cx="2575440" cy="642600"/>
          </a:xfrm>
        </p:grpSpPr>
        <p:sp>
          <p:nvSpPr>
            <p:cNvPr id="286" name="">
              <a:hlinkClick r:id="rId2"/>
            </p:cNvPr>
            <p:cNvSpPr/>
            <p:nvPr/>
          </p:nvSpPr>
          <p:spPr>
            <a:xfrm>
              <a:off x="3861720" y="9986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等しい分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38600" y="113328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38600" y="1739880"/>
            <a:ext cx="2936160" cy="642600"/>
            <a:chOff x="2838600" y="1739880"/>
            <a:chExt cx="2936160" cy="642600"/>
          </a:xfrm>
        </p:grpSpPr>
        <p:sp>
          <p:nvSpPr>
            <p:cNvPr id="289" name="">
              <a:hlinkClick r:id="rId3"/>
            </p:cNvPr>
            <p:cNvSpPr/>
            <p:nvPr/>
          </p:nvSpPr>
          <p:spPr>
            <a:xfrm>
              <a:off x="3948120" y="173988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分数のたし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38600" y="1874520"/>
              <a:ext cx="46152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838600" y="2482920"/>
            <a:ext cx="2962800" cy="642600"/>
            <a:chOff x="2838600" y="2482920"/>
            <a:chExt cx="2962800" cy="642600"/>
          </a:xfrm>
        </p:grpSpPr>
        <p:sp>
          <p:nvSpPr>
            <p:cNvPr id="292" name="">
              <a:hlinkClick r:id="rId4"/>
            </p:cNvPr>
            <p:cNvSpPr/>
            <p:nvPr/>
          </p:nvSpPr>
          <p:spPr>
            <a:xfrm>
              <a:off x="3974760" y="248292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分数のひき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38600" y="261756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838600" y="3225960"/>
            <a:ext cx="2895480" cy="642600"/>
            <a:chOff x="2838600" y="3225960"/>
            <a:chExt cx="2895480" cy="642600"/>
          </a:xfrm>
        </p:grpSpPr>
        <p:sp>
          <p:nvSpPr>
            <p:cNvPr id="295" name="">
              <a:hlinkClick r:id="rId5"/>
            </p:cNvPr>
            <p:cNvSpPr/>
            <p:nvPr/>
          </p:nvSpPr>
          <p:spPr>
            <a:xfrm>
              <a:off x="3907440" y="322596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わり算と分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838600" y="3360600"/>
              <a:ext cx="46152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838600" y="3968640"/>
            <a:ext cx="3943440" cy="642600"/>
            <a:chOff x="2838600" y="3968640"/>
            <a:chExt cx="3943440" cy="642600"/>
          </a:xfrm>
        </p:grpSpPr>
        <p:sp>
          <p:nvSpPr>
            <p:cNvPr id="298" name="">
              <a:hlinkClick r:id="rId6"/>
            </p:cNvPr>
            <p:cNvSpPr/>
            <p:nvPr/>
          </p:nvSpPr>
          <p:spPr>
            <a:xfrm>
              <a:off x="4132440" y="3968640"/>
              <a:ext cx="26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分数を小数・整数に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38600" y="410328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838600" y="4711680"/>
            <a:ext cx="2937600" cy="642600"/>
            <a:chOff x="2838600" y="4711680"/>
            <a:chExt cx="2937600" cy="642600"/>
          </a:xfrm>
        </p:grpSpPr>
        <p:sp>
          <p:nvSpPr>
            <p:cNvPr id="301" name="">
              <a:hlinkClick r:id="rId7"/>
            </p:cNvPr>
            <p:cNvSpPr/>
            <p:nvPr/>
          </p:nvSpPr>
          <p:spPr>
            <a:xfrm>
              <a:off x="5138280" y="47116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小数・整数を分数に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38600" y="484632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838600" y="5454720"/>
            <a:ext cx="2275560" cy="642600"/>
            <a:chOff x="2838600" y="5454720"/>
            <a:chExt cx="2275560" cy="642600"/>
          </a:xfrm>
        </p:grpSpPr>
        <p:sp>
          <p:nvSpPr>
            <p:cNvPr id="304" name="">
              <a:hlinkClick r:id="rId8"/>
            </p:cNvPr>
            <p:cNvSpPr/>
            <p:nvPr/>
          </p:nvSpPr>
          <p:spPr>
            <a:xfrm>
              <a:off x="3836160" y="545472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数の大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38600" y="558936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8732880" y="549360"/>
            <a:ext cx="630360" cy="628560"/>
          </a:xfrm>
          <a:custGeom>
            <a:avLst/>
            <a:gdLst>
              <a:gd name="textAreaLeft" fmla="*/ 40680 w 630360"/>
              <a:gd name="textAreaRight" fmla="*/ 589680 w 630360"/>
              <a:gd name="textAreaTop" fmla="*/ 40680 h 628560"/>
              <a:gd name="textAreaBottom" fmla="*/ 587880 h 62856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4" y="14299"/>
                </a:lnTo>
                <a:lnTo>
                  <a:pt x="11754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79440" y="6129360"/>
            <a:ext cx="38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各教材ページからは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キーでこのページにもどれ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65240" y="5965560"/>
            <a:ext cx="366480" cy="533520"/>
            <a:chOff x="165240" y="5965560"/>
            <a:chExt cx="366480" cy="533520"/>
          </a:xfrm>
        </p:grpSpPr>
        <p:sp>
          <p:nvSpPr>
            <p:cNvPr id="309" name=""/>
            <p:cNvSpPr/>
            <p:nvPr/>
          </p:nvSpPr>
          <p:spPr>
            <a:xfrm>
              <a:off x="165240" y="6133320"/>
              <a:ext cx="366480" cy="36576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12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76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12400" y="5965200"/>
              <a:ext cx="268560" cy="462600"/>
            </a:xfrm>
            <a:prstGeom prst="blockArc">
              <a:avLst>
                <a:gd name="adj1" fmla="val 13604259"/>
                <a:gd name="adj2" fmla="val 18795741"/>
                <a:gd name="adj3" fmla="val 0"/>
              </a:avLst>
            </a:prstGeom>
            <a:solidFill>
              <a:srgbClr val="bbe0e3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139640" y="549360"/>
            <a:ext cx="14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割　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522520" y="1628640"/>
            <a:ext cx="2937960" cy="642600"/>
            <a:chOff x="2522520" y="1628640"/>
            <a:chExt cx="2937960" cy="642600"/>
          </a:xfrm>
        </p:grpSpPr>
        <p:sp>
          <p:nvSpPr>
            <p:cNvPr id="315" name="">
              <a:hlinkClick r:id="rId2"/>
            </p:cNvPr>
            <p:cNvSpPr/>
            <p:nvPr/>
          </p:nvSpPr>
          <p:spPr>
            <a:xfrm>
              <a:off x="3633840" y="162864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割合を求め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22520" y="176328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522520" y="2558880"/>
            <a:ext cx="3866400" cy="642600"/>
            <a:chOff x="2522520" y="2558880"/>
            <a:chExt cx="3866400" cy="642600"/>
          </a:xfrm>
        </p:grpSpPr>
        <p:sp>
          <p:nvSpPr>
            <p:cNvPr id="318" name="">
              <a:hlinkClick r:id="rId3"/>
            </p:cNvPr>
            <p:cNvSpPr/>
            <p:nvPr/>
          </p:nvSpPr>
          <p:spPr>
            <a:xfrm>
              <a:off x="3739320" y="2558880"/>
              <a:ext cx="26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くらべる量を求め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22520" y="269352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522520" y="3517920"/>
            <a:ext cx="4250520" cy="642600"/>
            <a:chOff x="2522520" y="3517920"/>
            <a:chExt cx="4250520" cy="642600"/>
          </a:xfrm>
        </p:grpSpPr>
        <p:sp>
          <p:nvSpPr>
            <p:cNvPr id="321" name="">
              <a:hlinkClick r:id="rId4"/>
            </p:cNvPr>
            <p:cNvSpPr/>
            <p:nvPr/>
          </p:nvSpPr>
          <p:spPr>
            <a:xfrm>
              <a:off x="3849120" y="351792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もとにする量を求め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22520" y="365256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522520" y="4503600"/>
            <a:ext cx="1909800" cy="642600"/>
            <a:chOff x="2522520" y="4503600"/>
            <a:chExt cx="1909800" cy="642600"/>
          </a:xfrm>
        </p:grpSpPr>
        <p:sp>
          <p:nvSpPr>
            <p:cNvPr id="324" name="">
              <a:hlinkClick r:id="rId5"/>
            </p:cNvPr>
            <p:cNvSpPr/>
            <p:nvPr/>
          </p:nvSpPr>
          <p:spPr>
            <a:xfrm>
              <a:off x="3428640" y="45036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百分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22520" y="463824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8732880" y="549360"/>
            <a:ext cx="630360" cy="628560"/>
          </a:xfrm>
          <a:custGeom>
            <a:avLst/>
            <a:gdLst>
              <a:gd name="textAreaLeft" fmla="*/ 40680 w 630360"/>
              <a:gd name="textAreaRight" fmla="*/ 589680 w 630360"/>
              <a:gd name="textAreaTop" fmla="*/ 40680 h 628560"/>
              <a:gd name="textAreaBottom" fmla="*/ 587880 h 62856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4" y="14299"/>
                </a:lnTo>
                <a:lnTo>
                  <a:pt x="11754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79440" y="6129360"/>
            <a:ext cx="38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各教材ページからは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キーでこのページにもどれ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65240" y="5965560"/>
            <a:ext cx="366480" cy="533520"/>
            <a:chOff x="165240" y="5965560"/>
            <a:chExt cx="366480" cy="533520"/>
          </a:xfrm>
        </p:grpSpPr>
        <p:sp>
          <p:nvSpPr>
            <p:cNvPr id="329" name=""/>
            <p:cNvSpPr/>
            <p:nvPr/>
          </p:nvSpPr>
          <p:spPr>
            <a:xfrm>
              <a:off x="165240" y="6133320"/>
              <a:ext cx="366480" cy="36576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12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76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12400" y="5965200"/>
              <a:ext cx="268560" cy="462600"/>
            </a:xfrm>
            <a:prstGeom prst="blockArc">
              <a:avLst>
                <a:gd name="adj1" fmla="val 13604259"/>
                <a:gd name="adj2" fmla="val 18795741"/>
                <a:gd name="adj3" fmla="val 0"/>
              </a:avLst>
            </a:prstGeom>
            <a:solidFill>
              <a:srgbClr val="bbe0e3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82960" y="50328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割合を使っ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252520" y="1628640"/>
            <a:ext cx="5122800" cy="642600"/>
            <a:chOff x="2252520" y="1628640"/>
            <a:chExt cx="5122800" cy="642600"/>
          </a:xfrm>
        </p:grpSpPr>
        <p:sp>
          <p:nvSpPr>
            <p:cNvPr id="335" name="">
              <a:hlinkClick r:id="rId2"/>
            </p:cNvPr>
            <p:cNvSpPr/>
            <p:nvPr/>
          </p:nvSpPr>
          <p:spPr>
            <a:xfrm>
              <a:off x="3628440" y="1628640"/>
              <a:ext cx="374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何倍になるかを考えて（１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52520" y="176328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252520" y="2558880"/>
            <a:ext cx="5122800" cy="642600"/>
            <a:chOff x="2252520" y="2558880"/>
            <a:chExt cx="5122800" cy="642600"/>
          </a:xfrm>
        </p:grpSpPr>
        <p:sp>
          <p:nvSpPr>
            <p:cNvPr id="338" name="">
              <a:hlinkClick r:id="rId3"/>
            </p:cNvPr>
            <p:cNvSpPr/>
            <p:nvPr/>
          </p:nvSpPr>
          <p:spPr>
            <a:xfrm>
              <a:off x="3628440" y="2558880"/>
              <a:ext cx="374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何倍になるかを考えて（２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52520" y="269352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252520" y="3517920"/>
            <a:ext cx="5122800" cy="642600"/>
            <a:chOff x="2252520" y="3517920"/>
            <a:chExt cx="5122800" cy="642600"/>
          </a:xfrm>
        </p:grpSpPr>
        <p:sp>
          <p:nvSpPr>
            <p:cNvPr id="341" name="">
              <a:hlinkClick r:id="rId4"/>
            </p:cNvPr>
            <p:cNvSpPr/>
            <p:nvPr/>
          </p:nvSpPr>
          <p:spPr>
            <a:xfrm>
              <a:off x="3628440" y="3517920"/>
              <a:ext cx="374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何倍になるかを考えて（３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52520" y="365256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252520" y="4503600"/>
            <a:ext cx="5122800" cy="642600"/>
            <a:chOff x="2252520" y="4503600"/>
            <a:chExt cx="5122800" cy="642600"/>
          </a:xfrm>
        </p:grpSpPr>
        <p:sp>
          <p:nvSpPr>
            <p:cNvPr id="344" name="">
              <a:hlinkClick r:id="rId5"/>
            </p:cNvPr>
            <p:cNvSpPr/>
            <p:nvPr/>
          </p:nvSpPr>
          <p:spPr>
            <a:xfrm>
              <a:off x="3628440" y="4503600"/>
              <a:ext cx="374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何倍になるかを考えて（４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252520" y="463824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732880" y="549360"/>
            <a:ext cx="630360" cy="628560"/>
          </a:xfrm>
          <a:custGeom>
            <a:avLst/>
            <a:gdLst>
              <a:gd name="textAreaLeft" fmla="*/ 40680 w 630360"/>
              <a:gd name="textAreaRight" fmla="*/ 589680 w 630360"/>
              <a:gd name="textAreaTop" fmla="*/ 40680 h 628560"/>
              <a:gd name="textAreaBottom" fmla="*/ 587880 h 62856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4" y="14299"/>
                </a:lnTo>
                <a:lnTo>
                  <a:pt x="11754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79440" y="6129360"/>
            <a:ext cx="38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各教材ページからは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キーでこのページにもどれ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65240" y="5965560"/>
            <a:ext cx="366480" cy="533520"/>
            <a:chOff x="165240" y="5965560"/>
            <a:chExt cx="366480" cy="533520"/>
          </a:xfrm>
        </p:grpSpPr>
        <p:sp>
          <p:nvSpPr>
            <p:cNvPr id="349" name=""/>
            <p:cNvSpPr/>
            <p:nvPr/>
          </p:nvSpPr>
          <p:spPr>
            <a:xfrm>
              <a:off x="165240" y="6133320"/>
              <a:ext cx="366480" cy="36576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12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76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12400" y="5965200"/>
              <a:ext cx="268560" cy="462600"/>
            </a:xfrm>
            <a:prstGeom prst="blockArc">
              <a:avLst>
                <a:gd name="adj1" fmla="val 13604259"/>
                <a:gd name="adj2" fmla="val 18795741"/>
                <a:gd name="adj3" fmla="val 0"/>
              </a:avLst>
            </a:prstGeom>
            <a:solidFill>
              <a:srgbClr val="bbe0e3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4480200" y="6382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人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962520" y="2708280"/>
            <a:ext cx="1909800" cy="642600"/>
            <a:chOff x="3962520" y="2708280"/>
            <a:chExt cx="1909800" cy="642600"/>
          </a:xfrm>
        </p:grpSpPr>
        <p:sp>
          <p:nvSpPr>
            <p:cNvPr id="355" name="">
              <a:hlinkClick r:id="rId2"/>
            </p:cNvPr>
            <p:cNvSpPr/>
            <p:nvPr/>
          </p:nvSpPr>
          <p:spPr>
            <a:xfrm>
              <a:off x="4868640" y="27082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人文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62520" y="284292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8732880" y="549360"/>
            <a:ext cx="630360" cy="628560"/>
          </a:xfrm>
          <a:custGeom>
            <a:avLst/>
            <a:gdLst>
              <a:gd name="textAreaLeft" fmla="*/ 40680 w 630360"/>
              <a:gd name="textAreaRight" fmla="*/ 589680 w 630360"/>
              <a:gd name="textAreaTop" fmla="*/ 40680 h 628560"/>
              <a:gd name="textAreaBottom" fmla="*/ 587880 h 62856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4" y="14299"/>
                </a:lnTo>
                <a:lnTo>
                  <a:pt x="11754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79440" y="6129360"/>
            <a:ext cx="38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各教材ページからは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キーでこのページにもどれ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65240" y="5965560"/>
            <a:ext cx="366480" cy="533520"/>
            <a:chOff x="165240" y="5965560"/>
            <a:chExt cx="366480" cy="533520"/>
          </a:xfrm>
        </p:grpSpPr>
        <p:sp>
          <p:nvSpPr>
            <p:cNvPr id="360" name=""/>
            <p:cNvSpPr/>
            <p:nvPr/>
          </p:nvSpPr>
          <p:spPr>
            <a:xfrm>
              <a:off x="165240" y="6133320"/>
              <a:ext cx="366480" cy="36576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12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76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12400" y="5965200"/>
              <a:ext cx="268560" cy="462600"/>
            </a:xfrm>
            <a:prstGeom prst="blockArc">
              <a:avLst>
                <a:gd name="adj1" fmla="val 13604259"/>
                <a:gd name="adj2" fmla="val 18795741"/>
                <a:gd name="adj3" fmla="val 0"/>
              </a:avLst>
            </a:prstGeom>
            <a:solidFill>
              <a:srgbClr val="bbe0e3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692520" y="2349360"/>
            <a:ext cx="23004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ＤＦ特太ゴシック体"/>
              </a:rPr>
              <a:t>ＥＮＤ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ＤＦ特太ゴシック体"/>
              <a:ea typeface="ＤＦ特太ゴシック体"/>
            </a:endParaRPr>
          </a:p>
        </p:txBody>
      </p:sp>
      <p:sp>
        <p:nvSpPr>
          <p:cNvPr id="365" name=""/>
          <p:cNvSpPr/>
          <p:nvPr/>
        </p:nvSpPr>
        <p:spPr>
          <a:xfrm>
            <a:off x="8732880" y="549360"/>
            <a:ext cx="630360" cy="628560"/>
          </a:xfrm>
          <a:custGeom>
            <a:avLst/>
            <a:gdLst>
              <a:gd name="textAreaLeft" fmla="*/ 40680 w 630360"/>
              <a:gd name="textAreaRight" fmla="*/ 589680 w 630360"/>
              <a:gd name="textAreaTop" fmla="*/ 40680 h 628560"/>
              <a:gd name="textAreaBottom" fmla="*/ 587880 h 62856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4" y="14299"/>
                </a:lnTo>
                <a:lnTo>
                  <a:pt x="11754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780720" y="4586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小数のしく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973240" y="1628640"/>
            <a:ext cx="2494440" cy="642600"/>
            <a:chOff x="2973240" y="1628640"/>
            <a:chExt cx="2494440" cy="642600"/>
          </a:xfrm>
        </p:grpSpPr>
        <p:sp>
          <p:nvSpPr>
            <p:cNvPr id="100" name="">
              <a:hlinkClick r:id="rId2"/>
            </p:cNvPr>
            <p:cNvSpPr/>
            <p:nvPr/>
          </p:nvSpPr>
          <p:spPr>
            <a:xfrm>
              <a:off x="3915360" y="16286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数のしく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73240" y="176328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973240" y="2585880"/>
            <a:ext cx="3268440" cy="642600"/>
            <a:chOff x="2973240" y="2585880"/>
            <a:chExt cx="3268440" cy="642600"/>
          </a:xfrm>
        </p:grpSpPr>
        <p:sp>
          <p:nvSpPr>
            <p:cNvPr id="103" name="">
              <a:hlinkClick r:id="rId3"/>
            </p:cNvPr>
            <p:cNvSpPr/>
            <p:nvPr/>
          </p:nvSpPr>
          <p:spPr>
            <a:xfrm>
              <a:off x="3637080" y="2585880"/>
              <a:ext cx="260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cc"/>
                  </a:solidFill>
                  <a:latin typeface="Arial"/>
                </a:rPr>
                <a:t>10</a:t>
              </a: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倍，</a:t>
              </a:r>
              <a:r>
                <a:rPr b="0" lang="en-US" sz="3600" spc="-1" strike="noStrike">
                  <a:solidFill>
                    <a:srgbClr val="ff33cc"/>
                  </a:solidFill>
                  <a:latin typeface="Arial"/>
                </a:rPr>
                <a:t>100</a:t>
              </a: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73240" y="269352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73240" y="3544920"/>
            <a:ext cx="4587120" cy="642600"/>
            <a:chOff x="2973240" y="3544920"/>
            <a:chExt cx="4587120" cy="642600"/>
          </a:xfrm>
        </p:grpSpPr>
        <p:sp>
          <p:nvSpPr>
            <p:cNvPr id="106" name="">
              <a:hlinkClick r:id="rId4"/>
            </p:cNvPr>
            <p:cNvSpPr/>
            <p:nvPr/>
          </p:nvSpPr>
          <p:spPr>
            <a:xfrm>
              <a:off x="3858480" y="3544920"/>
              <a:ext cx="370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cc"/>
                  </a:solidFill>
                  <a:latin typeface="Arial"/>
                </a:rPr>
                <a:t>10</a:t>
              </a: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分の１，</a:t>
              </a:r>
              <a:r>
                <a:rPr b="0" lang="en-US" sz="3600" spc="-1" strike="noStrike">
                  <a:solidFill>
                    <a:srgbClr val="ff33cc"/>
                  </a:solidFill>
                  <a:latin typeface="Arial"/>
                </a:rPr>
                <a:t>100</a:t>
              </a: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分の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73240" y="365256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973240" y="4503600"/>
            <a:ext cx="3661560" cy="642600"/>
            <a:chOff x="2973240" y="4503600"/>
            <a:chExt cx="3661560" cy="642600"/>
          </a:xfrm>
        </p:grpSpPr>
        <p:sp>
          <p:nvSpPr>
            <p:cNvPr id="109" name="">
              <a:hlinkClick r:id="rId5"/>
            </p:cNvPr>
            <p:cNvSpPr/>
            <p:nvPr/>
          </p:nvSpPr>
          <p:spPr>
            <a:xfrm>
              <a:off x="4259520" y="4503600"/>
              <a:ext cx="237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cc"/>
                  </a:solidFill>
                  <a:latin typeface="Arial"/>
                </a:rPr>
                <a:t>何こあわせた数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3240" y="463824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973240" y="5462640"/>
            <a:ext cx="3219840" cy="642600"/>
            <a:chOff x="2973240" y="5462640"/>
            <a:chExt cx="3219840" cy="642600"/>
          </a:xfrm>
        </p:grpSpPr>
        <p:sp>
          <p:nvSpPr>
            <p:cNvPr id="112" name="">
              <a:hlinkClick r:id="rId6"/>
            </p:cNvPr>
            <p:cNvSpPr/>
            <p:nvPr/>
          </p:nvSpPr>
          <p:spPr>
            <a:xfrm>
              <a:off x="4092120" y="546264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単位をかえよ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73240" y="559728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>
            <a:hlinkClick r:id="rId7" action="ppaction://hlinksldjump"/>
          </p:cNvPr>
          <p:cNvSpPr/>
          <p:nvPr/>
        </p:nvSpPr>
        <p:spPr>
          <a:xfrm>
            <a:off x="8732880" y="549360"/>
            <a:ext cx="630360" cy="628560"/>
          </a:xfrm>
          <a:custGeom>
            <a:avLst/>
            <a:gdLst>
              <a:gd name="textAreaLeft" fmla="*/ 40680 w 630360"/>
              <a:gd name="textAreaRight" fmla="*/ 589680 w 630360"/>
              <a:gd name="textAreaTop" fmla="*/ 40680 h 628560"/>
              <a:gd name="textAreaBottom" fmla="*/ 587880 h 62856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4" y="14299"/>
                </a:lnTo>
                <a:lnTo>
                  <a:pt x="11754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79440" y="6129360"/>
            <a:ext cx="38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各教材ページからは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キーでこのページにもどれ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65240" y="5965560"/>
            <a:ext cx="366480" cy="533520"/>
            <a:chOff x="165240" y="5965560"/>
            <a:chExt cx="366480" cy="533520"/>
          </a:xfrm>
        </p:grpSpPr>
        <p:sp>
          <p:nvSpPr>
            <p:cNvPr id="117" name=""/>
            <p:cNvSpPr/>
            <p:nvPr/>
          </p:nvSpPr>
          <p:spPr>
            <a:xfrm>
              <a:off x="165240" y="6133320"/>
              <a:ext cx="366480" cy="36576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12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76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12400" y="5965200"/>
              <a:ext cx="268560" cy="462600"/>
            </a:xfrm>
            <a:prstGeom prst="blockArc">
              <a:avLst>
                <a:gd name="adj1" fmla="val 13604259"/>
                <a:gd name="adj2" fmla="val 18795741"/>
                <a:gd name="adj3" fmla="val 0"/>
              </a:avLst>
            </a:prstGeom>
            <a:solidFill>
              <a:srgbClr val="bbe0e3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783240" y="4586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垂直と平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333600" y="2394000"/>
            <a:ext cx="2587320" cy="642600"/>
            <a:chOff x="3333600" y="2394000"/>
            <a:chExt cx="2587320" cy="642600"/>
          </a:xfrm>
        </p:grpSpPr>
        <p:sp>
          <p:nvSpPr>
            <p:cNvPr id="123" name="">
              <a:hlinkClick r:id="rId2"/>
            </p:cNvPr>
            <p:cNvSpPr/>
            <p:nvPr/>
          </p:nvSpPr>
          <p:spPr>
            <a:xfrm>
              <a:off x="4368600" y="239400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垂直と平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33600" y="2528640"/>
              <a:ext cx="46152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162160" y="3878280"/>
            <a:ext cx="5492160" cy="642600"/>
            <a:chOff x="2162160" y="3878280"/>
            <a:chExt cx="5492160" cy="642600"/>
          </a:xfrm>
        </p:grpSpPr>
        <p:sp>
          <p:nvSpPr>
            <p:cNvPr id="126" name="">
              <a:hlinkClick r:id="rId3"/>
            </p:cNvPr>
            <p:cNvSpPr/>
            <p:nvPr/>
          </p:nvSpPr>
          <p:spPr>
            <a:xfrm>
              <a:off x="3907440" y="3878280"/>
              <a:ext cx="374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垂直や平行な直線のかきか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62160" y="401292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 txBox="1"/>
          <p:nvPr/>
        </p:nvSpPr>
        <p:spPr>
          <a:xfrm>
            <a:off x="7608960" y="6399360"/>
            <a:ext cx="19047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3240">
                  <a:solidFill>
                    <a:srgbClr val="f5f5f5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ＭＳ Ｐゴシック"/>
              </a:rPr>
              <a:t>GanDen Software</a:t>
            </a:r>
            <a:endParaRPr b="0" i="1" lang="en-US" sz="2000" spc="1" strike="noStrike">
              <a:ln w="3240">
                <a:solidFill>
                  <a:srgbClr val="f5f5f5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ＭＳ Ｐゴシック"/>
              <a:ea typeface="ＭＳ Ｐゴシック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8732880" y="549360"/>
            <a:ext cx="630360" cy="628560"/>
          </a:xfrm>
          <a:custGeom>
            <a:avLst/>
            <a:gdLst>
              <a:gd name="textAreaLeft" fmla="*/ 40680 w 630360"/>
              <a:gd name="textAreaRight" fmla="*/ 589680 w 630360"/>
              <a:gd name="textAreaTop" fmla="*/ 40680 h 628560"/>
              <a:gd name="textAreaBottom" fmla="*/ 587880 h 62856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4" y="14299"/>
                </a:lnTo>
                <a:lnTo>
                  <a:pt x="11754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79440" y="6129360"/>
            <a:ext cx="38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各教材ページからは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キーでこのページにもどれ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65240" y="5965560"/>
            <a:ext cx="366480" cy="533520"/>
            <a:chOff x="165240" y="5965560"/>
            <a:chExt cx="366480" cy="533520"/>
          </a:xfrm>
        </p:grpSpPr>
        <p:sp>
          <p:nvSpPr>
            <p:cNvPr id="132" name=""/>
            <p:cNvSpPr/>
            <p:nvPr/>
          </p:nvSpPr>
          <p:spPr>
            <a:xfrm>
              <a:off x="165240" y="6133320"/>
              <a:ext cx="366480" cy="36576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12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76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12400" y="5965200"/>
              <a:ext cx="268560" cy="462600"/>
            </a:xfrm>
            <a:prstGeom prst="blockArc">
              <a:avLst>
                <a:gd name="adj1" fmla="val 13604259"/>
                <a:gd name="adj2" fmla="val 18795741"/>
                <a:gd name="adj3" fmla="val 0"/>
              </a:avLst>
            </a:prstGeom>
            <a:solidFill>
              <a:srgbClr val="bbe0e3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783240" y="4586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偶数と奇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792520" y="2168640"/>
            <a:ext cx="2587680" cy="642600"/>
            <a:chOff x="2792520" y="2168640"/>
            <a:chExt cx="2587680" cy="642600"/>
          </a:xfrm>
        </p:grpSpPr>
        <p:sp>
          <p:nvSpPr>
            <p:cNvPr id="138" name="">
              <a:hlinkClick r:id="rId2"/>
            </p:cNvPr>
            <p:cNvSpPr/>
            <p:nvPr/>
          </p:nvSpPr>
          <p:spPr>
            <a:xfrm>
              <a:off x="3827880" y="21686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偶数と奇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92520" y="2303280"/>
              <a:ext cx="46152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838600" y="3564000"/>
            <a:ext cx="3822120" cy="642600"/>
            <a:chOff x="2838600" y="3564000"/>
            <a:chExt cx="3822120" cy="642600"/>
          </a:xfrm>
        </p:grpSpPr>
        <p:sp>
          <p:nvSpPr>
            <p:cNvPr id="141" name="">
              <a:hlinkClick r:id="rId3"/>
            </p:cNvPr>
            <p:cNvSpPr/>
            <p:nvPr/>
          </p:nvSpPr>
          <p:spPr>
            <a:xfrm>
              <a:off x="4011120" y="3564000"/>
              <a:ext cx="26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偶数と奇数（問題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38600" y="3698640"/>
              <a:ext cx="46152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>
            <a:hlinkClick r:id="rId4" action="ppaction://hlinksldjump"/>
          </p:cNvPr>
          <p:cNvSpPr/>
          <p:nvPr/>
        </p:nvSpPr>
        <p:spPr>
          <a:xfrm>
            <a:off x="8732880" y="549360"/>
            <a:ext cx="630360" cy="628560"/>
          </a:xfrm>
          <a:custGeom>
            <a:avLst/>
            <a:gdLst>
              <a:gd name="textAreaLeft" fmla="*/ 40680 w 630360"/>
              <a:gd name="textAreaRight" fmla="*/ 589680 w 630360"/>
              <a:gd name="textAreaTop" fmla="*/ 40680 h 628560"/>
              <a:gd name="textAreaBottom" fmla="*/ 587880 h 62856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4" y="14299"/>
                </a:lnTo>
                <a:lnTo>
                  <a:pt x="11754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79440" y="6129360"/>
            <a:ext cx="38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各教材ページからは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キーでこのページにもどれ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65240" y="5965560"/>
            <a:ext cx="366480" cy="533520"/>
            <a:chOff x="165240" y="5965560"/>
            <a:chExt cx="366480" cy="533520"/>
          </a:xfrm>
        </p:grpSpPr>
        <p:sp>
          <p:nvSpPr>
            <p:cNvPr id="146" name=""/>
            <p:cNvSpPr/>
            <p:nvPr/>
          </p:nvSpPr>
          <p:spPr>
            <a:xfrm>
              <a:off x="165240" y="6133320"/>
              <a:ext cx="366480" cy="36576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12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76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12400" y="5965200"/>
              <a:ext cx="268560" cy="462600"/>
            </a:xfrm>
            <a:prstGeom prst="blockArc">
              <a:avLst>
                <a:gd name="adj1" fmla="val 13604259"/>
                <a:gd name="adj2" fmla="val 18795741"/>
                <a:gd name="adj3" fmla="val 0"/>
              </a:avLst>
            </a:prstGeom>
            <a:solidFill>
              <a:srgbClr val="bbe0e3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718800" y="458640"/>
            <a:ext cx="211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小数</a:t>
            </a: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×</a:t>
            </a: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整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522520" y="1628640"/>
            <a:ext cx="2994480" cy="642600"/>
            <a:chOff x="2522520" y="1628640"/>
            <a:chExt cx="2994480" cy="642600"/>
          </a:xfrm>
        </p:grpSpPr>
        <p:sp>
          <p:nvSpPr>
            <p:cNvPr id="152" name="">
              <a:hlinkClick r:id="rId2"/>
            </p:cNvPr>
            <p:cNvSpPr/>
            <p:nvPr/>
          </p:nvSpPr>
          <p:spPr>
            <a:xfrm>
              <a:off x="3690360" y="162864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小数のかけ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22520" y="176328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522520" y="2558880"/>
            <a:ext cx="2994480" cy="642600"/>
            <a:chOff x="2522520" y="2558880"/>
            <a:chExt cx="2994480" cy="642600"/>
          </a:xfrm>
        </p:grpSpPr>
        <p:sp>
          <p:nvSpPr>
            <p:cNvPr id="155" name="">
              <a:hlinkClick r:id="rId3"/>
            </p:cNvPr>
            <p:cNvSpPr/>
            <p:nvPr/>
          </p:nvSpPr>
          <p:spPr>
            <a:xfrm>
              <a:off x="3690360" y="255888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かけ算の筆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22520" y="269352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22520" y="3517920"/>
            <a:ext cx="5958720" cy="642600"/>
            <a:chOff x="2522520" y="3517920"/>
            <a:chExt cx="5958720" cy="642600"/>
          </a:xfrm>
        </p:grpSpPr>
        <p:sp>
          <p:nvSpPr>
            <p:cNvPr id="158" name="">
              <a:hlinkClick r:id="rId4"/>
            </p:cNvPr>
            <p:cNvSpPr/>
            <p:nvPr/>
          </p:nvSpPr>
          <p:spPr>
            <a:xfrm>
              <a:off x="3974400" y="3517920"/>
              <a:ext cx="450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かけ算の筆算（２けた</a:t>
              </a:r>
              <a:r>
                <a:rPr b="0" lang="en-US" sz="3600" spc="-1" strike="noStrike">
                  <a:solidFill>
                    <a:srgbClr val="ff33cc"/>
                  </a:solidFill>
                  <a:latin typeface="Arial"/>
                </a:rPr>
                <a:t>×</a:t>
              </a: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２け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2520" y="365256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522520" y="4503600"/>
            <a:ext cx="2275560" cy="642600"/>
            <a:chOff x="2522520" y="4503600"/>
            <a:chExt cx="2275560" cy="642600"/>
          </a:xfrm>
        </p:grpSpPr>
        <p:sp>
          <p:nvSpPr>
            <p:cNvPr id="161" name="">
              <a:hlinkClick r:id="rId5"/>
            </p:cNvPr>
            <p:cNvSpPr/>
            <p:nvPr/>
          </p:nvSpPr>
          <p:spPr>
            <a:xfrm>
              <a:off x="3520080" y="450360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文章問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22520" y="463824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>
            <a:hlinkClick r:id="rId6" action="ppaction://hlinksldjump"/>
          </p:cNvPr>
          <p:cNvSpPr/>
          <p:nvPr/>
        </p:nvSpPr>
        <p:spPr>
          <a:xfrm>
            <a:off x="8732880" y="549360"/>
            <a:ext cx="630360" cy="628560"/>
          </a:xfrm>
          <a:custGeom>
            <a:avLst/>
            <a:gdLst>
              <a:gd name="textAreaLeft" fmla="*/ 40680 w 630360"/>
              <a:gd name="textAreaRight" fmla="*/ 589680 w 630360"/>
              <a:gd name="textAreaTop" fmla="*/ 40680 h 628560"/>
              <a:gd name="textAreaBottom" fmla="*/ 587880 h 62856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4" y="14299"/>
                </a:lnTo>
                <a:lnTo>
                  <a:pt x="11754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79440" y="6129360"/>
            <a:ext cx="38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各教材ページからは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キーでこのページにもどれ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65240" y="5965560"/>
            <a:ext cx="366480" cy="533520"/>
            <a:chOff x="165240" y="5965560"/>
            <a:chExt cx="366480" cy="533520"/>
          </a:xfrm>
        </p:grpSpPr>
        <p:sp>
          <p:nvSpPr>
            <p:cNvPr id="166" name=""/>
            <p:cNvSpPr/>
            <p:nvPr/>
          </p:nvSpPr>
          <p:spPr>
            <a:xfrm>
              <a:off x="165240" y="6133320"/>
              <a:ext cx="366480" cy="36576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12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76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12400" y="5965200"/>
              <a:ext cx="268560" cy="462600"/>
            </a:xfrm>
            <a:prstGeom prst="blockArc">
              <a:avLst>
                <a:gd name="adj1" fmla="val 13604259"/>
                <a:gd name="adj2" fmla="val 18795741"/>
                <a:gd name="adj3" fmla="val 0"/>
              </a:avLst>
            </a:prstGeom>
            <a:solidFill>
              <a:srgbClr val="bbe0e3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728520" y="142920"/>
            <a:ext cx="209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小数</a:t>
            </a: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÷</a:t>
            </a: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整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882880" y="954000"/>
            <a:ext cx="3242880" cy="642600"/>
            <a:chOff x="2882880" y="954000"/>
            <a:chExt cx="3242880" cy="642600"/>
          </a:xfrm>
        </p:grpSpPr>
        <p:sp>
          <p:nvSpPr>
            <p:cNvPr id="172" name="">
              <a:hlinkClick r:id="rId2"/>
            </p:cNvPr>
            <p:cNvSpPr/>
            <p:nvPr/>
          </p:nvSpPr>
          <p:spPr>
            <a:xfrm>
              <a:off x="4024800" y="95400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小数のわり算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82880" y="108864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882880" y="1871640"/>
            <a:ext cx="3242880" cy="642600"/>
            <a:chOff x="2882880" y="1871640"/>
            <a:chExt cx="3242880" cy="642600"/>
          </a:xfrm>
        </p:grpSpPr>
        <p:sp>
          <p:nvSpPr>
            <p:cNvPr id="175" name="">
              <a:hlinkClick r:id="rId3"/>
            </p:cNvPr>
            <p:cNvSpPr/>
            <p:nvPr/>
          </p:nvSpPr>
          <p:spPr>
            <a:xfrm>
              <a:off x="4024800" y="187164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小数のわり算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82880" y="200628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882880" y="2789280"/>
            <a:ext cx="3242880" cy="642600"/>
            <a:chOff x="2882880" y="2789280"/>
            <a:chExt cx="3242880" cy="642600"/>
          </a:xfrm>
        </p:grpSpPr>
        <p:sp>
          <p:nvSpPr>
            <p:cNvPr id="178" name="">
              <a:hlinkClick r:id="rId4"/>
            </p:cNvPr>
            <p:cNvSpPr/>
            <p:nvPr/>
          </p:nvSpPr>
          <p:spPr>
            <a:xfrm>
              <a:off x="4024800" y="278928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わり算の筆算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82880" y="292392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882880" y="3706920"/>
            <a:ext cx="3242880" cy="642600"/>
            <a:chOff x="2882880" y="3706920"/>
            <a:chExt cx="3242880" cy="642600"/>
          </a:xfrm>
        </p:grpSpPr>
        <p:sp>
          <p:nvSpPr>
            <p:cNvPr id="181" name="">
              <a:hlinkClick r:id="rId5"/>
            </p:cNvPr>
            <p:cNvSpPr/>
            <p:nvPr/>
          </p:nvSpPr>
          <p:spPr>
            <a:xfrm>
              <a:off x="4024800" y="370692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わり算の筆算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82880" y="384156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82880" y="4624560"/>
            <a:ext cx="2944440" cy="642600"/>
            <a:chOff x="2882880" y="4624560"/>
            <a:chExt cx="2944440" cy="642600"/>
          </a:xfrm>
        </p:grpSpPr>
        <p:sp>
          <p:nvSpPr>
            <p:cNvPr id="184" name="">
              <a:hlinkClick r:id="rId6"/>
            </p:cNvPr>
            <p:cNvSpPr/>
            <p:nvPr/>
          </p:nvSpPr>
          <p:spPr>
            <a:xfrm>
              <a:off x="4000680" y="462456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わり進む筆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82880" y="475920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882880" y="5541840"/>
            <a:ext cx="2275560" cy="642600"/>
            <a:chOff x="2882880" y="5541840"/>
            <a:chExt cx="2275560" cy="642600"/>
          </a:xfrm>
        </p:grpSpPr>
        <p:sp>
          <p:nvSpPr>
            <p:cNvPr id="187" name="">
              <a:hlinkClick r:id="rId7"/>
            </p:cNvPr>
            <p:cNvSpPr/>
            <p:nvPr/>
          </p:nvSpPr>
          <p:spPr>
            <a:xfrm>
              <a:off x="3880440" y="554184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四捨五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82880" y="567648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>
            <a:hlinkClick r:id="rId8" action="ppaction://hlinksldjump"/>
          </p:cNvPr>
          <p:cNvSpPr/>
          <p:nvPr/>
        </p:nvSpPr>
        <p:spPr>
          <a:xfrm>
            <a:off x="8732880" y="549360"/>
            <a:ext cx="630360" cy="628560"/>
          </a:xfrm>
          <a:custGeom>
            <a:avLst/>
            <a:gdLst>
              <a:gd name="textAreaLeft" fmla="*/ 40680 w 630360"/>
              <a:gd name="textAreaRight" fmla="*/ 589680 w 630360"/>
              <a:gd name="textAreaTop" fmla="*/ 40680 h 628560"/>
              <a:gd name="textAreaBottom" fmla="*/ 587880 h 62856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4" y="14299"/>
                </a:lnTo>
                <a:lnTo>
                  <a:pt x="11754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79440" y="6129360"/>
            <a:ext cx="38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各教材ページからは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キーでこのページにもどれ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65240" y="5965560"/>
            <a:ext cx="366480" cy="533520"/>
            <a:chOff x="165240" y="5965560"/>
            <a:chExt cx="366480" cy="533520"/>
          </a:xfrm>
        </p:grpSpPr>
        <p:sp>
          <p:nvSpPr>
            <p:cNvPr id="192" name=""/>
            <p:cNvSpPr/>
            <p:nvPr/>
          </p:nvSpPr>
          <p:spPr>
            <a:xfrm>
              <a:off x="165240" y="6133320"/>
              <a:ext cx="366480" cy="36576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12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76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12400" y="5965200"/>
              <a:ext cx="268560" cy="462600"/>
            </a:xfrm>
            <a:prstGeom prst="blockArc">
              <a:avLst>
                <a:gd name="adj1" fmla="val 13604259"/>
                <a:gd name="adj2" fmla="val 18795741"/>
                <a:gd name="adj3" fmla="val 0"/>
              </a:avLst>
            </a:prstGeom>
            <a:solidFill>
              <a:srgbClr val="bbe0e3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39880" y="4586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三角形・四角形の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22520" y="1628640"/>
            <a:ext cx="3875760" cy="642600"/>
            <a:chOff x="2522520" y="1628640"/>
            <a:chExt cx="3875760" cy="642600"/>
          </a:xfrm>
        </p:grpSpPr>
        <p:sp>
          <p:nvSpPr>
            <p:cNvPr id="198" name="">
              <a:hlinkClick r:id="rId2"/>
            </p:cNvPr>
            <p:cNvSpPr/>
            <p:nvPr/>
          </p:nvSpPr>
          <p:spPr>
            <a:xfrm>
              <a:off x="3748680" y="1628640"/>
              <a:ext cx="26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三角形の角（説明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22520" y="176328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522520" y="2558880"/>
            <a:ext cx="4113000" cy="642600"/>
            <a:chOff x="2522520" y="2558880"/>
            <a:chExt cx="4113000" cy="642600"/>
          </a:xfrm>
        </p:grpSpPr>
        <p:sp>
          <p:nvSpPr>
            <p:cNvPr id="201" name="">
              <a:hlinkClick r:id="rId3"/>
            </p:cNvPr>
            <p:cNvSpPr/>
            <p:nvPr/>
          </p:nvSpPr>
          <p:spPr>
            <a:xfrm>
              <a:off x="3711600" y="255888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三角形の角（テスト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22520" y="269352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522520" y="3517920"/>
            <a:ext cx="3875760" cy="642600"/>
            <a:chOff x="2522520" y="3517920"/>
            <a:chExt cx="3875760" cy="642600"/>
          </a:xfrm>
        </p:grpSpPr>
        <p:sp>
          <p:nvSpPr>
            <p:cNvPr id="204" name="">
              <a:hlinkClick r:id="rId4"/>
            </p:cNvPr>
            <p:cNvSpPr/>
            <p:nvPr/>
          </p:nvSpPr>
          <p:spPr>
            <a:xfrm>
              <a:off x="3748680" y="3517920"/>
              <a:ext cx="26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四角形の角（説明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22520" y="365256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522520" y="4503600"/>
            <a:ext cx="4113000" cy="642600"/>
            <a:chOff x="2522520" y="4503600"/>
            <a:chExt cx="4113000" cy="642600"/>
          </a:xfrm>
        </p:grpSpPr>
        <p:sp>
          <p:nvSpPr>
            <p:cNvPr id="207" name="">
              <a:hlinkClick r:id="rId5"/>
            </p:cNvPr>
            <p:cNvSpPr/>
            <p:nvPr/>
          </p:nvSpPr>
          <p:spPr>
            <a:xfrm>
              <a:off x="3711600" y="450360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四角形の角（テスト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22520" y="463824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8732880" y="549360"/>
            <a:ext cx="630360" cy="628560"/>
          </a:xfrm>
          <a:custGeom>
            <a:avLst/>
            <a:gdLst>
              <a:gd name="textAreaLeft" fmla="*/ 40680 w 630360"/>
              <a:gd name="textAreaRight" fmla="*/ 589680 w 630360"/>
              <a:gd name="textAreaTop" fmla="*/ 40680 h 628560"/>
              <a:gd name="textAreaBottom" fmla="*/ 587880 h 62856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4" y="14299"/>
                </a:lnTo>
                <a:lnTo>
                  <a:pt x="11754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79440" y="6129360"/>
            <a:ext cx="38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各教材ページからは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キーでこのページにもどれ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65240" y="5965560"/>
            <a:ext cx="366480" cy="533520"/>
            <a:chOff x="165240" y="5965560"/>
            <a:chExt cx="366480" cy="533520"/>
          </a:xfrm>
        </p:grpSpPr>
        <p:sp>
          <p:nvSpPr>
            <p:cNvPr id="212" name=""/>
            <p:cNvSpPr/>
            <p:nvPr/>
          </p:nvSpPr>
          <p:spPr>
            <a:xfrm>
              <a:off x="165240" y="6133320"/>
              <a:ext cx="366480" cy="36576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12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76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12400" y="5965200"/>
              <a:ext cx="268560" cy="462600"/>
            </a:xfrm>
            <a:prstGeom prst="blockArc">
              <a:avLst>
                <a:gd name="adj1" fmla="val 13604259"/>
                <a:gd name="adj2" fmla="val 18795741"/>
                <a:gd name="adj3" fmla="val 0"/>
              </a:avLst>
            </a:prstGeom>
            <a:solidFill>
              <a:srgbClr val="bbe0e3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53440" y="549360"/>
            <a:ext cx="211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小数</a:t>
            </a: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×</a:t>
            </a: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小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162160" y="1763640"/>
            <a:ext cx="3661560" cy="642600"/>
            <a:chOff x="2162160" y="1763640"/>
            <a:chExt cx="3661560" cy="642600"/>
          </a:xfrm>
        </p:grpSpPr>
        <p:sp>
          <p:nvSpPr>
            <p:cNvPr id="218" name="">
              <a:hlinkClick r:id="rId2"/>
            </p:cNvPr>
            <p:cNvSpPr/>
            <p:nvPr/>
          </p:nvSpPr>
          <p:spPr>
            <a:xfrm>
              <a:off x="3448440" y="1763640"/>
              <a:ext cx="237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小数をかける計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62160" y="189828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162160" y="3090960"/>
            <a:ext cx="2936520" cy="642600"/>
            <a:chOff x="2162160" y="3090960"/>
            <a:chExt cx="2936520" cy="642600"/>
          </a:xfrm>
        </p:grpSpPr>
        <p:sp>
          <p:nvSpPr>
            <p:cNvPr id="221" name="">
              <a:hlinkClick r:id="rId3"/>
            </p:cNvPr>
            <p:cNvSpPr/>
            <p:nvPr/>
          </p:nvSpPr>
          <p:spPr>
            <a:xfrm>
              <a:off x="3272040" y="309096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筆算のしか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62160" y="322560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162160" y="4419720"/>
            <a:ext cx="5135760" cy="642600"/>
            <a:chOff x="2162160" y="4419720"/>
            <a:chExt cx="5135760" cy="642600"/>
          </a:xfrm>
        </p:grpSpPr>
        <p:sp>
          <p:nvSpPr>
            <p:cNvPr id="224" name="">
              <a:hlinkClick r:id="rId4"/>
            </p:cNvPr>
            <p:cNvSpPr/>
            <p:nvPr/>
          </p:nvSpPr>
          <p:spPr>
            <a:xfrm>
              <a:off x="3825360" y="4419720"/>
              <a:ext cx="347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小数のかけ算と面積の公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62160" y="455436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8732880" y="549360"/>
            <a:ext cx="630360" cy="628560"/>
          </a:xfrm>
          <a:custGeom>
            <a:avLst/>
            <a:gdLst>
              <a:gd name="textAreaLeft" fmla="*/ 40680 w 630360"/>
              <a:gd name="textAreaRight" fmla="*/ 589680 w 630360"/>
              <a:gd name="textAreaTop" fmla="*/ 40680 h 628560"/>
              <a:gd name="textAreaBottom" fmla="*/ 587880 h 62856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4" y="14299"/>
                </a:lnTo>
                <a:lnTo>
                  <a:pt x="11754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79440" y="6129360"/>
            <a:ext cx="38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各教材ページからは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キーでこのページにもどれ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65240" y="5965560"/>
            <a:ext cx="366480" cy="533520"/>
            <a:chOff x="165240" y="5965560"/>
            <a:chExt cx="366480" cy="533520"/>
          </a:xfrm>
        </p:grpSpPr>
        <p:sp>
          <p:nvSpPr>
            <p:cNvPr id="229" name=""/>
            <p:cNvSpPr/>
            <p:nvPr/>
          </p:nvSpPr>
          <p:spPr>
            <a:xfrm>
              <a:off x="165240" y="6133320"/>
              <a:ext cx="366480" cy="36576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12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76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12400" y="5965200"/>
              <a:ext cx="268560" cy="462600"/>
            </a:xfrm>
            <a:prstGeom prst="blockArc">
              <a:avLst>
                <a:gd name="adj1" fmla="val 13604259"/>
                <a:gd name="adj2" fmla="val 18795741"/>
                <a:gd name="adj3" fmla="val 0"/>
              </a:avLst>
            </a:prstGeom>
            <a:solidFill>
              <a:srgbClr val="bbe0e3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728520" y="279360"/>
            <a:ext cx="209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小数</a:t>
            </a: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÷</a:t>
            </a: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小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522520" y="1179360"/>
            <a:ext cx="3319920" cy="642600"/>
            <a:chOff x="2522520" y="1179360"/>
            <a:chExt cx="3319920" cy="642600"/>
          </a:xfrm>
        </p:grpSpPr>
        <p:sp>
          <p:nvSpPr>
            <p:cNvPr id="235" name="">
              <a:hlinkClick r:id="rId2"/>
            </p:cNvPr>
            <p:cNvSpPr/>
            <p:nvPr/>
          </p:nvSpPr>
          <p:spPr>
            <a:xfrm>
              <a:off x="3741480" y="117936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小数でわる計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22520" y="131400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522520" y="2033640"/>
            <a:ext cx="2936520" cy="642600"/>
            <a:chOff x="2522520" y="2033640"/>
            <a:chExt cx="2936520" cy="642600"/>
          </a:xfrm>
        </p:grpSpPr>
        <p:sp>
          <p:nvSpPr>
            <p:cNvPr id="238" name="">
              <a:hlinkClick r:id="rId3"/>
            </p:cNvPr>
            <p:cNvSpPr/>
            <p:nvPr/>
          </p:nvSpPr>
          <p:spPr>
            <a:xfrm>
              <a:off x="3632400" y="203364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筆算のしか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22520" y="216828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522520" y="2889360"/>
            <a:ext cx="2944440" cy="642600"/>
            <a:chOff x="2522520" y="2889360"/>
            <a:chExt cx="2944440" cy="642600"/>
          </a:xfrm>
        </p:grpSpPr>
        <p:sp>
          <p:nvSpPr>
            <p:cNvPr id="241" name="">
              <a:hlinkClick r:id="rId4"/>
            </p:cNvPr>
            <p:cNvSpPr/>
            <p:nvPr/>
          </p:nvSpPr>
          <p:spPr>
            <a:xfrm>
              <a:off x="3640320" y="288936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わり進む筆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22520" y="302400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522520" y="3743280"/>
            <a:ext cx="4771800" cy="642600"/>
            <a:chOff x="2522520" y="3743280"/>
            <a:chExt cx="4771800" cy="642600"/>
          </a:xfrm>
        </p:grpSpPr>
        <p:sp>
          <p:nvSpPr>
            <p:cNvPr id="244" name="">
              <a:hlinkClick r:id="rId5"/>
            </p:cNvPr>
            <p:cNvSpPr/>
            <p:nvPr/>
          </p:nvSpPr>
          <p:spPr>
            <a:xfrm>
              <a:off x="4096080" y="3743280"/>
              <a:ext cx="319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商を四捨五入で表す計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22520" y="387792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522520" y="4599000"/>
            <a:ext cx="2164680" cy="642600"/>
            <a:chOff x="2522520" y="4599000"/>
            <a:chExt cx="2164680" cy="642600"/>
          </a:xfrm>
        </p:grpSpPr>
        <p:sp>
          <p:nvSpPr>
            <p:cNvPr id="247" name="">
              <a:hlinkClick r:id="rId6"/>
            </p:cNvPr>
            <p:cNvSpPr/>
            <p:nvPr/>
          </p:nvSpPr>
          <p:spPr>
            <a:xfrm>
              <a:off x="3409200" y="459900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商と余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22520" y="473364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522520" y="5454720"/>
            <a:ext cx="2438280" cy="642600"/>
            <a:chOff x="2522520" y="5454720"/>
            <a:chExt cx="2438280" cy="642600"/>
          </a:xfrm>
        </p:grpSpPr>
        <p:sp>
          <p:nvSpPr>
            <p:cNvPr id="250" name="">
              <a:hlinkClick r:id="rId7"/>
            </p:cNvPr>
            <p:cNvSpPr/>
            <p:nvPr/>
          </p:nvSpPr>
          <p:spPr>
            <a:xfrm>
              <a:off x="4322880" y="545472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Arial"/>
                </a:rPr>
                <a:t>積・商の大き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22520" y="5589360"/>
              <a:ext cx="461880" cy="439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 txBox="1"/>
          <p:nvPr/>
        </p:nvSpPr>
        <p:spPr>
          <a:xfrm rot="209400">
            <a:off x="7427520" y="6219360"/>
            <a:ext cx="16653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cc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ＤＦ特太ゴシック体"/>
              </a:rPr>
              <a:t>K.Kangawa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cc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ＤＦ特太ゴシック体"/>
              <a:ea typeface="ＤＦ特太ゴシック体"/>
            </a:endParaRPr>
          </a:p>
        </p:txBody>
      </p:sp>
      <p:sp>
        <p:nvSpPr>
          <p:cNvPr id="253" name=""/>
          <p:cNvSpPr/>
          <p:nvPr/>
        </p:nvSpPr>
        <p:spPr>
          <a:xfrm>
            <a:off x="8732880" y="549360"/>
            <a:ext cx="630360" cy="628560"/>
          </a:xfrm>
          <a:custGeom>
            <a:avLst/>
            <a:gdLst>
              <a:gd name="textAreaLeft" fmla="*/ 40680 w 630360"/>
              <a:gd name="textAreaRight" fmla="*/ 589680 w 630360"/>
              <a:gd name="textAreaTop" fmla="*/ 40680 h 628560"/>
              <a:gd name="textAreaBottom" fmla="*/ 587880 h 62856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4" y="14299"/>
                </a:lnTo>
                <a:lnTo>
                  <a:pt x="11754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79440" y="6129360"/>
            <a:ext cx="38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各教材ページからは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キーでこのページにもどれ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65240" y="5965560"/>
            <a:ext cx="366480" cy="533520"/>
            <a:chOff x="165240" y="5965560"/>
            <a:chExt cx="366480" cy="533520"/>
          </a:xfrm>
        </p:grpSpPr>
        <p:sp>
          <p:nvSpPr>
            <p:cNvPr id="256" name=""/>
            <p:cNvSpPr/>
            <p:nvPr/>
          </p:nvSpPr>
          <p:spPr>
            <a:xfrm>
              <a:off x="165240" y="6133320"/>
              <a:ext cx="366480" cy="36576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12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7640" y="6254280"/>
              <a:ext cx="122040" cy="120960"/>
            </a:xfrm>
            <a:prstGeom prst="blockArc">
              <a:avLst>
                <a:gd name="adj1" fmla="val 11791379"/>
                <a:gd name="adj2" fmla="val 20608621"/>
                <a:gd name="adj3" fmla="val 0"/>
              </a:avLst>
            </a:prstGeom>
            <a:solidFill>
              <a:srgbClr val="bbe0e3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12400" y="5965200"/>
              <a:ext cx="268560" cy="462600"/>
            </a:xfrm>
            <a:prstGeom prst="blockArc">
              <a:avLst>
                <a:gd name="adj1" fmla="val 13604259"/>
                <a:gd name="adj2" fmla="val 18795741"/>
                <a:gd name="adj3" fmla="val 0"/>
              </a:avLst>
            </a:prstGeom>
            <a:solidFill>
              <a:srgbClr val="bbe0e3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05:54:11Z</dcterms:created>
  <dc:creator>kangawa-kaori-1</dc:creator>
  <dc:description/>
  <cp:keywords/>
  <dc:language>en-US</dc:language>
  <cp:lastModifiedBy>kangawa-kaori-1</cp:lastModifiedBy>
  <dcterms:modified xsi:type="dcterms:W3CDTF">2007-11-14T06:49:15Z</dcterms:modified>
  <cp:revision>18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78081041</vt:lpwstr>
  </property>
</Properties>
</file>