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DEE-09C2-4C92-8BBA-69D72A14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C399-FA75-41FB-9655-890C705C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143-AA25-4925-8A7A-1DCB9626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D8B-7663-4A4A-81C4-29830E98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B30A-AA9D-4B49-AD02-90581359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94D-C83D-4C97-9EBC-D73140FE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ABB-C920-45C0-87DC-5B47C3A4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9FF-4249-411E-9D82-30911BC9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97A-CF7E-4DC7-AF5D-DDCA74C1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8F5-C0FC-4BB5-9FC8-5FC397BA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0DF-6578-4B71-BFDF-C8F6E2E3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7BD-8E66-48F3-B8E1-1E38324B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CC2A-25B6-4D21-99BA-68509E1C0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1280" y="593640"/>
            <a:ext cx="144000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451640" y="2332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人文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15920" y="1224000"/>
            <a:ext cx="9907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01200" y="1268280"/>
            <a:ext cx="5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ｍおきにならんで，人文字をつくります。全部で何人ならぶ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15920" y="1943280"/>
            <a:ext cx="2122560" cy="1223640"/>
            <a:chOff x="1015920" y="1943280"/>
            <a:chExt cx="2122560" cy="1223640"/>
          </a:xfrm>
        </p:grpSpPr>
        <p:sp>
          <p:nvSpPr>
            <p:cNvPr id="46" name=""/>
            <p:cNvSpPr/>
            <p:nvPr/>
          </p:nvSpPr>
          <p:spPr>
            <a:xfrm>
              <a:off x="1681200" y="2550960"/>
              <a:ext cx="0" cy="3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1015920" y="1943280"/>
              <a:ext cx="331200" cy="331200"/>
              <a:chOff x="1015920" y="1943280"/>
              <a:chExt cx="331200" cy="331200"/>
            </a:xfrm>
          </p:grpSpPr>
          <p:sp>
            <p:nvSpPr>
              <p:cNvPr id="48" name="SH_02_20071101110306"/>
              <p:cNvSpPr/>
              <p:nvPr/>
            </p:nvSpPr>
            <p:spPr>
              <a:xfrm>
                <a:off x="1015920" y="1943280"/>
                <a:ext cx="331200" cy="3312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68840" y="1998720"/>
                <a:ext cx="224640" cy="222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" name=""/>
            <p:cNvSpPr/>
            <p:nvPr/>
          </p:nvSpPr>
          <p:spPr>
            <a:xfrm>
              <a:off x="1692360" y="270828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38480" y="256068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2507040" y="2472840"/>
              <a:ext cx="627840" cy="43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1684440" y="2484000"/>
              <a:ext cx="627840" cy="43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90960" y="279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２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1280" y="261936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614600" y="264312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38560" y="2633760"/>
            <a:ext cx="13464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71880" y="263376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43120" y="4890960"/>
            <a:ext cx="2872800" cy="371520"/>
            <a:chOff x="843120" y="4890960"/>
            <a:chExt cx="2872800" cy="371520"/>
          </a:xfrm>
        </p:grpSpPr>
        <p:sp>
          <p:nvSpPr>
            <p:cNvPr id="60" name=""/>
            <p:cNvSpPr/>
            <p:nvPr/>
          </p:nvSpPr>
          <p:spPr>
            <a:xfrm>
              <a:off x="843120" y="489096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式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9920" y="5262480"/>
              <a:ext cx="28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151640" y="484344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＋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＝　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5280" y="5911920"/>
            <a:ext cx="22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３　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707000" y="1943280"/>
            <a:ext cx="331200" cy="331200"/>
            <a:chOff x="4707000" y="1943280"/>
            <a:chExt cx="331200" cy="331200"/>
          </a:xfrm>
        </p:grpSpPr>
        <p:sp>
          <p:nvSpPr>
            <p:cNvPr id="65" name="SH_02_20071101110314"/>
            <p:cNvSpPr/>
            <p:nvPr/>
          </p:nvSpPr>
          <p:spPr>
            <a:xfrm>
              <a:off x="4707000" y="1943280"/>
              <a:ext cx="331200" cy="331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4760280" y="1998720"/>
              <a:ext cx="223920" cy="2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5292720" y="2209680"/>
            <a:ext cx="3600360" cy="1166760"/>
            <a:chOff x="5292720" y="2209680"/>
            <a:chExt cx="3600360" cy="1166760"/>
          </a:xfrm>
        </p:grpSpPr>
        <p:sp>
          <p:nvSpPr>
            <p:cNvPr id="68" name=""/>
            <p:cNvSpPr/>
            <p:nvPr/>
          </p:nvSpPr>
          <p:spPr>
            <a:xfrm>
              <a:off x="5292720" y="2573280"/>
              <a:ext cx="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92720" y="2708280"/>
              <a:ext cx="36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93080" y="252900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5295960" y="2217240"/>
              <a:ext cx="2596320" cy="98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283800" y="2209320"/>
              <a:ext cx="2596320" cy="98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9800" y="30081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５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121360" y="4869000"/>
            <a:ext cx="2872800" cy="371160"/>
            <a:chOff x="5121360" y="4869000"/>
            <a:chExt cx="2872800" cy="371160"/>
          </a:xfrm>
        </p:grpSpPr>
        <p:sp>
          <p:nvSpPr>
            <p:cNvPr id="75" name=""/>
            <p:cNvSpPr/>
            <p:nvPr/>
          </p:nvSpPr>
          <p:spPr>
            <a:xfrm>
              <a:off x="5121360" y="486900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式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68160" y="5240160"/>
              <a:ext cx="28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236280" y="5904000"/>
            <a:ext cx="26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　　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2000" y="2619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23000" y="26082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43720" y="26082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74160" y="26082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22880" y="263376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263376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4960" y="2643120"/>
            <a:ext cx="13464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7120" y="263196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107200" y="263196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17120" y="2643120"/>
            <a:ext cx="13464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01440" y="480996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＋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＝　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6800" y="590400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６　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451640" y="2332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人文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0920" y="819000"/>
            <a:ext cx="99072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55120" y="863640"/>
            <a:ext cx="5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ｍおきにならんで，人文字をつくります。全部で何人ならぶ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46320" y="1989000"/>
            <a:ext cx="3580560" cy="2369160"/>
            <a:chOff x="346320" y="1989000"/>
            <a:chExt cx="3580560" cy="2369160"/>
          </a:xfrm>
        </p:grpSpPr>
        <p:sp>
          <p:nvSpPr>
            <p:cNvPr id="94" name=""/>
            <p:cNvSpPr/>
            <p:nvPr/>
          </p:nvSpPr>
          <p:spPr>
            <a:xfrm>
              <a:off x="1017360" y="2000160"/>
              <a:ext cx="0" cy="216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63760" y="1989000"/>
              <a:ext cx="0" cy="216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17360" y="3441600"/>
              <a:ext cx="1123560" cy="71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2145600" y="3444480"/>
              <a:ext cx="112356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10920" y="2000160"/>
              <a:ext cx="811440" cy="117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94720" y="2988000"/>
              <a:ext cx="811440" cy="11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7400" y="1990800"/>
              <a:ext cx="811440" cy="117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851560" y="2979000"/>
              <a:ext cx="811440" cy="117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 rot="13590000">
              <a:off x="1638720" y="3304080"/>
              <a:ext cx="323280" cy="93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3467400">
              <a:off x="1158480" y="3462120"/>
              <a:ext cx="481680" cy="89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 rot="18132600">
              <a:off x="2637000" y="3465360"/>
              <a:ext cx="482400" cy="89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6392400">
              <a:off x="2197800" y="3160080"/>
              <a:ext cx="709920" cy="83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6320" y="2855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３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1840" y="2867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３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13000" y="384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２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7120" y="3833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２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835600" y="1673280"/>
            <a:ext cx="1941120" cy="1098720"/>
            <a:chOff x="5835600" y="1673280"/>
            <a:chExt cx="1941120" cy="1098720"/>
          </a:xfrm>
        </p:grpSpPr>
        <p:sp>
          <p:nvSpPr>
            <p:cNvPr id="111" name=""/>
            <p:cNvSpPr/>
            <p:nvPr/>
          </p:nvSpPr>
          <p:spPr>
            <a:xfrm>
              <a:off x="6211800" y="1677960"/>
              <a:ext cx="0" cy="1003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54720" y="1673280"/>
              <a:ext cx="0" cy="10033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211800" y="2347920"/>
              <a:ext cx="522360" cy="33336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6735240" y="2349360"/>
              <a:ext cx="522360" cy="333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6022800" y="1677960"/>
              <a:ext cx="37728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6014880" y="2137680"/>
              <a:ext cx="37728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71480" y="1673280"/>
              <a:ext cx="37656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063560" y="2133000"/>
              <a:ext cx="37656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 rot="13590000">
              <a:off x="6500160" y="2284200"/>
              <a:ext cx="14832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3467400">
              <a:off x="6277680" y="2355840"/>
              <a:ext cx="224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 rot="18132600">
              <a:off x="6963480" y="2357280"/>
              <a:ext cx="2210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6392400">
              <a:off x="6760440" y="2216880"/>
              <a:ext cx="329760" cy="38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35600" y="1989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３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21680" y="1989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３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20480" y="248436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２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6200" y="248436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２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032360" y="2798640"/>
            <a:ext cx="360360" cy="136800"/>
          </a:xfrm>
          <a:prstGeom prst="rightArrow">
            <a:avLst>
              <a:gd name="adj1" fmla="val 50000"/>
              <a:gd name="adj2" fmla="val 658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42000" y="2933640"/>
            <a:ext cx="179640" cy="270000"/>
          </a:xfrm>
          <a:prstGeom prst="downArrow">
            <a:avLst>
              <a:gd name="adj1" fmla="val 50000"/>
              <a:gd name="adj2" fmla="val 375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149800" y="3340800"/>
            <a:ext cx="1003320" cy="521640"/>
            <a:chOff x="5149800" y="3340800"/>
            <a:chExt cx="1003320" cy="521640"/>
          </a:xfrm>
        </p:grpSpPr>
        <p:sp>
          <p:nvSpPr>
            <p:cNvPr id="130" name=""/>
            <p:cNvSpPr/>
            <p:nvPr/>
          </p:nvSpPr>
          <p:spPr>
            <a:xfrm>
              <a:off x="5149800" y="3530520"/>
              <a:ext cx="10033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rot="16200000">
              <a:off x="5234400" y="3256200"/>
              <a:ext cx="3765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 rot="16200000">
              <a:off x="5692680" y="3264840"/>
              <a:ext cx="37620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16560" y="34941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３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140880" y="3418920"/>
            <a:ext cx="628920" cy="478800"/>
            <a:chOff x="6140880" y="3418920"/>
            <a:chExt cx="628920" cy="478800"/>
          </a:xfrm>
        </p:grpSpPr>
        <p:sp>
          <p:nvSpPr>
            <p:cNvPr id="135" name=""/>
            <p:cNvSpPr/>
            <p:nvPr/>
          </p:nvSpPr>
          <p:spPr>
            <a:xfrm>
              <a:off x="6140880" y="3535200"/>
              <a:ext cx="61920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 rot="15544200">
              <a:off x="6467760" y="3360960"/>
              <a:ext cx="14868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 rot="5422200">
              <a:off x="6240960" y="3322800"/>
              <a:ext cx="22464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53200" y="35604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２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26960" y="3271680"/>
            <a:ext cx="659160" cy="623160"/>
            <a:chOff x="6726960" y="3271680"/>
            <a:chExt cx="659160" cy="623160"/>
          </a:xfrm>
        </p:grpSpPr>
        <p:grpSp>
          <p:nvGrpSpPr>
            <p:cNvPr id="140" name=""/>
            <p:cNvGrpSpPr/>
            <p:nvPr/>
          </p:nvGrpSpPr>
          <p:grpSpPr>
            <a:xfrm>
              <a:off x="6726960" y="3271680"/>
              <a:ext cx="659160" cy="424800"/>
              <a:chOff x="6726960" y="3271680"/>
              <a:chExt cx="659160" cy="42480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6766920" y="3531960"/>
                <a:ext cx="619200" cy="4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 rot="16155600">
                <a:off x="7059240" y="3324600"/>
                <a:ext cx="221040" cy="418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 rot="4415400">
                <a:off x="6793920" y="3290760"/>
                <a:ext cx="329040" cy="38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888240" y="35575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２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381440" y="3337560"/>
            <a:ext cx="1003320" cy="561240"/>
            <a:chOff x="7381440" y="3337560"/>
            <a:chExt cx="1003320" cy="561240"/>
          </a:xfrm>
        </p:grpSpPr>
        <p:sp>
          <p:nvSpPr>
            <p:cNvPr id="146" name=""/>
            <p:cNvSpPr/>
            <p:nvPr/>
          </p:nvSpPr>
          <p:spPr>
            <a:xfrm>
              <a:off x="7680600" y="3530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３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381440" y="3337560"/>
              <a:ext cx="1003320" cy="384480"/>
              <a:chOff x="7381440" y="3337560"/>
              <a:chExt cx="1003320" cy="384480"/>
            </a:xfrm>
          </p:grpSpPr>
          <p:sp>
            <p:nvSpPr>
              <p:cNvPr id="148" name=""/>
              <p:cNvSpPr/>
              <p:nvPr/>
            </p:nvSpPr>
            <p:spPr>
              <a:xfrm flipH="1">
                <a:off x="7381440" y="3528720"/>
                <a:ext cx="10033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5400000">
                <a:off x="7923600" y="3260880"/>
                <a:ext cx="376560" cy="5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 rot="5400000">
                <a:off x="7464960" y="3254400"/>
                <a:ext cx="376560" cy="54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2717640" y="4927680"/>
            <a:ext cx="4554000" cy="391680"/>
            <a:chOff x="2717640" y="4927680"/>
            <a:chExt cx="4554000" cy="391680"/>
          </a:xfrm>
        </p:grpSpPr>
        <p:sp>
          <p:nvSpPr>
            <p:cNvPr id="152" name=""/>
            <p:cNvSpPr/>
            <p:nvPr/>
          </p:nvSpPr>
          <p:spPr>
            <a:xfrm>
              <a:off x="2717640" y="492768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式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97920" y="5319360"/>
              <a:ext cx="447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875920" y="6039000"/>
            <a:ext cx="26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　　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75560" y="4869000"/>
            <a:ext cx="38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＋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＋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＋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71840" y="6053040"/>
            <a:ext cx="93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451640" y="2332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人文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0920" y="819000"/>
            <a:ext cx="99072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55120" y="863640"/>
            <a:ext cx="5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ｍおきにならんで，人文字をつくります。全部で何人ならぶ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1000" y="5634000"/>
            <a:ext cx="4554000" cy="391680"/>
            <a:chOff x="441000" y="5634000"/>
            <a:chExt cx="4554000" cy="391680"/>
          </a:xfrm>
        </p:grpSpPr>
        <p:sp>
          <p:nvSpPr>
            <p:cNvPr id="161" name=""/>
            <p:cNvSpPr/>
            <p:nvPr/>
          </p:nvSpPr>
          <p:spPr>
            <a:xfrm>
              <a:off x="441000" y="563400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式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280" y="6025680"/>
              <a:ext cx="447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696640" y="5994360"/>
            <a:ext cx="26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　　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800" y="5589720"/>
            <a:ext cx="30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＋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92200" y="6008760"/>
            <a:ext cx="93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422800" y="1463760"/>
            <a:ext cx="3493440" cy="3876480"/>
            <a:chOff x="2422800" y="1463760"/>
            <a:chExt cx="3493440" cy="3876480"/>
          </a:xfrm>
        </p:grpSpPr>
        <p:sp>
          <p:nvSpPr>
            <p:cNvPr id="167" name=""/>
            <p:cNvSpPr/>
            <p:nvPr/>
          </p:nvSpPr>
          <p:spPr>
            <a:xfrm flipH="1">
              <a:off x="2708280" y="1973160"/>
              <a:ext cx="812160" cy="117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2714760" y="3672720"/>
              <a:ext cx="812160" cy="117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9880" y="1965240"/>
              <a:ext cx="812160" cy="117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883400" y="3684960"/>
              <a:ext cx="812160" cy="11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22800" y="3182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４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61200" y="3195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４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8480" y="1974960"/>
              <a:ext cx="2160720" cy="2879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480600">
              <a:off x="3867840" y="1643760"/>
              <a:ext cx="1441080" cy="45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45" y="9"/>
                  </a:moveTo>
                  <a:arcTo wR="10800" hR="10800" stAng="-5258349" swAng="52583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45" y="9"/>
                  </a:moveTo>
                  <a:arcTo wR="10800" hR="10800" stAng="-5258349" swAng="525834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21119400">
              <a:off x="3137400" y="1659600"/>
              <a:ext cx="1441080" cy="45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45" y="9"/>
                  </a:moveTo>
                  <a:arcTo wR="10800" hR="10800" stAng="-5258349" swAng="52583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45" y="9"/>
                  </a:moveTo>
                  <a:arcTo wR="10800" hR="10800" stAng="-5258349" swAng="525834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21119400">
              <a:off x="3867840" y="4716720"/>
              <a:ext cx="1441080" cy="4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45" y="9"/>
                  </a:moveTo>
                  <a:arcTo wR="10800" hR="10800" stAng="-5258349" swAng="52583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45" y="9"/>
                  </a:moveTo>
                  <a:arcTo wR="10800" hR="10800" stAng="-5258349" swAng="525834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 rot="480600">
              <a:off x="3137760" y="4732560"/>
              <a:ext cx="1441080" cy="4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45" y="9"/>
                  </a:moveTo>
                  <a:arcTo wR="10800" hR="10800" stAng="-5258349" swAng="52583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45" y="9"/>
                  </a:moveTo>
                  <a:arcTo wR="10800" hR="10800" stAng="-5258349" swAng="525834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65760" y="1463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３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86280" y="4971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３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214960" y="189864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4240" y="189864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73520" y="191916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63960" y="191916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63960" y="2629080"/>
            <a:ext cx="135000" cy="13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75120" y="3349800"/>
            <a:ext cx="134640" cy="13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75120" y="4092480"/>
            <a:ext cx="13464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63960" y="477036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62360" y="479268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83080" y="478152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35480" y="479268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14960" y="408132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14960" y="3349800"/>
            <a:ext cx="135000" cy="13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26120" y="265104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76960" y="1897200"/>
            <a:ext cx="135000" cy="13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29360" y="14144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5160" y="5364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4160" y="5578560"/>
            <a:ext cx="34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　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3041640" y="638280"/>
            <a:ext cx="1368000" cy="396720"/>
            <a:chOff x="3041640" y="638280"/>
            <a:chExt cx="1368000" cy="396720"/>
          </a:xfrm>
        </p:grpSpPr>
        <p:sp>
          <p:nvSpPr>
            <p:cNvPr id="199" name=""/>
            <p:cNvSpPr/>
            <p:nvPr/>
          </p:nvSpPr>
          <p:spPr>
            <a:xfrm>
              <a:off x="3041640" y="63828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79800" y="63828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451640" y="2332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人文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6640" y="1089000"/>
            <a:ext cx="99072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10480" y="1133640"/>
            <a:ext cx="5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ｍおきにならんで，人文字をつくります。全部で何人ならぶ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01640" y="1898640"/>
            <a:ext cx="331200" cy="331200"/>
            <a:chOff x="701640" y="1898640"/>
            <a:chExt cx="331200" cy="331200"/>
          </a:xfrm>
        </p:grpSpPr>
        <p:sp>
          <p:nvSpPr>
            <p:cNvPr id="205" name="SH_02_20071101110306"/>
            <p:cNvSpPr/>
            <p:nvPr/>
          </p:nvSpPr>
          <p:spPr>
            <a:xfrm>
              <a:off x="701640" y="1898640"/>
              <a:ext cx="331200" cy="331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54560" y="1954080"/>
              <a:ext cx="224640" cy="2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3672000" y="1898640"/>
            <a:ext cx="331200" cy="331200"/>
            <a:chOff x="3672000" y="1898640"/>
            <a:chExt cx="331200" cy="331200"/>
          </a:xfrm>
        </p:grpSpPr>
        <p:sp>
          <p:nvSpPr>
            <p:cNvPr id="208" name="SH_02_20071101110314"/>
            <p:cNvSpPr/>
            <p:nvPr/>
          </p:nvSpPr>
          <p:spPr>
            <a:xfrm>
              <a:off x="3672000" y="1898640"/>
              <a:ext cx="331200" cy="331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3725280" y="1954080"/>
              <a:ext cx="223920" cy="2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"/>
          <p:cNvGrpSpPr/>
          <p:nvPr/>
        </p:nvGrpSpPr>
        <p:grpSpPr>
          <a:xfrm>
            <a:off x="6732720" y="1854360"/>
            <a:ext cx="331200" cy="331200"/>
            <a:chOff x="6732720" y="1854360"/>
            <a:chExt cx="331200" cy="331200"/>
          </a:xfrm>
        </p:grpSpPr>
        <p:sp>
          <p:nvSpPr>
            <p:cNvPr id="211" name="SH_02_20071101134431"/>
            <p:cNvSpPr/>
            <p:nvPr/>
          </p:nvSpPr>
          <p:spPr>
            <a:xfrm>
              <a:off x="6732720" y="1854360"/>
              <a:ext cx="331200" cy="331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3"/>
            <a:stretch/>
          </p:blipFill>
          <p:spPr>
            <a:xfrm>
              <a:off x="6785640" y="1909800"/>
              <a:ext cx="22464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"/>
          <p:cNvSpPr/>
          <p:nvPr/>
        </p:nvSpPr>
        <p:spPr>
          <a:xfrm>
            <a:off x="1646280" y="2708280"/>
            <a:ext cx="81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0920" y="2708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85920" y="3429000"/>
            <a:ext cx="153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95960" y="1989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95960" y="198900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26989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450040" y="1989000"/>
            <a:ext cx="9360" cy="142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75080" y="34099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047000" y="1989000"/>
            <a:ext cx="72072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767720" y="1989000"/>
            <a:ext cx="72072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07360" y="270828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640880" y="2488320"/>
            <a:ext cx="812520" cy="44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46280" y="2493000"/>
            <a:ext cx="812520" cy="44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851120" y="2727360"/>
            <a:ext cx="36072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1851120" y="2875680"/>
            <a:ext cx="36072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294560" y="3150720"/>
            <a:ext cx="1091880" cy="55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504800" y="3200040"/>
            <a:ext cx="1307880" cy="48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4374360" y="3209040"/>
            <a:ext cx="1091880" cy="43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332600" y="3165120"/>
            <a:ext cx="1110600" cy="48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385520" y="1767600"/>
            <a:ext cx="1091880" cy="43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040" y="1747800"/>
            <a:ext cx="111132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385520" y="2456640"/>
            <a:ext cx="1091880" cy="43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353120" y="2410920"/>
            <a:ext cx="1110600" cy="48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86600" y="1984320"/>
            <a:ext cx="36144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1939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19391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291280" y="2842200"/>
            <a:ext cx="36144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187880" y="1984320"/>
            <a:ext cx="36144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4203720" y="2143800"/>
            <a:ext cx="36144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 rot="7500600">
            <a:off x="6660720" y="2295000"/>
            <a:ext cx="1390320" cy="52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 rot="6402000">
            <a:off x="6572880" y="2582640"/>
            <a:ext cx="1301400" cy="43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 rot="14099400">
            <a:off x="7434720" y="2313000"/>
            <a:ext cx="1389960" cy="52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 rot="15198000">
            <a:off x="7651800" y="2588760"/>
            <a:ext cx="1300680" cy="4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7409880" y="2464560"/>
            <a:ext cx="811800" cy="44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327800" y="2458080"/>
            <a:ext cx="812520" cy="44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30600" y="3519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63720" y="2185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76360" y="2832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5960" y="2484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07000" y="2776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５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18160" y="1486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５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56320" y="2130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75320" y="3540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５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24960" y="233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７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80360" y="233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７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69360" y="2841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7720" y="4811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7440" y="57690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82720" y="4824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02800" y="5781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45080" y="4803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65160" y="5761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041640" y="458640"/>
            <a:ext cx="1368000" cy="396720"/>
            <a:chOff x="3041640" y="458640"/>
            <a:chExt cx="1368000" cy="396720"/>
          </a:xfrm>
        </p:grpSpPr>
        <p:sp>
          <p:nvSpPr>
            <p:cNvPr id="264" name=""/>
            <p:cNvSpPr/>
            <p:nvPr/>
          </p:nvSpPr>
          <p:spPr>
            <a:xfrm>
              <a:off x="3041640" y="458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79800" y="458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7451640" y="2332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人文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6640" y="998640"/>
            <a:ext cx="99072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10480" y="1042920"/>
            <a:ext cx="5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ｍおきにならんで，人文字をつくります。全部で何人ならぶ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04800" y="1771560"/>
            <a:ext cx="331200" cy="331200"/>
            <a:chOff x="604800" y="1771560"/>
            <a:chExt cx="331200" cy="331200"/>
          </a:xfrm>
        </p:grpSpPr>
        <p:sp>
          <p:nvSpPr>
            <p:cNvPr id="270" name="SH_02_20071101110306"/>
            <p:cNvSpPr/>
            <p:nvPr/>
          </p:nvSpPr>
          <p:spPr>
            <a:xfrm>
              <a:off x="604800" y="1771560"/>
              <a:ext cx="331200" cy="331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1"/>
            <a:stretch/>
          </p:blipFill>
          <p:spPr>
            <a:xfrm>
              <a:off x="657720" y="1827000"/>
              <a:ext cx="224640" cy="2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"/>
          <p:cNvGrpSpPr/>
          <p:nvPr/>
        </p:nvGrpSpPr>
        <p:grpSpPr>
          <a:xfrm>
            <a:off x="3575160" y="1771560"/>
            <a:ext cx="331200" cy="331200"/>
            <a:chOff x="3575160" y="1771560"/>
            <a:chExt cx="331200" cy="331200"/>
          </a:xfrm>
        </p:grpSpPr>
        <p:sp>
          <p:nvSpPr>
            <p:cNvPr id="273" name="SH_02_20071101110314"/>
            <p:cNvSpPr/>
            <p:nvPr/>
          </p:nvSpPr>
          <p:spPr>
            <a:xfrm>
              <a:off x="3575160" y="1771560"/>
              <a:ext cx="331200" cy="331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3628440" y="1827000"/>
              <a:ext cx="223920" cy="2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6635880" y="1727280"/>
            <a:ext cx="331200" cy="331200"/>
            <a:chOff x="6635880" y="1727280"/>
            <a:chExt cx="331200" cy="331200"/>
          </a:xfrm>
        </p:grpSpPr>
        <p:sp>
          <p:nvSpPr>
            <p:cNvPr id="276" name="SH_02_20071101134431"/>
            <p:cNvSpPr/>
            <p:nvPr/>
          </p:nvSpPr>
          <p:spPr>
            <a:xfrm>
              <a:off x="6635880" y="1727280"/>
              <a:ext cx="331200" cy="331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6688800" y="1782720"/>
              <a:ext cx="22464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/>
          <p:cNvSpPr/>
          <p:nvPr/>
        </p:nvSpPr>
        <p:spPr>
          <a:xfrm>
            <a:off x="1549440" y="2581200"/>
            <a:ext cx="81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4080" y="2581200"/>
            <a:ext cx="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9080" y="3301920"/>
            <a:ext cx="153036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99120" y="1862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99120" y="1862280"/>
            <a:ext cx="0" cy="718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99120" y="2571840"/>
            <a:ext cx="108108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353200" y="1862280"/>
            <a:ext cx="9360" cy="14284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78240" y="3282840"/>
            <a:ext cx="1081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950160" y="1862280"/>
            <a:ext cx="72072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70880" y="1862280"/>
            <a:ext cx="720720" cy="1439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10520" y="2581200"/>
            <a:ext cx="720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544040" y="2361240"/>
            <a:ext cx="812520" cy="44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49440" y="2365920"/>
            <a:ext cx="812520" cy="44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754280" y="2600280"/>
            <a:ext cx="36072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1754280" y="2748600"/>
            <a:ext cx="36072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197720" y="3024000"/>
            <a:ext cx="1091880" cy="55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407960" y="3072960"/>
            <a:ext cx="1307880" cy="48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4277520" y="3081600"/>
            <a:ext cx="1091880" cy="440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235760" y="3038040"/>
            <a:ext cx="1110600" cy="48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288680" y="1640520"/>
            <a:ext cx="1091880" cy="43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46200" y="1620720"/>
            <a:ext cx="111132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4288680" y="2329560"/>
            <a:ext cx="1091880" cy="43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256280" y="2283840"/>
            <a:ext cx="111060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9760" y="1857240"/>
            <a:ext cx="36144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1939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19391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194440" y="2716920"/>
            <a:ext cx="361440" cy="5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091040" y="1859040"/>
            <a:ext cx="361440" cy="5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4106880" y="2016720"/>
            <a:ext cx="36144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 rot="7500600">
            <a:off x="6563880" y="2167920"/>
            <a:ext cx="1390320" cy="52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 rot="6402000">
            <a:off x="6476040" y="2455560"/>
            <a:ext cx="1301400" cy="43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 rot="14099400">
            <a:off x="7337880" y="2185920"/>
            <a:ext cx="1389960" cy="52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 rot="15198000">
            <a:off x="7554600" y="2462400"/>
            <a:ext cx="1301400" cy="43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7313040" y="2337480"/>
            <a:ext cx="811800" cy="44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230960" y="2331000"/>
            <a:ext cx="812520" cy="44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33760" y="3392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66880" y="2058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379520" y="2705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469120" y="2357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10160" y="2649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５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21320" y="1359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５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59480" y="2003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8480" y="3413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５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28120" y="2208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７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83520" y="2208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７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72520" y="2714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4160" y="5994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20560" y="628344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１３人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93800" y="5994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26360" y="63086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２４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464160" y="5950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436160" y="627552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１７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955400" y="36828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3789360"/>
            <a:ext cx="8640720" cy="0"/>
          </a:xfrm>
          <a:prstGeom prst="line">
            <a:avLst/>
          </a:prstGeom>
          <a:ln w="255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4311720"/>
            <a:ext cx="8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50880" y="5021280"/>
            <a:ext cx="153036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518480" y="4091400"/>
            <a:ext cx="81252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23880" y="4096440"/>
            <a:ext cx="812520" cy="44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1534320" y="4755960"/>
            <a:ext cx="1091880" cy="55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770480" y="4792320"/>
            <a:ext cx="1307160" cy="48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95560" y="511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41680" y="3789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530360" y="4311720"/>
            <a:ext cx="144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344600" y="4295880"/>
            <a:ext cx="361440" cy="5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1330200" y="4479120"/>
            <a:ext cx="36144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76320" y="4419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13160" y="41115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13160" y="4111560"/>
            <a:ext cx="0" cy="719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293720" y="4821120"/>
            <a:ext cx="19080" cy="9320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366880" y="4111560"/>
            <a:ext cx="9720" cy="14288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294080" y="5532120"/>
            <a:ext cx="1079640" cy="2206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4291920" y="5675760"/>
            <a:ext cx="1104120" cy="12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484880" y="5304960"/>
            <a:ext cx="875880" cy="45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303080" y="3994560"/>
            <a:ext cx="1091880" cy="23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60600" y="3994200"/>
            <a:ext cx="1111320" cy="24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04520" y="4106880"/>
            <a:ext cx="36072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1939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19391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208840" y="4964760"/>
            <a:ext cx="36144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105440" y="4106880"/>
            <a:ext cx="36072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4121280" y="4266360"/>
            <a:ext cx="36072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98720" y="507852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５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57680" y="3727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５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95840" y="4230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96120" y="4595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116240" y="4815000"/>
            <a:ext cx="361440" cy="5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4113360" y="5212440"/>
            <a:ext cx="36072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039080" y="3894120"/>
            <a:ext cx="72072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759800" y="3894120"/>
            <a:ext cx="7920" cy="15606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54920" y="5334120"/>
            <a:ext cx="712800" cy="120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 rot="7500600">
            <a:off x="6652080" y="4199400"/>
            <a:ext cx="1389960" cy="52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 rot="6402000">
            <a:off x="6564960" y="4487760"/>
            <a:ext cx="1301400" cy="43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 rot="16215600">
            <a:off x="7032960" y="4314600"/>
            <a:ext cx="1390320" cy="52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 rot="16200000">
            <a:off x="7087320" y="4606200"/>
            <a:ext cx="1301040" cy="43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7057440" y="5090040"/>
            <a:ext cx="812520" cy="44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956280" y="5363640"/>
            <a:ext cx="812520" cy="18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03" y="294"/>
                </a:moveTo>
                <a:arcTo wR="10800" hR="10800" stAng="-4596013" swAng="4596013"/>
                <a:lnTo>
                  <a:pt x="10800" y="10800"/>
                </a:lnTo>
                <a:close/>
              </a:path>
              <a:path fill="none" w="21600" h="21600">
                <a:moveTo>
                  <a:pt x="13303" y="294"/>
                </a:moveTo>
                <a:arcTo wR="10800" hR="10800" stAng="-4596013" swAng="459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6680" y="4240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７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07400" y="4510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７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186680" y="5454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38600" y="55846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５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93760" y="595008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３＋３＋６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＋１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＝１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049280" y="5959440"/>
            <a:ext cx="182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５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３＋３＋６＝２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70960" y="5959440"/>
            <a:ext cx="15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７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２＋３＝１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1:58:16Z</dcterms:created>
  <dc:creator>kangawa-kaori-1</dc:creator>
  <dc:description/>
  <dc:language>en-US</dc:language>
  <cp:lastModifiedBy>kangawa-kaori-1</cp:lastModifiedBy>
  <dcterms:modified xsi:type="dcterms:W3CDTF">2007-11-14T06:16:02Z</dcterms:modified>
  <cp:revision>15</cp:revision>
  <dc:subject/>
  <dc:title>スライド 1</dc:title>
</cp:coreProperties>
</file>