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AC5-9394-4DDE-BA50-23922CD2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9BF-298C-49CF-A881-4201FF83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EF6-5AD0-46FF-B15F-D4F15D2A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E09-AB0D-4D45-BADF-930BCD63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4BF-1AA1-45D3-B0A4-2864BC75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060-26D4-4236-983F-F92E003E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3C1-88E5-4A6A-BD77-853AC744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39B-E2E9-4F9D-B1F6-176D8187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EDB-EF4D-4890-BEEA-49541C48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212-A69A-4CA8-827A-D697A7C9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D0A-8FFA-4A7B-B7EF-C1644A1D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FA3-B08E-4E46-8D98-9DBF7F6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4996-43BD-4203-B74F-CA6F6B18B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2440" y="1035000"/>
            <a:ext cx="3445200" cy="385920"/>
            <a:chOff x="622440" y="1035000"/>
            <a:chExt cx="3445200" cy="385920"/>
          </a:xfrm>
        </p:grpSpPr>
        <p:sp>
          <p:nvSpPr>
            <p:cNvPr id="42" name=""/>
            <p:cNvSpPr/>
            <p:nvPr/>
          </p:nvSpPr>
          <p:spPr>
            <a:xfrm>
              <a:off x="622440" y="103500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89680" y="1052640"/>
              <a:ext cx="25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2 × 6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の計算の仕方を考えよ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-647280" y="1773360"/>
            <a:ext cx="9442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・・・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が　（　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が　（　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・・・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が　（　　　　　　）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＝　（　　　　　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8520" y="1773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61080" y="2637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252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785280" y="3284640"/>
            <a:ext cx="2320560" cy="1439280"/>
            <a:chOff x="6785280" y="3284640"/>
            <a:chExt cx="2320560" cy="1439280"/>
          </a:xfrm>
        </p:grpSpPr>
        <p:grpSp>
          <p:nvGrpSpPr>
            <p:cNvPr id="49" name=""/>
            <p:cNvGrpSpPr/>
            <p:nvPr/>
          </p:nvGrpSpPr>
          <p:grpSpPr>
            <a:xfrm>
              <a:off x="7347240" y="4059360"/>
              <a:ext cx="968040" cy="664560"/>
              <a:chOff x="7347240" y="4059360"/>
              <a:chExt cx="968040" cy="664560"/>
            </a:xfrm>
          </p:grpSpPr>
          <p:graphicFrame>
            <p:nvGraphicFramePr>
              <p:cNvPr id="50" name=""/>
              <p:cNvGraphicFramePr/>
              <p:nvPr/>
            </p:nvGraphicFramePr>
            <p:xfrm>
              <a:off x="8177040" y="4279680"/>
              <a:ext cx="138240" cy="132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177040" y="4279680"/>
                        <a:ext cx="138240" cy="1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52" name=""/>
              <p:cNvGrpSpPr/>
              <p:nvPr/>
            </p:nvGrpSpPr>
            <p:grpSpPr>
              <a:xfrm>
                <a:off x="7518240" y="4076640"/>
                <a:ext cx="712440" cy="647280"/>
                <a:chOff x="7518240" y="4076640"/>
                <a:chExt cx="712440" cy="6472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518240" y="4076640"/>
                  <a:ext cx="712440" cy="64728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18240" y="4076640"/>
                  <a:ext cx="712440" cy="64728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 flipV="1">
                <a:off x="8071200" y="4366440"/>
                <a:ext cx="13824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7903440" y="4368960"/>
                <a:ext cx="110520" cy="54000"/>
                <a:chOff x="7903440" y="4368960"/>
                <a:chExt cx="110520" cy="540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903440" y="4368960"/>
                  <a:ext cx="110520" cy="54000"/>
                </a:xfrm>
                <a:custGeom>
                  <a:avLst/>
                  <a:gdLst/>
                  <a:ahLst/>
                  <a:rect l="l" t="t" r="r" b="b"/>
                  <a:pathLst>
                    <a:path w="908" h="425">
                      <a:moveTo>
                        <a:pt x="0" y="425"/>
                      </a:moveTo>
                      <a:cubicBezTo>
                        <a:pt x="6" y="188"/>
                        <a:pt x="208" y="0"/>
                        <a:pt x="454" y="0"/>
                      </a:cubicBezTo>
                      <a:cubicBezTo>
                        <a:pt x="700" y="0"/>
                        <a:pt x="901" y="188"/>
                        <a:pt x="908" y="425"/>
                      </a:cubicBezTo>
                      <a:cubicBezTo>
                        <a:pt x="901" y="188"/>
                        <a:pt x="700" y="0"/>
                        <a:pt x="454" y="0"/>
                      </a:cubicBezTo>
                      <a:cubicBezTo>
                        <a:pt x="208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903440" y="4368960"/>
                  <a:ext cx="110520" cy="54000"/>
                </a:xfrm>
                <a:custGeom>
                  <a:avLst/>
                  <a:gdLst/>
                  <a:ahLst/>
                  <a:rect l="l" t="t" r="r" b="b"/>
                  <a:pathLst>
                    <a:path w="109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4" y="0"/>
                        <a:pt x="108" y="22"/>
                        <a:pt x="109" y="51"/>
                      </a:cubicBezTo>
                      <a:cubicBezTo>
                        <a:pt x="108" y="22"/>
                        <a:pt x="84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29920" y="4383720"/>
                <a:ext cx="111600" cy="54000"/>
                <a:chOff x="7729920" y="4383720"/>
                <a:chExt cx="111600" cy="540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7729920" y="4383720"/>
                  <a:ext cx="111600" cy="54000"/>
                </a:xfrm>
                <a:custGeom>
                  <a:avLst/>
                  <a:gdLst/>
                  <a:ahLst/>
                  <a:rect l="l" t="t" r="r" b="b"/>
                  <a:pathLst>
                    <a:path w="916" h="425">
                      <a:moveTo>
                        <a:pt x="0" y="425"/>
                      </a:moveTo>
                      <a:cubicBezTo>
                        <a:pt x="6" y="188"/>
                        <a:pt x="209" y="0"/>
                        <a:pt x="458" y="0"/>
                      </a:cubicBezTo>
                      <a:cubicBezTo>
                        <a:pt x="706" y="0"/>
                        <a:pt x="909" y="188"/>
                        <a:pt x="916" y="425"/>
                      </a:cubicBezTo>
                      <a:cubicBezTo>
                        <a:pt x="909" y="188"/>
                        <a:pt x="706" y="0"/>
                        <a:pt x="458" y="0"/>
                      </a:cubicBezTo>
                      <a:cubicBezTo>
                        <a:pt x="209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29920" y="4383720"/>
                  <a:ext cx="111600" cy="54000"/>
                </a:xfrm>
                <a:custGeom>
                  <a:avLst/>
                  <a:gdLst/>
                  <a:ahLst/>
                  <a:rect l="l" t="t" r="r" b="b"/>
                  <a:pathLst>
                    <a:path w="110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5" y="0"/>
                        <a:pt x="109" y="22"/>
                        <a:pt x="110" y="51"/>
                      </a:cubicBezTo>
                      <a:cubicBezTo>
                        <a:pt x="109" y="22"/>
                        <a:pt x="85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742160" y="4512600"/>
                <a:ext cx="276120" cy="144720"/>
                <a:chOff x="7742160" y="4512600"/>
                <a:chExt cx="276120" cy="144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742160" y="4512600"/>
                  <a:ext cx="276120" cy="1447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42160" y="4512600"/>
                  <a:ext cx="276120" cy="1447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 flipH="1" flipV="1">
                <a:off x="7535520" y="4328280"/>
                <a:ext cx="1310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 rot="20973000">
                <a:off x="7380360" y="4076640"/>
                <a:ext cx="22644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" name=""/>
            <p:cNvGrpSpPr/>
            <p:nvPr/>
          </p:nvGrpSpPr>
          <p:grpSpPr>
            <a:xfrm>
              <a:off x="6785280" y="3284640"/>
              <a:ext cx="2320560" cy="520200"/>
              <a:chOff x="6785280" y="3284640"/>
              <a:chExt cx="2320560" cy="520200"/>
            </a:xfrm>
          </p:grpSpPr>
          <p:sp>
            <p:nvSpPr>
              <p:cNvPr id="68" name=""/>
              <p:cNvSpPr/>
              <p:nvPr/>
            </p:nvSpPr>
            <p:spPr>
              <a:xfrm>
                <a:off x="6804000" y="3284640"/>
                <a:ext cx="2160720" cy="503280"/>
              </a:xfrm>
              <a:prstGeom prst="wedgeRoundRectCallout">
                <a:avLst>
                  <a:gd name="adj1" fmla="val 3490"/>
                  <a:gd name="adj2" fmla="val 83125"/>
                  <a:gd name="adj3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5280" y="3284640"/>
                <a:ext cx="2320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"/>
                  </a:rPr>
                  <a:t>が何こになるかを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Arial"/>
                  </a:rPr>
                  <a:t>　　　　　　　　　考えると・・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2351520" y="55897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数のかけ算の筆算の方法を考えよ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32800" y="3483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2160" y="43117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35280" y="333360"/>
            <a:ext cx="24462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かけ算の筆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560" y="3716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小数点を気にしない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たてにそろえてか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1520" y="476280"/>
            <a:ext cx="27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× 6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筆算のしか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5280" y="1835280"/>
            <a:ext cx="74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960" y="2349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2320" y="280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844640"/>
            <a:ext cx="0" cy="9367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24240" y="1795320"/>
            <a:ext cx="74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8560" y="23097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344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24280" y="2253960"/>
            <a:ext cx="0" cy="1443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80920" y="269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438800" y="2265120"/>
            <a:ext cx="287280" cy="1443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308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272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31200" y="371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整数と同じよ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計算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443640" y="1793880"/>
            <a:ext cx="1295280" cy="1522800"/>
            <a:chOff x="6443640" y="1793880"/>
            <a:chExt cx="1295280" cy="1522800"/>
          </a:xfrm>
        </p:grpSpPr>
        <p:sp>
          <p:nvSpPr>
            <p:cNvPr id="91" name=""/>
            <p:cNvSpPr/>
            <p:nvPr/>
          </p:nvSpPr>
          <p:spPr>
            <a:xfrm>
              <a:off x="6823080" y="2735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16600" y="179388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51280" y="23083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3640" y="27622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76960" y="27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67400" y="2735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053840" y="2685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89920" y="3860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小数点をう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491600" y="1179720"/>
            <a:ext cx="968040" cy="664560"/>
            <a:chOff x="7491600" y="1179720"/>
            <a:chExt cx="968040" cy="664560"/>
          </a:xfrm>
        </p:grpSpPr>
        <p:graphicFrame>
          <p:nvGraphicFramePr>
            <p:cNvPr id="100" name=""/>
            <p:cNvGraphicFramePr/>
            <p:nvPr/>
          </p:nvGraphicFramePr>
          <p:xfrm>
            <a:off x="8321400" y="1400040"/>
            <a:ext cx="138240" cy="13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21400" y="1400040"/>
                      <a:ext cx="138240" cy="13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2" name=""/>
            <p:cNvGrpSpPr/>
            <p:nvPr/>
          </p:nvGrpSpPr>
          <p:grpSpPr>
            <a:xfrm>
              <a:off x="7662600" y="1197000"/>
              <a:ext cx="712440" cy="647280"/>
              <a:chOff x="7662600" y="1197000"/>
              <a:chExt cx="712440" cy="647280"/>
            </a:xfrm>
          </p:grpSpPr>
          <p:sp>
            <p:nvSpPr>
              <p:cNvPr id="103" name=""/>
              <p:cNvSpPr/>
              <p:nvPr/>
            </p:nvSpPr>
            <p:spPr>
              <a:xfrm>
                <a:off x="7662600" y="119700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62600" y="119700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V="1">
              <a:off x="8215560" y="1486800"/>
              <a:ext cx="13824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047800" y="1489320"/>
              <a:ext cx="110520" cy="54000"/>
              <a:chOff x="8047800" y="1489320"/>
              <a:chExt cx="110520" cy="54000"/>
            </a:xfrm>
          </p:grpSpPr>
          <p:sp>
            <p:nvSpPr>
              <p:cNvPr id="107" name=""/>
              <p:cNvSpPr/>
              <p:nvPr/>
            </p:nvSpPr>
            <p:spPr>
              <a:xfrm>
                <a:off x="8047800" y="148932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47800" y="148932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874280" y="1504080"/>
              <a:ext cx="111600" cy="54000"/>
              <a:chOff x="7874280" y="1504080"/>
              <a:chExt cx="111600" cy="54000"/>
            </a:xfrm>
          </p:grpSpPr>
          <p:sp>
            <p:nvSpPr>
              <p:cNvPr id="110" name=""/>
              <p:cNvSpPr/>
              <p:nvPr/>
            </p:nvSpPr>
            <p:spPr>
              <a:xfrm>
                <a:off x="7874280" y="150408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74280" y="150408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886520" y="1632960"/>
              <a:ext cx="276120" cy="144720"/>
              <a:chOff x="7886520" y="1632960"/>
              <a:chExt cx="276120" cy="144720"/>
            </a:xfrm>
          </p:grpSpPr>
          <p:sp>
            <p:nvSpPr>
              <p:cNvPr id="113" name=""/>
              <p:cNvSpPr/>
              <p:nvPr/>
            </p:nvSpPr>
            <p:spPr>
              <a:xfrm>
                <a:off x="7886520" y="1632960"/>
                <a:ext cx="27612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86520" y="1632960"/>
                <a:ext cx="27612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 flipV="1">
              <a:off x="7679880" y="1448640"/>
              <a:ext cx="13104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524720" y="1197000"/>
              <a:ext cx="226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5076720" y="692280"/>
            <a:ext cx="2374920" cy="649080"/>
            <a:chOff x="5076720" y="692280"/>
            <a:chExt cx="2374920" cy="649080"/>
          </a:xfrm>
        </p:grpSpPr>
        <p:sp>
          <p:nvSpPr>
            <p:cNvPr id="118" name=""/>
            <p:cNvSpPr/>
            <p:nvPr/>
          </p:nvSpPr>
          <p:spPr>
            <a:xfrm>
              <a:off x="5076720" y="692280"/>
              <a:ext cx="2374920" cy="649080"/>
            </a:xfrm>
            <a:prstGeom prst="wedgeRoundRectCallout">
              <a:avLst>
                <a:gd name="adj1" fmla="val 43250"/>
                <a:gd name="adj2" fmla="val 71027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19640" y="692280"/>
              <a:ext cx="222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が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192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こあるとい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ことだから・・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50920" y="5373720"/>
            <a:ext cx="973800" cy="669600"/>
            <a:chOff x="250920" y="5373720"/>
            <a:chExt cx="973800" cy="669600"/>
          </a:xfrm>
        </p:grpSpPr>
        <p:graphicFrame>
          <p:nvGraphicFramePr>
            <p:cNvPr id="121" name=""/>
            <p:cNvGraphicFramePr/>
            <p:nvPr/>
          </p:nvGraphicFramePr>
          <p:xfrm>
            <a:off x="250920" y="5550120"/>
            <a:ext cx="137880" cy="133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0920" y="5550120"/>
                      <a:ext cx="137880" cy="1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3" name=""/>
            <p:cNvGrpSpPr/>
            <p:nvPr/>
          </p:nvGrpSpPr>
          <p:grpSpPr>
            <a:xfrm>
              <a:off x="345960" y="5396040"/>
              <a:ext cx="712440" cy="647280"/>
              <a:chOff x="345960" y="5396040"/>
              <a:chExt cx="712440" cy="647280"/>
            </a:xfrm>
          </p:grpSpPr>
          <p:sp>
            <p:nvSpPr>
              <p:cNvPr id="124" name=""/>
              <p:cNvSpPr/>
              <p:nvPr/>
            </p:nvSpPr>
            <p:spPr>
              <a:xfrm>
                <a:off x="345960" y="539604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5960" y="539604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V="1">
              <a:off x="898560" y="5686200"/>
              <a:ext cx="13752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731880" y="5688000"/>
              <a:ext cx="109080" cy="54000"/>
              <a:chOff x="731880" y="5688000"/>
              <a:chExt cx="109080" cy="54000"/>
            </a:xfrm>
          </p:grpSpPr>
          <p:sp>
            <p:nvSpPr>
              <p:cNvPr id="128" name=""/>
              <p:cNvSpPr/>
              <p:nvPr/>
            </p:nvSpPr>
            <p:spPr>
              <a:xfrm>
                <a:off x="731880" y="5688000"/>
                <a:ext cx="10908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1880" y="5688000"/>
                <a:ext cx="10908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57280" y="5704200"/>
              <a:ext cx="112320" cy="53640"/>
              <a:chOff x="557280" y="5704200"/>
              <a:chExt cx="112320" cy="53640"/>
            </a:xfrm>
          </p:grpSpPr>
          <p:sp>
            <p:nvSpPr>
              <p:cNvPr id="131" name=""/>
              <p:cNvSpPr/>
              <p:nvPr/>
            </p:nvSpPr>
            <p:spPr>
              <a:xfrm>
                <a:off x="557280" y="57042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7280" y="57042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69880" y="5832720"/>
              <a:ext cx="275760" cy="144360"/>
              <a:chOff x="569880" y="5832720"/>
              <a:chExt cx="275760" cy="144360"/>
            </a:xfrm>
          </p:grpSpPr>
          <p:sp>
            <p:nvSpPr>
              <p:cNvPr id="134" name=""/>
              <p:cNvSpPr/>
              <p:nvPr/>
            </p:nvSpPr>
            <p:spPr>
              <a:xfrm>
                <a:off x="569880" y="5832720"/>
                <a:ext cx="27576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9880" y="5832720"/>
                <a:ext cx="27576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H="1" flipV="1">
              <a:off x="363240" y="5648040"/>
              <a:ext cx="13140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 flipH="1">
              <a:off x="937800" y="5373720"/>
              <a:ext cx="28692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1258920" y="4797360"/>
            <a:ext cx="2375640" cy="739080"/>
            <a:chOff x="1258920" y="4797360"/>
            <a:chExt cx="2375640" cy="739080"/>
          </a:xfrm>
        </p:grpSpPr>
        <p:sp>
          <p:nvSpPr>
            <p:cNvPr id="139" name=""/>
            <p:cNvSpPr/>
            <p:nvPr/>
          </p:nvSpPr>
          <p:spPr>
            <a:xfrm>
              <a:off x="1258920" y="4851000"/>
              <a:ext cx="2374200" cy="685440"/>
            </a:xfrm>
            <a:prstGeom prst="wedgeRectCallout">
              <a:avLst>
                <a:gd name="adj1" fmla="val -49717"/>
                <a:gd name="adj2" fmla="val 84384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12560" y="4797360"/>
              <a:ext cx="232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こんなふうに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　　　　　考えられるよ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356000" y="4797360"/>
            <a:ext cx="1295640" cy="1522800"/>
            <a:chOff x="4356000" y="4797360"/>
            <a:chExt cx="1295640" cy="1522800"/>
          </a:xfrm>
        </p:grpSpPr>
        <p:sp>
          <p:nvSpPr>
            <p:cNvPr id="142" name=""/>
            <p:cNvSpPr/>
            <p:nvPr/>
          </p:nvSpPr>
          <p:spPr>
            <a:xfrm>
              <a:off x="4735440" y="5738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8960" y="4797360"/>
              <a:ext cx="744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63640" y="53118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6000" y="576576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9320" y="5722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9760" y="5738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877080" y="4797360"/>
            <a:ext cx="1295280" cy="1522800"/>
            <a:chOff x="6877080" y="4797360"/>
            <a:chExt cx="1295280" cy="1522800"/>
          </a:xfrm>
        </p:grpSpPr>
        <p:sp>
          <p:nvSpPr>
            <p:cNvPr id="149" name=""/>
            <p:cNvSpPr/>
            <p:nvPr/>
          </p:nvSpPr>
          <p:spPr>
            <a:xfrm>
              <a:off x="7256160" y="5738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50040" y="479736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84360" y="53118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77080" y="576576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10400" y="5722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00840" y="5738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88720" y="5713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5640" y="5013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595008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53960" y="46530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71240" y="55818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520040" y="6219720"/>
            <a:ext cx="504720" cy="142920"/>
          </a:xfrm>
          <a:custGeom>
            <a:avLst/>
            <a:gdLst>
              <a:gd name="textAreaLeft" fmla="*/ 88200 w 504720"/>
              <a:gd name="textAreaRight" fmla="*/ 366120 w 50472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22440" y="586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653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1160" y="189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0000" y="2781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692360" y="404640"/>
            <a:ext cx="1510920" cy="916920"/>
            <a:chOff x="1692360" y="404640"/>
            <a:chExt cx="1510920" cy="916920"/>
          </a:xfrm>
        </p:grpSpPr>
        <p:sp>
          <p:nvSpPr>
            <p:cNvPr id="166" name=""/>
            <p:cNvSpPr/>
            <p:nvPr/>
          </p:nvSpPr>
          <p:spPr>
            <a:xfrm>
              <a:off x="1692360" y="404640"/>
              <a:ext cx="15091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34480" y="404640"/>
              <a:ext cx="1468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699080" y="404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を筆算で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0" y="1844640"/>
            <a:ext cx="17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43080" y="23004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55680" y="273204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96240" y="1773360"/>
            <a:ext cx="1716840" cy="947160"/>
            <a:chOff x="5196240" y="1773360"/>
            <a:chExt cx="1716840" cy="947160"/>
          </a:xfrm>
        </p:grpSpPr>
        <p:sp>
          <p:nvSpPr>
            <p:cNvPr id="173" name=""/>
            <p:cNvSpPr/>
            <p:nvPr/>
          </p:nvSpPr>
          <p:spPr>
            <a:xfrm>
              <a:off x="5196240" y="1773360"/>
              <a:ext cx="1716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②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16520" y="22287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29480" y="266076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595880" y="4076640"/>
            <a:ext cx="1716840" cy="947160"/>
            <a:chOff x="1595880" y="4076640"/>
            <a:chExt cx="1716840" cy="947160"/>
          </a:xfrm>
        </p:grpSpPr>
        <p:sp>
          <p:nvSpPr>
            <p:cNvPr id="177" name=""/>
            <p:cNvSpPr/>
            <p:nvPr/>
          </p:nvSpPr>
          <p:spPr>
            <a:xfrm>
              <a:off x="1595880" y="4076640"/>
              <a:ext cx="1716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③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.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16160" y="45320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29120" y="496404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08920" y="4005360"/>
            <a:ext cx="1674360" cy="947160"/>
            <a:chOff x="5308920" y="4005360"/>
            <a:chExt cx="1674360" cy="947160"/>
          </a:xfrm>
        </p:grpSpPr>
        <p:sp>
          <p:nvSpPr>
            <p:cNvPr id="181" name=""/>
            <p:cNvSpPr/>
            <p:nvPr/>
          </p:nvSpPr>
          <p:spPr>
            <a:xfrm>
              <a:off x="5308920" y="4005360"/>
              <a:ext cx="167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④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87800" y="44607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00760" y="489276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226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74160" y="220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3440" y="450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04120" y="4425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522800" y="1844640"/>
            <a:ext cx="1716840" cy="947160"/>
            <a:chOff x="1522800" y="1844640"/>
            <a:chExt cx="1716840" cy="947160"/>
          </a:xfrm>
        </p:grpSpPr>
        <p:sp>
          <p:nvSpPr>
            <p:cNvPr id="190" name=""/>
            <p:cNvSpPr/>
            <p:nvPr/>
          </p:nvSpPr>
          <p:spPr>
            <a:xfrm>
              <a:off x="1522800" y="1844640"/>
              <a:ext cx="1716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①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3080" y="23000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56040" y="273204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196240" y="1773360"/>
            <a:ext cx="1716840" cy="947160"/>
            <a:chOff x="5196240" y="1773360"/>
            <a:chExt cx="1716840" cy="947160"/>
          </a:xfrm>
        </p:grpSpPr>
        <p:sp>
          <p:nvSpPr>
            <p:cNvPr id="194" name=""/>
            <p:cNvSpPr/>
            <p:nvPr/>
          </p:nvSpPr>
          <p:spPr>
            <a:xfrm>
              <a:off x="5196240" y="1773360"/>
              <a:ext cx="1716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②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16520" y="22287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29480" y="266076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595880" y="4076640"/>
            <a:ext cx="1716840" cy="947160"/>
            <a:chOff x="1595880" y="4076640"/>
            <a:chExt cx="1716840" cy="947160"/>
          </a:xfrm>
        </p:grpSpPr>
        <p:sp>
          <p:nvSpPr>
            <p:cNvPr id="198" name=""/>
            <p:cNvSpPr/>
            <p:nvPr/>
          </p:nvSpPr>
          <p:spPr>
            <a:xfrm>
              <a:off x="1595880" y="4076640"/>
              <a:ext cx="1716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③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.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16160" y="45320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29120" y="496404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308920" y="4005360"/>
            <a:ext cx="1674360" cy="947160"/>
            <a:chOff x="5308920" y="4005360"/>
            <a:chExt cx="1674360" cy="947160"/>
          </a:xfrm>
        </p:grpSpPr>
        <p:sp>
          <p:nvSpPr>
            <p:cNvPr id="202" name=""/>
            <p:cNvSpPr/>
            <p:nvPr/>
          </p:nvSpPr>
          <p:spPr>
            <a:xfrm>
              <a:off x="5308920" y="4005360"/>
              <a:ext cx="167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④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87800" y="44607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00760" y="489276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163400" y="333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7800" y="2708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63040" y="26859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41800" y="49417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24600" y="4869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8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08000" y="476280"/>
            <a:ext cx="1511280" cy="916920"/>
            <a:chOff x="1908000" y="476280"/>
            <a:chExt cx="1511280" cy="916920"/>
          </a:xfrm>
        </p:grpSpPr>
        <p:sp>
          <p:nvSpPr>
            <p:cNvPr id="211" name=""/>
            <p:cNvSpPr/>
            <p:nvPr/>
          </p:nvSpPr>
          <p:spPr>
            <a:xfrm>
              <a:off x="1908000" y="476280"/>
              <a:ext cx="15094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50120" y="476280"/>
              <a:ext cx="146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08516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308720" y="4724280"/>
            <a:ext cx="949320" cy="1224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7021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99360" y="2178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00440" y="450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18520" y="4425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7:50:59Z</dcterms:created>
  <dc:creator>kangawa-kaori-1</dc:creator>
  <dc:description/>
  <dc:language>en-US</dc:language>
  <cp:lastModifiedBy>kangawa-kaori-1</cp:lastModifiedBy>
  <dcterms:modified xsi:type="dcterms:W3CDTF">2007-11-14T06:25:43Z</dcterms:modified>
  <cp:revision>66</cp:revision>
  <dc:subject/>
  <dc:title>スライド 1</dc:title>
</cp:coreProperties>
</file>