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378-5290-41F8-8DEA-9CB37B50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765-7B3F-40B0-BC8D-4A64B777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867-A62F-4CBE-A7A0-F60A8DBD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357-C882-4471-B5ED-9CF0B12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7F4-F4DE-4663-8B71-B372ED4B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4BE-4CC2-4169-9B1C-9C7080F4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8C2-A5FF-4AAA-8429-08192016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560-DDA7-4F7F-9DF9-41471E76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AE0-805F-430F-926B-D0C1AFA8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7E5-556C-44B7-87DD-DFD837F8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6E0-C5B6-4FE0-8FCF-A7864CA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28B-2C86-4DAF-954D-A6C776F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693-206D-4E73-9A51-D2A79786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549360"/>
            <a:ext cx="2475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数のたし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67360" y="324000"/>
            <a:ext cx="19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のたし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1280" y="1268280"/>
            <a:ext cx="7653960" cy="459720"/>
            <a:chOff x="611280" y="1268280"/>
            <a:chExt cx="7653960" cy="459720"/>
          </a:xfrm>
        </p:grpSpPr>
        <p:sp>
          <p:nvSpPr>
            <p:cNvPr id="44" name=""/>
            <p:cNvSpPr/>
            <p:nvPr/>
          </p:nvSpPr>
          <p:spPr>
            <a:xfrm>
              <a:off x="611280" y="1323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5280" y="1268280"/>
              <a:ext cx="678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と　　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のテープをあわせると何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になります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19320" y="1536840"/>
            <a:ext cx="49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9520" y="149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72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21000" y="1544760"/>
            <a:ext cx="49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91200" y="150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3800" y="113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44280" y="3922200"/>
            <a:ext cx="3600720" cy="830160"/>
            <a:chOff x="944280" y="3922200"/>
            <a:chExt cx="3600720" cy="830160"/>
          </a:xfrm>
        </p:grpSpPr>
        <p:sp>
          <p:nvSpPr>
            <p:cNvPr id="53" name=""/>
            <p:cNvSpPr/>
            <p:nvPr/>
          </p:nvSpPr>
          <p:spPr>
            <a:xfrm>
              <a:off x="944640" y="3967200"/>
              <a:ext cx="3600360" cy="2397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44640" y="3967200"/>
              <a:ext cx="2871720" cy="239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794600" y="3941280"/>
              <a:ext cx="20278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943920" y="3921840"/>
              <a:ext cx="1789560" cy="5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79640" y="4462560"/>
              <a:ext cx="352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25720" y="4192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24280" y="441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08320" y="42782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16360" y="397512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5640" y="397512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4920" y="396396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96252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32040" y="3441600"/>
            <a:ext cx="3619080" cy="861480"/>
            <a:chOff x="932040" y="3441600"/>
            <a:chExt cx="3619080" cy="861480"/>
          </a:xfrm>
        </p:grpSpPr>
        <p:sp>
          <p:nvSpPr>
            <p:cNvPr id="66" name=""/>
            <p:cNvSpPr/>
            <p:nvPr/>
          </p:nvSpPr>
          <p:spPr>
            <a:xfrm>
              <a:off x="2295720" y="344160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１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932040" y="3652920"/>
              <a:ext cx="236016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86320" y="3675240"/>
              <a:ext cx="276480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001240" y="26971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273640" y="3494160"/>
            <a:ext cx="3602160" cy="1289520"/>
            <a:chOff x="5273640" y="3494160"/>
            <a:chExt cx="3602160" cy="1289520"/>
          </a:xfrm>
        </p:grpSpPr>
        <p:sp>
          <p:nvSpPr>
            <p:cNvPr id="71" name=""/>
            <p:cNvSpPr/>
            <p:nvPr/>
          </p:nvSpPr>
          <p:spPr>
            <a:xfrm>
              <a:off x="5275440" y="3974760"/>
              <a:ext cx="3600360" cy="239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75440" y="3974760"/>
              <a:ext cx="2147760" cy="239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07400" y="3649320"/>
              <a:ext cx="2764800" cy="62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273640" y="3660480"/>
              <a:ext cx="2360880" cy="62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47160" y="3982680"/>
              <a:ext cx="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26440" y="3982680"/>
              <a:ext cx="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3971520"/>
              <a:ext cx="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85000" y="3970080"/>
              <a:ext cx="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66120" y="349416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</a:rPr>
                <a:t>１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5278680" y="3945240"/>
              <a:ext cx="1370880" cy="53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059880" y="3919680"/>
              <a:ext cx="1370880" cy="53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69240" y="4493880"/>
              <a:ext cx="3524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15320" y="4223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3520" y="4446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97920" y="43099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19600" y="3912840"/>
            <a:ext cx="2166480" cy="896400"/>
            <a:chOff x="3819600" y="3912840"/>
            <a:chExt cx="2166480" cy="896400"/>
          </a:xfrm>
        </p:grpSpPr>
        <p:sp>
          <p:nvSpPr>
            <p:cNvPr id="87" name=""/>
            <p:cNvSpPr/>
            <p:nvPr/>
          </p:nvSpPr>
          <p:spPr>
            <a:xfrm>
              <a:off x="4669200" y="44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819600" y="3912840"/>
              <a:ext cx="2166480" cy="759240"/>
              <a:chOff x="3819600" y="3912840"/>
              <a:chExt cx="2166480" cy="759240"/>
            </a:xfrm>
          </p:grpSpPr>
          <p:sp>
            <p:nvSpPr>
              <p:cNvPr id="89" name=""/>
              <p:cNvSpPr/>
              <p:nvPr/>
            </p:nvSpPr>
            <p:spPr>
              <a:xfrm>
                <a:off x="3830760" y="3969000"/>
                <a:ext cx="2152800" cy="239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19600" y="3969000"/>
                <a:ext cx="2158920" cy="239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61040" y="396576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40320" y="3963960"/>
                <a:ext cx="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3834000" y="3939480"/>
                <a:ext cx="1370880" cy="538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646" y="62"/>
                    </a:moveTo>
                    <a:arcTo wR="10800" hR="10800" stAng="-5767987" swAng="57679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646" y="62"/>
                    </a:moveTo>
                    <a:arcTo wR="10800" hR="10800" stAng="-5767987" swAng="5767987"/>
                  </a:path>
                </a:pathLst>
              </a:cu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4615920" y="3912480"/>
                <a:ext cx="1370160" cy="53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646" y="62"/>
                    </a:moveTo>
                    <a:arcTo wR="10800" hR="10800" stAng="-5767987" swAng="57679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646" y="62"/>
                    </a:moveTo>
                    <a:arcTo wR="10800" hR="10800" stAng="-5767987" swAng="5767987"/>
                  </a:path>
                </a:pathLst>
              </a:cu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24560" y="4488120"/>
                <a:ext cx="3524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70640" y="4218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53240" y="430380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93800" y="2933640"/>
            <a:ext cx="6468840" cy="714600"/>
            <a:chOff x="793800" y="2933640"/>
            <a:chExt cx="6468840" cy="714600"/>
          </a:xfrm>
        </p:grpSpPr>
        <p:sp>
          <p:nvSpPr>
            <p:cNvPr id="99" name=""/>
            <p:cNvSpPr/>
            <p:nvPr/>
          </p:nvSpPr>
          <p:spPr>
            <a:xfrm>
              <a:off x="937800" y="32925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6360" y="3646440"/>
              <a:ext cx="632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57080" y="3463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7800" y="3463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98520" y="3463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19240" y="34545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9240" y="34657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79960" y="34657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2120" y="34657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47880" y="32925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3800" y="293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7400" y="2967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-9000" y="207792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（　　　　　　　　　　　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97000" y="1968480"/>
            <a:ext cx="1698840" cy="740160"/>
            <a:chOff x="2097000" y="1968480"/>
            <a:chExt cx="1698840" cy="740160"/>
          </a:xfrm>
        </p:grpSpPr>
        <p:sp>
          <p:nvSpPr>
            <p:cNvPr id="113" name=""/>
            <p:cNvSpPr/>
            <p:nvPr/>
          </p:nvSpPr>
          <p:spPr>
            <a:xfrm>
              <a:off x="2143080" y="1968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54240" y="2309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97000" y="2349360"/>
              <a:ext cx="405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6920" y="1973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8080" y="2303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0840" y="2343240"/>
              <a:ext cx="405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24200" y="2168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Arial"/>
                </a:rPr>
                <a:t>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852920" y="882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44440" y="513864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こ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3920" y="487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6000" y="5280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0800" y="5353200"/>
            <a:ext cx="4460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76640" y="4869000"/>
            <a:ext cx="420840" cy="4460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11280" y="4946760"/>
            <a:ext cx="810360" cy="796320"/>
            <a:chOff x="1511280" y="4946760"/>
            <a:chExt cx="810360" cy="796320"/>
          </a:xfrm>
        </p:grpSpPr>
        <p:sp>
          <p:nvSpPr>
            <p:cNvPr id="127" name=""/>
            <p:cNvSpPr/>
            <p:nvPr/>
          </p:nvSpPr>
          <p:spPr>
            <a:xfrm>
              <a:off x="1574640" y="4946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1120" y="5283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11280" y="535320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58040" y="5149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67000" y="5859360"/>
            <a:ext cx="810360" cy="796320"/>
            <a:chOff x="1467000" y="5859360"/>
            <a:chExt cx="810360" cy="796320"/>
          </a:xfrm>
        </p:grpSpPr>
        <p:sp>
          <p:nvSpPr>
            <p:cNvPr id="132" name=""/>
            <p:cNvSpPr/>
            <p:nvPr/>
          </p:nvSpPr>
          <p:spPr>
            <a:xfrm>
              <a:off x="1530360" y="5859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36840" y="6195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67000" y="626580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3760" y="6062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22360" y="5859360"/>
            <a:ext cx="810360" cy="796320"/>
            <a:chOff x="2322360" y="5859360"/>
            <a:chExt cx="810360" cy="796320"/>
          </a:xfrm>
        </p:grpSpPr>
        <p:sp>
          <p:nvSpPr>
            <p:cNvPr id="137" name=""/>
            <p:cNvSpPr/>
            <p:nvPr/>
          </p:nvSpPr>
          <p:spPr>
            <a:xfrm>
              <a:off x="2385720" y="5859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92200" y="6195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22360" y="626580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69120" y="6062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195360" y="585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1840" y="61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6265800"/>
            <a:ext cx="4464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7520" y="585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4000" y="61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160" y="6265800"/>
            <a:ext cx="4464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5994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6624720"/>
            <a:ext cx="3600360" cy="0"/>
          </a:xfrm>
          <a:prstGeom prst="line">
            <a:avLst/>
          </a:prstGeom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55320" y="5049720"/>
            <a:ext cx="2800440" cy="1191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母が同じ分数のたし算で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）はそのままにし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）だけをた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25600" y="576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HG創英角ｺﾞｼｯｸUB"/>
              </a:rPr>
              <a:t>分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25600" y="617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HG創英角ｺﾞｼｯｸUB"/>
              </a:rPr>
              <a:t>分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002360" y="3240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のたし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54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253600" y="1224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の計算を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8288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17680" y="1628640"/>
            <a:ext cx="810360" cy="796320"/>
            <a:chOff x="1417680" y="1628640"/>
            <a:chExt cx="810360" cy="796320"/>
          </a:xfrm>
        </p:grpSpPr>
        <p:sp>
          <p:nvSpPr>
            <p:cNvPr id="159" name=""/>
            <p:cNvSpPr/>
            <p:nvPr/>
          </p:nvSpPr>
          <p:spPr>
            <a:xfrm>
              <a:off x="1481040" y="162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87520" y="1965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17680" y="2035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64440" y="1831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33676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2880" y="196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73400" y="203508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20160" y="18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7464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74840" y="2505240"/>
            <a:ext cx="810360" cy="795960"/>
            <a:chOff x="1374840" y="2505240"/>
            <a:chExt cx="810360" cy="795960"/>
          </a:xfrm>
        </p:grpSpPr>
        <p:sp>
          <p:nvSpPr>
            <p:cNvPr id="169" name=""/>
            <p:cNvSpPr/>
            <p:nvPr/>
          </p:nvSpPr>
          <p:spPr>
            <a:xfrm>
              <a:off x="1438200" y="2505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4680" y="284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4840" y="2911320"/>
              <a:ext cx="446040" cy="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1600" y="270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293920" y="250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00040" y="284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30560" y="29113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7732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36640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76280" y="3429000"/>
            <a:ext cx="810360" cy="796320"/>
            <a:chOff x="1376280" y="3429000"/>
            <a:chExt cx="810360" cy="796320"/>
          </a:xfrm>
        </p:grpSpPr>
        <p:sp>
          <p:nvSpPr>
            <p:cNvPr id="179" name=""/>
            <p:cNvSpPr/>
            <p:nvPr/>
          </p:nvSpPr>
          <p:spPr>
            <a:xfrm>
              <a:off x="1439640" y="342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46120" y="3765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76280" y="383544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3040" y="3632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2953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1840" y="376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2000" y="3835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8760" y="36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581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76280" y="4373640"/>
            <a:ext cx="810360" cy="796320"/>
            <a:chOff x="1376280" y="4373640"/>
            <a:chExt cx="810360" cy="796320"/>
          </a:xfrm>
        </p:grpSpPr>
        <p:sp>
          <p:nvSpPr>
            <p:cNvPr id="189" name=""/>
            <p:cNvSpPr/>
            <p:nvPr/>
          </p:nvSpPr>
          <p:spPr>
            <a:xfrm>
              <a:off x="1439640" y="43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6120" y="4710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6280" y="4780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3040" y="45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95360" y="437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1840" y="471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2000" y="4780080"/>
            <a:ext cx="4460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78760" y="457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54990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71600" y="5299200"/>
            <a:ext cx="810360" cy="796320"/>
            <a:chOff x="1371600" y="5299200"/>
            <a:chExt cx="810360" cy="796320"/>
          </a:xfrm>
        </p:grpSpPr>
        <p:sp>
          <p:nvSpPr>
            <p:cNvPr id="199" name=""/>
            <p:cNvSpPr/>
            <p:nvPr/>
          </p:nvSpPr>
          <p:spPr>
            <a:xfrm>
              <a:off x="1434960" y="5299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1440" y="563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71600" y="570564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8360" y="5502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290680" y="529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96800" y="563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27320" y="5705640"/>
            <a:ext cx="4460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74080" y="550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48600" y="1187280"/>
            <a:ext cx="30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と　　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の水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わせると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なり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886280" y="1268280"/>
            <a:ext cx="340920" cy="340920"/>
            <a:chOff x="4886280" y="1268280"/>
            <a:chExt cx="340920" cy="340920"/>
          </a:xfrm>
        </p:grpSpPr>
        <p:sp>
          <p:nvSpPr>
            <p:cNvPr id="209" name="SH_02_20071018115826"/>
            <p:cNvSpPr/>
            <p:nvPr/>
          </p:nvSpPr>
          <p:spPr>
            <a:xfrm>
              <a:off x="488628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4941360" y="1312920"/>
              <a:ext cx="230400" cy="23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792000" y="1268280"/>
            <a:ext cx="340920" cy="340920"/>
            <a:chOff x="792000" y="1268280"/>
            <a:chExt cx="340920" cy="340920"/>
          </a:xfrm>
        </p:grpSpPr>
        <p:sp>
          <p:nvSpPr>
            <p:cNvPr id="212" name="SH_02_20071018115741"/>
            <p:cNvSpPr/>
            <p:nvPr/>
          </p:nvSpPr>
          <p:spPr>
            <a:xfrm>
              <a:off x="79200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846720" y="1312920"/>
              <a:ext cx="231120" cy="2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4572000" y="728640"/>
            <a:ext cx="0" cy="5761080"/>
          </a:xfrm>
          <a:prstGeom prst="line">
            <a:avLst/>
          </a:prstGeom>
          <a:ln w="1584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32840" y="105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38960" y="139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1720" y="1441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21840" y="105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28320" y="139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70720" y="1441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13080" y="242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02960" y="42386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002360" y="3240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のたし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225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253600" y="1224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の計算を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8288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17680" y="1628640"/>
            <a:ext cx="810360" cy="796320"/>
            <a:chOff x="1417680" y="1628640"/>
            <a:chExt cx="810360" cy="796320"/>
          </a:xfrm>
        </p:grpSpPr>
        <p:sp>
          <p:nvSpPr>
            <p:cNvPr id="230" name=""/>
            <p:cNvSpPr/>
            <p:nvPr/>
          </p:nvSpPr>
          <p:spPr>
            <a:xfrm>
              <a:off x="1481040" y="162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87520" y="1965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7680" y="2035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64440" y="1831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33676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2880" y="196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73400" y="203508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20160" y="18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27464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4840" y="2505240"/>
            <a:ext cx="810360" cy="795960"/>
            <a:chOff x="1374840" y="2505240"/>
            <a:chExt cx="810360" cy="795960"/>
          </a:xfrm>
        </p:grpSpPr>
        <p:sp>
          <p:nvSpPr>
            <p:cNvPr id="240" name=""/>
            <p:cNvSpPr/>
            <p:nvPr/>
          </p:nvSpPr>
          <p:spPr>
            <a:xfrm>
              <a:off x="1438200" y="2505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4680" y="284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4840" y="2911320"/>
              <a:ext cx="446040" cy="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1600" y="270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93920" y="250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00040" y="284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30560" y="29113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732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6640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376280" y="3429000"/>
            <a:ext cx="810360" cy="796320"/>
            <a:chOff x="1376280" y="3429000"/>
            <a:chExt cx="810360" cy="796320"/>
          </a:xfrm>
        </p:grpSpPr>
        <p:sp>
          <p:nvSpPr>
            <p:cNvPr id="250" name=""/>
            <p:cNvSpPr/>
            <p:nvPr/>
          </p:nvSpPr>
          <p:spPr>
            <a:xfrm>
              <a:off x="1439640" y="342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6120" y="3765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6280" y="383544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3040" y="3632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953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01840" y="376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32000" y="3835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78760" y="36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4581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6280" y="4373640"/>
            <a:ext cx="810360" cy="796320"/>
            <a:chOff x="1376280" y="4373640"/>
            <a:chExt cx="810360" cy="796320"/>
          </a:xfrm>
        </p:grpSpPr>
        <p:sp>
          <p:nvSpPr>
            <p:cNvPr id="260" name=""/>
            <p:cNvSpPr/>
            <p:nvPr/>
          </p:nvSpPr>
          <p:spPr>
            <a:xfrm>
              <a:off x="1439640" y="43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6120" y="4710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6280" y="4780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23040" y="45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295360" y="437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01840" y="471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32000" y="4780080"/>
            <a:ext cx="4460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78760" y="457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54990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371600" y="5299200"/>
            <a:ext cx="810360" cy="796320"/>
            <a:chOff x="1371600" y="5299200"/>
            <a:chExt cx="810360" cy="796320"/>
          </a:xfrm>
        </p:grpSpPr>
        <p:sp>
          <p:nvSpPr>
            <p:cNvPr id="270" name=""/>
            <p:cNvSpPr/>
            <p:nvPr/>
          </p:nvSpPr>
          <p:spPr>
            <a:xfrm>
              <a:off x="1434960" y="5299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1440" y="563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1600" y="570564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18360" y="5502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290680" y="529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96800" y="563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27320" y="5705640"/>
            <a:ext cx="4460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74080" y="550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48600" y="1187280"/>
            <a:ext cx="30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と　　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の水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わせると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なり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886280" y="1268280"/>
            <a:ext cx="340920" cy="340920"/>
            <a:chOff x="4886280" y="1268280"/>
            <a:chExt cx="340920" cy="340920"/>
          </a:xfrm>
        </p:grpSpPr>
        <p:sp>
          <p:nvSpPr>
            <p:cNvPr id="280" name="SH_02_20071018115826"/>
            <p:cNvSpPr/>
            <p:nvPr/>
          </p:nvSpPr>
          <p:spPr>
            <a:xfrm>
              <a:off x="488628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4941360" y="1312920"/>
              <a:ext cx="230400" cy="23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792000" y="1268280"/>
            <a:ext cx="340920" cy="340920"/>
            <a:chOff x="792000" y="1268280"/>
            <a:chExt cx="340920" cy="340920"/>
          </a:xfrm>
        </p:grpSpPr>
        <p:sp>
          <p:nvSpPr>
            <p:cNvPr id="283" name="SH_02_20071018115741"/>
            <p:cNvSpPr/>
            <p:nvPr/>
          </p:nvSpPr>
          <p:spPr>
            <a:xfrm>
              <a:off x="79200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846720" y="1312920"/>
              <a:ext cx="231120" cy="2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4572000" y="728640"/>
            <a:ext cx="0" cy="5761080"/>
          </a:xfrm>
          <a:prstGeom prst="line">
            <a:avLst/>
          </a:prstGeom>
          <a:ln w="1584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32840" y="105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38960" y="139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81720" y="1441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21840" y="105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28320" y="139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70720" y="1441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24160" y="243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32120" y="476712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 　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ℓ 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612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30280" y="165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3676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166920" y="205092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19120" y="252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25600" y="286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56120" y="2922480"/>
            <a:ext cx="52200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7160" y="345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3280" y="379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133800" y="385776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01760" y="4373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3280" y="472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33800" y="4782600"/>
            <a:ext cx="522360" cy="8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78000" y="534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84480" y="5680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014640" y="574200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28800" y="365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17640" y="454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31440" y="55180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１　　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27240" y="534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27240" y="569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863880" y="574200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73520" y="266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71000" y="301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513400" y="306216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8080" y="2832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8476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82240" y="301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524640" y="306072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84880" y="2843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24360" y="261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5160" y="299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567560" y="303840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29320" y="4740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781760" y="455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81760" y="490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718400" y="495288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21:33Z</dcterms:created>
  <dc:creator>kangawa-kaori-1</dc:creator>
  <dc:description/>
  <dc:language>en-US</dc:language>
  <cp:lastModifiedBy>kangawa-kaori-1</cp:lastModifiedBy>
  <dcterms:modified xsi:type="dcterms:W3CDTF">2007-11-14T06:20:58Z</dcterms:modified>
  <cp:revision>54</cp:revision>
  <dc:subject/>
  <dc:title>スライド 1</dc:title>
</cp:coreProperties>
</file>