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949-FFB4-4D3E-B84C-56FCCAEC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A6D-72D8-453F-83A5-39E900F5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7ED-DCCF-4FC2-AC2B-3449A013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F95-49DE-41DD-8607-251733CF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03F-761E-4DD2-82F2-C7467F8E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5F1-3032-44EB-AE7F-B5BAD071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172-7841-425B-B2C7-D83FF0D9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E37-7CE6-4E79-9725-CFA0AE05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447-B040-4318-9942-30FD0C7F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D2A-1B71-4100-9F89-BBE4270B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B401-47A8-47A3-B088-2CC33C5F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64E-636B-4F17-BC13-0E66630E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D357-624D-4BA3-86BD-383069BAD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76640" y="458640"/>
            <a:ext cx="416232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何倍になるかを考えて（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62720" y="2793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何倍になるかを考えて（３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360" y="2755800"/>
            <a:ext cx="684360" cy="675360"/>
            <a:chOff x="990360" y="2755800"/>
            <a:chExt cx="684360" cy="675360"/>
          </a:xfrm>
        </p:grpSpPr>
        <p:sp>
          <p:nvSpPr>
            <p:cNvPr id="44" name=""/>
            <p:cNvSpPr/>
            <p:nvPr/>
          </p:nvSpPr>
          <p:spPr>
            <a:xfrm>
              <a:off x="1115280" y="2755800"/>
              <a:ext cx="45504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最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90360" y="3124080"/>
              <a:ext cx="6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ja-JP" sz="1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r>
                <a:rPr b="0" lang="ja-JP" sz="1400" spc="-1" strike="noStrike">
                  <a:solidFill>
                    <a:srgbClr val="3333ff"/>
                  </a:solidFill>
                  <a:latin typeface="Arial"/>
                </a:rPr>
                <a:t>こ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812960" y="2889360"/>
            <a:ext cx="1781280" cy="102960"/>
          </a:xfrm>
          <a:prstGeom prst="rightArrow">
            <a:avLst>
              <a:gd name="adj1" fmla="val 50000"/>
              <a:gd name="adj2" fmla="val 43251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119700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まずこの問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10160" y="1152360"/>
            <a:ext cx="3426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妹はチョコを</a:t>
            </a:r>
            <a:r>
              <a:rPr b="0" lang="ja-JP" sz="2000" spc="-1" strike="noStrike">
                <a:solidFill>
                  <a:srgbClr val="3333ff"/>
                </a:solidFill>
                <a:latin typeface="Arial"/>
              </a:rPr>
              <a:t>３こ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持っています。お兄さん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らったので</a:t>
            </a:r>
            <a:r>
              <a:rPr b="0" lang="ja-JP" sz="2000" spc="-1" strike="noStrike">
                <a:solidFill>
                  <a:srgbClr val="00cc00"/>
                </a:solidFill>
                <a:latin typeface="Arial"/>
              </a:rPr>
              <a:t>２倍になり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お姉さんからももらっ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で，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さらに４倍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な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何こになったの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182000" y="1179360"/>
            <a:ext cx="1125360" cy="9986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3786120" y="2800440"/>
            <a:ext cx="947880" cy="608040"/>
            <a:chOff x="3786120" y="2800440"/>
            <a:chExt cx="947880" cy="608040"/>
          </a:xfrm>
        </p:grpSpPr>
        <p:sp>
          <p:nvSpPr>
            <p:cNvPr id="51" name=""/>
            <p:cNvSpPr/>
            <p:nvPr/>
          </p:nvSpPr>
          <p:spPr>
            <a:xfrm>
              <a:off x="3913200" y="2800440"/>
              <a:ext cx="820800" cy="3070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兄からもら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86120" y="310356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948200" y="2889360"/>
            <a:ext cx="1647720" cy="101520"/>
          </a:xfrm>
          <a:prstGeom prst="rightArrow">
            <a:avLst>
              <a:gd name="adj1" fmla="val 50000"/>
              <a:gd name="adj2" fmla="val 40576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689520" y="2798640"/>
            <a:ext cx="947880" cy="608040"/>
            <a:chOff x="6689520" y="2798640"/>
            <a:chExt cx="947880" cy="608040"/>
          </a:xfrm>
        </p:grpSpPr>
        <p:sp>
          <p:nvSpPr>
            <p:cNvPr id="55" name=""/>
            <p:cNvSpPr/>
            <p:nvPr/>
          </p:nvSpPr>
          <p:spPr>
            <a:xfrm>
              <a:off x="6816600" y="2798640"/>
              <a:ext cx="820800" cy="3070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姉からもら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89520" y="310176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378880" y="2529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cc00"/>
                </a:solidFill>
                <a:latin typeface="Arial"/>
              </a:rPr>
              <a:t>２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46080" y="2513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４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3097080"/>
            <a:ext cx="5251680" cy="274680"/>
          </a:xfrm>
          <a:custGeom>
            <a:avLst/>
            <a:gdLst>
              <a:gd name="textAreaLeft" fmla="*/ 1173600 w 5251680"/>
              <a:gd name="textAreaRight" fmla="*/ 3552840 w 5251680"/>
              <a:gd name="textAreaTop" fmla="*/ 36720 h 274680"/>
              <a:gd name="textAreaBottom" fmla="*/ 23796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-3099610"/>
                <a:lnTo>
                  <a:pt x="21048" y="7200"/>
                </a:lnTo>
                <a:lnTo>
                  <a:pt x="19376" y="0"/>
                </a:lnTo>
                <a:lnTo>
                  <a:pt x="16600" y="7200"/>
                </a:lnTo>
                <a:lnTo>
                  <a:pt x="18760" y="7200"/>
                </a:lnTo>
                <a:arcTo wR="9656" hR="21600" stAng="2300390" swAng="3089424"/>
                <a:lnTo>
                  <a:pt x="9720" y="21600"/>
                </a:lnTo>
                <a:arcTo wR="9656" hR="21600" stAng="5410186" swAng="5389814"/>
                <a:close/>
              </a:path>
              <a:path fill="darkenLess"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10186"/>
                <a:lnTo>
                  <a:pt x="9720" y="21600"/>
                </a:lnTo>
                <a:arcTo wR="9656" hR="21600" stAng="5410186" swAng="5389814"/>
                <a:close/>
              </a:path>
            </a:pathLst>
          </a:custGeom>
          <a:solidFill>
            <a:srgbClr val="ff00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08600" y="3387600"/>
            <a:ext cx="334800" cy="31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7440" y="3349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0240" y="4689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お姉さんからもらって最初の何倍になったかを考える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880920" y="3905280"/>
            <a:ext cx="862200" cy="216000"/>
            <a:chOff x="880920" y="3905280"/>
            <a:chExt cx="862200" cy="216000"/>
          </a:xfrm>
        </p:grpSpPr>
        <p:sp>
          <p:nvSpPr>
            <p:cNvPr id="64" name=""/>
            <p:cNvSpPr/>
            <p:nvPr/>
          </p:nvSpPr>
          <p:spPr>
            <a:xfrm>
              <a:off x="1015920" y="3951360"/>
              <a:ext cx="135000" cy="135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41280" y="3953160"/>
              <a:ext cx="135000" cy="134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67000" y="3951360"/>
              <a:ext cx="134640" cy="135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3905280"/>
              <a:ext cx="862200" cy="216000"/>
            </a:xfrm>
            <a:prstGeom prst="ellipse">
              <a:avLst/>
            </a:prstGeom>
            <a:noFill/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51280" y="3833640"/>
            <a:ext cx="912960" cy="514440"/>
            <a:chOff x="3851280" y="3833640"/>
            <a:chExt cx="912960" cy="514440"/>
          </a:xfrm>
        </p:grpSpPr>
        <p:grpSp>
          <p:nvGrpSpPr>
            <p:cNvPr id="69" name=""/>
            <p:cNvGrpSpPr/>
            <p:nvPr/>
          </p:nvGrpSpPr>
          <p:grpSpPr>
            <a:xfrm>
              <a:off x="3870360" y="3863880"/>
              <a:ext cx="862200" cy="216000"/>
              <a:chOff x="3870360" y="3863880"/>
              <a:chExt cx="862200" cy="216000"/>
            </a:xfrm>
          </p:grpSpPr>
          <p:sp>
            <p:nvSpPr>
              <p:cNvPr id="70" name=""/>
              <p:cNvSpPr/>
              <p:nvPr/>
            </p:nvSpPr>
            <p:spPr>
              <a:xfrm>
                <a:off x="4005360" y="3909960"/>
                <a:ext cx="135000" cy="1350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230720" y="3911760"/>
                <a:ext cx="135000" cy="134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456440" y="3909960"/>
                <a:ext cx="134640" cy="1350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870360" y="3863880"/>
                <a:ext cx="862200" cy="21600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868920" y="4103640"/>
              <a:ext cx="861840" cy="215640"/>
              <a:chOff x="3868920" y="4103640"/>
              <a:chExt cx="861840" cy="215640"/>
            </a:xfrm>
          </p:grpSpPr>
          <p:sp>
            <p:nvSpPr>
              <p:cNvPr id="75" name=""/>
              <p:cNvSpPr/>
              <p:nvPr/>
            </p:nvSpPr>
            <p:spPr>
              <a:xfrm>
                <a:off x="4003560" y="4149360"/>
                <a:ext cx="134640" cy="134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28920" y="4151160"/>
                <a:ext cx="134640" cy="1342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454640" y="4149360"/>
                <a:ext cx="134280" cy="134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868920" y="4103640"/>
                <a:ext cx="861840" cy="21564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3851280" y="3833640"/>
              <a:ext cx="912960" cy="514440"/>
            </a:xfrm>
            <a:prstGeom prst="rect">
              <a:avLst/>
            </a:prstGeom>
            <a:noFill/>
            <a:ln w="158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145200" y="3422520"/>
            <a:ext cx="912960" cy="514440"/>
            <a:chOff x="6145200" y="3422520"/>
            <a:chExt cx="912960" cy="514440"/>
          </a:xfrm>
        </p:grpSpPr>
        <p:grpSp>
          <p:nvGrpSpPr>
            <p:cNvPr id="81" name=""/>
            <p:cNvGrpSpPr/>
            <p:nvPr/>
          </p:nvGrpSpPr>
          <p:grpSpPr>
            <a:xfrm>
              <a:off x="6164280" y="3452760"/>
              <a:ext cx="862200" cy="216000"/>
              <a:chOff x="6164280" y="3452760"/>
              <a:chExt cx="862200" cy="216000"/>
            </a:xfrm>
          </p:grpSpPr>
          <p:sp>
            <p:nvSpPr>
              <p:cNvPr id="82" name=""/>
              <p:cNvSpPr/>
              <p:nvPr/>
            </p:nvSpPr>
            <p:spPr>
              <a:xfrm>
                <a:off x="6299280" y="3498840"/>
                <a:ext cx="135000" cy="1350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524640" y="3500640"/>
                <a:ext cx="135000" cy="134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50360" y="3498840"/>
                <a:ext cx="134640" cy="1350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164280" y="3452760"/>
                <a:ext cx="862200" cy="21600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162840" y="3692520"/>
              <a:ext cx="861840" cy="215640"/>
              <a:chOff x="6162840" y="3692520"/>
              <a:chExt cx="861840" cy="215640"/>
            </a:xfrm>
          </p:grpSpPr>
          <p:sp>
            <p:nvSpPr>
              <p:cNvPr id="87" name=""/>
              <p:cNvSpPr/>
              <p:nvPr/>
            </p:nvSpPr>
            <p:spPr>
              <a:xfrm>
                <a:off x="6297480" y="3738240"/>
                <a:ext cx="134640" cy="134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522840" y="3740040"/>
                <a:ext cx="134640" cy="1342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48560" y="3738240"/>
                <a:ext cx="134280" cy="134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62840" y="3692520"/>
                <a:ext cx="861840" cy="21564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145200" y="3422520"/>
              <a:ext cx="912960" cy="514440"/>
            </a:xfrm>
            <a:prstGeom prst="rect">
              <a:avLst/>
            </a:prstGeom>
            <a:noFill/>
            <a:ln w="158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372440" y="3422520"/>
            <a:ext cx="912600" cy="514440"/>
            <a:chOff x="7372440" y="3422520"/>
            <a:chExt cx="912600" cy="514440"/>
          </a:xfrm>
        </p:grpSpPr>
        <p:grpSp>
          <p:nvGrpSpPr>
            <p:cNvPr id="93" name=""/>
            <p:cNvGrpSpPr/>
            <p:nvPr/>
          </p:nvGrpSpPr>
          <p:grpSpPr>
            <a:xfrm>
              <a:off x="7391160" y="3452760"/>
              <a:ext cx="861840" cy="216000"/>
              <a:chOff x="7391160" y="3452760"/>
              <a:chExt cx="861840" cy="216000"/>
            </a:xfrm>
          </p:grpSpPr>
          <p:sp>
            <p:nvSpPr>
              <p:cNvPr id="94" name=""/>
              <p:cNvSpPr/>
              <p:nvPr/>
            </p:nvSpPr>
            <p:spPr>
              <a:xfrm>
                <a:off x="7525800" y="3498840"/>
                <a:ext cx="134640" cy="1350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751160" y="3500640"/>
                <a:ext cx="134640" cy="134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976880" y="3498840"/>
                <a:ext cx="134280" cy="1350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91160" y="3452760"/>
                <a:ext cx="861840" cy="21600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7389720" y="3692520"/>
              <a:ext cx="861480" cy="215640"/>
              <a:chOff x="7389720" y="3692520"/>
              <a:chExt cx="861480" cy="215640"/>
            </a:xfrm>
          </p:grpSpPr>
          <p:sp>
            <p:nvSpPr>
              <p:cNvPr id="99" name=""/>
              <p:cNvSpPr/>
              <p:nvPr/>
            </p:nvSpPr>
            <p:spPr>
              <a:xfrm>
                <a:off x="7524360" y="3738240"/>
                <a:ext cx="134640" cy="134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9720" y="3740040"/>
                <a:ext cx="134640" cy="1342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75080" y="3738240"/>
                <a:ext cx="134280" cy="134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9720" y="3692520"/>
                <a:ext cx="861480" cy="21564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7372440" y="3422520"/>
              <a:ext cx="912600" cy="514440"/>
            </a:xfrm>
            <a:prstGeom prst="rect">
              <a:avLst/>
            </a:prstGeom>
            <a:noFill/>
            <a:ln w="158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156360" y="3992400"/>
            <a:ext cx="912600" cy="514440"/>
            <a:chOff x="6156360" y="3992400"/>
            <a:chExt cx="912600" cy="514440"/>
          </a:xfrm>
        </p:grpSpPr>
        <p:grpSp>
          <p:nvGrpSpPr>
            <p:cNvPr id="105" name=""/>
            <p:cNvGrpSpPr/>
            <p:nvPr/>
          </p:nvGrpSpPr>
          <p:grpSpPr>
            <a:xfrm>
              <a:off x="6175080" y="4022640"/>
              <a:ext cx="861840" cy="216000"/>
              <a:chOff x="6175080" y="4022640"/>
              <a:chExt cx="861840" cy="216000"/>
            </a:xfrm>
          </p:grpSpPr>
          <p:sp>
            <p:nvSpPr>
              <p:cNvPr id="106" name=""/>
              <p:cNvSpPr/>
              <p:nvPr/>
            </p:nvSpPr>
            <p:spPr>
              <a:xfrm>
                <a:off x="6309720" y="4068720"/>
                <a:ext cx="134640" cy="1350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35080" y="4070520"/>
                <a:ext cx="134640" cy="134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60800" y="4068720"/>
                <a:ext cx="134280" cy="1350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175080" y="4022640"/>
                <a:ext cx="861840" cy="21600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173640" y="4262400"/>
              <a:ext cx="861480" cy="215640"/>
              <a:chOff x="6173640" y="4262400"/>
              <a:chExt cx="861480" cy="215640"/>
            </a:xfrm>
          </p:grpSpPr>
          <p:sp>
            <p:nvSpPr>
              <p:cNvPr id="111" name=""/>
              <p:cNvSpPr/>
              <p:nvPr/>
            </p:nvSpPr>
            <p:spPr>
              <a:xfrm>
                <a:off x="6308280" y="4308120"/>
                <a:ext cx="134640" cy="134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33640" y="4309920"/>
                <a:ext cx="134640" cy="1342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759000" y="4308120"/>
                <a:ext cx="134280" cy="134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73640" y="4262400"/>
                <a:ext cx="861480" cy="21564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6156360" y="3992400"/>
              <a:ext cx="912600" cy="514440"/>
            </a:xfrm>
            <a:prstGeom prst="rect">
              <a:avLst/>
            </a:prstGeom>
            <a:noFill/>
            <a:ln w="158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383600" y="3992400"/>
            <a:ext cx="912600" cy="514440"/>
            <a:chOff x="7383600" y="3992400"/>
            <a:chExt cx="912600" cy="514440"/>
          </a:xfrm>
        </p:grpSpPr>
        <p:grpSp>
          <p:nvGrpSpPr>
            <p:cNvPr id="117" name=""/>
            <p:cNvGrpSpPr/>
            <p:nvPr/>
          </p:nvGrpSpPr>
          <p:grpSpPr>
            <a:xfrm>
              <a:off x="7402320" y="4022640"/>
              <a:ext cx="861840" cy="216000"/>
              <a:chOff x="7402320" y="4022640"/>
              <a:chExt cx="861840" cy="216000"/>
            </a:xfrm>
          </p:grpSpPr>
          <p:sp>
            <p:nvSpPr>
              <p:cNvPr id="118" name=""/>
              <p:cNvSpPr/>
              <p:nvPr/>
            </p:nvSpPr>
            <p:spPr>
              <a:xfrm>
                <a:off x="7536960" y="4068720"/>
                <a:ext cx="134640" cy="1350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62320" y="4070520"/>
                <a:ext cx="134640" cy="134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988040" y="4068720"/>
                <a:ext cx="134280" cy="1350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402320" y="4022640"/>
                <a:ext cx="861840" cy="21600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7400880" y="4262400"/>
              <a:ext cx="861480" cy="215640"/>
              <a:chOff x="7400880" y="4262400"/>
              <a:chExt cx="861480" cy="215640"/>
            </a:xfrm>
          </p:grpSpPr>
          <p:sp>
            <p:nvSpPr>
              <p:cNvPr id="123" name=""/>
              <p:cNvSpPr/>
              <p:nvPr/>
            </p:nvSpPr>
            <p:spPr>
              <a:xfrm>
                <a:off x="7535520" y="4308120"/>
                <a:ext cx="134640" cy="134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60880" y="4309920"/>
                <a:ext cx="134640" cy="1342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986240" y="4308120"/>
                <a:ext cx="134280" cy="134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400880" y="4262400"/>
                <a:ext cx="861480" cy="21564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7383600" y="3992400"/>
              <a:ext cx="912600" cy="514440"/>
            </a:xfrm>
            <a:prstGeom prst="rect">
              <a:avLst/>
            </a:prstGeom>
            <a:noFill/>
            <a:ln w="158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57120" y="5037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２倍になったものがさらに４倍になったのだから・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12520" y="5499000"/>
            <a:ext cx="20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２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４　＝　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3840" y="3300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43480" y="5951520"/>
            <a:ext cx="22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３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８　＝　２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22560" y="5931000"/>
            <a:ext cx="23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２４　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37000" y="1494000"/>
            <a:ext cx="44928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75000" y="1806480"/>
            <a:ext cx="108432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727360" y="2123640"/>
            <a:ext cx="1386000" cy="111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1280" y="4599000"/>
            <a:ext cx="630000" cy="534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141640" y="2438280"/>
            <a:ext cx="243036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462720" y="2793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何倍になるかを考えて（３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5920" y="1224000"/>
            <a:ext cx="9907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2520" y="1257480"/>
            <a:ext cx="33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円のシャツを半額にして，さら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％引きにすると，何円で売ることになる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854360"/>
            <a:ext cx="946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093080" y="1314360"/>
            <a:ext cx="1033200" cy="112572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1037880" y="2935440"/>
            <a:ext cx="981720" cy="648360"/>
            <a:chOff x="1037880" y="2935440"/>
            <a:chExt cx="981720" cy="648360"/>
          </a:xfrm>
        </p:grpSpPr>
        <p:sp>
          <p:nvSpPr>
            <p:cNvPr id="144" name=""/>
            <p:cNvSpPr/>
            <p:nvPr/>
          </p:nvSpPr>
          <p:spPr>
            <a:xfrm>
              <a:off x="1294920" y="2935440"/>
              <a:ext cx="45504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定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37880" y="3276720"/>
              <a:ext cx="98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400" spc="-1" strike="noStrike">
                  <a:solidFill>
                    <a:srgbClr val="3333ff"/>
                  </a:solidFill>
                  <a:latin typeface="Arial"/>
                </a:rPr>
                <a:t>2000</a:t>
              </a:r>
              <a:r>
                <a:rPr b="0" lang="zh-CN" sz="1400" spc="-1" strike="noStrike">
                  <a:solidFill>
                    <a:srgbClr val="3333ff"/>
                  </a:solidFill>
                  <a:latin typeface="Arial"/>
                </a:rPr>
                <a:t>円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992240" y="3068640"/>
            <a:ext cx="1781280" cy="103320"/>
          </a:xfrm>
          <a:prstGeom prst="rightArrow">
            <a:avLst>
              <a:gd name="adj1" fmla="val 50000"/>
              <a:gd name="adj2" fmla="val 43101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085280" y="2979720"/>
            <a:ext cx="612360" cy="477720"/>
            <a:chOff x="4085280" y="2979720"/>
            <a:chExt cx="612360" cy="477720"/>
          </a:xfrm>
        </p:grpSpPr>
        <p:sp>
          <p:nvSpPr>
            <p:cNvPr id="148" name=""/>
            <p:cNvSpPr/>
            <p:nvPr/>
          </p:nvSpPr>
          <p:spPr>
            <a:xfrm>
              <a:off x="4125240" y="2979720"/>
              <a:ext cx="572400" cy="3070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半　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85280" y="31521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886280" y="3068640"/>
            <a:ext cx="1647720" cy="101520"/>
          </a:xfrm>
          <a:prstGeom prst="rightArrow">
            <a:avLst>
              <a:gd name="adj1" fmla="val 50000"/>
              <a:gd name="adj2" fmla="val 40576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613560" y="2898720"/>
            <a:ext cx="1252800" cy="520200"/>
            <a:chOff x="6613560" y="2898720"/>
            <a:chExt cx="1252800" cy="520200"/>
          </a:xfrm>
        </p:grpSpPr>
        <p:sp>
          <p:nvSpPr>
            <p:cNvPr id="152" name=""/>
            <p:cNvSpPr/>
            <p:nvPr/>
          </p:nvSpPr>
          <p:spPr>
            <a:xfrm>
              <a:off x="6762600" y="2898720"/>
              <a:ext cx="1103760" cy="52020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半額の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％引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のねだ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13560" y="3078000"/>
              <a:ext cx="18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431440" y="27082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0.5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85360" y="2708280"/>
            <a:ext cx="12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68480" y="3429000"/>
            <a:ext cx="5251320" cy="274680"/>
          </a:xfrm>
          <a:custGeom>
            <a:avLst/>
            <a:gdLst>
              <a:gd name="textAreaLeft" fmla="*/ 1173600 w 5251320"/>
              <a:gd name="textAreaRight" fmla="*/ 3552480 w 5251320"/>
              <a:gd name="textAreaTop" fmla="*/ 36720 h 274680"/>
              <a:gd name="textAreaBottom" fmla="*/ 23796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-3099610"/>
                <a:lnTo>
                  <a:pt x="21048" y="7200"/>
                </a:lnTo>
                <a:lnTo>
                  <a:pt x="19376" y="0"/>
                </a:lnTo>
                <a:lnTo>
                  <a:pt x="16600" y="7200"/>
                </a:lnTo>
                <a:lnTo>
                  <a:pt x="18760" y="7200"/>
                </a:lnTo>
                <a:arcTo wR="9656" hR="21600" stAng="2300390" swAng="3089424"/>
                <a:lnTo>
                  <a:pt x="9720" y="21600"/>
                </a:lnTo>
                <a:arcTo wR="9656" hR="21600" stAng="5410186" swAng="5389814"/>
                <a:close/>
              </a:path>
              <a:path fill="darkenLess"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10186"/>
                <a:lnTo>
                  <a:pt x="9720" y="21600"/>
                </a:lnTo>
                <a:arcTo wR="9656" hR="21600" stAng="5410186" swAng="5389814"/>
                <a:close/>
              </a:path>
            </a:pathLst>
          </a:custGeom>
          <a:solidFill>
            <a:srgbClr val="ff00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3789360"/>
            <a:ext cx="743040" cy="31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1480" y="3743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18520" y="369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92360" y="1584360"/>
            <a:ext cx="85428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70400" y="1595520"/>
            <a:ext cx="58428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9200" y="4915080"/>
            <a:ext cx="39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式　　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　ー　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0.3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20360" y="5456160"/>
            <a:ext cx="36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7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33320" y="595008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00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3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96320" y="59230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70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7000" y="1898640"/>
            <a:ext cx="28796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3220920" y="817560"/>
            <a:ext cx="1368360" cy="396720"/>
            <a:chOff x="3220920" y="817560"/>
            <a:chExt cx="1368360" cy="396720"/>
          </a:xfrm>
        </p:grpSpPr>
        <p:sp>
          <p:nvSpPr>
            <p:cNvPr id="168" name=""/>
            <p:cNvSpPr/>
            <p:nvPr/>
          </p:nvSpPr>
          <p:spPr>
            <a:xfrm>
              <a:off x="3220920" y="817560"/>
              <a:ext cx="13665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59080" y="817560"/>
              <a:ext cx="133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925560" y="1359000"/>
            <a:ext cx="9907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48000" y="1359000"/>
            <a:ext cx="42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円の目覚まし時計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％引きにして，さら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レジにて半額にすると，何円で売ることになる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62720" y="2793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何倍になるかを考えて（３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316640" y="1494000"/>
            <a:ext cx="1440000" cy="137304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1091520" y="3040200"/>
            <a:ext cx="925920" cy="634320"/>
            <a:chOff x="1091520" y="3040200"/>
            <a:chExt cx="925920" cy="634320"/>
          </a:xfrm>
        </p:grpSpPr>
        <p:sp>
          <p:nvSpPr>
            <p:cNvPr id="175" name=""/>
            <p:cNvSpPr/>
            <p:nvPr/>
          </p:nvSpPr>
          <p:spPr>
            <a:xfrm>
              <a:off x="1091520" y="3040200"/>
              <a:ext cx="92592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97280" y="3367440"/>
              <a:ext cx="91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400" spc="-1" strike="noStrike">
                  <a:solidFill>
                    <a:srgbClr val="3333ff"/>
                  </a:solidFill>
                  <a:latin typeface="Arial"/>
                </a:rPr>
                <a:t>         円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992240" y="3159000"/>
            <a:ext cx="1781280" cy="103320"/>
          </a:xfrm>
          <a:prstGeom prst="rightArrow">
            <a:avLst>
              <a:gd name="adj1" fmla="val 50000"/>
              <a:gd name="adj2" fmla="val 43101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872520" y="3024360"/>
            <a:ext cx="820800" cy="517320"/>
            <a:chOff x="3872520" y="3024360"/>
            <a:chExt cx="820800" cy="517320"/>
          </a:xfrm>
        </p:grpSpPr>
        <p:sp>
          <p:nvSpPr>
            <p:cNvPr id="179" name=""/>
            <p:cNvSpPr/>
            <p:nvPr/>
          </p:nvSpPr>
          <p:spPr>
            <a:xfrm>
              <a:off x="3872520" y="3024360"/>
              <a:ext cx="82080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75760" y="3236400"/>
              <a:ext cx="18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886280" y="3159000"/>
            <a:ext cx="1647720" cy="101880"/>
          </a:xfrm>
          <a:prstGeom prst="rightArrow">
            <a:avLst>
              <a:gd name="adj1" fmla="val 50000"/>
              <a:gd name="adj2" fmla="val 40432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301800" y="2978280"/>
            <a:ext cx="1963800" cy="495000"/>
            <a:chOff x="6301800" y="2978280"/>
            <a:chExt cx="1963800" cy="495000"/>
          </a:xfrm>
        </p:grpSpPr>
        <p:sp>
          <p:nvSpPr>
            <p:cNvPr id="183" name=""/>
            <p:cNvSpPr/>
            <p:nvPr/>
          </p:nvSpPr>
          <p:spPr>
            <a:xfrm>
              <a:off x="6301800" y="2978280"/>
              <a:ext cx="1963800" cy="3070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　　　　　　　　　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13560" y="316836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148840" y="279864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cc00"/>
                </a:solidFill>
                <a:latin typeface="Arial"/>
              </a:rPr>
              <a:t>（　　　　）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55320" y="279864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（　　　　　）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8480" y="3519360"/>
            <a:ext cx="5251320" cy="274680"/>
          </a:xfrm>
          <a:custGeom>
            <a:avLst/>
            <a:gdLst>
              <a:gd name="textAreaLeft" fmla="*/ 1173600 w 5251320"/>
              <a:gd name="textAreaRight" fmla="*/ 3552480 w 5251320"/>
              <a:gd name="textAreaTop" fmla="*/ 36720 h 274680"/>
              <a:gd name="textAreaBottom" fmla="*/ 23796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-3099610"/>
                <a:lnTo>
                  <a:pt x="21048" y="7200"/>
                </a:lnTo>
                <a:lnTo>
                  <a:pt x="19376" y="0"/>
                </a:lnTo>
                <a:lnTo>
                  <a:pt x="16600" y="7200"/>
                </a:lnTo>
                <a:lnTo>
                  <a:pt x="18760" y="7200"/>
                </a:lnTo>
                <a:arcTo wR="9656" hR="21600" stAng="2300390" swAng="3089424"/>
                <a:lnTo>
                  <a:pt x="9720" y="21600"/>
                </a:lnTo>
                <a:arcTo wR="9656" hR="21600" stAng="5410186" swAng="5389814"/>
                <a:close/>
              </a:path>
              <a:path fill="darkenLess"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10186"/>
                <a:lnTo>
                  <a:pt x="9720" y="21600"/>
                </a:lnTo>
                <a:arcTo wR="9656" hR="21600" stAng="5410186" swAng="5389814"/>
                <a:close/>
              </a:path>
            </a:pathLst>
          </a:custGeom>
          <a:solidFill>
            <a:srgbClr val="ff00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3879720"/>
            <a:ext cx="743040" cy="31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1480" y="3833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58120" y="48960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式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04080" y="59040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　　　　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2816280" y="773280"/>
            <a:ext cx="1368000" cy="396720"/>
            <a:chOff x="2816280" y="773280"/>
            <a:chExt cx="1368000" cy="396720"/>
          </a:xfrm>
        </p:grpSpPr>
        <p:sp>
          <p:nvSpPr>
            <p:cNvPr id="193" name=""/>
            <p:cNvSpPr/>
            <p:nvPr/>
          </p:nvSpPr>
          <p:spPr>
            <a:xfrm>
              <a:off x="2816280" y="77328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54440" y="77328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925560" y="1359000"/>
            <a:ext cx="9907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48000" y="1359000"/>
            <a:ext cx="42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円の目覚まし時計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％引きにして，さら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レジにて半額にすると，何円で売ることになる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62720" y="2793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何倍になるかを考えて（３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316640" y="1494000"/>
            <a:ext cx="1440000" cy="137304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1039320" y="3040200"/>
            <a:ext cx="1077480" cy="634320"/>
            <a:chOff x="1039320" y="3040200"/>
            <a:chExt cx="1077480" cy="634320"/>
          </a:xfrm>
        </p:grpSpPr>
        <p:sp>
          <p:nvSpPr>
            <p:cNvPr id="200" name=""/>
            <p:cNvSpPr/>
            <p:nvPr/>
          </p:nvSpPr>
          <p:spPr>
            <a:xfrm>
              <a:off x="1091520" y="3040200"/>
              <a:ext cx="92592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39320" y="3367440"/>
              <a:ext cx="107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3800 </a:t>
              </a:r>
              <a:r>
                <a:rPr b="0" lang="zh-CN" sz="1400" spc="-1" strike="noStrike">
                  <a:solidFill>
                    <a:srgbClr val="ff3300"/>
                  </a:solidFill>
                  <a:latin typeface="Arial"/>
                </a:rPr>
                <a:t>円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992240" y="3159000"/>
            <a:ext cx="1635120" cy="90720"/>
          </a:xfrm>
          <a:prstGeom prst="rightArrow">
            <a:avLst>
              <a:gd name="adj1" fmla="val 50000"/>
              <a:gd name="adj2" fmla="val 45059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59040" y="3049560"/>
            <a:ext cx="1619280" cy="6426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定価の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％引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59320" y="3159000"/>
            <a:ext cx="1648080" cy="101880"/>
          </a:xfrm>
          <a:prstGeom prst="rightArrow">
            <a:avLst>
              <a:gd name="adj1" fmla="val 50000"/>
              <a:gd name="adj2" fmla="val 40441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69480" y="3075120"/>
            <a:ext cx="1186560" cy="337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％引きの半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47120" y="2798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cc00"/>
                </a:solidFill>
                <a:latin typeface="Arial"/>
              </a:rPr>
              <a:t>（１－０．２）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24480" y="2798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（　０．５　）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0920" y="3429000"/>
            <a:ext cx="5477040" cy="274680"/>
          </a:xfrm>
          <a:custGeom>
            <a:avLst/>
            <a:gdLst>
              <a:gd name="textAreaLeft" fmla="*/ 1224000 w 5477040"/>
              <a:gd name="textAreaRight" fmla="*/ 3705120 w 5477040"/>
              <a:gd name="textAreaTop" fmla="*/ 36720 h 274680"/>
              <a:gd name="textAreaBottom" fmla="*/ 23796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-3099610"/>
                <a:lnTo>
                  <a:pt x="21048" y="7200"/>
                </a:lnTo>
                <a:lnTo>
                  <a:pt x="19376" y="0"/>
                </a:lnTo>
                <a:lnTo>
                  <a:pt x="16600" y="7200"/>
                </a:lnTo>
                <a:lnTo>
                  <a:pt x="18760" y="7200"/>
                </a:lnTo>
                <a:arcTo wR="9656" hR="21600" stAng="2300390" swAng="3089424"/>
                <a:lnTo>
                  <a:pt x="9720" y="21600"/>
                </a:lnTo>
                <a:arcTo wR="9656" hR="21600" stAng="5410186" swAng="5389814"/>
                <a:close/>
              </a:path>
              <a:path fill="darkenLess"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10186"/>
                <a:lnTo>
                  <a:pt x="9720" y="21600"/>
                </a:lnTo>
                <a:arcTo wR="9656" hR="21600" stAng="5410186" swAng="5389814"/>
                <a:close/>
              </a:path>
            </a:pathLst>
          </a:custGeom>
          <a:solidFill>
            <a:srgbClr val="ff00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27360" y="3789360"/>
            <a:ext cx="1101960" cy="31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54160" y="3789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7440" y="5923080"/>
            <a:ext cx="25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52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30040" y="503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89880" y="3062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定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89200" y="4915080"/>
            <a:ext cx="39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式　　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　ー　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0.2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20000" y="5456160"/>
            <a:ext cx="34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8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33320" y="595008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80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4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5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46280" y="1673280"/>
            <a:ext cx="85428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44960" y="1687680"/>
            <a:ext cx="91764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81280" y="1989000"/>
            <a:ext cx="54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67360" y="1989000"/>
            <a:ext cx="283500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21320" y="378936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×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7:49:32Z</dcterms:created>
  <dc:creator>kangawa-kaori-1</dc:creator>
  <dc:description/>
  <dc:language>en-US</dc:language>
  <cp:lastModifiedBy>kangawa-kaori-1</cp:lastModifiedBy>
  <dcterms:modified xsi:type="dcterms:W3CDTF">2007-11-14T06:17:36Z</dcterms:modified>
  <cp:revision>30</cp:revision>
  <dc:subject/>
  <dc:title>スライド 1</dc:title>
</cp:coreProperties>
</file>