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92D-6439-4201-828B-ED4A2F61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4AA-2D68-4B53-B597-51D630B1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25A-AE5F-4B7B-9327-4D7B7680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49C-F93D-4642-8718-07149868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62F-7B20-4E08-A149-2090881B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30B-B0E9-4FAA-9079-D3C48716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2B4-95EE-47BA-809B-3D557950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293-8587-40B6-A905-314E9A5E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4362-C6FD-486E-A182-5C76CECB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C59-542F-4293-A2E4-6F381AF6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61B-DE03-41D9-A556-0931D4D3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9E4-C619-4CAF-AB6E-2CAC8D76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0AD2-8E97-410F-9EDB-1D298F2A3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60120" y="3709080"/>
            <a:ext cx="5102280" cy="1052280"/>
            <a:chOff x="960120" y="3709080"/>
            <a:chExt cx="5102280" cy="1052280"/>
          </a:xfrm>
        </p:grpSpPr>
        <p:sp>
          <p:nvSpPr>
            <p:cNvPr id="42" name=""/>
            <p:cNvSpPr/>
            <p:nvPr/>
          </p:nvSpPr>
          <p:spPr>
            <a:xfrm>
              <a:off x="988920" y="3747960"/>
              <a:ext cx="5045040" cy="2397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960120" y="3709080"/>
              <a:ext cx="5102280" cy="1052280"/>
              <a:chOff x="960120" y="3709080"/>
              <a:chExt cx="5102280" cy="1052280"/>
            </a:xfrm>
          </p:grpSpPr>
          <p:sp>
            <p:nvSpPr>
              <p:cNvPr id="44" name=""/>
              <p:cNvSpPr/>
              <p:nvPr/>
            </p:nvSpPr>
            <p:spPr>
              <a:xfrm>
                <a:off x="988920" y="3747960"/>
                <a:ext cx="5033880" cy="2397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V="1" rot="21138600">
                <a:off x="2921040" y="3915360"/>
                <a:ext cx="3120480" cy="52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646" y="62"/>
                    </a:moveTo>
                    <a:arcTo wR="10800" hR="10800" stAng="-5767987" swAng="57679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646" y="62"/>
                    </a:moveTo>
                    <a:arcTo wR="10800" hR="10800" stAng="-5767987" swAng="5767987"/>
                  </a:path>
                </a:pathLst>
              </a:cu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" name=""/>
              <p:cNvGrpSpPr/>
              <p:nvPr/>
            </p:nvGrpSpPr>
            <p:grpSpPr>
              <a:xfrm>
                <a:off x="3133440" y="4200480"/>
                <a:ext cx="352440" cy="560880"/>
                <a:chOff x="3133440" y="4200480"/>
                <a:chExt cx="352440" cy="56088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3133440" y="4471920"/>
                  <a:ext cx="352440" cy="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3155760" y="42004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155760" y="44240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462120" y="428760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60640" y="375588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139920" y="375588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419200" y="374472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698480" y="3743280"/>
                <a:ext cx="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305320" y="374940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 flipV="1" rot="461400">
                <a:off x="980280" y="3945600"/>
                <a:ext cx="3119760" cy="52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646" y="62"/>
                    </a:moveTo>
                    <a:arcTo wR="10800" hR="10800" stAng="-5767987" swAng="57679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646" y="62"/>
                    </a:moveTo>
                    <a:arcTo wR="10800" hR="10800" stAng="-5767987" swAng="5767987"/>
                  </a:path>
                </a:pathLst>
              </a:cu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592520" y="3746160"/>
                <a:ext cx="0" cy="23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3132000" y="549360"/>
            <a:ext cx="2475000" cy="577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数のひき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67360" y="324000"/>
            <a:ext cx="19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分数のひき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11280" y="1268280"/>
            <a:ext cx="6613200" cy="459720"/>
            <a:chOff x="611280" y="1268280"/>
            <a:chExt cx="6613200" cy="459720"/>
          </a:xfrm>
        </p:grpSpPr>
        <p:sp>
          <p:nvSpPr>
            <p:cNvPr id="61" name=""/>
            <p:cNvSpPr/>
            <p:nvPr/>
          </p:nvSpPr>
          <p:spPr>
            <a:xfrm>
              <a:off x="611280" y="1323720"/>
              <a:ext cx="360360" cy="360360"/>
            </a:xfrm>
            <a:prstGeom prst="star5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4480" y="1268280"/>
              <a:ext cx="55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　　　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のテープから　　　　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使うと何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残ります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219320" y="1536840"/>
            <a:ext cx="490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89520" y="1495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72960" y="110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16360" y="1521000"/>
            <a:ext cx="49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560" y="1479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64240" y="1111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01240" y="269712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１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19680" y="3749760"/>
            <a:ext cx="2158920" cy="239760"/>
          </a:xfrm>
          <a:prstGeom prst="rect">
            <a:avLst/>
          </a:pr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852720" y="3746520"/>
            <a:ext cx="2173320" cy="244440"/>
            <a:chOff x="3852720" y="3746520"/>
            <a:chExt cx="2173320" cy="244440"/>
          </a:xfrm>
        </p:grpSpPr>
        <p:sp>
          <p:nvSpPr>
            <p:cNvPr id="72" name=""/>
            <p:cNvSpPr/>
            <p:nvPr/>
          </p:nvSpPr>
          <p:spPr>
            <a:xfrm>
              <a:off x="3852720" y="3746520"/>
              <a:ext cx="2173320" cy="23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08200" y="375444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0720" y="375300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57760" y="3720600"/>
            <a:ext cx="2169720" cy="777240"/>
            <a:chOff x="3857760" y="3720600"/>
            <a:chExt cx="2169720" cy="777240"/>
          </a:xfrm>
        </p:grpSpPr>
        <p:sp>
          <p:nvSpPr>
            <p:cNvPr id="76" name=""/>
            <p:cNvSpPr/>
            <p:nvPr/>
          </p:nvSpPr>
          <p:spPr>
            <a:xfrm flipH="1" flipV="1">
              <a:off x="3857760" y="3720240"/>
              <a:ext cx="1370880" cy="47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46" y="62"/>
                  </a:moveTo>
                  <a:arcTo wR="10800" hR="10800" stAng="-5767987" swAng="5767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9646" y="62"/>
                  </a:moveTo>
                  <a:arcTo wR="10800" hR="10800" stAng="-5767987" swAng="5767987"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656600" y="3723120"/>
              <a:ext cx="137088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46" y="62"/>
                  </a:moveTo>
                  <a:arcTo wR="10800" hR="10800" stAng="-5767987" swAng="5767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9646" y="62"/>
                  </a:moveTo>
                  <a:arcTo wR="10800" hR="10800" stAng="-5767987" swAng="5767987"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4637160" y="3906720"/>
              <a:ext cx="699840" cy="591120"/>
              <a:chOff x="4637160" y="3906720"/>
              <a:chExt cx="699840" cy="591120"/>
            </a:xfrm>
          </p:grpSpPr>
          <p:sp>
            <p:nvSpPr>
              <p:cNvPr id="79" name=""/>
              <p:cNvSpPr/>
              <p:nvPr/>
            </p:nvSpPr>
            <p:spPr>
              <a:xfrm>
                <a:off x="4681800" y="4160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637160" y="4176360"/>
                <a:ext cx="35244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683240" y="3906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965840" y="39920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838440" y="2887560"/>
            <a:ext cx="6468840" cy="714600"/>
            <a:chOff x="838440" y="2887560"/>
            <a:chExt cx="6468840" cy="714600"/>
          </a:xfrm>
        </p:grpSpPr>
        <p:sp>
          <p:nvSpPr>
            <p:cNvPr id="84" name=""/>
            <p:cNvSpPr/>
            <p:nvPr/>
          </p:nvSpPr>
          <p:spPr>
            <a:xfrm>
              <a:off x="982440" y="324648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81000" y="3600360"/>
              <a:ext cx="632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01720" y="34178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22440" y="34178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43160" y="34178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63880" y="340848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03880" y="34196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24600" y="34196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46760" y="34196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92520" y="324648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440" y="288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42040" y="2921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-9000" y="2077920"/>
            <a:ext cx="65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式　（　　　　　　　　　　　　　　　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097000" y="1954080"/>
            <a:ext cx="1698840" cy="754560"/>
            <a:chOff x="2097000" y="1954080"/>
            <a:chExt cx="1698840" cy="754560"/>
          </a:xfrm>
        </p:grpSpPr>
        <p:sp>
          <p:nvSpPr>
            <p:cNvPr id="98" name=""/>
            <p:cNvSpPr/>
            <p:nvPr/>
          </p:nvSpPr>
          <p:spPr>
            <a:xfrm>
              <a:off x="2153520" y="1954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3300"/>
                  </a:solidFill>
                  <a:latin typeface="Arial"/>
                </a:rPr>
                <a:t>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54240" y="2309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97000" y="2349360"/>
              <a:ext cx="405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36920" y="1973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8080" y="2303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90840" y="2343240"/>
              <a:ext cx="405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19520" y="2168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3300"/>
                  </a:solidFill>
                  <a:latin typeface="Arial"/>
                </a:rPr>
                <a:t>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852920" y="882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4654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083120" y="4649760"/>
            <a:ext cx="446040" cy="870840"/>
            <a:chOff x="4083120" y="4649760"/>
            <a:chExt cx="446040" cy="870840"/>
          </a:xfrm>
        </p:grpSpPr>
        <p:sp>
          <p:nvSpPr>
            <p:cNvPr id="108" name=""/>
            <p:cNvSpPr/>
            <p:nvPr/>
          </p:nvSpPr>
          <p:spPr>
            <a:xfrm>
              <a:off x="4108320" y="5060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83120" y="513396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98960" y="4649760"/>
              <a:ext cx="420840" cy="44604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533600" y="4727520"/>
            <a:ext cx="2298240" cy="796320"/>
            <a:chOff x="1533600" y="4727520"/>
            <a:chExt cx="2298240" cy="796320"/>
          </a:xfrm>
        </p:grpSpPr>
        <p:sp>
          <p:nvSpPr>
            <p:cNvPr id="112" name=""/>
            <p:cNvSpPr/>
            <p:nvPr/>
          </p:nvSpPr>
          <p:spPr>
            <a:xfrm>
              <a:off x="2066040" y="4919400"/>
              <a:ext cx="176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（</a:t>
              </a:r>
              <a:r>
                <a:rPr b="0" lang="zh-CN" sz="2400" spc="-1" strike="noStrike">
                  <a:solidFill>
                    <a:srgbClr val="ff3300"/>
                  </a:solidFill>
                  <a:latin typeface="Arial"/>
                </a:rPr>
                <a:t>７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zh-CN" sz="2400" spc="-1" strike="noStrike">
                  <a:solidFill>
                    <a:srgbClr val="ff3300"/>
                  </a:solidFill>
                  <a:latin typeface="Arial"/>
                </a:rPr>
                <a:t>３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）こ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533600" y="4727520"/>
              <a:ext cx="809640" cy="796320"/>
              <a:chOff x="1533600" y="4727520"/>
              <a:chExt cx="809640" cy="796320"/>
            </a:xfrm>
          </p:grpSpPr>
          <p:sp>
            <p:nvSpPr>
              <p:cNvPr id="114" name=""/>
              <p:cNvSpPr/>
              <p:nvPr/>
            </p:nvSpPr>
            <p:spPr>
              <a:xfrm>
                <a:off x="1596600" y="472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02720" y="50641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33600" y="5133960"/>
                <a:ext cx="4456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79640" y="49305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1353960" y="5640480"/>
            <a:ext cx="3622680" cy="796320"/>
            <a:chOff x="1353960" y="5640480"/>
            <a:chExt cx="3622680" cy="796320"/>
          </a:xfrm>
        </p:grpSpPr>
        <p:grpSp>
          <p:nvGrpSpPr>
            <p:cNvPr id="119" name=""/>
            <p:cNvGrpSpPr/>
            <p:nvPr/>
          </p:nvGrpSpPr>
          <p:grpSpPr>
            <a:xfrm>
              <a:off x="1488960" y="5640480"/>
              <a:ext cx="810360" cy="796320"/>
              <a:chOff x="1488960" y="5640480"/>
              <a:chExt cx="810360" cy="796320"/>
            </a:xfrm>
          </p:grpSpPr>
          <p:sp>
            <p:nvSpPr>
              <p:cNvPr id="120" name=""/>
              <p:cNvSpPr/>
              <p:nvPr/>
            </p:nvSpPr>
            <p:spPr>
              <a:xfrm>
                <a:off x="1552320" y="56404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58800" y="59770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88960" y="6046920"/>
                <a:ext cx="4460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935720" y="584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344320" y="5640480"/>
              <a:ext cx="810360" cy="796320"/>
              <a:chOff x="2344320" y="5640480"/>
              <a:chExt cx="810360" cy="796320"/>
            </a:xfrm>
          </p:grpSpPr>
          <p:sp>
            <p:nvSpPr>
              <p:cNvPr id="125" name=""/>
              <p:cNvSpPr/>
              <p:nvPr/>
            </p:nvSpPr>
            <p:spPr>
              <a:xfrm>
                <a:off x="2407680" y="56404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14160" y="59770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44320" y="6046920"/>
                <a:ext cx="4460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91080" y="584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205080" y="565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3800" y="5977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53960" y="6046920"/>
              <a:ext cx="4464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09480" y="5640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15960" y="5977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6120" y="6046920"/>
              <a:ext cx="4464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41400" y="57754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53960" y="6405840"/>
              <a:ext cx="360036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813280" y="5049720"/>
            <a:ext cx="2800440" cy="1191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母が同じ分数のひき算では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　　）はそのままにして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　　　　　）だけをひ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7920" y="5549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HG創英角ｺﾞｼｯｸUB"/>
              </a:rPr>
              <a:t>分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7920" y="5954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HG創英角ｺﾞｼｯｸUB"/>
              </a:rPr>
              <a:t>分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002360" y="32400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分数のひき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142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253600" y="12240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の計算をし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8288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417680" y="1628640"/>
            <a:ext cx="810360" cy="796320"/>
            <a:chOff x="1417680" y="1628640"/>
            <a:chExt cx="810360" cy="796320"/>
          </a:xfrm>
        </p:grpSpPr>
        <p:sp>
          <p:nvSpPr>
            <p:cNvPr id="147" name=""/>
            <p:cNvSpPr/>
            <p:nvPr/>
          </p:nvSpPr>
          <p:spPr>
            <a:xfrm>
              <a:off x="1481040" y="162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87520" y="1965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17680" y="203508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64440" y="1831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336760" y="162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2880" y="196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73400" y="203508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20160" y="183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7464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12560" y="2484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4320" y="284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4840" y="291132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21600" y="27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93920" y="250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00040" y="284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0560" y="291132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77320" y="27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36640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376280" y="3429000"/>
            <a:ext cx="810360" cy="796320"/>
            <a:chOff x="1376280" y="3429000"/>
            <a:chExt cx="810360" cy="796320"/>
          </a:xfrm>
        </p:grpSpPr>
        <p:sp>
          <p:nvSpPr>
            <p:cNvPr id="166" name=""/>
            <p:cNvSpPr/>
            <p:nvPr/>
          </p:nvSpPr>
          <p:spPr>
            <a:xfrm>
              <a:off x="1439640" y="342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46120" y="3765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76280" y="383544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23040" y="3632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29536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01840" y="3765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32000" y="383544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78760" y="363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4581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376280" y="4373640"/>
            <a:ext cx="810360" cy="796320"/>
            <a:chOff x="1376280" y="4373640"/>
            <a:chExt cx="810360" cy="796320"/>
          </a:xfrm>
        </p:grpSpPr>
        <p:sp>
          <p:nvSpPr>
            <p:cNvPr id="176" name=""/>
            <p:cNvSpPr/>
            <p:nvPr/>
          </p:nvSpPr>
          <p:spPr>
            <a:xfrm>
              <a:off x="1439640" y="43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46120" y="4710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6280" y="478008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23040" y="4576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678760" y="4576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54990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90680" y="529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96800" y="563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27320" y="5705640"/>
            <a:ext cx="44604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74080" y="5502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3520" y="1011240"/>
            <a:ext cx="31096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レンジジュースが　　　　　ℓ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グレープジュースが　　　     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ります。どちらが，何ℓ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886280" y="1268280"/>
            <a:ext cx="340920" cy="340920"/>
            <a:chOff x="4886280" y="1268280"/>
            <a:chExt cx="340920" cy="340920"/>
          </a:xfrm>
        </p:grpSpPr>
        <p:sp>
          <p:nvSpPr>
            <p:cNvPr id="188" name="SH_02_20071018115826"/>
            <p:cNvSpPr/>
            <p:nvPr/>
          </p:nvSpPr>
          <p:spPr>
            <a:xfrm>
              <a:off x="4886280" y="1268280"/>
              <a:ext cx="340920" cy="340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941360" y="1312920"/>
              <a:ext cx="230400" cy="23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792000" y="1268280"/>
            <a:ext cx="340920" cy="340920"/>
            <a:chOff x="792000" y="1268280"/>
            <a:chExt cx="340920" cy="340920"/>
          </a:xfrm>
        </p:grpSpPr>
        <p:sp>
          <p:nvSpPr>
            <p:cNvPr id="191" name="SH_02_20071018115741"/>
            <p:cNvSpPr/>
            <p:nvPr/>
          </p:nvSpPr>
          <p:spPr>
            <a:xfrm>
              <a:off x="792000" y="1268280"/>
              <a:ext cx="340920" cy="340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846720" y="1312920"/>
              <a:ext cx="231120" cy="23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"/>
          <p:cNvSpPr/>
          <p:nvPr/>
        </p:nvSpPr>
        <p:spPr>
          <a:xfrm>
            <a:off x="4572000" y="728640"/>
            <a:ext cx="0" cy="5761080"/>
          </a:xfrm>
          <a:prstGeom prst="line">
            <a:avLst/>
          </a:prstGeom>
          <a:ln w="15840">
            <a:solidFill>
              <a:srgbClr val="99cc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44600" y="960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44600" y="1224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83400" y="131436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4160" y="3654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74000" y="531972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　　　　　　　　　　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4320" y="544680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46040" y="455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44600" y="15908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44600" y="1854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83400" y="194472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002360" y="32400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＜分数のひき算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627280" y="620640"/>
            <a:ext cx="1368000" cy="396720"/>
            <a:chOff x="2627280" y="620640"/>
            <a:chExt cx="1368000" cy="396720"/>
          </a:xfrm>
        </p:grpSpPr>
        <p:sp>
          <p:nvSpPr>
            <p:cNvPr id="206" name=""/>
            <p:cNvSpPr/>
            <p:nvPr/>
          </p:nvSpPr>
          <p:spPr>
            <a:xfrm>
              <a:off x="2627280" y="620640"/>
              <a:ext cx="1366200" cy="396720"/>
            </a:xfrm>
            <a:prstGeom prst="bevel">
              <a:avLst>
                <a:gd name="adj" fmla="val 125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65440" y="62064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確認テス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253600" y="12240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の計算をし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18288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417680" y="1628640"/>
            <a:ext cx="810360" cy="796320"/>
            <a:chOff x="1417680" y="1628640"/>
            <a:chExt cx="810360" cy="796320"/>
          </a:xfrm>
        </p:grpSpPr>
        <p:sp>
          <p:nvSpPr>
            <p:cNvPr id="211" name=""/>
            <p:cNvSpPr/>
            <p:nvPr/>
          </p:nvSpPr>
          <p:spPr>
            <a:xfrm>
              <a:off x="1481040" y="162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87520" y="1965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17680" y="203508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64440" y="1831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336760" y="162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42880" y="196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73400" y="203508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20160" y="183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27464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12560" y="2484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4320" y="284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74840" y="291132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21600" y="27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93920" y="250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00040" y="284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30560" y="291132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77320" y="27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36640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376280" y="3429000"/>
            <a:ext cx="810360" cy="796320"/>
            <a:chOff x="1376280" y="3429000"/>
            <a:chExt cx="810360" cy="796320"/>
          </a:xfrm>
        </p:grpSpPr>
        <p:sp>
          <p:nvSpPr>
            <p:cNvPr id="230" name=""/>
            <p:cNvSpPr/>
            <p:nvPr/>
          </p:nvSpPr>
          <p:spPr>
            <a:xfrm>
              <a:off x="1439640" y="342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6120" y="3765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76280" y="383544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23040" y="3632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29536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01840" y="3765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32000" y="383544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8760" y="363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4581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376280" y="4373640"/>
            <a:ext cx="810360" cy="796320"/>
            <a:chOff x="1376280" y="4373640"/>
            <a:chExt cx="810360" cy="796320"/>
          </a:xfrm>
        </p:grpSpPr>
        <p:sp>
          <p:nvSpPr>
            <p:cNvPr id="240" name=""/>
            <p:cNvSpPr/>
            <p:nvPr/>
          </p:nvSpPr>
          <p:spPr>
            <a:xfrm>
              <a:off x="1439640" y="43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46120" y="4710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76280" y="4780080"/>
              <a:ext cx="4460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3040" y="4576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678760" y="4576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" y="54990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90680" y="529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96800" y="563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27320" y="5705640"/>
            <a:ext cx="44604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74080" y="5502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3520" y="1011240"/>
            <a:ext cx="31096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レンジジュースが　　　　　ℓ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グレープジュースが　　　     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ります。どちらが，何ℓ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886280" y="1268280"/>
            <a:ext cx="340920" cy="340920"/>
            <a:chOff x="4886280" y="1268280"/>
            <a:chExt cx="340920" cy="340920"/>
          </a:xfrm>
        </p:grpSpPr>
        <p:sp>
          <p:nvSpPr>
            <p:cNvPr id="252" name="SH_02_20071018115826"/>
            <p:cNvSpPr/>
            <p:nvPr/>
          </p:nvSpPr>
          <p:spPr>
            <a:xfrm>
              <a:off x="4886280" y="1268280"/>
              <a:ext cx="340920" cy="340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4941360" y="1312920"/>
              <a:ext cx="230400" cy="23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"/>
          <p:cNvGrpSpPr/>
          <p:nvPr/>
        </p:nvGrpSpPr>
        <p:grpSpPr>
          <a:xfrm>
            <a:off x="792000" y="1268280"/>
            <a:ext cx="340920" cy="340920"/>
            <a:chOff x="792000" y="1268280"/>
            <a:chExt cx="340920" cy="340920"/>
          </a:xfrm>
        </p:grpSpPr>
        <p:sp>
          <p:nvSpPr>
            <p:cNvPr id="255" name="SH_02_20071018115741"/>
            <p:cNvSpPr/>
            <p:nvPr/>
          </p:nvSpPr>
          <p:spPr>
            <a:xfrm>
              <a:off x="792000" y="1268280"/>
              <a:ext cx="340920" cy="340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846720" y="1312920"/>
              <a:ext cx="231120" cy="23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/>
          <p:cNvSpPr/>
          <p:nvPr/>
        </p:nvSpPr>
        <p:spPr>
          <a:xfrm>
            <a:off x="4572000" y="728640"/>
            <a:ext cx="0" cy="5761080"/>
          </a:xfrm>
          <a:prstGeom prst="line">
            <a:avLst/>
          </a:prstGeom>
          <a:ln w="15840">
            <a:solidFill>
              <a:srgbClr val="99cc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44600" y="960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644600" y="1224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83400" y="131436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24160" y="3654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21720" y="5468760"/>
            <a:ext cx="37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え（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レンジジュース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多い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44320" y="544680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46040" y="455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44600" y="15908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44600" y="1854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83400" y="1944720"/>
            <a:ext cx="4460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06120" y="279360"/>
            <a:ext cx="14000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＜答え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36760" y="1641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3240" y="1978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173400" y="2044440"/>
            <a:ext cx="50652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16240" y="251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22360" y="2847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52880" y="2917800"/>
            <a:ext cx="54288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7920" y="3448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54040" y="3784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84560" y="3854520"/>
            <a:ext cx="488880" cy="3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36760" y="4384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3240" y="472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73400" y="4791240"/>
            <a:ext cx="500040" cy="28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27040" y="5288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33520" y="562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64040" y="5694480"/>
            <a:ext cx="511200" cy="46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95760" y="4214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425920" y="4276800"/>
            <a:ext cx="522360" cy="7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60960" y="4046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97640" y="3876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07000" y="42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437160" y="4275000"/>
            <a:ext cx="522360" cy="7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97400" y="4057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0" y="3833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49920" y="419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480440" y="4253040"/>
            <a:ext cx="522000" cy="7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65680" y="522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459560" y="558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389720" y="5648400"/>
            <a:ext cx="522360" cy="7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5:21:33Z</dcterms:created>
  <dc:creator>kangawa-kaori-1</dc:creator>
  <dc:description/>
  <dc:language>en-US</dc:language>
  <cp:lastModifiedBy>kangawa-kaori-1</cp:lastModifiedBy>
  <dcterms:modified xsi:type="dcterms:W3CDTF">2007-11-14T06:20:49Z</dcterms:modified>
  <cp:revision>55</cp:revision>
  <dc:subject/>
  <dc:title>スライド 1</dc:title>
</cp:coreProperties>
</file>