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B0E-4CEC-4766-AA24-41E4B158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019-E3EC-457B-84F3-F847ECC1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75A-240E-4F60-A35E-1F60F3B0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06C-177A-4314-BCF6-771B656E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911-D419-400B-A320-5F2C4A53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5CF-96AA-4314-9EC9-3015E9ED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62A-71E5-4D91-ABF9-505AC23C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7AF-A90B-41C0-88DE-1569F8EE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2EE-2D04-4F9E-B039-0257E49E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A50-1AF1-446B-A24E-018F7672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A26-CC00-4F4E-8D03-B66D9A7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089-F339-47D2-AA9C-45590A0D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C4E7-43F7-4C3D-A0AC-FB09267A7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.wmf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125360"/>
            <a:ext cx="9349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57960" y="1098720"/>
            <a:ext cx="41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入りのペットボトルに入ったジュース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ペットボトル３本分は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なるのか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920" y="2133720"/>
            <a:ext cx="790200" cy="2176200"/>
            <a:chOff x="2509920" y="2133720"/>
            <a:chExt cx="790200" cy="2176200"/>
          </a:xfrm>
        </p:grpSpPr>
        <p:graphicFrame>
          <p:nvGraphicFramePr>
            <p:cNvPr id="44" name=""/>
            <p:cNvGraphicFramePr/>
            <p:nvPr/>
          </p:nvGraphicFramePr>
          <p:xfrm>
            <a:off x="2556000" y="2133720"/>
            <a:ext cx="698400" cy="158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56000" y="2133720"/>
                      <a:ext cx="69840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2509920" y="3789360"/>
              <a:ext cx="79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2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153880" y="5445000"/>
            <a:ext cx="504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式　　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0.2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　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×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　３　</a:t>
            </a:r>
            <a:r>
              <a:rPr b="0" lang="zh-CN" sz="1800" spc="-1" strike="noStrike" u="sng">
                <a:solidFill>
                  <a:srgbClr val="333399"/>
                </a:solidFill>
                <a:uFillTx/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0760" y="336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140360" y="2133720"/>
            <a:ext cx="815760" cy="2176200"/>
            <a:chOff x="4140360" y="2133720"/>
            <a:chExt cx="815760" cy="2176200"/>
          </a:xfrm>
        </p:grpSpPr>
        <p:graphicFrame>
          <p:nvGraphicFramePr>
            <p:cNvPr id="53" name=""/>
            <p:cNvGraphicFramePr/>
            <p:nvPr/>
          </p:nvGraphicFramePr>
          <p:xfrm>
            <a:off x="4140360" y="2133720"/>
            <a:ext cx="69840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40360" y="2133720"/>
                      <a:ext cx="69840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"/>
            <p:cNvSpPr/>
            <p:nvPr/>
          </p:nvSpPr>
          <p:spPr>
            <a:xfrm>
              <a:off x="4165920" y="3789360"/>
              <a:ext cx="79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2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749920" y="2133720"/>
            <a:ext cx="790200" cy="2176200"/>
            <a:chOff x="5749920" y="2133720"/>
            <a:chExt cx="790200" cy="2176200"/>
          </a:xfrm>
        </p:grpSpPr>
        <p:graphicFrame>
          <p:nvGraphicFramePr>
            <p:cNvPr id="57" name=""/>
            <p:cNvGraphicFramePr/>
            <p:nvPr/>
          </p:nvGraphicFramePr>
          <p:xfrm>
            <a:off x="5796000" y="2133720"/>
            <a:ext cx="698400" cy="158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6000" y="2133720"/>
                      <a:ext cx="69840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5749920" y="3789360"/>
              <a:ext cx="79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2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977480" y="4581360"/>
            <a:ext cx="30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が　３本だから　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333360"/>
            <a:ext cx="24462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数のかけ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516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かけ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33336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75480" y="333360"/>
            <a:ext cx="23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×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計算の仕方を考え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60360" y="2060640"/>
            <a:ext cx="360360" cy="288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95640" y="2060640"/>
            <a:ext cx="360360" cy="2887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1631160" y="981000"/>
            <a:ext cx="487080" cy="863640"/>
            <a:chOff x="1631160" y="981000"/>
            <a:chExt cx="487080" cy="863640"/>
          </a:xfrm>
        </p:grpSpPr>
        <p:graphicFrame>
          <p:nvGraphicFramePr>
            <p:cNvPr id="70" name=""/>
            <p:cNvGraphicFramePr/>
            <p:nvPr/>
          </p:nvGraphicFramePr>
          <p:xfrm>
            <a:off x="1692360" y="981000"/>
            <a:ext cx="380880" cy="8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92360" y="981000"/>
                      <a:ext cx="38088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1631160" y="1440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flipH="1">
            <a:off x="1476360" y="1844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16000" y="184464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83520" y="1773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0240" y="1773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852720" y="2033640"/>
            <a:ext cx="360360" cy="288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788000" y="2033640"/>
            <a:ext cx="360360" cy="28872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4223520" y="954000"/>
            <a:ext cx="487080" cy="863640"/>
            <a:chOff x="4223520" y="954000"/>
            <a:chExt cx="487080" cy="863640"/>
          </a:xfrm>
        </p:grpSpPr>
        <p:graphicFrame>
          <p:nvGraphicFramePr>
            <p:cNvPr id="80" name=""/>
            <p:cNvGraphicFramePr/>
            <p:nvPr/>
          </p:nvGraphicFramePr>
          <p:xfrm>
            <a:off x="4284720" y="954000"/>
            <a:ext cx="380880" cy="86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84720" y="954000"/>
                      <a:ext cx="38088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4223520" y="1413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4068720" y="1817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08360" y="181764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75880" y="1746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2960" y="1746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6372360" y="2060640"/>
            <a:ext cx="360360" cy="28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7307280" y="2060640"/>
            <a:ext cx="360360" cy="2887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742800" y="981000"/>
            <a:ext cx="487080" cy="863640"/>
            <a:chOff x="6742800" y="981000"/>
            <a:chExt cx="487080" cy="863640"/>
          </a:xfrm>
        </p:grpSpPr>
        <p:graphicFrame>
          <p:nvGraphicFramePr>
            <p:cNvPr id="90" name=""/>
            <p:cNvGraphicFramePr/>
            <p:nvPr/>
          </p:nvGraphicFramePr>
          <p:xfrm>
            <a:off x="6804000" y="981000"/>
            <a:ext cx="380880" cy="863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04000" y="981000"/>
                      <a:ext cx="38088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6742800" y="1440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 flipH="1">
            <a:off x="6587640" y="184464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28000" y="1844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160" y="1773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2240" y="1773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1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21520" y="25671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2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91880" y="2684880"/>
            <a:ext cx="1620360" cy="712800"/>
            <a:chOff x="1091880" y="2684880"/>
            <a:chExt cx="1620360" cy="712800"/>
          </a:xfrm>
        </p:grpSpPr>
        <p:sp>
          <p:nvSpPr>
            <p:cNvPr id="99" name=""/>
            <p:cNvSpPr/>
            <p:nvPr/>
          </p:nvSpPr>
          <p:spPr>
            <a:xfrm>
              <a:off x="1265400" y="29052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58920" y="3009960"/>
              <a:ext cx="14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00360" y="292428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84320" y="291132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451800">
              <a:off x="1824480" y="2739240"/>
              <a:ext cx="863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21148200">
              <a:off x="1270800" y="2752200"/>
              <a:ext cx="86400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2139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2139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 rot="451800">
              <a:off x="1268640" y="2854800"/>
              <a:ext cx="864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202" y="1448"/>
                  </a:moveTo>
                  <a:arcTo wR="10800" hR="10800" stAng="-3599210" swAng="3413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202" y="1448"/>
                  </a:moveTo>
                  <a:arcTo wR="10800" hR="10800" stAng="-3599210" swAng="34131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 rot="21148200">
              <a:off x="1119600" y="2818080"/>
              <a:ext cx="864000" cy="47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202" y="1448"/>
                  </a:moveTo>
                  <a:arcTo wR="10800" hR="10800" stAng="-3599210" swAng="3413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202" y="1448"/>
                  </a:moveTo>
                  <a:arcTo wR="10800" hR="10800" stAng="-3599210" swAng="34131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7360" y="3121200"/>
              <a:ext cx="51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１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612960" y="2565360"/>
            <a:ext cx="1620360" cy="830520"/>
            <a:chOff x="3612960" y="2565360"/>
            <a:chExt cx="1620360" cy="830520"/>
          </a:xfrm>
        </p:grpSpPr>
        <p:sp>
          <p:nvSpPr>
            <p:cNvPr id="109" name=""/>
            <p:cNvSpPr/>
            <p:nvPr/>
          </p:nvSpPr>
          <p:spPr>
            <a:xfrm>
              <a:off x="3786480" y="29034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80000" y="3008160"/>
              <a:ext cx="14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1440" y="292248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5400" y="290952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451800">
              <a:off x="4345560" y="2737440"/>
              <a:ext cx="863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rot="21148200">
              <a:off x="3791880" y="2750400"/>
              <a:ext cx="86400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2139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2139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42600" y="256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 rot="451800">
              <a:off x="3789720" y="2853000"/>
              <a:ext cx="864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202" y="1448"/>
                  </a:moveTo>
                  <a:arcTo wR="10800" hR="10800" stAng="-3599210" swAng="3413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202" y="1448"/>
                  </a:moveTo>
                  <a:arcTo wR="10800" hR="10800" stAng="-3599210" swAng="34131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 rot="21148200">
              <a:off x="3640680" y="2816280"/>
              <a:ext cx="864000" cy="47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202" y="1448"/>
                  </a:moveTo>
                  <a:arcTo wR="10800" hR="10800" stAng="-3599210" swAng="3413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202" y="1448"/>
                  </a:moveTo>
                  <a:arcTo wR="10800" hR="10800" stAng="-3599210" swAng="34131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98440" y="3119400"/>
              <a:ext cx="51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１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133680" y="2565360"/>
            <a:ext cx="1620360" cy="830520"/>
            <a:chOff x="6133680" y="2565360"/>
            <a:chExt cx="1620360" cy="830520"/>
          </a:xfrm>
        </p:grpSpPr>
        <p:sp>
          <p:nvSpPr>
            <p:cNvPr id="120" name=""/>
            <p:cNvSpPr/>
            <p:nvPr/>
          </p:nvSpPr>
          <p:spPr>
            <a:xfrm>
              <a:off x="6307200" y="29034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0720" y="3008160"/>
              <a:ext cx="14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42160" y="292248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26120" y="290952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451800">
              <a:off x="6866280" y="2737440"/>
              <a:ext cx="863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rot="21148200">
              <a:off x="6312600" y="2750400"/>
              <a:ext cx="86400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2139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2139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63320" y="256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 rot="451800">
              <a:off x="6310440" y="2853000"/>
              <a:ext cx="864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202" y="1448"/>
                  </a:moveTo>
                  <a:arcTo wR="10800" hR="10800" stAng="-3599210" swAng="3413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202" y="1448"/>
                  </a:moveTo>
                  <a:arcTo wR="10800" hR="10800" stAng="-3599210" swAng="34131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21148200">
              <a:off x="6161400" y="2816280"/>
              <a:ext cx="864000" cy="47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202" y="1448"/>
                  </a:moveTo>
                  <a:arcTo wR="10800" hR="10800" stAng="-3599210" swAng="3413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202" y="1448"/>
                  </a:moveTo>
                  <a:arcTo wR="10800" hR="10800" stAng="-3599210" swAng="34131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19160" y="3119400"/>
              <a:ext cx="51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１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73320" y="4365720"/>
            <a:ext cx="4494960" cy="841680"/>
            <a:chOff x="2173320" y="4365720"/>
            <a:chExt cx="4494960" cy="841680"/>
          </a:xfrm>
        </p:grpSpPr>
        <p:sp>
          <p:nvSpPr>
            <p:cNvPr id="131" name=""/>
            <p:cNvSpPr/>
            <p:nvPr/>
          </p:nvSpPr>
          <p:spPr>
            <a:xfrm>
              <a:off x="3774960" y="4808520"/>
              <a:ext cx="144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00720" y="471024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451800">
              <a:off x="4341240" y="4537800"/>
              <a:ext cx="8625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rot="21148200">
              <a:off x="3786840" y="4550760"/>
              <a:ext cx="86472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2139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2139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26400" y="43657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14960" y="46926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14960" y="4818240"/>
              <a:ext cx="14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56400" y="473220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0360" y="47196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451800">
              <a:off x="5781240" y="4547160"/>
              <a:ext cx="862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21148200">
              <a:off x="5226840" y="4560480"/>
              <a:ext cx="864000" cy="43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2139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2139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66040" y="43750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6480" y="470376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40000" y="4808520"/>
              <a:ext cx="14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1440" y="47228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65400" y="471024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451800">
              <a:off x="2906280" y="4537800"/>
              <a:ext cx="8625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21148200">
              <a:off x="2351880" y="4550760"/>
              <a:ext cx="86400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2139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2139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91080" y="43657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 rot="451800">
              <a:off x="2349000" y="4653000"/>
              <a:ext cx="864000" cy="43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202" y="1448"/>
                  </a:moveTo>
                  <a:arcTo wR="10800" hR="10800" stAng="-3599210" swAng="3413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202" y="1448"/>
                  </a:moveTo>
                  <a:arcTo wR="10800" hR="10800" stAng="-3599210" swAng="34131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 rot="21148200">
              <a:off x="2201040" y="4615560"/>
              <a:ext cx="864000" cy="48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202" y="1448"/>
                  </a:moveTo>
                  <a:arcTo wR="10800" hR="10800" stAng="-3599210" swAng="3413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202" y="1448"/>
                  </a:moveTo>
                  <a:arcTo wR="10800" hR="10800" stAng="-3599210" swAng="34131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91560" y="493092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41320" y="4365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線分図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45120" y="359100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ff99cc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1080" y="3645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合　わ　せ　る　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483084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0720" y="483408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46720" y="5321160"/>
            <a:ext cx="52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・・・・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   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60320" y="5734080"/>
            <a:ext cx="64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 × 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・・・・・・・・・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　　  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86120" y="6237360"/>
            <a:ext cx="29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0.2  ×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＝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55600" y="566100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 ×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50160" y="522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31480" y="6308640"/>
            <a:ext cx="14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答え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6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　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32120" y="4365720"/>
            <a:ext cx="395280" cy="2808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790800" y="4838760"/>
            <a:ext cx="1440000" cy="0"/>
            <a:chOff x="3790800" y="4838760"/>
            <a:chExt cx="1440000" cy="0"/>
          </a:xfrm>
        </p:grpSpPr>
        <p:sp>
          <p:nvSpPr>
            <p:cNvPr id="167" name=""/>
            <p:cNvSpPr/>
            <p:nvPr/>
          </p:nvSpPr>
          <p:spPr>
            <a:xfrm>
              <a:off x="3790800" y="4838760"/>
              <a:ext cx="71928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11520" y="4838760"/>
              <a:ext cx="71928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216400" y="4848120"/>
            <a:ext cx="1440000" cy="0"/>
            <a:chOff x="5216400" y="4848120"/>
            <a:chExt cx="1440000" cy="0"/>
          </a:xfrm>
        </p:grpSpPr>
        <p:sp>
          <p:nvSpPr>
            <p:cNvPr id="170" name=""/>
            <p:cNvSpPr/>
            <p:nvPr/>
          </p:nvSpPr>
          <p:spPr>
            <a:xfrm>
              <a:off x="5216400" y="4848120"/>
              <a:ext cx="7192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37120" y="4848120"/>
              <a:ext cx="7192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43240" y="4832280"/>
            <a:ext cx="1439640" cy="0"/>
            <a:chOff x="2343240" y="4832280"/>
            <a:chExt cx="1439640" cy="0"/>
          </a:xfrm>
        </p:grpSpPr>
        <p:sp>
          <p:nvSpPr>
            <p:cNvPr id="173" name=""/>
            <p:cNvSpPr/>
            <p:nvPr/>
          </p:nvSpPr>
          <p:spPr>
            <a:xfrm>
              <a:off x="3063960" y="4832280"/>
              <a:ext cx="718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43240" y="4832280"/>
              <a:ext cx="718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715824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かけ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64160" y="4581360"/>
            <a:ext cx="3959280" cy="151164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8880" y="4581360"/>
            <a:ext cx="3959280" cy="151164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64160" y="2852640"/>
            <a:ext cx="3959280" cy="151128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8880" y="2852640"/>
            <a:ext cx="3959280" cy="151128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291600" y="1052640"/>
            <a:ext cx="5506200" cy="1511280"/>
            <a:chOff x="-291600" y="1052640"/>
            <a:chExt cx="5506200" cy="1511280"/>
          </a:xfrm>
        </p:grpSpPr>
        <p:sp>
          <p:nvSpPr>
            <p:cNvPr id="181" name=""/>
            <p:cNvSpPr/>
            <p:nvPr/>
          </p:nvSpPr>
          <p:spPr>
            <a:xfrm>
              <a:off x="-291600" y="1071720"/>
              <a:ext cx="5506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１）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・・・・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が（　　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・・・・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が（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＝　（　　　　　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8880" y="1052640"/>
              <a:ext cx="3959280" cy="1511280"/>
            </a:xfrm>
            <a:prstGeom prst="rect">
              <a:avLst/>
            </a:prstGeom>
            <a:solidFill>
              <a:srgbClr val="ccffff">
                <a:alpha val="3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664160" y="1052640"/>
            <a:ext cx="3959280" cy="151128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18520" y="4046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計算をし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83320" y="1071720"/>
            <a:ext cx="550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２）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291600" y="2871720"/>
            <a:ext cx="550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３）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83320" y="2871720"/>
            <a:ext cx="550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４）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291600" y="4600440"/>
            <a:ext cx="550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５）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1840" y="4581360"/>
            <a:ext cx="540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６）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733680" cy="76500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547640" y="404640"/>
            <a:ext cx="1871280" cy="396720"/>
            <a:chOff x="1547640" y="404640"/>
            <a:chExt cx="1871280" cy="396720"/>
          </a:xfrm>
        </p:grpSpPr>
        <p:sp>
          <p:nvSpPr>
            <p:cNvPr id="193" name=""/>
            <p:cNvSpPr/>
            <p:nvPr/>
          </p:nvSpPr>
          <p:spPr>
            <a:xfrm>
              <a:off x="1547640" y="404640"/>
              <a:ext cx="1869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99840" y="404640"/>
              <a:ext cx="18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08516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かけ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664160" y="4581360"/>
            <a:ext cx="3959280" cy="151164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8880" y="4581360"/>
            <a:ext cx="3959280" cy="151164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4160" y="2852640"/>
            <a:ext cx="3959280" cy="151128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8880" y="2852640"/>
            <a:ext cx="3959280" cy="151128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-291600" y="1052640"/>
            <a:ext cx="5506200" cy="1511280"/>
            <a:chOff x="-291600" y="1052640"/>
            <a:chExt cx="5506200" cy="1511280"/>
          </a:xfrm>
        </p:grpSpPr>
        <p:sp>
          <p:nvSpPr>
            <p:cNvPr id="201" name=""/>
            <p:cNvSpPr/>
            <p:nvPr/>
          </p:nvSpPr>
          <p:spPr>
            <a:xfrm>
              <a:off x="-291600" y="1071720"/>
              <a:ext cx="5506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１）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・・・・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が（　　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・・・・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が（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）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＝　（　　　　　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880" y="1052640"/>
              <a:ext cx="3959280" cy="1511280"/>
            </a:xfrm>
            <a:prstGeom prst="rect">
              <a:avLst/>
            </a:prstGeom>
            <a:solidFill>
              <a:srgbClr val="ccffff">
                <a:alpha val="3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664160" y="1052640"/>
            <a:ext cx="3959280" cy="1511280"/>
          </a:xfrm>
          <a:prstGeom prst="rect">
            <a:avLst/>
          </a:prstGeom>
          <a:solidFill>
            <a:srgbClr val="cc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3320" y="1071720"/>
            <a:ext cx="550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２）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91600" y="2871720"/>
            <a:ext cx="550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３）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3320" y="2871720"/>
            <a:ext cx="550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４）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291600" y="4600440"/>
            <a:ext cx="550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５）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3680" y="4600440"/>
            <a:ext cx="563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６）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（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（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733320" cy="765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234680" y="260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14400" y="15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17680" y="182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72360" y="1838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0960" y="155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02680" y="1833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88680" y="1833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74320" y="2124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29080" y="337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3600" y="364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5760" y="335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37960" y="362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01280" y="362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7280" y="363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69160" y="390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64520" y="3922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94240" y="511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56200" y="537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48320" y="538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05800" y="50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17160" y="537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47720" y="537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83760" y="565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440" y="5661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763640" y="404640"/>
            <a:ext cx="1870920" cy="396720"/>
            <a:chOff x="1763640" y="404640"/>
            <a:chExt cx="1870920" cy="396720"/>
          </a:xfrm>
        </p:grpSpPr>
        <p:sp>
          <p:nvSpPr>
            <p:cNvPr id="236" name=""/>
            <p:cNvSpPr/>
            <p:nvPr/>
          </p:nvSpPr>
          <p:spPr>
            <a:xfrm>
              <a:off x="1763640" y="40464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15840" y="40464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8516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かけ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544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899600" y="8366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計算をし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1557360"/>
            <a:ext cx="2900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1484280"/>
            <a:ext cx="2900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667640" y="4508640"/>
            <a:ext cx="728640" cy="863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H="1">
            <a:off x="4571280" y="4437000"/>
            <a:ext cx="3024360" cy="432000"/>
          </a:xfrm>
          <a:prstGeom prst="wedgeEllipseCallout">
            <a:avLst>
              <a:gd name="adj1" fmla="val -45171"/>
              <a:gd name="adj2" fmla="val 47425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38720" y="45086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１００点目指してがんばろう！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411280" y="765000"/>
            <a:ext cx="1870920" cy="396720"/>
            <a:chOff x="2411280" y="765000"/>
            <a:chExt cx="1870920" cy="396720"/>
          </a:xfrm>
        </p:grpSpPr>
        <p:sp>
          <p:nvSpPr>
            <p:cNvPr id="247" name=""/>
            <p:cNvSpPr/>
            <p:nvPr/>
          </p:nvSpPr>
          <p:spPr>
            <a:xfrm>
              <a:off x="2411280" y="76500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63480" y="76500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708516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かけ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826920" y="1484280"/>
            <a:ext cx="381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10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3640" y="1484280"/>
            <a:ext cx="3889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667640" y="4653000"/>
            <a:ext cx="728640" cy="863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955400" y="549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68360" y="765000"/>
            <a:ext cx="1871280" cy="396720"/>
            <a:chOff x="2268360" y="765000"/>
            <a:chExt cx="1871280" cy="396720"/>
          </a:xfrm>
        </p:grpSpPr>
        <p:sp>
          <p:nvSpPr>
            <p:cNvPr id="255" name=""/>
            <p:cNvSpPr/>
            <p:nvPr/>
          </p:nvSpPr>
          <p:spPr>
            <a:xfrm>
              <a:off x="2268360" y="765000"/>
              <a:ext cx="1869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20560" y="765000"/>
              <a:ext cx="18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</a:rPr>
                <a:t>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08516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かけ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920040" y="6922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次の計算をし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1628640"/>
            <a:ext cx="2900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03640" y="1628640"/>
            <a:ext cx="2900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596360" y="5084640"/>
            <a:ext cx="728640" cy="863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H="1">
            <a:off x="4571280" y="4797360"/>
            <a:ext cx="3024360" cy="432000"/>
          </a:xfrm>
          <a:prstGeom prst="wedgeEllipseCallout">
            <a:avLst>
              <a:gd name="adj1" fmla="val -42546"/>
              <a:gd name="adj2" fmla="val 57717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720" y="486900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１００点目指してがんばろう！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908000" y="692280"/>
            <a:ext cx="1871280" cy="396720"/>
            <a:chOff x="1908000" y="692280"/>
            <a:chExt cx="1871280" cy="396720"/>
          </a:xfrm>
        </p:grpSpPr>
        <p:sp>
          <p:nvSpPr>
            <p:cNvPr id="265" name=""/>
            <p:cNvSpPr/>
            <p:nvPr/>
          </p:nvSpPr>
          <p:spPr>
            <a:xfrm>
              <a:off x="1908000" y="692280"/>
              <a:ext cx="1869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60200" y="692280"/>
              <a:ext cx="18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08516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かけ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335680" y="12682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次の計算をし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1628640"/>
            <a:ext cx="388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 10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03640" y="1628640"/>
            <a:ext cx="36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=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812000" y="4581360"/>
            <a:ext cx="728640" cy="863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flipH="1">
            <a:off x="4788000" y="4508640"/>
            <a:ext cx="3024000" cy="431640"/>
          </a:xfrm>
          <a:prstGeom prst="wedgeEllipseCallout">
            <a:avLst>
              <a:gd name="adj1" fmla="val -38560"/>
              <a:gd name="adj2" fmla="val 52203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83080" y="458136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１００点目指してがんばろう！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411280" y="692280"/>
            <a:ext cx="1870920" cy="396720"/>
            <a:chOff x="2411280" y="692280"/>
            <a:chExt cx="1870920" cy="396720"/>
          </a:xfrm>
        </p:grpSpPr>
        <p:sp>
          <p:nvSpPr>
            <p:cNvPr id="275" name=""/>
            <p:cNvSpPr/>
            <p:nvPr/>
          </p:nvSpPr>
          <p:spPr>
            <a:xfrm>
              <a:off x="2411280" y="692280"/>
              <a:ext cx="18687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63480" y="692280"/>
              <a:ext cx="18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-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08516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かけ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42680" y="62064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7:50:59Z</dcterms:created>
  <dc:creator>kangawa-kaori-1</dc:creator>
  <dc:description/>
  <dc:language>en-US</dc:language>
  <cp:lastModifiedBy>kangawa-kaori-1</cp:lastModifiedBy>
  <dcterms:modified xsi:type="dcterms:W3CDTF">2007-11-14T06:26:02Z</dcterms:modified>
  <cp:revision>73</cp:revision>
  <dc:subject/>
  <dc:title>スライド 1</dc:title>
</cp:coreProperties>
</file>