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9B78-1465-4562-8EAC-4F5B98B6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706D-B0F0-4EC6-A41F-0C7FE373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96FC-69E4-4BBA-906F-D9D960404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507E-EDA5-4D7D-A7FD-FC0274311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A807-1878-4E1E-A488-224CB499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EFA4-F21A-4D68-946B-585426BD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4E6C-3194-46E8-9B86-44368E5A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A5D3-4A05-4FDC-B6AB-F794598B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5569-B272-4C00-9F95-0F4474A1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7122-120F-4014-BC7B-B7BA49F3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E7F2-6CC4-4045-8BD4-B3096220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95B2-48F7-460F-87C5-5299E068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8B04-B08E-4772-9F77-E4B100033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597720" y="279360"/>
            <a:ext cx="21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分数を小数・整数に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22360" y="458640"/>
            <a:ext cx="3194280" cy="57816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数を小数・整数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63680" y="1254240"/>
            <a:ext cx="6199560" cy="1008720"/>
            <a:chOff x="463680" y="1254240"/>
            <a:chExt cx="6199560" cy="1008720"/>
          </a:xfrm>
        </p:grpSpPr>
        <p:sp>
          <p:nvSpPr>
            <p:cNvPr id="44" name=""/>
            <p:cNvSpPr/>
            <p:nvPr/>
          </p:nvSpPr>
          <p:spPr>
            <a:xfrm>
              <a:off x="463680" y="1276200"/>
              <a:ext cx="360360" cy="360000"/>
            </a:xfrm>
            <a:prstGeom prst="star5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7680" y="1254240"/>
              <a:ext cx="4525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　　　　　，　　　　　を小数で表しましょう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わりきれない場合は，　　　　の位までの四捨五入で表しましょう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19320" y="1536840"/>
            <a:ext cx="490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01400" y="1476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72960" y="110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17880" y="1511280"/>
            <a:ext cx="490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9960" y="1450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71520" y="1081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23960" y="2438280"/>
            <a:ext cx="881280" cy="820080"/>
            <a:chOff x="723960" y="2438280"/>
            <a:chExt cx="881280" cy="820080"/>
          </a:xfrm>
        </p:grpSpPr>
        <p:sp>
          <p:nvSpPr>
            <p:cNvPr id="53" name=""/>
            <p:cNvSpPr/>
            <p:nvPr/>
          </p:nvSpPr>
          <p:spPr>
            <a:xfrm>
              <a:off x="723960" y="2859120"/>
              <a:ext cx="490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6400" y="279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6400" y="24382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87360" y="265104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647720" y="2573280"/>
            <a:ext cx="540000" cy="5396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76000" y="26640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573280"/>
            <a:ext cx="540000" cy="5396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807480" y="5149800"/>
            <a:ext cx="503280" cy="29340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125360" y="5063760"/>
            <a:ext cx="115740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36240" y="5049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4520" y="50385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97000" y="33256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72960" y="4554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０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23600" y="50385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58520" y="4562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53880" y="54770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41240" y="54658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44440" y="5970600"/>
            <a:ext cx="1035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45920" y="59324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11080" y="2529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36440" y="2529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90240" y="3241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58800" y="314964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21040" y="2411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738600" y="2546280"/>
            <a:ext cx="2587680" cy="685080"/>
            <a:chOff x="3738600" y="2546280"/>
            <a:chExt cx="2587680" cy="685080"/>
          </a:xfrm>
        </p:grpSpPr>
        <p:sp>
          <p:nvSpPr>
            <p:cNvPr id="78" name=""/>
            <p:cNvSpPr/>
            <p:nvPr/>
          </p:nvSpPr>
          <p:spPr>
            <a:xfrm>
              <a:off x="3738600" y="2832120"/>
              <a:ext cx="490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21040" y="2771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02000" y="262404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662360" y="2546280"/>
              <a:ext cx="540000" cy="5400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90640" y="263700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86640" y="2546280"/>
              <a:ext cx="539640" cy="5400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5111640" y="34606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25720" y="2529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51080" y="2529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04880" y="3214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36080" y="3122640"/>
            <a:ext cx="18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３３３・・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6751080" y="3619440"/>
            <a:ext cx="503280" cy="29340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068960" y="3525480"/>
            <a:ext cx="149256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79840" y="3519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40200" y="3519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16560" y="3024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０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67200" y="3508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02120" y="3032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7088040" y="4427280"/>
            <a:ext cx="144324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89520" y="4402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686640" y="1089000"/>
            <a:ext cx="1574280" cy="439920"/>
            <a:chOff x="6686640" y="1089000"/>
            <a:chExt cx="1574280" cy="439920"/>
          </a:xfrm>
        </p:grpSpPr>
        <p:sp>
          <p:nvSpPr>
            <p:cNvPr id="99" name=""/>
            <p:cNvSpPr/>
            <p:nvPr/>
          </p:nvSpPr>
          <p:spPr>
            <a:xfrm>
              <a:off x="6686640" y="1217520"/>
              <a:ext cx="225000" cy="181080"/>
            </a:xfrm>
            <a:prstGeom prst="triangle">
              <a:avLst>
                <a:gd name="adj" fmla="val 500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20640" y="112860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72000" y="1217520"/>
              <a:ext cx="179280" cy="1810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63880" y="11224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856280" y="1308240"/>
              <a:ext cx="40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61040" y="1347840"/>
              <a:ext cx="179280" cy="1810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922880" y="1089000"/>
              <a:ext cx="225360" cy="181080"/>
            </a:xfrm>
            <a:prstGeom prst="triangle">
              <a:avLst>
                <a:gd name="adj" fmla="val 500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 rot="21049800">
            <a:off x="6102360" y="863640"/>
            <a:ext cx="458640" cy="855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584840" y="3898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13520" y="44085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876800" y="30178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11720" y="47354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7070760" y="5229000"/>
            <a:ext cx="144288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913520" y="5135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151480" y="51404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143560" y="3019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159400" y="54561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7167600" y="5960880"/>
            <a:ext cx="144288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138880" y="5908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25280" y="31464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086280" y="4959360"/>
            <a:ext cx="1589040" cy="16239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309680" y="3692520"/>
            <a:ext cx="241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答え（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28120" y="3699000"/>
            <a:ext cx="26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答え（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３３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358800" y="1763640"/>
            <a:ext cx="561240" cy="636480"/>
            <a:chOff x="3358800" y="1763640"/>
            <a:chExt cx="561240" cy="636480"/>
          </a:xfrm>
        </p:grpSpPr>
        <p:sp>
          <p:nvSpPr>
            <p:cNvPr id="123" name=""/>
            <p:cNvSpPr/>
            <p:nvPr/>
          </p:nvSpPr>
          <p:spPr>
            <a:xfrm>
              <a:off x="3358800" y="2074680"/>
              <a:ext cx="4489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59880" y="203184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24320" y="1763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2627280" y="620640"/>
            <a:ext cx="1368000" cy="396720"/>
            <a:chOff x="2627280" y="620640"/>
            <a:chExt cx="1368000" cy="396720"/>
          </a:xfrm>
        </p:grpSpPr>
        <p:sp>
          <p:nvSpPr>
            <p:cNvPr id="127" name=""/>
            <p:cNvSpPr/>
            <p:nvPr/>
          </p:nvSpPr>
          <p:spPr>
            <a:xfrm>
              <a:off x="2627280" y="620640"/>
              <a:ext cx="136620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65440" y="620640"/>
              <a:ext cx="13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398600" y="1717560"/>
            <a:ext cx="881280" cy="820080"/>
            <a:chOff x="1398600" y="1717560"/>
            <a:chExt cx="881280" cy="820080"/>
          </a:xfrm>
        </p:grpSpPr>
        <p:sp>
          <p:nvSpPr>
            <p:cNvPr id="130" name=""/>
            <p:cNvSpPr/>
            <p:nvPr/>
          </p:nvSpPr>
          <p:spPr>
            <a:xfrm>
              <a:off x="1398600" y="2138400"/>
              <a:ext cx="490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81040" y="2077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81040" y="1717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62000" y="19303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2322360" y="1852560"/>
            <a:ext cx="540000" cy="5396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50640" y="19432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6640" y="1852560"/>
            <a:ext cx="539640" cy="5396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64880" y="25210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82640" y="194328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93640" y="1179360"/>
            <a:ext cx="2351160" cy="398880"/>
            <a:chOff x="593640" y="1179360"/>
            <a:chExt cx="2351160" cy="398880"/>
          </a:xfrm>
        </p:grpSpPr>
        <p:sp>
          <p:nvSpPr>
            <p:cNvPr id="140" name=""/>
            <p:cNvSpPr/>
            <p:nvPr/>
          </p:nvSpPr>
          <p:spPr>
            <a:xfrm>
              <a:off x="593640" y="1201680"/>
              <a:ext cx="360360" cy="360360"/>
            </a:xfrm>
            <a:prstGeom prst="star5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40600" y="1179360"/>
              <a:ext cx="30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次の分数を小数で表しましょう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322360" y="2438280"/>
            <a:ext cx="1124280" cy="540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359320" y="1720800"/>
            <a:ext cx="881280" cy="820080"/>
            <a:chOff x="5359320" y="1720800"/>
            <a:chExt cx="881280" cy="820080"/>
          </a:xfrm>
        </p:grpSpPr>
        <p:sp>
          <p:nvSpPr>
            <p:cNvPr id="144" name=""/>
            <p:cNvSpPr/>
            <p:nvPr/>
          </p:nvSpPr>
          <p:spPr>
            <a:xfrm>
              <a:off x="5359320" y="2141640"/>
              <a:ext cx="490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41760" y="2081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41760" y="1720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22720" y="19335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283440" y="1855800"/>
            <a:ext cx="539640" cy="5396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11360" y="19461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07360" y="1855800"/>
            <a:ext cx="539640" cy="5396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25960" y="25239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43360" y="19461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83440" y="2441520"/>
            <a:ext cx="1123920" cy="5396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35240" y="4464000"/>
            <a:ext cx="653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78440" y="4464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17440" y="42782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78160" y="4200480"/>
            <a:ext cx="539640" cy="5396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06080" y="429084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02080" y="4200480"/>
            <a:ext cx="539640" cy="5396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20680" y="4869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429084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78160" y="4786200"/>
            <a:ext cx="1123920" cy="540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359320" y="4086360"/>
            <a:ext cx="881280" cy="820080"/>
            <a:chOff x="5359320" y="4086360"/>
            <a:chExt cx="881280" cy="820080"/>
          </a:xfrm>
        </p:grpSpPr>
        <p:sp>
          <p:nvSpPr>
            <p:cNvPr id="164" name=""/>
            <p:cNvSpPr/>
            <p:nvPr/>
          </p:nvSpPr>
          <p:spPr>
            <a:xfrm>
              <a:off x="5359320" y="4507200"/>
              <a:ext cx="490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41760" y="4446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41760" y="40863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22720" y="42991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6283440" y="4221000"/>
            <a:ext cx="539640" cy="540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11360" y="43117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407360" y="4221000"/>
            <a:ext cx="539640" cy="540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25960" y="4889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43360" y="431172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283440" y="4807080"/>
            <a:ext cx="1123920" cy="5396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78440" y="4059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597720" y="458640"/>
            <a:ext cx="21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分数を小数・整数に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627280" y="620640"/>
            <a:ext cx="1368000" cy="396720"/>
            <a:chOff x="2627280" y="620640"/>
            <a:chExt cx="1368000" cy="396720"/>
          </a:xfrm>
        </p:grpSpPr>
        <p:sp>
          <p:nvSpPr>
            <p:cNvPr id="177" name=""/>
            <p:cNvSpPr/>
            <p:nvPr/>
          </p:nvSpPr>
          <p:spPr>
            <a:xfrm>
              <a:off x="2627280" y="620640"/>
              <a:ext cx="136620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665440" y="620640"/>
              <a:ext cx="13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398600" y="1717560"/>
            <a:ext cx="881280" cy="820080"/>
            <a:chOff x="1398600" y="1717560"/>
            <a:chExt cx="881280" cy="820080"/>
          </a:xfrm>
        </p:grpSpPr>
        <p:sp>
          <p:nvSpPr>
            <p:cNvPr id="180" name=""/>
            <p:cNvSpPr/>
            <p:nvPr/>
          </p:nvSpPr>
          <p:spPr>
            <a:xfrm>
              <a:off x="1398600" y="2138400"/>
              <a:ext cx="490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81040" y="2077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81040" y="1717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62000" y="19303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2322360" y="1852560"/>
            <a:ext cx="540000" cy="5396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50640" y="19432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46640" y="1852560"/>
            <a:ext cx="539640" cy="5396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64880" y="25210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82640" y="194328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93640" y="1179360"/>
            <a:ext cx="2351160" cy="398880"/>
            <a:chOff x="593640" y="1179360"/>
            <a:chExt cx="2351160" cy="398880"/>
          </a:xfrm>
        </p:grpSpPr>
        <p:sp>
          <p:nvSpPr>
            <p:cNvPr id="190" name=""/>
            <p:cNvSpPr/>
            <p:nvPr/>
          </p:nvSpPr>
          <p:spPr>
            <a:xfrm>
              <a:off x="593640" y="1201680"/>
              <a:ext cx="360360" cy="360360"/>
            </a:xfrm>
            <a:prstGeom prst="star5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40600" y="1179360"/>
              <a:ext cx="30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次の分数を小数で表しましょう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322360" y="2438280"/>
            <a:ext cx="1124280" cy="540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359320" y="1720800"/>
            <a:ext cx="881280" cy="820080"/>
            <a:chOff x="5359320" y="1720800"/>
            <a:chExt cx="881280" cy="820080"/>
          </a:xfrm>
        </p:grpSpPr>
        <p:sp>
          <p:nvSpPr>
            <p:cNvPr id="194" name=""/>
            <p:cNvSpPr/>
            <p:nvPr/>
          </p:nvSpPr>
          <p:spPr>
            <a:xfrm>
              <a:off x="5359320" y="2141640"/>
              <a:ext cx="490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41760" y="2081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441760" y="1720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22720" y="19335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6283440" y="1855800"/>
            <a:ext cx="539640" cy="5396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11360" y="19461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407360" y="1855800"/>
            <a:ext cx="539640" cy="5396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925960" y="25239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43360" y="19461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83440" y="2441520"/>
            <a:ext cx="1123920" cy="5396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35240" y="4464000"/>
            <a:ext cx="653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78440" y="4464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17440" y="42782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378160" y="4200480"/>
            <a:ext cx="539640" cy="5396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06080" y="429084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02080" y="4200480"/>
            <a:ext cx="539640" cy="5396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20680" y="4869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429084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378160" y="4786200"/>
            <a:ext cx="1123920" cy="540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359320" y="4086360"/>
            <a:ext cx="881280" cy="820080"/>
            <a:chOff x="5359320" y="4086360"/>
            <a:chExt cx="881280" cy="820080"/>
          </a:xfrm>
        </p:grpSpPr>
        <p:sp>
          <p:nvSpPr>
            <p:cNvPr id="214" name=""/>
            <p:cNvSpPr/>
            <p:nvPr/>
          </p:nvSpPr>
          <p:spPr>
            <a:xfrm>
              <a:off x="5359320" y="4507200"/>
              <a:ext cx="490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41760" y="4446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41760" y="40863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22720" y="42991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6283440" y="4221000"/>
            <a:ext cx="539640" cy="540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011360" y="43117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07360" y="4221000"/>
            <a:ext cx="539640" cy="540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25960" y="4889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43360" y="431172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283440" y="4807080"/>
            <a:ext cx="1123920" cy="5396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78440" y="4059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385720" y="180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11080" y="180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06120" y="27936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323800" y="4194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431880" y="4194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00360" y="180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470360" y="1789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37080" y="4181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461000" y="4181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381400" y="2438280"/>
            <a:ext cx="86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.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13320" y="2409840"/>
            <a:ext cx="110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.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７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398320" y="4778280"/>
            <a:ext cx="110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.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４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01440" y="4805280"/>
            <a:ext cx="9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３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21640" y="458640"/>
            <a:ext cx="21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分数を小数・整数に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2627280" y="620640"/>
            <a:ext cx="1368000" cy="396720"/>
            <a:chOff x="2627280" y="620640"/>
            <a:chExt cx="1368000" cy="396720"/>
          </a:xfrm>
        </p:grpSpPr>
        <p:sp>
          <p:nvSpPr>
            <p:cNvPr id="240" name=""/>
            <p:cNvSpPr/>
            <p:nvPr/>
          </p:nvSpPr>
          <p:spPr>
            <a:xfrm>
              <a:off x="2627280" y="620640"/>
              <a:ext cx="136620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65440" y="620640"/>
              <a:ext cx="13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173240" y="1808280"/>
            <a:ext cx="880560" cy="820080"/>
            <a:chOff x="1173240" y="1808280"/>
            <a:chExt cx="880560" cy="820080"/>
          </a:xfrm>
        </p:grpSpPr>
        <p:sp>
          <p:nvSpPr>
            <p:cNvPr id="243" name=""/>
            <p:cNvSpPr/>
            <p:nvPr/>
          </p:nvSpPr>
          <p:spPr>
            <a:xfrm>
              <a:off x="1173240" y="2229120"/>
              <a:ext cx="490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55320" y="216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55320" y="18082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35920" y="202104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2097000" y="1943280"/>
            <a:ext cx="540000" cy="5396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825280" y="203364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20920" y="1943280"/>
            <a:ext cx="540000" cy="5396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39520" y="26114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57280" y="203364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93640" y="1179360"/>
            <a:ext cx="5582880" cy="398880"/>
            <a:chOff x="593640" y="1179360"/>
            <a:chExt cx="5582880" cy="398880"/>
          </a:xfrm>
        </p:grpSpPr>
        <p:sp>
          <p:nvSpPr>
            <p:cNvPr id="253" name=""/>
            <p:cNvSpPr/>
            <p:nvPr/>
          </p:nvSpPr>
          <p:spPr>
            <a:xfrm>
              <a:off x="593640" y="1201680"/>
              <a:ext cx="360360" cy="360360"/>
            </a:xfrm>
            <a:prstGeom prst="star5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804680" y="1179360"/>
              <a:ext cx="437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次の分数を　　　　　　　の位までの小数で表しましょう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2097000" y="2529000"/>
            <a:ext cx="1123920" cy="5396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5268960" y="2174760"/>
            <a:ext cx="69048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19360" y="1763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41760" y="2168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14880" y="19875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553080" y="1898640"/>
            <a:ext cx="540000" cy="5396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281360" y="19890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77000" y="1898640"/>
            <a:ext cx="540000" cy="5396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14880" y="2529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653000" y="19875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372360" y="2484360"/>
            <a:ext cx="1123920" cy="540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97720" y="458640"/>
            <a:ext cx="21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分数を小数・整数に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502000" y="1461600"/>
            <a:ext cx="9079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26840" y="14144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86040" y="1042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071080" y="309240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答え（　　　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739840" y="310356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答え（　　　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2627280" y="620640"/>
            <a:ext cx="1368000" cy="396720"/>
            <a:chOff x="2627280" y="620640"/>
            <a:chExt cx="1368000" cy="396720"/>
          </a:xfrm>
        </p:grpSpPr>
        <p:sp>
          <p:nvSpPr>
            <p:cNvPr id="273" name=""/>
            <p:cNvSpPr/>
            <p:nvPr/>
          </p:nvSpPr>
          <p:spPr>
            <a:xfrm>
              <a:off x="2627280" y="620640"/>
              <a:ext cx="136620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665440" y="620640"/>
              <a:ext cx="13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1219320" y="1673280"/>
            <a:ext cx="880560" cy="820080"/>
            <a:chOff x="1219320" y="1673280"/>
            <a:chExt cx="880560" cy="820080"/>
          </a:xfrm>
        </p:grpSpPr>
        <p:sp>
          <p:nvSpPr>
            <p:cNvPr id="276" name=""/>
            <p:cNvSpPr/>
            <p:nvPr/>
          </p:nvSpPr>
          <p:spPr>
            <a:xfrm>
              <a:off x="1219320" y="2094120"/>
              <a:ext cx="490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01400" y="203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301400" y="16732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782000" y="188604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2143080" y="1808280"/>
            <a:ext cx="539640" cy="5396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871360" y="189864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67000" y="1808280"/>
            <a:ext cx="540000" cy="5396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785600" y="24764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3360" y="189864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93640" y="1179360"/>
            <a:ext cx="5582880" cy="398880"/>
            <a:chOff x="593640" y="1179360"/>
            <a:chExt cx="5582880" cy="398880"/>
          </a:xfrm>
        </p:grpSpPr>
        <p:sp>
          <p:nvSpPr>
            <p:cNvPr id="286" name=""/>
            <p:cNvSpPr/>
            <p:nvPr/>
          </p:nvSpPr>
          <p:spPr>
            <a:xfrm>
              <a:off x="593640" y="1201680"/>
              <a:ext cx="360360" cy="360360"/>
            </a:xfrm>
            <a:prstGeom prst="star5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04680" y="1179360"/>
              <a:ext cx="437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次の分数を　　　　　　　の位までの小数で表しましょう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2143080" y="2394000"/>
            <a:ext cx="1708200" cy="5396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222880" y="1951200"/>
            <a:ext cx="69048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273280" y="153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95680" y="1943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968800" y="1763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507000" y="1674720"/>
            <a:ext cx="540000" cy="540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235280" y="176544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631280" y="1674720"/>
            <a:ext cx="539640" cy="540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968800" y="2259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606920" y="176364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416640" y="2259000"/>
            <a:ext cx="1844640" cy="5396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97720" y="458640"/>
            <a:ext cx="21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分数を小数・整数に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502000" y="1461600"/>
            <a:ext cx="9079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26840" y="14144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786040" y="1042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506120" y="27936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15800" y="1774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303360" y="17715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5400000">
            <a:off x="810720" y="4017960"/>
            <a:ext cx="318960" cy="29340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036800" y="4010040"/>
            <a:ext cx="1261800" cy="1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43000" y="3952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172160" y="3597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０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425240" y="3968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128600" y="4638600"/>
            <a:ext cx="1214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82640" y="4560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58800" y="3941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42880" y="360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157760" y="423396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３ 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422360" y="4545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679400" y="360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416600" y="483552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３ 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182600" y="5230800"/>
            <a:ext cx="1214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01720" y="5180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63440" y="5175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915920" y="360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718280" y="544824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３ 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506600" y="5854680"/>
            <a:ext cx="1214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971360" y="5792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175120" y="3627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・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152440" y="360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296800" y="5800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997640" y="608328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３ 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03440" y="6445080"/>
            <a:ext cx="1214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325600" y="6340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252520" y="3751200"/>
            <a:ext cx="225720" cy="2253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885680" y="3384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982880" y="3751200"/>
            <a:ext cx="225360" cy="2253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097000" y="2392200"/>
            <a:ext cx="171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.666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・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418080" y="16747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664040" y="1638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5400000">
            <a:off x="4052880" y="3498840"/>
            <a:ext cx="318960" cy="293760"/>
          </a:xfrm>
          <a:prstGeom prst="blockArc">
            <a:avLst>
              <a:gd name="adj1" fmla="val 12064740"/>
              <a:gd name="adj2" fmla="val 20335260"/>
              <a:gd name="adj3" fmla="val 2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4278240" y="3490920"/>
            <a:ext cx="1649520" cy="1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370400" y="3433680"/>
            <a:ext cx="7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 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38240" y="311472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925880" y="4025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370400" y="4119480"/>
            <a:ext cx="1214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621040" y="3068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5308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664520" y="3745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663800" y="4025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658400" y="431640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５ 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424400" y="4711680"/>
            <a:ext cx="1214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943160" y="4660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205240" y="4656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946400" y="3090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960080" y="492912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３ 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748040" y="5335560"/>
            <a:ext cx="1214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213160" y="5273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605560" y="3114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・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394240" y="3089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497200" y="5275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239440" y="556416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４ 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844880" y="5915160"/>
            <a:ext cx="1387800" cy="10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567040" y="5821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697360" y="3203640"/>
            <a:ext cx="225720" cy="2253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171760" y="3092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830560" y="5813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814720" y="6059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157720" y="6443280"/>
            <a:ext cx="1387440" cy="1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814720" y="6426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165720" y="2214720"/>
            <a:ext cx="233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.8571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・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351800" y="293364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答え（　　　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412720" y="293364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.6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392160" y="351936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答え（　　　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499160" y="347328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.8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05:21:33Z</dcterms:created>
  <dc:creator>kangawa-kaori-1</dc:creator>
  <dc:description/>
  <dc:language>en-US</dc:language>
  <cp:lastModifiedBy>kangawa-kaori-1</cp:lastModifiedBy>
  <dcterms:modified xsi:type="dcterms:W3CDTF">2007-11-14T06:21:13Z</dcterms:modified>
  <cp:revision>57</cp:revision>
  <dc:subject/>
  <dc:title>スライド 1</dc:title>
</cp:coreProperties>
</file>