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B84-8F9A-4946-B1F0-E3EF180D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A16-1DEB-4B6B-BACF-2C10C92D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B3B-85FE-4A7B-A203-CB279F86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380-E8EE-4C81-B441-13A5AFF4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1AD-A4B5-49C0-A645-947B4E3B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34F-EB2D-4C00-83D9-3E40D646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9EC-4270-418E-93FC-612B5402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FCF-0C79-4E16-9AD2-07000236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D08-8E97-4A9A-B457-EA13B868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D21-B723-4846-96B0-EDA081CF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21E-501F-4D1D-8DAB-7618B109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E4F-81EF-4AC1-91B0-3909DAC5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53AB-8B40-43DE-8D69-92226F3BD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476280"/>
            <a:ext cx="3816360" cy="4348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数のかけ算と面積の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18480" y="1413000"/>
            <a:ext cx="22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た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ｍ、よ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ｍの花だんの面積を求め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887480" y="2060640"/>
            <a:ext cx="3476160" cy="431640"/>
            <a:chOff x="1887480" y="2060640"/>
            <a:chExt cx="3476160" cy="431640"/>
          </a:xfrm>
        </p:grpSpPr>
        <p:sp>
          <p:nvSpPr>
            <p:cNvPr id="44" name=""/>
            <p:cNvSpPr/>
            <p:nvPr/>
          </p:nvSpPr>
          <p:spPr>
            <a:xfrm>
              <a:off x="1887480" y="2060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6560" y="24922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458160" y="28526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59640" y="1844640"/>
            <a:ext cx="208764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2920" y="1515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＜筆算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03560" y="4076640"/>
            <a:ext cx="17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一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㎝の正方形の面積を求め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835280" y="4697280"/>
            <a:ext cx="3476520" cy="432000"/>
            <a:chOff x="1835280" y="4697280"/>
            <a:chExt cx="3476520" cy="432000"/>
          </a:xfrm>
        </p:grpSpPr>
        <p:sp>
          <p:nvSpPr>
            <p:cNvPr id="51" name=""/>
            <p:cNvSpPr/>
            <p:nvPr/>
          </p:nvSpPr>
          <p:spPr>
            <a:xfrm>
              <a:off x="1835280" y="4697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54360" y="5129280"/>
              <a:ext cx="34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405600" y="54896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4581360"/>
            <a:ext cx="208764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2920" y="4253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＜筆算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11280" y="476280"/>
            <a:ext cx="3816360" cy="4348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数のかけ算と面積の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8480" y="1413000"/>
            <a:ext cx="22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た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ｍ、よ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ｍの花だんの面積を求め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887480" y="2060640"/>
            <a:ext cx="3476160" cy="431640"/>
            <a:chOff x="1887480" y="2060640"/>
            <a:chExt cx="3476160" cy="431640"/>
          </a:xfrm>
        </p:grpSpPr>
        <p:sp>
          <p:nvSpPr>
            <p:cNvPr id="59" name=""/>
            <p:cNvSpPr/>
            <p:nvPr/>
          </p:nvSpPr>
          <p:spPr>
            <a:xfrm>
              <a:off x="1887480" y="2060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06560" y="24922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58160" y="28526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9640" y="1844640"/>
            <a:ext cx="208764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2920" y="1515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＜筆算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03560" y="4076640"/>
            <a:ext cx="17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一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㎝の正方形の面積を求め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835280" y="4697280"/>
            <a:ext cx="3476520" cy="432000"/>
            <a:chOff x="1835280" y="4697280"/>
            <a:chExt cx="3476520" cy="432000"/>
          </a:xfrm>
        </p:grpSpPr>
        <p:sp>
          <p:nvSpPr>
            <p:cNvPr id="66" name=""/>
            <p:cNvSpPr/>
            <p:nvPr/>
          </p:nvSpPr>
          <p:spPr>
            <a:xfrm>
              <a:off x="1835280" y="4697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54360" y="5129280"/>
              <a:ext cx="34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405600" y="548964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4581360"/>
            <a:ext cx="208764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02920" y="4253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＜筆算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84120" y="40464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5480" y="2055960"/>
            <a:ext cx="32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5.7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6.4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6.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78760" y="28526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6.48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16360" y="4724280"/>
            <a:ext cx="32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5.2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5.2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7.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05680" y="54673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7.04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86200" y="2003400"/>
            <a:ext cx="67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96040" y="23065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26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95040" y="262584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 ２ 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6440" y="291456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 ４ 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0000" y="3284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36840" y="328464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 ６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４ 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86200" y="4724280"/>
            <a:ext cx="67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96040" y="50277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3080" y="53578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95040" y="534672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 ０ 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66440" y="563580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 ６ 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60055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56280" y="5970600"/>
            <a:ext cx="11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 ７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０ 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8480" y="340848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ff"/>
                </a:solidFill>
                <a:latin typeface="Arial"/>
              </a:rPr>
              <a:t>長方形の面積の公式　＝　たて　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3366ff"/>
                </a:solidFill>
                <a:latin typeface="Arial"/>
              </a:rPr>
              <a:t>　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15640" y="5877000"/>
            <a:ext cx="243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ff"/>
                </a:solidFill>
                <a:latin typeface="Arial"/>
              </a:rPr>
              <a:t>正方形の面積の公式　＝　一辺　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3366ff"/>
                </a:solidFill>
                <a:latin typeface="Arial"/>
              </a:rPr>
              <a:t>　一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06:06:39Z</dcterms:created>
  <dc:creator>kangawa-kaori-1</dc:creator>
  <dc:description/>
  <dc:language>en-US</dc:language>
  <cp:lastModifiedBy>kangawa-kaori-1</cp:lastModifiedBy>
  <dcterms:modified xsi:type="dcterms:W3CDTF">2007-11-14T06:31:54Z</dcterms:modified>
  <cp:revision>39</cp:revision>
  <dc:subject/>
  <dc:title>スライド 1</dc:title>
</cp:coreProperties>
</file>