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A0A6-5DCC-4DE0-9179-F330BC490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5EB6-F1F7-42C7-AA2B-37FB2E0D2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6206-C949-41C3-B2AC-13431FF3C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A111-1DF9-4E9B-AEA1-5F6B258BD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033A-2D24-43A5-B286-23EF93067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EA59-219A-4580-8CC9-4C90DA9F7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5573-7BE9-4408-B474-32062D760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4697-2F84-412E-ADFF-260174E8D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9CA7-92F8-44C3-A411-7C4B39CAA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AED4-D046-4076-9B45-782315E29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AEF9-79BA-4F52-AD38-0BE6605F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2C52-01FA-4597-B97D-59A261C96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9332E-5EBA-4BCD-A4AE-AA2C0AEE56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56000" y="404640"/>
            <a:ext cx="1728720" cy="57816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商と余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1341360"/>
            <a:ext cx="727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２３㎝のリボン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㎝ずつに切っていくと，何本できて，何㎝余るでしょう。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413000"/>
            <a:ext cx="936720" cy="3585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問　 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08000" y="2711520"/>
            <a:ext cx="4683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08000" y="256716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970360" y="25750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256536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057560" y="25858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148360" y="256536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91240" y="256536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07280" y="2298600"/>
            <a:ext cx="3314520" cy="86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46" y="10"/>
                </a:moveTo>
                <a:arcTo wR="10800" hR="10800" stAng="-5544635" swAng="5544635"/>
                <a:lnTo>
                  <a:pt x="10800" y="10800"/>
                </a:lnTo>
                <a:close/>
              </a:path>
              <a:path fill="none" w="21600" h="21600">
                <a:moveTo>
                  <a:pt x="10346" y="10"/>
                </a:moveTo>
                <a:arcTo wR="10800" hR="10800" stAng="-5544635" swAng="5544635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70240" y="2278080"/>
            <a:ext cx="3314520" cy="86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46" y="10"/>
                </a:moveTo>
                <a:arcTo wR="10800" hR="10800" stAng="-5544635" swAng="5544635"/>
                <a:lnTo>
                  <a:pt x="10800" y="10800"/>
                </a:lnTo>
                <a:close/>
              </a:path>
              <a:path fill="none" w="21600" h="21600">
                <a:moveTo>
                  <a:pt x="10346" y="10"/>
                </a:moveTo>
                <a:arcTo wR="10800" hR="10800" stAng="-5544635" swAng="5544635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90240" y="2060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２３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1908000" y="2437560"/>
            <a:ext cx="551520" cy="48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46" y="10"/>
                </a:moveTo>
                <a:arcTo wR="10800" hR="10800" stAng="-5544635" swAng="5544635"/>
                <a:lnTo>
                  <a:pt x="10800" y="10800"/>
                </a:lnTo>
                <a:close/>
              </a:path>
              <a:path fill="none" w="21600" h="21600">
                <a:moveTo>
                  <a:pt x="10346" y="10"/>
                </a:moveTo>
                <a:arcTo wR="10800" hR="10800" stAng="-5544635" swAng="5544635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449800" y="2445480"/>
            <a:ext cx="523080" cy="48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46" y="10"/>
                </a:moveTo>
                <a:arcTo wR="10800" hR="10800" stAng="-5544635" swAng="5544635"/>
                <a:lnTo>
                  <a:pt x="10800" y="10800"/>
                </a:lnTo>
                <a:close/>
              </a:path>
              <a:path fill="none" w="21600" h="21600">
                <a:moveTo>
                  <a:pt x="10346" y="10"/>
                </a:moveTo>
                <a:arcTo wR="10800" hR="10800" stAng="-5544635" swAng="5544635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144880" y="2781360"/>
            <a:ext cx="71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.2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2973240" y="2458080"/>
            <a:ext cx="551520" cy="48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46" y="10"/>
                </a:moveTo>
                <a:arcTo wR="10800" hR="10800" stAng="-5544635" swAng="5544635"/>
                <a:lnTo>
                  <a:pt x="10800" y="10800"/>
                </a:lnTo>
                <a:close/>
              </a:path>
              <a:path fill="none" w="21600" h="21600">
                <a:moveTo>
                  <a:pt x="10346" y="10"/>
                </a:moveTo>
                <a:arcTo wR="10800" hR="10800" stAng="-5544635" swAng="5544635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3535200" y="2466000"/>
            <a:ext cx="523800" cy="48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46" y="10"/>
                </a:moveTo>
                <a:arcTo wR="10800" hR="10800" stAng="-5544635" swAng="5544635"/>
                <a:lnTo>
                  <a:pt x="10800" y="10800"/>
                </a:lnTo>
                <a:close/>
              </a:path>
              <a:path fill="none" w="21600" h="21600">
                <a:moveTo>
                  <a:pt x="10346" y="10"/>
                </a:moveTo>
                <a:arcTo wR="10800" hR="10800" stAng="-5544635" swAng="5544635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30640" y="2801880"/>
            <a:ext cx="71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.2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4060800" y="2480400"/>
            <a:ext cx="550800" cy="48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46" y="10"/>
                </a:moveTo>
                <a:arcTo wR="10800" hR="10800" stAng="-5544635" swAng="5544635"/>
                <a:lnTo>
                  <a:pt x="10800" y="10800"/>
                </a:lnTo>
                <a:close/>
              </a:path>
              <a:path fill="none" w="21600" h="21600">
                <a:moveTo>
                  <a:pt x="10346" y="10"/>
                </a:moveTo>
                <a:arcTo wR="10800" hR="10800" stAng="-5544635" swAng="5544635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4623120" y="2488320"/>
            <a:ext cx="523080" cy="48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46" y="10"/>
                </a:moveTo>
                <a:arcTo wR="10800" hR="10800" stAng="-5544635" swAng="5544635"/>
                <a:lnTo>
                  <a:pt x="10800" y="10800"/>
                </a:lnTo>
                <a:close/>
              </a:path>
              <a:path fill="none" w="21600" h="21600">
                <a:moveTo>
                  <a:pt x="10346" y="10"/>
                </a:moveTo>
                <a:arcTo wR="10800" hR="10800" stAng="-5544635" swAng="5544635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317840" y="2824200"/>
            <a:ext cx="7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.2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5147640" y="2458080"/>
            <a:ext cx="507960" cy="48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46" y="10"/>
                </a:moveTo>
                <a:arcTo wR="10800" hR="10800" stAng="-5544635" swAng="5544635"/>
                <a:lnTo>
                  <a:pt x="10800" y="10800"/>
                </a:lnTo>
                <a:close/>
              </a:path>
              <a:path fill="none" w="21600" h="21600">
                <a:moveTo>
                  <a:pt x="10346" y="10"/>
                </a:moveTo>
                <a:arcTo wR="10800" hR="10800" stAng="-5544635" swAng="5544635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688360" y="2466000"/>
            <a:ext cx="523080" cy="48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46" y="10"/>
                </a:moveTo>
                <a:arcTo wR="10800" hR="10800" stAng="-5544635" swAng="5544635"/>
                <a:lnTo>
                  <a:pt x="10800" y="10800"/>
                </a:lnTo>
                <a:close/>
              </a:path>
              <a:path fill="none" w="21600" h="21600">
                <a:moveTo>
                  <a:pt x="10346" y="10"/>
                </a:moveTo>
                <a:arcTo wR="10800" hR="10800" stAng="-5544635" swAng="5544635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83080" y="2801880"/>
            <a:ext cx="7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.2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6184800" y="2321640"/>
            <a:ext cx="436680" cy="505080"/>
          </a:xfrm>
          <a:prstGeom prst="blockArc">
            <a:avLst>
              <a:gd name="adj1" fmla="val 12915101"/>
              <a:gd name="adj2" fmla="val 19484899"/>
              <a:gd name="adj3" fmla="val 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6423120" y="2900160"/>
            <a:ext cx="0" cy="21564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11800" y="30402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余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900000" y="3697200"/>
            <a:ext cx="4052520" cy="432000"/>
            <a:chOff x="900000" y="3697200"/>
            <a:chExt cx="4052520" cy="432000"/>
          </a:xfrm>
        </p:grpSpPr>
        <p:sp>
          <p:nvSpPr>
            <p:cNvPr id="70" name=""/>
            <p:cNvSpPr/>
            <p:nvPr/>
          </p:nvSpPr>
          <p:spPr>
            <a:xfrm>
              <a:off x="900000" y="36972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930960" y="4129200"/>
              <a:ext cx="4021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1256760" y="3645000"/>
            <a:ext cx="303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２３　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÷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　５．２　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5400000">
            <a:off x="5896080" y="4098960"/>
            <a:ext cx="503280" cy="293760"/>
          </a:xfrm>
          <a:prstGeom prst="blockArc">
            <a:avLst>
              <a:gd name="adj1" fmla="val 12064740"/>
              <a:gd name="adj2" fmla="val 20335260"/>
              <a:gd name="adj3" fmla="val 227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6213600" y="4005000"/>
            <a:ext cx="1269720" cy="1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336360" y="39816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２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448600" y="4005360"/>
            <a:ext cx="86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5754600" y="4330800"/>
            <a:ext cx="144720" cy="142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900840" y="44467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341040" y="44308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２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305400" y="4964040"/>
            <a:ext cx="1165320" cy="6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908400" y="49608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576840" y="49687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78520" y="3429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77080" y="397656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6935760" y="3844800"/>
            <a:ext cx="289080" cy="648000"/>
            <a:chOff x="6935760" y="3844800"/>
            <a:chExt cx="289080" cy="648000"/>
          </a:xfrm>
        </p:grpSpPr>
        <p:sp>
          <p:nvSpPr>
            <p:cNvPr id="86" name=""/>
            <p:cNvSpPr/>
            <p:nvPr/>
          </p:nvSpPr>
          <p:spPr>
            <a:xfrm rot="16200000">
              <a:off x="6756120" y="4024080"/>
              <a:ext cx="648000" cy="289080"/>
            </a:xfrm>
            <a:prstGeom prst="flowChartDelay">
              <a:avLst/>
            </a:prstGeom>
            <a:solidFill>
              <a:srgbClr val="ffcc99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6945480" y="3934080"/>
              <a:ext cx="273960" cy="194040"/>
            </a:xfrm>
            <a:prstGeom prst="flowChartDelay">
              <a:avLst/>
            </a:prstGeom>
            <a:solidFill>
              <a:srgbClr val="ff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93360" y="4298400"/>
              <a:ext cx="173520" cy="0"/>
            </a:xfrm>
            <a:prstGeom prst="line">
              <a:avLst/>
            </a:prstGeom>
            <a:ln w="936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993360" y="4362480"/>
              <a:ext cx="173520" cy="0"/>
            </a:xfrm>
            <a:prstGeom prst="line">
              <a:avLst/>
            </a:prstGeom>
            <a:ln w="936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659640" y="3860640"/>
            <a:ext cx="288720" cy="648000"/>
            <a:chOff x="6659640" y="3860640"/>
            <a:chExt cx="288720" cy="648000"/>
          </a:xfrm>
        </p:grpSpPr>
        <p:sp>
          <p:nvSpPr>
            <p:cNvPr id="91" name=""/>
            <p:cNvSpPr/>
            <p:nvPr/>
          </p:nvSpPr>
          <p:spPr>
            <a:xfrm rot="16200000">
              <a:off x="6480000" y="4040280"/>
              <a:ext cx="648000" cy="288720"/>
            </a:xfrm>
            <a:prstGeom prst="flowChartDelay">
              <a:avLst/>
            </a:prstGeom>
            <a:solidFill>
              <a:srgbClr val="ffcc99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rot="16200000">
              <a:off x="6669360" y="3949920"/>
              <a:ext cx="273960" cy="194040"/>
            </a:xfrm>
            <a:prstGeom prst="flowChartDelay">
              <a:avLst/>
            </a:prstGeom>
            <a:solidFill>
              <a:srgbClr val="ff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717240" y="4314240"/>
              <a:ext cx="173160" cy="0"/>
            </a:xfrm>
            <a:prstGeom prst="line">
              <a:avLst/>
            </a:prstGeom>
            <a:ln w="936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717240" y="4378320"/>
              <a:ext cx="173160" cy="0"/>
            </a:xfrm>
            <a:prstGeom prst="line">
              <a:avLst/>
            </a:prstGeom>
            <a:ln w="936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6805800" y="400536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948360" y="4508640"/>
            <a:ext cx="0" cy="79200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05800" y="499284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596360" y="1989000"/>
            <a:ext cx="790560" cy="1008360"/>
          </a:xfrm>
          <a:prstGeom prst="rect">
            <a:avLst/>
          </a:prstGeom>
          <a:ln w="0">
            <a:noFill/>
          </a:ln>
        </p:spPr>
      </p:pic>
      <p:grpSp>
        <p:nvGrpSpPr>
          <p:cNvPr id="99" name=""/>
          <p:cNvGrpSpPr/>
          <p:nvPr/>
        </p:nvGrpSpPr>
        <p:grpSpPr>
          <a:xfrm>
            <a:off x="1763280" y="4653000"/>
            <a:ext cx="3239640" cy="1008000"/>
            <a:chOff x="1763280" y="4653000"/>
            <a:chExt cx="3239640" cy="1008000"/>
          </a:xfrm>
        </p:grpSpPr>
        <p:sp>
          <p:nvSpPr>
            <p:cNvPr id="100" name=""/>
            <p:cNvSpPr/>
            <p:nvPr/>
          </p:nvSpPr>
          <p:spPr>
            <a:xfrm flipH="1">
              <a:off x="1762920" y="4653000"/>
              <a:ext cx="3239640" cy="1008000"/>
            </a:xfrm>
            <a:prstGeom prst="wedgeRoundRectCallout">
              <a:avLst>
                <a:gd name="adj1" fmla="val 53078"/>
                <a:gd name="adj2" fmla="val 59444"/>
                <a:gd name="adj3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837080" y="4726080"/>
              <a:ext cx="3140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余りの小数点の位置は，</a:t>
              </a:r>
              <a:r>
                <a:rPr b="1" lang="zh-CN" sz="1800" spc="-1" strike="noStrike">
                  <a:solidFill>
                    <a:srgbClr val="0099ff"/>
                  </a:solidFill>
                  <a:latin typeface="Arial"/>
                </a:rPr>
                <a:t>わられる数のもとの小数点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と同じところだね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84360" y="4941720"/>
            <a:ext cx="820440" cy="10382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924360" y="3716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20520" y="3645000"/>
            <a:ext cx="159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Arial"/>
              </a:rPr>
              <a:t>４・・・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2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348000" y="595008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答え　（   　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４本できて，２．２㎝余る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43960" y="476280"/>
            <a:ext cx="117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　商と余り　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50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500"/>
                            </p:stCondLst>
                            <p:childTnLst>
                              <p:par>
                                <p:cTn id="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500"/>
                            </p:stCondLst>
                            <p:childTnLst>
                              <p:par>
                                <p:cTn id="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000"/>
                            </p:stCondLst>
                            <p:childTnLst>
                              <p:par>
                                <p:cTn id="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450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500"/>
                            </p:stCondLst>
                            <p:childTnLst>
                              <p:par>
                                <p:cTn id="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6000"/>
                            </p:stCondLst>
                            <p:childTnLst>
                              <p:par>
                                <p:cTn id="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7000"/>
                            </p:stCondLst>
                            <p:childTnLst>
                              <p:par>
                                <p:cTn id="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7500"/>
                            </p:stCondLst>
                            <p:childTnLst>
                              <p:par>
                                <p:cTn id="1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80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8500"/>
                            </p:stCondLst>
                            <p:childTnLst>
                              <p:par>
                                <p:cTn id="1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90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86480" y="692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たしか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10680" y="2244600"/>
            <a:ext cx="303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２３　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÷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　５．２　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46080" y="2244600"/>
            <a:ext cx="159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Arial"/>
              </a:rPr>
              <a:t>４・・・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2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46320" y="1628640"/>
            <a:ext cx="31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前のページの計算で，商が４で，余り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になることをたしかめよ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340000" y="692280"/>
            <a:ext cx="2303280" cy="64908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90160" y="3351240"/>
            <a:ext cx="26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７ 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 　２　 　＝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58920" y="292428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99ff"/>
                </a:solidFill>
                <a:latin typeface="Arial"/>
              </a:rPr>
              <a:t>たしかめの方法を　簡単な数で考えてみよう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04080" y="3351240"/>
            <a:ext cx="135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３  ・・・  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17720" y="3711600"/>
            <a:ext cx="63792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3300"/>
                </a:solidFill>
                <a:latin typeface="Arial"/>
              </a:rPr>
              <a:t>わられる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384720" y="3711600"/>
            <a:ext cx="45504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わる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413600" y="3711600"/>
            <a:ext cx="27216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145840" y="3711600"/>
            <a:ext cx="36360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余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90160" y="4143240"/>
            <a:ext cx="26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７ 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 　２　 　＝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04080" y="4143240"/>
            <a:ext cx="135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３  ・・・  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30440" y="48690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Arial"/>
              </a:rPr>
              <a:t>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72960" y="48690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66"/>
                </a:solidFill>
                <a:latin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387680" y="48672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Arial"/>
              </a:rPr>
              <a:t>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52720" y="48798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9966"/>
                </a:solidFill>
                <a:latin typeface="Arial"/>
              </a:rPr>
              <a:t>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178240" y="48798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Arial"/>
              </a:rPr>
              <a:t>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858760" y="48960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319840" y="48625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508720" y="4797360"/>
            <a:ext cx="430200" cy="430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65640" y="4437000"/>
            <a:ext cx="45504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わる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86640" y="4443480"/>
            <a:ext cx="26928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cc33"/>
                </a:solidFill>
                <a:latin typeface="Arial"/>
              </a:rPr>
              <a:t>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10680" y="4465800"/>
            <a:ext cx="27216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cc33"/>
                </a:solidFill>
                <a:latin typeface="Arial"/>
              </a:rPr>
              <a:t>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413600" y="4432320"/>
            <a:ext cx="27216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804200" y="4443480"/>
            <a:ext cx="27216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cc33"/>
                </a:solidFill>
                <a:latin typeface="Arial"/>
              </a:rPr>
              <a:t>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93360" y="4457880"/>
            <a:ext cx="36360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余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232680" y="4465800"/>
            <a:ext cx="63792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3300"/>
                </a:solidFill>
                <a:latin typeface="Arial"/>
              </a:rPr>
              <a:t>わられる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13840" y="5600880"/>
            <a:ext cx="303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２３　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÷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　５．２　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449240" y="5600880"/>
            <a:ext cx="159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Arial"/>
              </a:rPr>
              <a:t>４・・・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2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352320" y="6093000"/>
            <a:ext cx="37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５．２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×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４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2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　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２３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1763640" y="4653000"/>
            <a:ext cx="1152720" cy="0"/>
          </a:xfrm>
          <a:prstGeom prst="line">
            <a:avLst/>
          </a:prstGeom>
          <a:ln w="507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3640" y="4653000"/>
            <a:ext cx="0" cy="1728720"/>
          </a:xfrm>
          <a:prstGeom prst="line">
            <a:avLst/>
          </a:prstGeom>
          <a:ln w="507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74800" y="6359400"/>
            <a:ext cx="1152720" cy="0"/>
          </a:xfrm>
          <a:prstGeom prst="line">
            <a:avLst/>
          </a:prstGeom>
          <a:ln w="507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30520" y="53737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同じように考えると・・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43960" y="476280"/>
            <a:ext cx="117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　商と余り　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771640" y="476280"/>
            <a:ext cx="2592360" cy="368280"/>
          </a:xfrm>
          <a:prstGeom prst="rect">
            <a:avLst/>
          </a:prstGeom>
          <a:solidFill>
            <a:srgbClr val="ffff99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いっしょに考えよう！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050920" y="333360"/>
            <a:ext cx="576360" cy="57636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9640" y="1413000"/>
            <a:ext cx="936720" cy="3585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問　 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476360" y="1341360"/>
            <a:ext cx="727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３７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ℓ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水を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2.3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ℓ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はいるバケツに分けていき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何ばいできて，何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ℓ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あまりますか？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00440" y="1795320"/>
            <a:ext cx="1584360" cy="0"/>
          </a:xfrm>
          <a:prstGeom prst="line">
            <a:avLst/>
          </a:prstGeom>
          <a:ln w="255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364000" y="1844640"/>
            <a:ext cx="1079640" cy="360360"/>
            <a:chOff x="5364000" y="1844640"/>
            <a:chExt cx="1079640" cy="360360"/>
          </a:xfrm>
        </p:grpSpPr>
        <p:sp>
          <p:nvSpPr>
            <p:cNvPr id="150" name=""/>
            <p:cNvSpPr/>
            <p:nvPr/>
          </p:nvSpPr>
          <p:spPr>
            <a:xfrm>
              <a:off x="5364000" y="1844640"/>
              <a:ext cx="0" cy="36036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364000" y="2193840"/>
              <a:ext cx="1079640" cy="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6716880" y="1989000"/>
            <a:ext cx="866520" cy="368280"/>
          </a:xfrm>
          <a:prstGeom prst="rect">
            <a:avLst/>
          </a:prstGeom>
          <a:solidFill>
            <a:srgbClr val="ccffcc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わり算だ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 flipH="1" rot="549600">
            <a:off x="7884720" y="1773360"/>
            <a:ext cx="463680" cy="865080"/>
          </a:xfrm>
          <a:prstGeom prst="rect">
            <a:avLst/>
          </a:prstGeom>
          <a:ln w="0">
            <a:noFill/>
          </a:ln>
        </p:spPr>
      </p:pic>
      <p:grpSp>
        <p:nvGrpSpPr>
          <p:cNvPr id="154" name=""/>
          <p:cNvGrpSpPr/>
          <p:nvPr/>
        </p:nvGrpSpPr>
        <p:grpSpPr>
          <a:xfrm>
            <a:off x="1311480" y="2637000"/>
            <a:ext cx="4483800" cy="431640"/>
            <a:chOff x="1311480" y="2637000"/>
            <a:chExt cx="4483800" cy="431640"/>
          </a:xfrm>
        </p:grpSpPr>
        <p:sp>
          <p:nvSpPr>
            <p:cNvPr id="155" name=""/>
            <p:cNvSpPr/>
            <p:nvPr/>
          </p:nvSpPr>
          <p:spPr>
            <a:xfrm>
              <a:off x="1311480" y="26370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350720" y="3068640"/>
              <a:ext cx="444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3816360" y="3716280"/>
            <a:ext cx="532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答え　（   　　　　　　　　　　　　　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19360" y="263700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３７　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÷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　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2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5400000">
            <a:off x="1744560" y="4371840"/>
            <a:ext cx="503280" cy="293760"/>
          </a:xfrm>
          <a:prstGeom prst="blockArc">
            <a:avLst>
              <a:gd name="adj1" fmla="val 12064740"/>
              <a:gd name="adj2" fmla="val 20335260"/>
              <a:gd name="adj3" fmla="val 227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062080" y="4277880"/>
            <a:ext cx="1270080" cy="1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51000" y="427824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28760" y="427824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617480" y="4632480"/>
            <a:ext cx="144360" cy="1425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155680" y="47275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54240" y="5237280"/>
            <a:ext cx="116532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712960" y="5203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06480" y="37846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701800" y="4292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2476440" y="4149360"/>
            <a:ext cx="289080" cy="647640"/>
            <a:chOff x="2476440" y="4149360"/>
            <a:chExt cx="289080" cy="647640"/>
          </a:xfrm>
        </p:grpSpPr>
        <p:sp>
          <p:nvSpPr>
            <p:cNvPr id="170" name=""/>
            <p:cNvSpPr/>
            <p:nvPr/>
          </p:nvSpPr>
          <p:spPr>
            <a:xfrm rot="16200000">
              <a:off x="2297160" y="4328640"/>
              <a:ext cx="647640" cy="289080"/>
            </a:xfrm>
            <a:prstGeom prst="flowChartDelay">
              <a:avLst/>
            </a:prstGeom>
            <a:solidFill>
              <a:srgbClr val="ffcc99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16200000">
              <a:off x="2486160" y="4239000"/>
              <a:ext cx="273960" cy="194040"/>
            </a:xfrm>
            <a:prstGeom prst="flowChartDelay">
              <a:avLst/>
            </a:prstGeom>
            <a:solidFill>
              <a:srgbClr val="ff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534040" y="4602960"/>
              <a:ext cx="173520" cy="0"/>
            </a:xfrm>
            <a:prstGeom prst="line">
              <a:avLst/>
            </a:prstGeom>
            <a:ln w="936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34040" y="4667040"/>
              <a:ext cx="173520" cy="0"/>
            </a:xfrm>
            <a:prstGeom prst="line">
              <a:avLst/>
            </a:prstGeom>
            <a:ln w="936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2752560" y="4144680"/>
            <a:ext cx="289080" cy="647640"/>
            <a:chOff x="2752560" y="4144680"/>
            <a:chExt cx="289080" cy="647640"/>
          </a:xfrm>
        </p:grpSpPr>
        <p:sp>
          <p:nvSpPr>
            <p:cNvPr id="175" name=""/>
            <p:cNvSpPr/>
            <p:nvPr/>
          </p:nvSpPr>
          <p:spPr>
            <a:xfrm rot="16200000">
              <a:off x="2573280" y="4323960"/>
              <a:ext cx="647640" cy="289080"/>
            </a:xfrm>
            <a:prstGeom prst="flowChartDelay">
              <a:avLst/>
            </a:prstGeom>
            <a:solidFill>
              <a:srgbClr val="ffcc99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6200000">
              <a:off x="2762280" y="4234320"/>
              <a:ext cx="273960" cy="194040"/>
            </a:xfrm>
            <a:prstGeom prst="flowChartDelay">
              <a:avLst/>
            </a:prstGeom>
            <a:solidFill>
              <a:srgbClr val="ff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810160" y="4598280"/>
              <a:ext cx="173520" cy="0"/>
            </a:xfrm>
            <a:prstGeom prst="line">
              <a:avLst/>
            </a:prstGeom>
            <a:ln w="936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10160" y="4662360"/>
              <a:ext cx="173520" cy="0"/>
            </a:xfrm>
            <a:prstGeom prst="line">
              <a:avLst/>
            </a:prstGeom>
            <a:ln w="936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2621160" y="428616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768760" y="4781520"/>
            <a:ext cx="0" cy="144144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632320" y="60292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383920" y="37497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65040" y="52149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717640" y="55926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46320" y="56070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49560" y="6078600"/>
            <a:ext cx="116532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760480" y="6056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369880" y="60786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551040" y="2629080"/>
            <a:ext cx="228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＝ １６　・・・　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0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46280" y="3746520"/>
            <a:ext cx="229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１６はいできて，０．２ℓ余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479480" y="45813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たしか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211640" y="4614840"/>
            <a:ext cx="1368360" cy="43344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331160" y="5084640"/>
            <a:ext cx="30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＋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0" y="5373720"/>
            <a:ext cx="1290600" cy="4680"/>
          </a:xfrm>
          <a:prstGeom prst="line">
            <a:avLst/>
          </a:prstGeom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934520" y="5373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36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117200" y="5084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843960" y="476280"/>
            <a:ext cx="117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　商と余り　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000"/>
                            </p:stCondLst>
                            <p:childTnLst>
                              <p:par>
                                <p:cTn id="4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000"/>
                            </p:stCondLst>
                            <p:childTnLst>
                              <p:par>
                                <p:cTn id="43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539640" y="1413000"/>
            <a:ext cx="936720" cy="3585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問　 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490840" y="1413000"/>
            <a:ext cx="51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ｍのロープ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ｍずつ切っていくと，何本できて，何ｍ余るでしょ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1311480" y="2276640"/>
            <a:ext cx="4483800" cy="431640"/>
            <a:chOff x="1311480" y="2276640"/>
            <a:chExt cx="4483800" cy="431640"/>
          </a:xfrm>
        </p:grpSpPr>
        <p:sp>
          <p:nvSpPr>
            <p:cNvPr id="201" name=""/>
            <p:cNvSpPr/>
            <p:nvPr/>
          </p:nvSpPr>
          <p:spPr>
            <a:xfrm>
              <a:off x="1311480" y="22766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350720" y="2708280"/>
              <a:ext cx="444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3816360" y="3068640"/>
            <a:ext cx="532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答え　（   　　　　　　　　　　　　　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71640" y="3573360"/>
            <a:ext cx="2663640" cy="30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15640" y="35733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＜筆算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356000" y="4149720"/>
            <a:ext cx="446400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41760" y="41497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＜たしかめ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843960" y="476280"/>
            <a:ext cx="117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　商と余り　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2627280" y="549360"/>
            <a:ext cx="1798200" cy="396720"/>
            <a:chOff x="2627280" y="549360"/>
            <a:chExt cx="1798200" cy="396720"/>
          </a:xfrm>
        </p:grpSpPr>
        <p:sp>
          <p:nvSpPr>
            <p:cNvPr id="210" name=""/>
            <p:cNvSpPr/>
            <p:nvPr/>
          </p:nvSpPr>
          <p:spPr>
            <a:xfrm>
              <a:off x="2627280" y="549360"/>
              <a:ext cx="1795680" cy="396720"/>
            </a:xfrm>
            <a:prstGeom prst="bevel">
              <a:avLst>
                <a:gd name="adj" fmla="val 125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677680" y="549360"/>
              <a:ext cx="174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99"/>
                  </a:solidFill>
                  <a:latin typeface="Arial"/>
                </a:rPr>
                <a:t>確認テスト 　</a:t>
              </a:r>
              <a:r>
                <a:rPr b="0" lang="zh-CN" sz="1800" spc="-1" strike="noStrike">
                  <a:solidFill>
                    <a:srgbClr val="333399"/>
                  </a:solidFill>
                  <a:latin typeface="Arial"/>
                </a:rPr>
                <a:t>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539640" y="1413000"/>
            <a:ext cx="936720" cy="3585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問　 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490840" y="1413000"/>
            <a:ext cx="51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ｍのロープ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ｍずつ切っていくと，何本できて，何ｍ余るでしょ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1311480" y="2276640"/>
            <a:ext cx="4483800" cy="431640"/>
            <a:chOff x="1311480" y="2276640"/>
            <a:chExt cx="4483800" cy="431640"/>
          </a:xfrm>
        </p:grpSpPr>
        <p:sp>
          <p:nvSpPr>
            <p:cNvPr id="215" name=""/>
            <p:cNvSpPr/>
            <p:nvPr/>
          </p:nvSpPr>
          <p:spPr>
            <a:xfrm>
              <a:off x="1311480" y="22766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350720" y="2708280"/>
              <a:ext cx="444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3816360" y="306864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答え　（ 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１８本できて，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0.2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ｍ余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71640" y="3573360"/>
            <a:ext cx="2663640" cy="30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115640" y="35733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＜筆算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356000" y="4149720"/>
            <a:ext cx="446400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541760" y="41497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＜たしかめ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884120" y="404640"/>
            <a:ext cx="1400040" cy="7034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＜答え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835280" y="2276640"/>
            <a:ext cx="173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４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7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　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÷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　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2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221280" y="2276640"/>
            <a:ext cx="296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＝ １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8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　・・・　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0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rot="5400000">
            <a:off x="1744560" y="4371840"/>
            <a:ext cx="503280" cy="293760"/>
          </a:xfrm>
          <a:prstGeom prst="blockArc">
            <a:avLst>
              <a:gd name="adj1" fmla="val 12064740"/>
              <a:gd name="adj2" fmla="val 20335260"/>
              <a:gd name="adj3" fmla="val 227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2062080" y="4277880"/>
            <a:ext cx="1270080" cy="1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151000" y="427824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28760" y="427824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1588680" y="4605480"/>
            <a:ext cx="144360" cy="1425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55680" y="47275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154240" y="5237280"/>
            <a:ext cx="116532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39960" y="5203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706480" y="37846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701800" y="4292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1160" y="428616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746440" y="4781520"/>
            <a:ext cx="0" cy="144144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632320" y="60292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383920" y="37497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73320" y="5208480"/>
            <a:ext cx="63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759040" y="55926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146320" y="56070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149560" y="6078600"/>
            <a:ext cx="116532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760480" y="6056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384280" y="6037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439880" y="4724280"/>
            <a:ext cx="392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2.6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　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×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　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18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　＋　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0.2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　＝　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843960" y="476280"/>
            <a:ext cx="117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　商と余り　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2627280" y="549360"/>
            <a:ext cx="1798200" cy="396720"/>
            <a:chOff x="2627280" y="549360"/>
            <a:chExt cx="1798200" cy="396720"/>
          </a:xfrm>
        </p:grpSpPr>
        <p:sp>
          <p:nvSpPr>
            <p:cNvPr id="248" name=""/>
            <p:cNvSpPr/>
            <p:nvPr/>
          </p:nvSpPr>
          <p:spPr>
            <a:xfrm>
              <a:off x="2627280" y="549360"/>
              <a:ext cx="1795680" cy="396720"/>
            </a:xfrm>
            <a:prstGeom prst="bevel">
              <a:avLst>
                <a:gd name="adj" fmla="val 125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677680" y="549360"/>
              <a:ext cx="174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99"/>
                  </a:solidFill>
                  <a:latin typeface="Arial"/>
                </a:rPr>
                <a:t>確認テスト 　</a:t>
              </a:r>
              <a:r>
                <a:rPr b="0" lang="zh-CN" sz="1800" spc="-1" strike="noStrike">
                  <a:solidFill>
                    <a:srgbClr val="333399"/>
                  </a:solidFill>
                  <a:latin typeface="Arial"/>
                </a:rPr>
                <a:t>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6T02:55:57Z</dcterms:created>
  <dc:creator>kangawa-kaori-1</dc:creator>
  <dc:description/>
  <dc:language>en-US</dc:language>
  <cp:lastModifiedBy>kangawa-kaori-1</cp:lastModifiedBy>
  <dcterms:modified xsi:type="dcterms:W3CDTF">2007-11-14T06:32:58Z</dcterms:modified>
  <cp:revision>90</cp:revision>
  <dc:subject/>
  <dc:title>スライド 1</dc:title>
</cp:coreProperties>
</file>