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62E-0C56-4437-9923-385A1304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D99-861F-4728-933F-35773B6D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299-8B23-4D8E-9518-F8CB4B64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6E3-CBC8-438A-9B5C-98DDC535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D91-CC61-4556-86DE-6D72EC7D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A72-5D6F-4F6B-A2BC-8B12036D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1E6-BDA5-43CB-B3D3-7339DBDE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FCF-46E1-461A-B84E-9159C3B3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A9F-05AA-4F2E-9038-99598027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84C-52A3-4492-8B32-A689AEC2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110-6F3C-45DA-9B13-431AE753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7B7-BF03-4B74-A42D-BD7F8478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332A-01B3-4DFE-B25D-0633FC60B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1480" y="1292400"/>
            <a:ext cx="3371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ッカークラブの定員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です。希望者は定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あっ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そうです。希望者は，何人だったのでしょう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44400" y="324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くらべる量を求める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333360"/>
            <a:ext cx="319572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くらべる量を求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2600" y="5273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くらべ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95880" y="5273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もとにす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44920" y="5427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96520" y="5273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割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37920" y="59943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ポイント　絶対覚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1280" y="5994360"/>
            <a:ext cx="787320" cy="70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6800" y="1325520"/>
            <a:ext cx="96984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1409760"/>
            <a:ext cx="270000" cy="26964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81640" y="22147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33960" y="288144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37200" y="3003480"/>
            <a:ext cx="283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74000" y="287172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63000" y="287028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20883000">
            <a:off x="6011280" y="2584080"/>
            <a:ext cx="204408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627000">
            <a:off x="7302600" y="2622600"/>
            <a:ext cx="157032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 rot="717000">
            <a:off x="6002280" y="3152160"/>
            <a:ext cx="1704240" cy="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20883000">
            <a:off x="6652440" y="3100320"/>
            <a:ext cx="1551600" cy="12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rot="20883000">
            <a:off x="6004080" y="2787840"/>
            <a:ext cx="1704240" cy="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717000">
            <a:off x="6641640" y="2792520"/>
            <a:ext cx="15516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 rot="717000">
            <a:off x="6005520" y="3006000"/>
            <a:ext cx="204408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20973000">
            <a:off x="7301160" y="2872440"/>
            <a:ext cx="1569600" cy="50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03800" y="2612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202360" y="1695600"/>
            <a:ext cx="763560" cy="144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192720" y="1681200"/>
            <a:ext cx="484200" cy="936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6160" y="1397160"/>
            <a:ext cx="270000" cy="26964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2080" y="2657520"/>
            <a:ext cx="455040" cy="368280"/>
          </a:xfrm>
          <a:prstGeom prst="rect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1640" y="2849400"/>
            <a:ext cx="1890720" cy="0"/>
          </a:xfrm>
          <a:prstGeom prst="line">
            <a:avLst/>
          </a:prstGeom>
          <a:ln w="1584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29600" y="2668680"/>
            <a:ext cx="592200" cy="368280"/>
          </a:xfrm>
          <a:prstGeom prst="rect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希望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3080" y="283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22520" y="2895480"/>
            <a:ext cx="26964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61800" y="24764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2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60760" y="2825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81640" y="2881440"/>
            <a:ext cx="269640" cy="26964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760" y="3016080"/>
            <a:ext cx="9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16280" y="3152880"/>
            <a:ext cx="270000" cy="269640"/>
          </a:xfrm>
          <a:prstGeom prst="rect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85920" y="3094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95400" y="310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29520" y="234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79960" y="30384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２５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01080" y="3357720"/>
            <a:ext cx="269640" cy="269640"/>
          </a:xfrm>
          <a:prstGeom prst="rect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70360" y="3298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79840" y="3311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83880" y="407052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67000" y="451008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89320" y="410364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５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１．２　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48800" y="405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640" y="4149720"/>
            <a:ext cx="23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え（　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0600" y="248436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×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23040" y="54165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6640" y="5184720"/>
            <a:ext cx="6345360" cy="8096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62720" y="3924360"/>
            <a:ext cx="1333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642000" y="324000"/>
            <a:ext cx="23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くらべる量を求める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681280" y="414360"/>
            <a:ext cx="1368000" cy="396720"/>
            <a:chOff x="2681280" y="414360"/>
            <a:chExt cx="1368000" cy="396720"/>
          </a:xfrm>
        </p:grpSpPr>
        <p:sp>
          <p:nvSpPr>
            <p:cNvPr id="97" name=""/>
            <p:cNvSpPr/>
            <p:nvPr/>
          </p:nvSpPr>
          <p:spPr>
            <a:xfrm>
              <a:off x="2681280" y="41436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19440" y="41436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85920" y="998640"/>
            <a:ext cx="71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去年１６００円だった品物が，ことしは去年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倍のねだんになったそうです。今年は，何円になったの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6280" y="3924360"/>
            <a:ext cx="721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ある学校の５年生の人数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で，６年生の人数はそ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す。６年生の人数は，何人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15920" y="1042920"/>
            <a:ext cx="349920" cy="349920"/>
            <a:chOff x="1015920" y="1042920"/>
            <a:chExt cx="349920" cy="349920"/>
          </a:xfrm>
        </p:grpSpPr>
        <p:sp>
          <p:nvSpPr>
            <p:cNvPr id="102" name="SH_02_20071025112756"/>
            <p:cNvSpPr/>
            <p:nvPr/>
          </p:nvSpPr>
          <p:spPr>
            <a:xfrm>
              <a:off x="1015920" y="1042920"/>
              <a:ext cx="349920" cy="34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072080" y="1099080"/>
              <a:ext cx="237600" cy="23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1035000" y="3917880"/>
            <a:ext cx="349920" cy="349920"/>
            <a:chOff x="1035000" y="3917880"/>
            <a:chExt cx="349920" cy="349920"/>
          </a:xfrm>
        </p:grpSpPr>
        <p:sp>
          <p:nvSpPr>
            <p:cNvPr id="105" name="SH_02_20071025112806"/>
            <p:cNvSpPr/>
            <p:nvPr/>
          </p:nvSpPr>
          <p:spPr>
            <a:xfrm>
              <a:off x="1035000" y="3917880"/>
              <a:ext cx="349920" cy="34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091520" y="3974040"/>
              <a:ext cx="23688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1195560" y="198900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76640" y="22147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02000" y="198900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78400" y="1895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7880" y="3282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46280" y="3745080"/>
            <a:ext cx="423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85520" y="342900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0920" y="1900080"/>
            <a:ext cx="0" cy="803520"/>
          </a:xfrm>
          <a:prstGeom prst="line">
            <a:avLst/>
          </a:prstGeom>
          <a:ln w="158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04840" y="482436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85920" y="5049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82436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87680" y="47307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37160" y="6118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55920" y="6580080"/>
            <a:ext cx="42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99440" y="61736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0200" y="4735440"/>
            <a:ext cx="0" cy="803520"/>
          </a:xfrm>
          <a:prstGeom prst="line">
            <a:avLst/>
          </a:prstGeom>
          <a:ln w="158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1280" y="239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09120" y="239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6120" y="5245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10840" y="5254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44400" y="324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くらべる量を求める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681280" y="414360"/>
            <a:ext cx="1368000" cy="396720"/>
            <a:chOff x="2681280" y="414360"/>
            <a:chExt cx="1368000" cy="396720"/>
          </a:xfrm>
        </p:grpSpPr>
        <p:sp>
          <p:nvSpPr>
            <p:cNvPr id="129" name=""/>
            <p:cNvSpPr/>
            <p:nvPr/>
          </p:nvSpPr>
          <p:spPr>
            <a:xfrm>
              <a:off x="2681280" y="41436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9440" y="41436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285920" y="1089000"/>
            <a:ext cx="71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去年１６００円だった品物が，ことしは去年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倍のねだんになったそうです。今年は，何円になったの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6280" y="3924360"/>
            <a:ext cx="721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ある学校の５年生の人数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で，６年生の人数はそ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す。６年生の人数は，何人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015920" y="1133640"/>
            <a:ext cx="349920" cy="349920"/>
            <a:chOff x="1015920" y="1133640"/>
            <a:chExt cx="349920" cy="349920"/>
          </a:xfrm>
        </p:grpSpPr>
        <p:sp>
          <p:nvSpPr>
            <p:cNvPr id="134" name="SH_02_20071025112756"/>
            <p:cNvSpPr/>
            <p:nvPr/>
          </p:nvSpPr>
          <p:spPr>
            <a:xfrm>
              <a:off x="1015920" y="1133640"/>
              <a:ext cx="349920" cy="34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1072080" y="1189800"/>
              <a:ext cx="237600" cy="23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1035000" y="3917880"/>
            <a:ext cx="349920" cy="349920"/>
            <a:chOff x="1035000" y="3917880"/>
            <a:chExt cx="349920" cy="349920"/>
          </a:xfrm>
        </p:grpSpPr>
        <p:sp>
          <p:nvSpPr>
            <p:cNvPr id="137" name="SH_02_20071025112806"/>
            <p:cNvSpPr/>
            <p:nvPr/>
          </p:nvSpPr>
          <p:spPr>
            <a:xfrm>
              <a:off x="1035000" y="3917880"/>
              <a:ext cx="349920" cy="34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091520" y="3974040"/>
              <a:ext cx="23688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195560" y="198900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76640" y="22147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02000" y="198900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78400" y="1895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27880" y="3282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46280" y="3745080"/>
            <a:ext cx="423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85520" y="342900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0920" y="1900080"/>
            <a:ext cx="0" cy="803520"/>
          </a:xfrm>
          <a:prstGeom prst="line">
            <a:avLst/>
          </a:prstGeom>
          <a:ln w="158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04840" y="482436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85920" y="5049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11640" y="4824360"/>
            <a:ext cx="108108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87680" y="47307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37160" y="6118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55920" y="6580080"/>
            <a:ext cx="42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45520" y="626436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40200" y="4735440"/>
            <a:ext cx="0" cy="803520"/>
          </a:xfrm>
          <a:prstGeom prst="line">
            <a:avLst/>
          </a:prstGeom>
          <a:ln w="158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20400" y="279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2720" y="4829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５年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76640" y="2303640"/>
            <a:ext cx="269640" cy="26964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85920" y="5184720"/>
            <a:ext cx="27000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4440" y="198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こ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76600" y="225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97480" y="2314440"/>
            <a:ext cx="26964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16280" y="1450800"/>
            <a:ext cx="611280" cy="180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35480" y="1149480"/>
            <a:ext cx="270000" cy="26964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31080" y="1162080"/>
            <a:ext cx="26964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32640" y="4281480"/>
            <a:ext cx="1355400" cy="324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1800" y="18986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0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54760" y="24480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958000" y="2568600"/>
            <a:ext cx="231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78920" y="244944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83440" y="243684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0883000">
            <a:off x="5931720" y="2150640"/>
            <a:ext cx="204408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627000">
            <a:off x="6810120" y="2182680"/>
            <a:ext cx="1475280" cy="50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 rot="717000">
            <a:off x="5923080" y="2718720"/>
            <a:ext cx="1704240" cy="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 rot="20883000">
            <a:off x="6572520" y="2666520"/>
            <a:ext cx="155232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rot="20883000">
            <a:off x="5924520" y="2354400"/>
            <a:ext cx="1704240" cy="8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717000">
            <a:off x="6561720" y="2358720"/>
            <a:ext cx="155232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 rot="717000">
            <a:off x="5926320" y="2572560"/>
            <a:ext cx="2043360" cy="42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 rot="20973000">
            <a:off x="6705360" y="2449440"/>
            <a:ext cx="1570320" cy="50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24240" y="2179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23800" y="1943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54960" y="2619360"/>
            <a:ext cx="78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600</a:t>
            </a: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58080" y="2933640"/>
            <a:ext cx="269640" cy="270000"/>
          </a:xfrm>
          <a:prstGeom prst="rect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29160" y="2979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5400" y="2886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11440" y="5099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32320" y="5154480"/>
            <a:ext cx="27000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79400" y="481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６年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96800" y="4734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9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55480" y="198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去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84280" y="3282840"/>
            <a:ext cx="31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60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0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29960" y="3457440"/>
            <a:ext cx="11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68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51640" y="4284720"/>
            <a:ext cx="45108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32720" y="3968640"/>
            <a:ext cx="27000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28000" y="4002120"/>
            <a:ext cx="26964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49760" y="1473120"/>
            <a:ext cx="473040" cy="18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13320" y="1461960"/>
            <a:ext cx="698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70760" y="4290840"/>
            <a:ext cx="5050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02280" y="514368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02280" y="5278320"/>
            <a:ext cx="283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831160" y="513252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532720" y="513864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rot="20883000">
            <a:off x="5978880" y="4876560"/>
            <a:ext cx="2043360" cy="42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627000">
            <a:off x="7270560" y="4905360"/>
            <a:ext cx="1570320" cy="50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 rot="717000">
            <a:off x="6008760" y="5413320"/>
            <a:ext cx="1704240" cy="8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 rot="20883000">
            <a:off x="6994800" y="5389200"/>
            <a:ext cx="155232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rot="20883000">
            <a:off x="5974560" y="5070240"/>
            <a:ext cx="1652040" cy="9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01" y="187"/>
                </a:moveTo>
                <a:arcTo wR="10800" hR="10800" stAng="-6040022" swAng="6040022"/>
                <a:lnTo>
                  <a:pt x="10800" y="10800"/>
                </a:lnTo>
                <a:close/>
              </a:path>
              <a:path fill="none" w="21600" h="21600">
                <a:moveTo>
                  <a:pt x="8801" y="187"/>
                </a:moveTo>
                <a:arcTo wR="10800" hR="10800" stAng="-6040022" swAng="604002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717000">
            <a:off x="7007400" y="5041440"/>
            <a:ext cx="155232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 rot="717000">
            <a:off x="5979240" y="5267160"/>
            <a:ext cx="2043360" cy="42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 rot="20973000">
            <a:off x="7259400" y="5145120"/>
            <a:ext cx="1570320" cy="50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3" y="419"/>
                </a:moveTo>
                <a:arcTo wR="10800" hR="10800" stAng="-6360157" swAng="6360157"/>
                <a:lnTo>
                  <a:pt x="10800" y="10800"/>
                </a:lnTo>
                <a:close/>
              </a:path>
              <a:path fill="none" w="21600" h="21600">
                <a:moveTo>
                  <a:pt x="7823" y="419"/>
                </a:moveTo>
                <a:arcTo wR="10800" hR="10800" stAng="-6360157" swAng="6360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93000" y="550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73440" y="4648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78680" y="5565600"/>
            <a:ext cx="7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4800" y="53578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82000" y="5364000"/>
            <a:ext cx="225360" cy="22572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94880" y="4900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2560" y="5297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72040" y="6111720"/>
            <a:ext cx="27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5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9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0440" y="6308640"/>
            <a:ext cx="9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3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10840" y="5254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4000" y="52801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77480" y="2394000"/>
            <a:ext cx="12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6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39360" y="2403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16280" y="2484360"/>
            <a:ext cx="225360" cy="225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0600" y="5335560"/>
            <a:ext cx="225360" cy="225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7:39:48Z</dcterms:created>
  <dc:creator>kangawa-kaori-1</dc:creator>
  <dc:description/>
  <dc:language>en-US</dc:language>
  <cp:lastModifiedBy>kangawa-kaori-1</cp:lastModifiedBy>
  <dcterms:modified xsi:type="dcterms:W3CDTF">2007-11-14T06:20:14Z</dcterms:modified>
  <cp:revision>59</cp:revision>
  <dc:subject/>
  <dc:title>スライド 1</dc:title>
</cp:coreProperties>
</file>