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753-823F-4E98-B854-7F5EB468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BA2-0291-4B36-81B6-4B70ECC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3B1-5B51-43ED-BB0E-9EDE388D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410-9EF0-4C6D-AD1F-589421FB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66D-31E9-4643-BB7B-E55C5E6C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18B-BDB2-4DC1-AE13-E39FFF8E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7C9-08FC-4073-BF9C-E09FED4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767-0D09-496D-9603-4CB41DD3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AF4-DEE4-43B3-9C82-594EBFE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15D-C8F1-439C-B0EC-86D8270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C70-1B06-4DCD-866A-FCC5EDB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7E7-6F6C-4060-BDB3-151B4C1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06DB-98FB-49E8-B0AA-D9C73BB3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27280" y="441360"/>
            <a:ext cx="1297080" cy="396720"/>
            <a:chOff x="2627280" y="441360"/>
            <a:chExt cx="1297080" cy="396720"/>
          </a:xfrm>
        </p:grpSpPr>
        <p:sp>
          <p:nvSpPr>
            <p:cNvPr id="42" name=""/>
            <p:cNvSpPr/>
            <p:nvPr/>
          </p:nvSpPr>
          <p:spPr>
            <a:xfrm>
              <a:off x="2627280" y="441360"/>
              <a:ext cx="129528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63640" y="441360"/>
              <a:ext cx="12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067280" y="333360"/>
            <a:ext cx="1728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整数の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9120" y="985680"/>
            <a:ext cx="826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　０から１５までの整数について答え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①　偶数をすべてかきましょう　（　　　　　　　　　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②　奇数をすべてかきましょう　（　　　　　　　　　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次の数を偶数と奇数に分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０，４，７，２１，８９，１０８，３１５３，４５７３４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偶数（　　　　　　　　　　　　　　　　　　　）　奇数（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３）次の□の中に，偶数と奇数のどちらかを書き入れ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472428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761000"/>
            <a:ext cx="24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偶数　＋　奇数　＝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偶数　＋　偶数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奇数　＋　奇数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530064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5877000"/>
            <a:ext cx="93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16720" y="5408640"/>
            <a:ext cx="987480" cy="103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6155640" y="4869000"/>
            <a:ext cx="1405080" cy="863640"/>
          </a:xfrm>
          <a:prstGeom prst="wedgeEllipseCallout">
            <a:avLst>
              <a:gd name="adj1" fmla="val -52148"/>
              <a:gd name="adj2" fmla="val 43194"/>
            </a:avLst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8388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きたか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2880" y="365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整数の見方（問題）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56000" y="404640"/>
            <a:ext cx="1296360" cy="396720"/>
            <a:chOff x="2556000" y="404640"/>
            <a:chExt cx="1296360" cy="396720"/>
          </a:xfrm>
        </p:grpSpPr>
        <p:sp>
          <p:nvSpPr>
            <p:cNvPr id="56" name=""/>
            <p:cNvSpPr/>
            <p:nvPr/>
          </p:nvSpPr>
          <p:spPr>
            <a:xfrm>
              <a:off x="2556000" y="404640"/>
              <a:ext cx="129492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2000" y="404640"/>
              <a:ext cx="12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19120" y="985680"/>
            <a:ext cx="826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１）　０から１５までの整数について答え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①　偶数をすべてかきましょう　（　　　　　　　　　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②　奇数をすべてかきましょう　（　　　　　　　　　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２）次の数を偶数と奇数に分け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０，４，７，２１，８９，１０８，３１５３，４５７３４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偶数（　　　　　　　　　　　　　　　　　　　）　奇数（　　　　　　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３）次の□の中に，偶数と奇数のどちらかを書き入れ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72428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761000"/>
            <a:ext cx="24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偶数　＋　奇数　＝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偶数　＋　偶数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奇数　＋　奇数　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530064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5877000"/>
            <a:ext cx="93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5408640"/>
            <a:ext cx="987480" cy="103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6155640" y="4869000"/>
            <a:ext cx="1405080" cy="863640"/>
          </a:xfrm>
          <a:prstGeom prst="wedgeEllipseCallout">
            <a:avLst>
              <a:gd name="adj1" fmla="val -52148"/>
              <a:gd name="adj2" fmla="val 43194"/>
            </a:avLst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8388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きたか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320" y="1521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，２，４，６，８，１０，１２，１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320" y="2023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，３，５，７，９，１１，１３，１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0160" y="3716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０，４，１０８，４５７３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77720" y="37162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７，２１，８９，３１５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7610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奇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53370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9133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87040" y="29700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43040" y="368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整数の見方（問題）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3:08:17Z</dcterms:created>
  <dc:creator>kangawa-kaori-1</dc:creator>
  <dc:description/>
  <dc:language>en-US</dc:language>
  <cp:lastModifiedBy>kangawa-kaori-1</cp:lastModifiedBy>
  <dcterms:modified xsi:type="dcterms:W3CDTF">2007-11-14T06:26:29Z</dcterms:modified>
  <cp:revision>41</cp:revision>
  <dc:subject/>
  <dc:title>整数の見方</dc:title>
</cp:coreProperties>
</file>