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6C3-FF08-4E95-8560-44937763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762-8AAE-4BAB-9012-AB72EE5B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DF4-220E-4173-8DED-208B8873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E09-7088-43FF-975A-C4068381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E99-1EE7-400A-8064-8C5D111D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028-4EE5-4359-95D9-3CD6B8A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0AF-FC9B-4B5E-B8EF-0115B09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25C-0550-4D44-BBCA-F278F40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58C-C450-4528-A91C-58944FE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FAF-4A5B-4B3E-9EB4-5AECAD5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F51-426D-497B-8E28-42C9F48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8EE-C639-4DD3-BA9D-60C43AC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FD8-67FB-4B10-BAD4-44AE2EE8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4437000"/>
            <a:ext cx="115092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404640"/>
            <a:ext cx="280800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積・商の大き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0280" y="190188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00" y="23875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28195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0280" y="32702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00" y="37544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1960" y="12747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積（かけ算の答え）の大きさ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6320" y="1851120"/>
            <a:ext cx="432000" cy="23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198900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05240" y="1268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商（わり算の答え）の大きさ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47320" y="190188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67840" y="238752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67840" y="281952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7840" y="325116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67840" y="3754440"/>
            <a:ext cx="9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38680" y="1851120"/>
            <a:ext cx="431640" cy="23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198900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3357720"/>
            <a:ext cx="216000" cy="7189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3357720"/>
            <a:ext cx="216000" cy="7189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4"/>
                </a:lnTo>
                <a:cubicBezTo>
                  <a:pt x="10800" y="9924"/>
                  <a:pt x="16200" y="10824"/>
                  <a:pt x="21600" y="10824"/>
                </a:cubicBezTo>
                <a:cubicBezTo>
                  <a:pt x="16200" y="10824"/>
                  <a:pt x="10800" y="11724"/>
                  <a:pt x="10800" y="126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280" y="1922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6824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1989000"/>
            <a:ext cx="28872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70720" y="33577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19320" y="371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70720" y="3424320"/>
            <a:ext cx="28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9560" y="19573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0400" y="231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</a:rPr>
              <a:t>大き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9560" y="2023920"/>
            <a:ext cx="28908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68600" y="32734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440" y="362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</a:rPr>
              <a:t>大き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68600" y="3340080"/>
            <a:ext cx="28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268280"/>
            <a:ext cx="0" cy="31687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2205000"/>
            <a:ext cx="4334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8280" y="3579840"/>
            <a:ext cx="433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24440" y="2205000"/>
            <a:ext cx="4334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4440" y="2708280"/>
            <a:ext cx="4334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8280" y="4075200"/>
            <a:ext cx="433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4400" y="3559320"/>
            <a:ext cx="43308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5200" y="4064040"/>
            <a:ext cx="433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55760" y="4916520"/>
            <a:ext cx="4970520" cy="978120"/>
          </a:xfrm>
          <a:prstGeom prst="rect">
            <a:avLst/>
          </a:prstGeom>
          <a:noFill/>
          <a:ln w="25560">
            <a:solidFill>
              <a:srgbClr val="00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け算では，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１より小さい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かけると，積は，かけられる数より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小さ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り算では，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１より小さい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わると，商は，わられる数より</a:t>
            </a:r>
            <a:r>
              <a:rPr b="1" lang="zh-CN" sz="2000" spc="-1" strike="noStrike">
                <a:solidFill>
                  <a:srgbClr val="0099ff"/>
                </a:solidFill>
                <a:latin typeface="Arial"/>
              </a:rPr>
              <a:t>大き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23680" y="18842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86240" y="189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23680" y="24145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6240" y="2421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3400" y="2852640"/>
            <a:ext cx="9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8920" y="28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2600" y="3284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320" y="32702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21240" y="376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03160" y="3751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57480" y="19080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0.3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2080" y="191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78360" y="2395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0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65040" y="2408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83040" y="2844720"/>
            <a:ext cx="9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26600" y="286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78360" y="3244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4520" y="326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27160" y="-2384280"/>
            <a:ext cx="26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99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8880" y="3755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2192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30064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6320" y="584820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2708280"/>
            <a:ext cx="4334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160" y="4210200"/>
          <a:ext cx="94284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4210200"/>
                    <a:ext cx="94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20400" y="451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大切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8880" y="4762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積・商の大きさ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71640" y="476280"/>
            <a:ext cx="252108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っしょに考えよう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33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26160" y="1197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てはまる記号を選び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0880" y="17780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　積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小さ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68560" y="220500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6240" y="22050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1.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67200" y="278136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2.4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71440" y="278136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0.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885080" y="836640"/>
            <a:ext cx="787320" cy="86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5651640" y="765000"/>
            <a:ext cx="2087280" cy="792360"/>
          </a:xfrm>
          <a:prstGeom prst="wedgeEllipseCallout">
            <a:avLst>
              <a:gd name="adj1" fmla="val -51828"/>
              <a:gd name="adj2" fmla="val -26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0" y="89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計算しないですぐ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答えがいえるかな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327168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492280"/>
            <a:ext cx="404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60960" y="251460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92360" y="3068280"/>
            <a:ext cx="60012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058080" y="3119040"/>
            <a:ext cx="5536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276640"/>
            <a:ext cx="720720" cy="158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80640" y="2045880"/>
            <a:ext cx="81972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かける数が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よ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小さ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を選ぶ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だ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133720"/>
            <a:ext cx="1440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12880" cy="8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23640" y="32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45080" y="32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7040" y="393372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商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大き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93760" y="4361040"/>
            <a:ext cx="25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78200" y="4361040"/>
            <a:ext cx="25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2040" y="493704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0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96640" y="493704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2.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16520" y="542772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4653000"/>
            <a:ext cx="433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4653000"/>
            <a:ext cx="446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08360" y="5229360"/>
            <a:ext cx="563760" cy="10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26280" y="5275440"/>
            <a:ext cx="5252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52880" y="4289400"/>
            <a:ext cx="1439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44160" y="5440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70640" y="5440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437000"/>
            <a:ext cx="720720" cy="1584360"/>
          </a:xfrm>
          <a:prstGeom prst="wedgeRoundRectCallout">
            <a:avLst>
              <a:gd name="adj1" fmla="val -45375"/>
              <a:gd name="adj2" fmla="val 6012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720720" cy="66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56600" y="4205160"/>
            <a:ext cx="81972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わる数が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１よ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小さ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を選ぶ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だ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7240" y="33336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積・商の大きさ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26160" y="1197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てはまる記号を選び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6520" y="179244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　積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大き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8920" y="2205000"/>
            <a:ext cx="26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5880" y="22050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2.0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7200" y="278136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0.38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71440" y="278136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0.5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27168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2492280"/>
            <a:ext cx="50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2492280"/>
            <a:ext cx="649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08360" y="3068280"/>
            <a:ext cx="628560" cy="1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00720" y="3068640"/>
            <a:ext cx="552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1680" y="2133720"/>
            <a:ext cx="1440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77680" y="393372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商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小さ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93760" y="4361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8560" y="43610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2040" y="4937040"/>
            <a:ext cx="22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1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96640" y="493704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0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16520" y="542772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4653000"/>
            <a:ext cx="30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4653000"/>
            <a:ext cx="51768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708360" y="5229360"/>
            <a:ext cx="450720" cy="10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6280" y="5276880"/>
            <a:ext cx="463320" cy="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52880" y="4289400"/>
            <a:ext cx="1439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8880" y="4762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積・商の大きさ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0226600">
            <a:off x="395280" y="5516280"/>
            <a:ext cx="1022400" cy="1122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07480" y="5780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がんばって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176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26160" y="1197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てはまる記号を選び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6520" y="179244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　積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大き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8920" y="2205000"/>
            <a:ext cx="26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5880" y="22050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2.0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7200" y="278136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0.38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71440" y="278136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0.5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327168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2492280"/>
            <a:ext cx="502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24922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3079800"/>
            <a:ext cx="614520" cy="3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300720" y="3068640"/>
            <a:ext cx="5256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1680" y="2133720"/>
            <a:ext cx="1440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3640" y="32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6440" y="32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77680" y="393372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　商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小さくな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93760" y="4361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78560" y="43610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2040" y="4937040"/>
            <a:ext cx="22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1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96640" y="493704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エ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 0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16520" y="542772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4653000"/>
            <a:ext cx="30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653000"/>
            <a:ext cx="50472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5240160"/>
            <a:ext cx="4507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6280" y="5276880"/>
            <a:ext cx="463320" cy="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52880" y="4289400"/>
            <a:ext cx="1439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4160" y="5440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0640" y="5440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84120" y="404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8880" y="4762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　積・商の大きさ　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08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2:32Z</dcterms:modified>
  <cp:revision>89</cp:revision>
  <dc:subject/>
  <dc:title>スライド 1</dc:title>
</cp:coreProperties>
</file>