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C3F3-FB29-4943-9CB9-0A4147044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3036-9976-4182-B627-B5147BBF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DE5C-18CB-46AC-ADC4-4656505B5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1A12-8CB5-4EDF-B87D-E93AA4ED5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4786-548B-414B-BDDA-D22CD4C0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6D29-D592-4849-A1A0-11D0CE19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2CA5-AD23-4CD8-90E7-F84514A8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E818-4D15-4E51-96C7-4F489C57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15BC-1403-4A73-8D4C-01BFE846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722F-E591-4992-B420-667788F4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C7E1-1743-4BC1-B975-41B2BDF7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9EC1-919B-4261-9E72-880849FD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6932-6B1A-4A3C-8753-518BEF1FD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11280" y="333360"/>
            <a:ext cx="2951280" cy="5778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数をかける計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1197000"/>
            <a:ext cx="1439640" cy="358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まずこの問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06960" y="1201680"/>
            <a:ext cx="42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１ｍ６０円のリボンを２ｍ買ったときの代金は，何円になるかな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816200" y="2133720"/>
            <a:ext cx="3476520" cy="431640"/>
            <a:chOff x="1816200" y="2133720"/>
            <a:chExt cx="3476520" cy="431640"/>
          </a:xfrm>
        </p:grpSpPr>
        <p:sp>
          <p:nvSpPr>
            <p:cNvPr id="45" name=""/>
            <p:cNvSpPr/>
            <p:nvPr/>
          </p:nvSpPr>
          <p:spPr>
            <a:xfrm>
              <a:off x="1816200" y="2133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35280" y="2565360"/>
              <a:ext cx="34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5545440" y="220500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　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74360" y="2060640"/>
            <a:ext cx="27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６０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× 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２  ＝ １２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26146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26082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35280" y="2997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１ｍのねだん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2997360"/>
            <a:ext cx="1368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35280" y="2997360"/>
            <a:ext cx="576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2997360"/>
            <a:ext cx="576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904080" y="2127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１２０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71640" y="3860640"/>
            <a:ext cx="93492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2760" y="3860640"/>
            <a:ext cx="45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１ｍ６０円のリボンを２．３ｍ買ったときの代金は，何円になるかな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35280" y="43657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１ｍのねだん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長さ　＝　代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4365720"/>
            <a:ext cx="1368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35280" y="4365720"/>
            <a:ext cx="576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4365720"/>
            <a:ext cx="576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47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51280" y="47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96000" y="261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816200" y="5302080"/>
            <a:ext cx="3476520" cy="432000"/>
            <a:chOff x="1816200" y="5302080"/>
            <a:chExt cx="3476520" cy="432000"/>
          </a:xfrm>
        </p:grpSpPr>
        <p:sp>
          <p:nvSpPr>
            <p:cNvPr id="66" name=""/>
            <p:cNvSpPr/>
            <p:nvPr/>
          </p:nvSpPr>
          <p:spPr>
            <a:xfrm>
              <a:off x="1816200" y="5302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35280" y="5734080"/>
              <a:ext cx="34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478240" y="5229360"/>
            <a:ext cx="19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６０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×  2.3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299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代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35280" y="299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長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15960" y="40464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をかける計算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516720" y="4653000"/>
            <a:ext cx="14666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340000" y="404640"/>
            <a:ext cx="360360" cy="360360"/>
          </a:xfrm>
          <a:prstGeom prst="star5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91480" y="40464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×2.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計算の仕方を考えよ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96760" y="907920"/>
            <a:ext cx="45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１ｍ６０円のリボンを２．３ｍ買ったときの代金は，何円になるかな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907920"/>
            <a:ext cx="93492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86040" y="17002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＜線分図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2133720"/>
            <a:ext cx="14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82520" y="17557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１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09840" y="20080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44800" y="20145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451800">
            <a:off x="2974320" y="1902960"/>
            <a:ext cx="863280" cy="30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54000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540000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rot="21148200">
            <a:off x="2417040" y="1921680"/>
            <a:ext cx="864000" cy="300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521397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521397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 rot="451800">
            <a:off x="2418840" y="2053080"/>
            <a:ext cx="1275120" cy="38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202" y="1448"/>
                </a:moveTo>
                <a:arcTo wR="10800" hR="10800" stAng="-3599210" swAng="3413188"/>
                <a:lnTo>
                  <a:pt x="10800" y="10800"/>
                </a:lnTo>
                <a:close/>
              </a:path>
              <a:path fill="none" w="21600" h="21600">
                <a:moveTo>
                  <a:pt x="16202" y="1448"/>
                </a:moveTo>
                <a:arcTo wR="10800" hR="10800" stAng="-3599210" swAng="341318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 rot="21148200">
            <a:off x="2501640" y="1996200"/>
            <a:ext cx="1334880" cy="40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202" y="1448"/>
                </a:moveTo>
                <a:arcTo wR="10800" hR="10800" stAng="-3599210" swAng="3413188"/>
                <a:lnTo>
                  <a:pt x="10800" y="10800"/>
                </a:lnTo>
                <a:close/>
              </a:path>
              <a:path fill="none" w="21600" h="21600">
                <a:moveTo>
                  <a:pt x="16202" y="1448"/>
                </a:moveTo>
                <a:arcTo wR="10800" hR="10800" stAng="-3599210" swAng="341318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94400" y="21859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６０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63880" y="2133720"/>
            <a:ext cx="14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94160" y="20304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92720" y="213372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10400" y="20318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rot="19774800">
            <a:off x="2347920" y="1690200"/>
            <a:ext cx="1145520" cy="41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43" y="6385"/>
                </a:moveTo>
                <a:arcTo wR="10800" hR="10800" stAng="-9352386" swAng="9166364"/>
                <a:lnTo>
                  <a:pt x="10800" y="10800"/>
                </a:lnTo>
                <a:close/>
              </a:path>
              <a:path fill="none" w="21600" h="21600">
                <a:moveTo>
                  <a:pt x="943" y="6385"/>
                </a:moveTo>
                <a:arcTo wR="10800" hR="10800" stAng="-9352386" swAng="916636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825200">
            <a:off x="4721400" y="1665000"/>
            <a:ext cx="1145880" cy="41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43" y="6385"/>
                </a:moveTo>
                <a:arcTo wR="10800" hR="10800" stAng="-9352386" swAng="9166364"/>
                <a:lnTo>
                  <a:pt x="10800" y="10800"/>
                </a:lnTo>
                <a:close/>
              </a:path>
              <a:path fill="none" w="21600" h="21600">
                <a:moveTo>
                  <a:pt x="943" y="6385"/>
                </a:moveTo>
                <a:arcTo wR="10800" hR="10800" stAng="-9352386" swAng="916636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32560" y="14130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２．３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 rot="1825200">
            <a:off x="2350800" y="2189880"/>
            <a:ext cx="1145880" cy="41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43" y="6385"/>
                </a:moveTo>
                <a:arcTo wR="10800" hR="10800" stAng="-9352386" swAng="9166364"/>
                <a:lnTo>
                  <a:pt x="10800" y="10800"/>
                </a:lnTo>
                <a:close/>
              </a:path>
              <a:path fill="none" w="21600" h="21600">
                <a:moveTo>
                  <a:pt x="943" y="6385"/>
                </a:moveTo>
                <a:arcTo wR="10800" hR="10800" stAng="-9352386" swAng="916636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 rot="19774800">
            <a:off x="4721040" y="2184840"/>
            <a:ext cx="1145880" cy="41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43" y="6385"/>
                </a:moveTo>
                <a:arcTo wR="10800" hR="10800" stAng="-9352386" swAng="9166364"/>
                <a:lnTo>
                  <a:pt x="10800" y="10800"/>
                </a:lnTo>
                <a:close/>
              </a:path>
              <a:path fill="none" w="21600" h="21600">
                <a:moveTo>
                  <a:pt x="943" y="6385"/>
                </a:moveTo>
                <a:arcTo wR="10800" hR="10800" stAng="-9352386" swAng="916636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26640" y="2565360"/>
            <a:ext cx="100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６０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２．３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77680" y="18446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60×2=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77400" y="220500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60×0.3=60×3÷10=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79320" y="256536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=1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6040" y="141300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Arial"/>
              </a:rPr>
              <a:t>【考え方１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14840" y="3357720"/>
            <a:ext cx="6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【考え方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03560" y="3933720"/>
            <a:ext cx="281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×2.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×23÷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97720" y="39132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２３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54960" y="39020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代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334040"/>
            <a:ext cx="87120" cy="550800"/>
          </a:xfrm>
          <a:prstGeom prst="downArrow">
            <a:avLst>
              <a:gd name="adj1" fmla="val 50000"/>
              <a:gd name="adj2" fmla="val 1580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758000" y="4334040"/>
            <a:ext cx="87480" cy="550800"/>
          </a:xfrm>
          <a:prstGeom prst="downArrow">
            <a:avLst>
              <a:gd name="adj1" fmla="val 50000"/>
              <a:gd name="adj2" fmla="val 1574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54160" y="492768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３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4960" y="49100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代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88000" y="39337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23360" y="38941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66200" y="4905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93600" y="4414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１０分の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70200" y="44258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１０分の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3645000"/>
            <a:ext cx="3311640" cy="19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47960" y="438480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80 ÷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13040" y="48690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50080" y="558972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答え　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38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11280" y="2133720"/>
            <a:ext cx="288144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92720" y="2133720"/>
            <a:ext cx="50472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15960" y="40464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をかける計算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508720" y="692280"/>
            <a:ext cx="3456000" cy="1441440"/>
          </a:xfrm>
          <a:prstGeom prst="cloudCallout">
            <a:avLst>
              <a:gd name="adj1" fmla="val -90699"/>
              <a:gd name="adj2" fmla="val 14319"/>
            </a:avLst>
          </a:prstGeom>
          <a:solidFill>
            <a:srgbClr val="ffff99">
              <a:alpha val="65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56000" y="347760"/>
            <a:ext cx="360360" cy="360360"/>
          </a:xfrm>
          <a:prstGeom prst="star5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32320" y="38412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次の計算の仕方を考えよ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6920" y="1197000"/>
            <a:ext cx="21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4×0.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89200" y="177336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8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0280" y="22874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6080" y="3860640"/>
            <a:ext cx="23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0.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48120" y="458136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÷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64600" y="515628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43160" y="1571760"/>
            <a:ext cx="9349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40000" y="4292640"/>
            <a:ext cx="9349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35400" y="162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00360" y="907920"/>
            <a:ext cx="387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4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６・・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0.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が（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14×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0.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が（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8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4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６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48360" y="3500280"/>
            <a:ext cx="3744720" cy="1584360"/>
          </a:xfrm>
          <a:prstGeom prst="cloudCallout">
            <a:avLst>
              <a:gd name="adj1" fmla="val -76027"/>
              <a:gd name="adj2" fmla="val 3907"/>
            </a:avLst>
          </a:prstGeom>
          <a:solidFill>
            <a:srgbClr val="ccffcc">
              <a:alpha val="65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78600" y="3716280"/>
            <a:ext cx="378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4×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・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0.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が（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4×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0.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が（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4×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56000" y="4365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39760" y="1150920"/>
            <a:ext cx="18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÷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26200" y="177336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÷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04080" y="38606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5÷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60680" y="2602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をかける計算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4T06:06:39Z</dcterms:created>
  <dc:creator>kangawa-kaori-1</dc:creator>
  <dc:description/>
  <dc:language>en-US</dc:language>
  <cp:lastModifiedBy>kangawa-kaori-1</cp:lastModifiedBy>
  <dcterms:modified xsi:type="dcterms:W3CDTF">2007-11-14T06:32:05Z</dcterms:modified>
  <cp:revision>42</cp:revision>
  <dc:subject/>
  <dc:title>スライド 1</dc:title>
</cp:coreProperties>
</file>