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807B-40AF-4D53-B989-006136BFA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07BC-9293-471D-B6EC-66CE6A0E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9C50-2F75-472C-A748-170E9A706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84BE-1251-4960-98D1-04B0E0AC2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F290-D572-4E2D-BC26-F468D863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18D9-4B70-475B-A00D-A58BE6CA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6AA6-8EA5-405F-A5AC-99174330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8CF1-6EE7-4EA5-A9A8-1BAD0483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FB99-BC72-411C-9816-7BD9F207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EA83-E845-442A-8AD2-97822CC3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0F0A-753F-41A0-8AF1-C91FA262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C87D-C1AC-4494-895D-2BA7C148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D6BE-5C17-4848-9A4F-5BCB17BAF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94040" y="53352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＜計算の間の関係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17400" y="1219320"/>
            <a:ext cx="563040" cy="642600"/>
          </a:xfrm>
          <a:prstGeom prst="rect">
            <a:avLst/>
          </a:prstGeom>
          <a:noFill/>
          <a:ln w="1908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１たばの花の数を□本として式にかき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□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の数はどんな計算で求められるかを考えましょ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1268280"/>
            <a:ext cx="934920" cy="358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問　 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162920" y="1143000"/>
            <a:ext cx="914400" cy="855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89560" y="1927080"/>
            <a:ext cx="205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１たばの本数が同じ白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花たばを３つつくったら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全部で１８本いりました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18720" y="289548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３＝１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82680" y="4114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１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722960" y="3809880"/>
            <a:ext cx="2179080" cy="596880"/>
            <a:chOff x="1722960" y="3809880"/>
            <a:chExt cx="2179080" cy="596880"/>
          </a:xfrm>
        </p:grpSpPr>
        <p:grpSp>
          <p:nvGrpSpPr>
            <p:cNvPr id="49" name=""/>
            <p:cNvGrpSpPr/>
            <p:nvPr/>
          </p:nvGrpSpPr>
          <p:grpSpPr>
            <a:xfrm>
              <a:off x="1722960" y="4038480"/>
              <a:ext cx="2179080" cy="368280"/>
              <a:chOff x="1722960" y="4038480"/>
              <a:chExt cx="2179080" cy="368280"/>
            </a:xfrm>
          </p:grpSpPr>
          <p:sp>
            <p:nvSpPr>
              <p:cNvPr id="50" name=""/>
              <p:cNvSpPr/>
              <p:nvPr/>
            </p:nvSpPr>
            <p:spPr>
              <a:xfrm>
                <a:off x="1722960" y="4038480"/>
                <a:ext cx="3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□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996920" y="4245120"/>
                <a:ext cx="19051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2560680" y="38098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ff00"/>
                  </a:solidFill>
                  <a:latin typeface="Times New Roman"/>
                </a:rPr>
                <a:t>３をかけ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1981080" y="4343400"/>
            <a:ext cx="1905120" cy="383400"/>
            <a:chOff x="1981080" y="4343400"/>
            <a:chExt cx="1905120" cy="383400"/>
          </a:xfrm>
        </p:grpSpPr>
        <p:sp>
          <p:nvSpPr>
            <p:cNvPr id="54" name=""/>
            <p:cNvSpPr/>
            <p:nvPr/>
          </p:nvSpPr>
          <p:spPr>
            <a:xfrm flipH="1">
              <a:off x="1981080" y="4343400"/>
              <a:ext cx="190512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533680" y="44197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ff00"/>
                  </a:solidFill>
                  <a:latin typeface="Times New Roman"/>
                </a:rPr>
                <a:t>３でわ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727280" y="4876920"/>
            <a:ext cx="12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□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＝１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95960" y="5356080"/>
            <a:ext cx="7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□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＝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2057400"/>
            <a:ext cx="0" cy="3962520"/>
          </a:xfrm>
          <a:prstGeom prst="line">
            <a:avLst/>
          </a:prstGeom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513760" y="2155680"/>
            <a:ext cx="232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１たばの赤い花を同じ数ず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５人に分けたら，１人分が４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になりました。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29600" y="3375000"/>
            <a:ext cx="9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５＝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288400" y="3863880"/>
            <a:ext cx="1874520" cy="641520"/>
            <a:chOff x="5288400" y="3863880"/>
            <a:chExt cx="1874520" cy="641520"/>
          </a:xfrm>
        </p:grpSpPr>
        <p:grpSp>
          <p:nvGrpSpPr>
            <p:cNvPr id="62" name=""/>
            <p:cNvGrpSpPr/>
            <p:nvPr/>
          </p:nvGrpSpPr>
          <p:grpSpPr>
            <a:xfrm>
              <a:off x="5288400" y="4137120"/>
              <a:ext cx="1874520" cy="368280"/>
              <a:chOff x="5288400" y="4137120"/>
              <a:chExt cx="1874520" cy="368280"/>
            </a:xfrm>
          </p:grpSpPr>
          <p:sp>
            <p:nvSpPr>
              <p:cNvPr id="63" name=""/>
              <p:cNvSpPr/>
              <p:nvPr/>
            </p:nvSpPr>
            <p:spPr>
              <a:xfrm>
                <a:off x="5288400" y="4137120"/>
                <a:ext cx="3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□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562720" y="4343400"/>
                <a:ext cx="16002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5886720" y="38638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ff00"/>
                  </a:solidFill>
                  <a:latin typeface="Times New Roman"/>
                </a:rPr>
                <a:t>５でわ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7326000" y="41911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49320" y="5105520"/>
            <a:ext cx="110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□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＝４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562360" y="4495680"/>
            <a:ext cx="1523880" cy="361080"/>
            <a:chOff x="5562360" y="4495680"/>
            <a:chExt cx="1523880" cy="361080"/>
          </a:xfrm>
        </p:grpSpPr>
        <p:sp>
          <p:nvSpPr>
            <p:cNvPr id="69" name=""/>
            <p:cNvSpPr/>
            <p:nvPr/>
          </p:nvSpPr>
          <p:spPr>
            <a:xfrm flipH="1">
              <a:off x="5562360" y="4495680"/>
              <a:ext cx="15238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13360" y="45496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ff00"/>
                  </a:solidFill>
                  <a:latin typeface="Times New Roman"/>
                </a:rPr>
                <a:t>５をかけ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5454720" y="556272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□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＝２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971640" y="1197000"/>
            <a:ext cx="1870920" cy="396720"/>
            <a:chOff x="971640" y="1197000"/>
            <a:chExt cx="1870920" cy="396720"/>
          </a:xfrm>
        </p:grpSpPr>
        <p:sp>
          <p:nvSpPr>
            <p:cNvPr id="73" name=""/>
            <p:cNvSpPr/>
            <p:nvPr/>
          </p:nvSpPr>
          <p:spPr>
            <a:xfrm>
              <a:off x="971640" y="1197000"/>
              <a:ext cx="186876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23840" y="1197000"/>
              <a:ext cx="181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cc"/>
                  </a:solidFill>
                  <a:latin typeface="Times New Roman"/>
                </a:rPr>
                <a:t>確認テスト　</a:t>
              </a:r>
              <a:r>
                <a:rPr b="1" lang="zh-CN" sz="1800" spc="-1" strike="noStrike">
                  <a:solidFill>
                    <a:srgbClr val="ff3300"/>
                  </a:solidFill>
                  <a:latin typeface="Times New Roman"/>
                </a:rPr>
                <a:t>４</a:t>
              </a: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  <a:ea typeface="lr oSVbN"/>
                </a:rPr>
                <a:t>-</a:t>
              </a:r>
              <a:r>
                <a:rPr b="1" lang="zh-CN" sz="1800" spc="-1" strike="noStrike">
                  <a:solidFill>
                    <a:srgbClr val="ff3300"/>
                  </a:solidFill>
                  <a:latin typeface="Times New Roman"/>
                </a:rPr>
                <a:t>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616640" y="1066680"/>
            <a:ext cx="5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次の問題を□を使った式に表して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□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にあてはまる数を求めましょ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52000" y="2460600"/>
            <a:ext cx="254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ア　子どもが□人勉強してい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　そこへ５人来たので１３人になりました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21000" y="4137120"/>
            <a:ext cx="254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イ　子どもが□人勉強してい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　そのうち８人が帰ったので７人になりました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94040" y="53352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＜計算の間の関係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533520" y="1447920"/>
            <a:ext cx="1870920" cy="396720"/>
            <a:chOff x="533520" y="1447920"/>
            <a:chExt cx="1870920" cy="396720"/>
          </a:xfrm>
        </p:grpSpPr>
        <p:sp>
          <p:nvSpPr>
            <p:cNvPr id="80" name=""/>
            <p:cNvSpPr/>
            <p:nvPr/>
          </p:nvSpPr>
          <p:spPr>
            <a:xfrm>
              <a:off x="533520" y="1447920"/>
              <a:ext cx="186876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85720" y="1447920"/>
              <a:ext cx="181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cc"/>
                  </a:solidFill>
                  <a:latin typeface="Times New Roman"/>
                </a:rPr>
                <a:t>確認テスト　</a:t>
              </a:r>
              <a:r>
                <a:rPr b="1" lang="zh-CN" sz="1800" spc="-1" strike="noStrike">
                  <a:solidFill>
                    <a:srgbClr val="ff3300"/>
                  </a:solidFill>
                  <a:latin typeface="Times New Roman"/>
                </a:rPr>
                <a:t>４</a:t>
              </a: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  <a:ea typeface="lr oSVbN"/>
                </a:rPr>
                <a:t>-</a:t>
              </a:r>
              <a:r>
                <a:rPr b="1" lang="zh-CN" sz="1800" spc="-1" strike="noStrike">
                  <a:solidFill>
                    <a:srgbClr val="ff3300"/>
                  </a:solidFill>
                  <a:latin typeface="Times New Roman"/>
                </a:rPr>
                <a:t>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4159440" y="1600200"/>
            <a:ext cx="5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次の問題を□を使った式に表して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□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にあてはまる数を求めましょ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15560" y="2590920"/>
            <a:ext cx="254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ア　子どもが□人勉強してい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　そこへ５人来たので１３人になりました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55960" y="4419720"/>
            <a:ext cx="254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イ　子どもが□人勉強してい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　そのうち８人が帰ったので７人になりました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9600" y="68580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33080" y="3352680"/>
            <a:ext cx="113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□</a:t>
            </a: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＋５＝１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□</a:t>
            </a: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＝１３－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□</a:t>
            </a: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＝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4200" y="5203800"/>
            <a:ext cx="10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□</a:t>
            </a: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－８＝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□</a:t>
            </a: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＝７＋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□</a:t>
            </a: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＝１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51880" y="388620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答え　</a:t>
            </a: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８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45040" y="57373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答え　</a:t>
            </a: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１５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94040" y="53352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＜計算の間の関係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685800" y="1143000"/>
            <a:ext cx="1870920" cy="396720"/>
            <a:chOff x="685800" y="1143000"/>
            <a:chExt cx="1870920" cy="396720"/>
          </a:xfrm>
        </p:grpSpPr>
        <p:sp>
          <p:nvSpPr>
            <p:cNvPr id="92" name=""/>
            <p:cNvSpPr/>
            <p:nvPr/>
          </p:nvSpPr>
          <p:spPr>
            <a:xfrm>
              <a:off x="685800" y="1143000"/>
              <a:ext cx="186876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38000" y="1143000"/>
              <a:ext cx="181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cc"/>
                  </a:solidFill>
                  <a:latin typeface="Times New Roman"/>
                </a:rPr>
                <a:t>確認テスト　</a:t>
              </a:r>
              <a:r>
                <a:rPr b="1" lang="zh-CN" sz="1800" spc="-1" strike="noStrike">
                  <a:solidFill>
                    <a:srgbClr val="ff3300"/>
                  </a:solidFill>
                  <a:latin typeface="Times New Roman"/>
                </a:rPr>
                <a:t>４</a:t>
              </a: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  <a:ea typeface="lr oSVbN"/>
                </a:rPr>
                <a:t>-</a:t>
              </a:r>
              <a:r>
                <a:rPr b="0" lang="en-US" sz="1800" spc="-1" strike="noStrike">
                  <a:solidFill>
                    <a:srgbClr val="ff3300"/>
                  </a:solidFill>
                  <a:latin typeface="ＭＳ Ｐゴシック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4566600" y="1143000"/>
            <a:ext cx="5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□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の数は，どんな計算で求められます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69160" y="2155680"/>
            <a:ext cx="8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□＋２６＝４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59920" y="2209680"/>
            <a:ext cx="8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□－３１＝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89360" y="3886200"/>
            <a:ext cx="16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４＝３２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44560" y="3886200"/>
            <a:ext cx="16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７＝２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94040" y="53352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＜計算の間の関係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685800" y="1447920"/>
            <a:ext cx="1870920" cy="396720"/>
            <a:chOff x="685800" y="1447920"/>
            <a:chExt cx="1870920" cy="396720"/>
          </a:xfrm>
        </p:grpSpPr>
        <p:sp>
          <p:nvSpPr>
            <p:cNvPr id="101" name=""/>
            <p:cNvSpPr/>
            <p:nvPr/>
          </p:nvSpPr>
          <p:spPr>
            <a:xfrm>
              <a:off x="685800" y="1447920"/>
              <a:ext cx="186876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8000" y="1447920"/>
              <a:ext cx="181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cc"/>
                  </a:solidFill>
                  <a:latin typeface="Times New Roman"/>
                </a:rPr>
                <a:t>確認テスト　</a:t>
              </a:r>
              <a:r>
                <a:rPr b="1" lang="zh-CN" sz="1800" spc="-1" strike="noStrike">
                  <a:solidFill>
                    <a:srgbClr val="ff3300"/>
                  </a:solidFill>
                  <a:latin typeface="Times New Roman"/>
                </a:rPr>
                <a:t>４</a:t>
              </a: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  <a:ea typeface="lr oSVbN"/>
                </a:rPr>
                <a:t>-</a:t>
              </a:r>
              <a:r>
                <a:rPr b="0" lang="en-US" sz="1800" spc="-1" strike="noStrike">
                  <a:solidFill>
                    <a:srgbClr val="ff3300"/>
                  </a:solidFill>
                  <a:latin typeface="ＭＳ Ｐゴシック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642920" y="1447920"/>
            <a:ext cx="5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□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の数は，どんな計算で求められます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69160" y="2155680"/>
            <a:ext cx="8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□＋２６＝４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59920" y="2209680"/>
            <a:ext cx="8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□－３１＝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89360" y="3886200"/>
            <a:ext cx="16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４＝３２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35560" y="3886200"/>
            <a:ext cx="15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７＝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80320" y="2666880"/>
            <a:ext cx="12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□</a:t>
            </a: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＝４０－２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□</a:t>
            </a: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＝１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23640" y="2743200"/>
            <a:ext cx="113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□</a:t>
            </a: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＝９＋３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□</a:t>
            </a: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＝４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98680" y="4419720"/>
            <a:ext cx="123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□</a:t>
            </a: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＝３２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÷</a:t>
            </a: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□</a:t>
            </a: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＝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24000" y="4441680"/>
            <a:ext cx="110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□</a:t>
            </a: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＝４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□</a:t>
            </a: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＝２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69600" y="68580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94040" y="53352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＜計算の間の関係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00:49:45Z</dcterms:created>
  <dc:creator>板野東小学校</dc:creator>
  <dc:description/>
  <dc:language>en-US</dc:language>
  <cp:lastModifiedBy>kangawa-kaori-1</cp:lastModifiedBy>
  <dcterms:modified xsi:type="dcterms:W3CDTF">2007-11-14T06:27:01Z</dcterms:modified>
  <cp:revision>26</cp:revision>
  <dc:subject/>
  <dc:title>PowerPoint プレゼンテーション</dc:title>
</cp:coreProperties>
</file>