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61A-AF84-4847-B60F-9113D718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D7E-EC38-496B-B2E7-F59F3527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DFD-A65E-4E92-9B3B-F0356F0D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DB-75E8-4CF6-90A3-E48C0EA3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5E8-375C-437A-8061-9DE737E5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885-69A1-4E75-B44E-415A0896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802-E000-484E-850B-C446934C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E6E-226B-4E75-BFBA-9417D3C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E9F-B456-4489-867B-8D06D1E9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BD7-29A9-4D40-A445-384B1ED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B4E-A6CA-4A99-A242-F471835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B87-BFB5-456B-9D9B-86F712F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811-C284-4B6A-901B-4F0767A0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４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8880" y="1257480"/>
            <a:ext cx="419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図書館１階の面積は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あります。このうち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こども用図書コーナーで，子ども用図書コーナー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絵本コーナーです。絵本コーナーの面積は何㎡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06640" y="2168640"/>
            <a:ext cx="45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37880" y="2935440"/>
            <a:ext cx="981720" cy="648360"/>
            <a:chOff x="1037880" y="2935440"/>
            <a:chExt cx="981720" cy="648360"/>
          </a:xfrm>
        </p:grpSpPr>
        <p:sp>
          <p:nvSpPr>
            <p:cNvPr id="46" name=""/>
            <p:cNvSpPr/>
            <p:nvPr/>
          </p:nvSpPr>
          <p:spPr>
            <a:xfrm>
              <a:off x="1258200" y="2935440"/>
              <a:ext cx="45504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１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37880" y="3276720"/>
              <a:ext cx="98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2000</a:t>
              </a:r>
              <a:r>
                <a:rPr b="0" lang="zh-CN" sz="1400" spc="-1" strike="noStrike">
                  <a:solidFill>
                    <a:srgbClr val="3333ff"/>
                  </a:solidFill>
                  <a:latin typeface="Arial"/>
                </a:rPr>
                <a:t>㎡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92240" y="3068640"/>
            <a:ext cx="1365480" cy="90360"/>
          </a:xfrm>
          <a:prstGeom prst="rightArrow">
            <a:avLst>
              <a:gd name="adj1" fmla="val 50000"/>
              <a:gd name="adj2" fmla="val 37778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01000" y="2951280"/>
            <a:ext cx="1544400" cy="477720"/>
            <a:chOff x="3501000" y="2951280"/>
            <a:chExt cx="1544400" cy="477720"/>
          </a:xfrm>
        </p:grpSpPr>
        <p:sp>
          <p:nvSpPr>
            <p:cNvPr id="50" name=""/>
            <p:cNvSpPr/>
            <p:nvPr/>
          </p:nvSpPr>
          <p:spPr>
            <a:xfrm>
              <a:off x="3798000" y="2951280"/>
              <a:ext cx="12474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子ども用図書コーナ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1000" y="3123720"/>
              <a:ext cx="18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516640" y="3068640"/>
            <a:ext cx="1260360" cy="90360"/>
          </a:xfrm>
          <a:prstGeom prst="rightArrow">
            <a:avLst>
              <a:gd name="adj1" fmla="val 50000"/>
              <a:gd name="adj2" fmla="val 34870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37120" y="2933640"/>
            <a:ext cx="996480" cy="495000"/>
            <a:chOff x="6837120" y="2933640"/>
            <a:chExt cx="996480" cy="495000"/>
          </a:xfrm>
        </p:grpSpPr>
        <p:sp>
          <p:nvSpPr>
            <p:cNvPr id="54" name=""/>
            <p:cNvSpPr/>
            <p:nvPr/>
          </p:nvSpPr>
          <p:spPr>
            <a:xfrm>
              <a:off x="7012800" y="2933640"/>
              <a:ext cx="8208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絵本コーナ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37120" y="31237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117160" y="2754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71800" y="2754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4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8480" y="3429000"/>
            <a:ext cx="5251320" cy="274680"/>
          </a:xfrm>
          <a:custGeom>
            <a:avLst/>
            <a:gdLst>
              <a:gd name="textAreaLeft" fmla="*/ 1173600 w 5251320"/>
              <a:gd name="textAreaRight" fmla="*/ 3552480 w 5251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3789360"/>
            <a:ext cx="7430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148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8520" y="369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2000" y="1584360"/>
            <a:ext cx="7192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2000" y="1854360"/>
            <a:ext cx="4510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4040" y="4915080"/>
            <a:ext cx="45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2520" y="54990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33400" y="592308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㎡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6640" y="458640"/>
            <a:ext cx="416232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倍になるかを考えて（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1486080" cy="99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2168640"/>
            <a:ext cx="34653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220920" y="817560"/>
            <a:ext cx="1368360" cy="396720"/>
            <a:chOff x="3220920" y="817560"/>
            <a:chExt cx="1368360" cy="396720"/>
          </a:xfrm>
        </p:grpSpPr>
        <p:sp>
          <p:nvSpPr>
            <p:cNvPr id="71" name=""/>
            <p:cNvSpPr/>
            <p:nvPr/>
          </p:nvSpPr>
          <p:spPr>
            <a:xfrm>
              <a:off x="3220920" y="817560"/>
              <a:ext cx="136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59080" y="817560"/>
              <a:ext cx="13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25560" y="1359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7040" y="1359000"/>
            <a:ext cx="40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郎さんの学校のしき地は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です。このうち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運動場で，運動場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テニスコートにな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います。テニスコートの面積は何㎡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４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06120" y="3006720"/>
            <a:ext cx="1176480" cy="634320"/>
            <a:chOff x="906120" y="3006720"/>
            <a:chExt cx="1176480" cy="634320"/>
          </a:xfrm>
        </p:grpSpPr>
        <p:sp>
          <p:nvSpPr>
            <p:cNvPr id="77" name=""/>
            <p:cNvSpPr/>
            <p:nvPr/>
          </p:nvSpPr>
          <p:spPr>
            <a:xfrm>
              <a:off x="928080" y="3006720"/>
              <a:ext cx="11545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6120" y="3333960"/>
              <a:ext cx="98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         　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992240" y="3159000"/>
            <a:ext cx="1781280" cy="103320"/>
          </a:xfrm>
          <a:prstGeom prst="rightArrow">
            <a:avLst>
              <a:gd name="adj1" fmla="val 50000"/>
              <a:gd name="adj2" fmla="val 43101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72520" y="3024360"/>
            <a:ext cx="820800" cy="517320"/>
            <a:chOff x="3872520" y="3024360"/>
            <a:chExt cx="820800" cy="517320"/>
          </a:xfrm>
        </p:grpSpPr>
        <p:sp>
          <p:nvSpPr>
            <p:cNvPr id="81" name=""/>
            <p:cNvSpPr/>
            <p:nvPr/>
          </p:nvSpPr>
          <p:spPr>
            <a:xfrm>
              <a:off x="3872520" y="3024360"/>
              <a:ext cx="82080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75760" y="3236400"/>
              <a:ext cx="18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886280" y="3159000"/>
            <a:ext cx="1647720" cy="101880"/>
          </a:xfrm>
          <a:prstGeom prst="rightArrow">
            <a:avLst>
              <a:gd name="adj1" fmla="val 50000"/>
              <a:gd name="adj2" fmla="val 40432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01800" y="2978280"/>
            <a:ext cx="1963800" cy="495000"/>
            <a:chOff x="6301800" y="2978280"/>
            <a:chExt cx="1963800" cy="495000"/>
          </a:xfrm>
        </p:grpSpPr>
        <p:sp>
          <p:nvSpPr>
            <p:cNvPr id="85" name=""/>
            <p:cNvSpPr/>
            <p:nvPr/>
          </p:nvSpPr>
          <p:spPr>
            <a:xfrm>
              <a:off x="6301800" y="2978280"/>
              <a:ext cx="19638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　　　　　　　　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13560" y="31683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148840" y="279864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（　　　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5320" y="279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　　　　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68480" y="3519360"/>
            <a:ext cx="5251320" cy="274680"/>
          </a:xfrm>
          <a:custGeom>
            <a:avLst/>
            <a:gdLst>
              <a:gd name="textAreaLeft" fmla="*/ 1173600 w 5251320"/>
              <a:gd name="textAreaRight" fmla="*/ 3552480 w 5251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879720"/>
            <a:ext cx="7430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148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8120" y="4896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04080" y="5904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42360" y="1089000"/>
            <a:ext cx="1238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62360" y="819000"/>
            <a:ext cx="1368000" cy="396720"/>
            <a:chOff x="2862360" y="819000"/>
            <a:chExt cx="1368000" cy="396720"/>
          </a:xfrm>
        </p:grpSpPr>
        <p:sp>
          <p:nvSpPr>
            <p:cNvPr id="96" name=""/>
            <p:cNvSpPr/>
            <p:nvPr/>
          </p:nvSpPr>
          <p:spPr>
            <a:xfrm>
              <a:off x="2862360" y="81900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0520" y="81900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25560" y="1359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7040" y="1359000"/>
            <a:ext cx="40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郎さんの学校のしき地は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です。このうち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運動場で，運動場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がテニスコートにな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います。テニスコートの面積は何㎡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４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3006720"/>
            <a:ext cx="1027440" cy="634320"/>
            <a:chOff x="914400" y="3006720"/>
            <a:chExt cx="1027440" cy="634320"/>
          </a:xfrm>
        </p:grpSpPr>
        <p:sp>
          <p:nvSpPr>
            <p:cNvPr id="102" name=""/>
            <p:cNvSpPr/>
            <p:nvPr/>
          </p:nvSpPr>
          <p:spPr>
            <a:xfrm>
              <a:off x="1171080" y="3006720"/>
              <a:ext cx="51444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学校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3333960"/>
              <a:ext cx="102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8000</a:t>
              </a:r>
              <a:r>
                <a:rPr b="0" lang="zh-CN" sz="1400" spc="-1" strike="noStrike">
                  <a:solidFill>
                    <a:srgbClr val="3333ff"/>
                  </a:solidFill>
                  <a:latin typeface="Arial"/>
                </a:rPr>
                <a:t>㎡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992240" y="3159000"/>
            <a:ext cx="1781280" cy="103320"/>
          </a:xfrm>
          <a:prstGeom prst="rightArrow">
            <a:avLst>
              <a:gd name="adj1" fmla="val 50000"/>
              <a:gd name="adj2" fmla="val 43101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75760" y="3009960"/>
            <a:ext cx="728640" cy="531360"/>
            <a:chOff x="3875760" y="3009960"/>
            <a:chExt cx="728640" cy="531360"/>
          </a:xfrm>
        </p:grpSpPr>
        <p:sp>
          <p:nvSpPr>
            <p:cNvPr id="106" name=""/>
            <p:cNvSpPr/>
            <p:nvPr/>
          </p:nvSpPr>
          <p:spPr>
            <a:xfrm>
              <a:off x="4012200" y="3009960"/>
              <a:ext cx="59220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運動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5760" y="323640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886280" y="3159000"/>
            <a:ext cx="1647720" cy="101880"/>
          </a:xfrm>
          <a:prstGeom prst="rightArrow">
            <a:avLst>
              <a:gd name="adj1" fmla="val 50000"/>
              <a:gd name="adj2" fmla="val 40432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613560" y="2924280"/>
            <a:ext cx="1167840" cy="548640"/>
            <a:chOff x="6613560" y="2924280"/>
            <a:chExt cx="1167840" cy="548640"/>
          </a:xfrm>
        </p:grpSpPr>
        <p:sp>
          <p:nvSpPr>
            <p:cNvPr id="110" name=""/>
            <p:cNvSpPr/>
            <p:nvPr/>
          </p:nvSpPr>
          <p:spPr>
            <a:xfrm>
              <a:off x="6777720" y="2924280"/>
              <a:ext cx="100368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ニスコー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3560" y="316800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170440" y="28130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5080" y="28130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68480" y="3519360"/>
            <a:ext cx="5251320" cy="274680"/>
          </a:xfrm>
          <a:custGeom>
            <a:avLst/>
            <a:gdLst>
              <a:gd name="textAreaLeft" fmla="*/ 1173600 w 5251320"/>
              <a:gd name="textAreaRight" fmla="*/ 3552480 w 5251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879720"/>
            <a:ext cx="7430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148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6320" y="5923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6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42360" y="1089000"/>
            <a:ext cx="1238040" cy="1285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30040" y="503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4520" y="5049720"/>
            <a:ext cx="45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　　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0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0.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6200" y="3790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7:49:32Z</dcterms:created>
  <dc:creator>kangawa-kaori-1</dc:creator>
  <dc:description/>
  <dc:language>en-US</dc:language>
  <cp:lastModifiedBy>kangawa-kaori-1</cp:lastModifiedBy>
  <dcterms:modified xsi:type="dcterms:W3CDTF">2007-11-14T06:17:49Z</dcterms:modified>
  <cp:revision>29</cp:revision>
  <dc:subject/>
  <dc:title>スライド 1</dc:title>
</cp:coreProperties>
</file>