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520-E474-44BB-B2FC-A8ADAB9B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3EB-E5E7-4DE7-8C12-A9C86470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DE4-EA7B-4883-9765-1F8A2CCE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DE1-1A70-4336-A561-B0A81F1E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85B-071F-43C0-A3D5-CCB9FF84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1BB-A839-4A19-B5A8-C87A1B04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3B2-BBB2-42B8-BD38-3A6F8D4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ED2-C1FB-4B38-9604-6048CD86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E33-6CD0-4EF4-B35F-E7D0ECA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FAA-3BC0-4CE8-BD0F-0DCD2F5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83C-66F0-4CD6-ABB0-DF3FA5F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676-5B78-45AC-A5F7-0A00444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9606-83C4-4C17-8ED9-315D8C32D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1920" y="15573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角形の５つの角の大きさの和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0520" y="1557360"/>
            <a:ext cx="360360" cy="36036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402400">
            <a:off x="1116000" y="2492280"/>
            <a:ext cx="2519280" cy="2232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21200" y="15573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六角形の６つの角の大きさの和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9800" y="1557360"/>
            <a:ext cx="360360" cy="36036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84360" y="476280"/>
            <a:ext cx="1728360" cy="396720"/>
            <a:chOff x="2484360" y="476280"/>
            <a:chExt cx="1728360" cy="396720"/>
          </a:xfrm>
        </p:grpSpPr>
        <p:sp>
          <p:nvSpPr>
            <p:cNvPr id="47" name=""/>
            <p:cNvSpPr/>
            <p:nvPr/>
          </p:nvSpPr>
          <p:spPr>
            <a:xfrm>
              <a:off x="2484360" y="476280"/>
              <a:ext cx="172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32600" y="476280"/>
              <a:ext cx="168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rot="1038600">
            <a:off x="5866920" y="2708280"/>
            <a:ext cx="2376720" cy="2017800"/>
          </a:xfrm>
          <a:prstGeom prst="hexagon">
            <a:avLst>
              <a:gd name="adj" fmla="val 2944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38120" y="964800"/>
            <a:ext cx="893160" cy="592200"/>
            <a:chOff x="7638120" y="964800"/>
            <a:chExt cx="893160" cy="592200"/>
          </a:xfrm>
        </p:grpSpPr>
        <p:graphicFrame>
          <p:nvGraphicFramePr>
            <p:cNvPr id="51" name=""/>
            <p:cNvGraphicFramePr/>
            <p:nvPr/>
          </p:nvGraphicFramePr>
          <p:xfrm>
            <a:off x="8404200" y="1161720"/>
            <a:ext cx="127080" cy="11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04200" y="1161720"/>
                      <a:ext cx="127080" cy="1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794720" y="98100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94720" y="981000"/>
              <a:ext cx="65880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05920" y="1239480"/>
              <a:ext cx="12852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151840" y="1241280"/>
              <a:ext cx="101520" cy="47520"/>
              <a:chOff x="8151840" y="1241280"/>
              <a:chExt cx="101520" cy="47520"/>
            </a:xfrm>
          </p:grpSpPr>
          <p:sp>
            <p:nvSpPr>
              <p:cNvPr id="57" name=""/>
              <p:cNvSpPr/>
              <p:nvPr/>
            </p:nvSpPr>
            <p:spPr>
              <a:xfrm>
                <a:off x="8151840" y="124128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151840" y="1241280"/>
                <a:ext cx="101520" cy="4752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989840" y="1253880"/>
              <a:ext cx="103320" cy="49320"/>
              <a:chOff x="7989840" y="1253880"/>
              <a:chExt cx="103320" cy="49320"/>
            </a:xfrm>
          </p:grpSpPr>
          <p:sp>
            <p:nvSpPr>
              <p:cNvPr id="60" name=""/>
              <p:cNvSpPr/>
              <p:nvPr/>
            </p:nvSpPr>
            <p:spPr>
              <a:xfrm>
                <a:off x="7989840" y="125388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989840" y="1253880"/>
                <a:ext cx="103320" cy="4932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8002800" y="1368360"/>
              <a:ext cx="253800" cy="128520"/>
              <a:chOff x="8002800" y="1368360"/>
              <a:chExt cx="253800" cy="128520"/>
            </a:xfrm>
          </p:grpSpPr>
          <p:sp>
            <p:nvSpPr>
              <p:cNvPr id="63" name=""/>
              <p:cNvSpPr/>
              <p:nvPr/>
            </p:nvSpPr>
            <p:spPr>
              <a:xfrm>
                <a:off x="8002800" y="136836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02800" y="1368360"/>
                <a:ext cx="25380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H="1" flipV="1">
              <a:off x="7810560" y="1204560"/>
              <a:ext cx="12240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 rot="20973000">
              <a:off x="7667280" y="981000"/>
              <a:ext cx="2095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 flipH="1">
            <a:off x="4932360" y="187200"/>
            <a:ext cx="2736720" cy="938160"/>
          </a:xfrm>
          <a:prstGeom prst="wedgeRoundRectCallout">
            <a:avLst>
              <a:gd name="adj1" fmla="val -41416"/>
              <a:gd name="adj2" fmla="val 5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26028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１つの頂点から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対角線をひき，いくつの三角形に分かれるかを考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04480" y="16524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ちょうて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8320" y="692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く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27000" y="51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97720" y="60930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75000" y="51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8080" y="60930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01920" y="15573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角形の５つの角の大きさの和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0520" y="1557360"/>
            <a:ext cx="360360" cy="36036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402400">
            <a:off x="1106640" y="2481120"/>
            <a:ext cx="2519280" cy="2232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21200" y="15573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六角形の６つの角の大きさの和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9800" y="1557360"/>
            <a:ext cx="360360" cy="36036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84360" y="476280"/>
            <a:ext cx="1728360" cy="396720"/>
            <a:chOff x="2484360" y="476280"/>
            <a:chExt cx="1728360" cy="396720"/>
          </a:xfrm>
        </p:grpSpPr>
        <p:sp>
          <p:nvSpPr>
            <p:cNvPr id="81" name=""/>
            <p:cNvSpPr/>
            <p:nvPr/>
          </p:nvSpPr>
          <p:spPr>
            <a:xfrm>
              <a:off x="2484360" y="476280"/>
              <a:ext cx="172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32600" y="476280"/>
              <a:ext cx="168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038600">
            <a:off x="5866920" y="2708280"/>
            <a:ext cx="2376720" cy="2017800"/>
          </a:xfrm>
          <a:prstGeom prst="hexagon">
            <a:avLst>
              <a:gd name="adj" fmla="val 2944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7000" y="51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6600" y="61070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 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75000" y="51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66440" y="60930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6680" y="476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9000" y="2554200"/>
            <a:ext cx="39960" cy="2365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04840" y="2565360"/>
            <a:ext cx="1459080" cy="1808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186600" y="2587680"/>
            <a:ext cx="596880" cy="1931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8160" y="2581200"/>
            <a:ext cx="527040" cy="227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99320" y="2571840"/>
            <a:ext cx="1376280" cy="148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0960" y="2494080"/>
            <a:ext cx="142920" cy="144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29480" y="2527200"/>
            <a:ext cx="142920" cy="14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88240" y="3475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9800" y="3659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7800" y="3141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9440" y="371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0160" y="3619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4600" y="335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97800" y="306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5680" y="5176800"/>
            <a:ext cx="27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＝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7640" y="6093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24560" y="5157720"/>
            <a:ext cx="27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＝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000" y="6093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108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91640" y="12682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計算で求め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77720"/>
            <a:ext cx="3341520" cy="480960"/>
          </a:xfrm>
          <a:prstGeom prst="wedgeEllipseCallout">
            <a:avLst>
              <a:gd name="adj1" fmla="val -52898"/>
              <a:gd name="adj2" fmla="val 698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4936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四角形の４つの角の大きさの和は３６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4280" y="387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427640" y="765000"/>
            <a:ext cx="648360" cy="431640"/>
            <a:chOff x="4427640" y="765000"/>
            <a:chExt cx="648360" cy="431640"/>
          </a:xfrm>
        </p:grpSpPr>
        <p:graphicFrame>
          <p:nvGraphicFramePr>
            <p:cNvPr id="115" name=""/>
            <p:cNvGraphicFramePr/>
            <p:nvPr/>
          </p:nvGraphicFramePr>
          <p:xfrm>
            <a:off x="4427640" y="878760"/>
            <a:ext cx="91800" cy="8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7640" y="878760"/>
                      <a:ext cx="91800" cy="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7" name=""/>
            <p:cNvGrpSpPr/>
            <p:nvPr/>
          </p:nvGrpSpPr>
          <p:grpSpPr>
            <a:xfrm>
              <a:off x="4491000" y="779040"/>
              <a:ext cx="474480" cy="417600"/>
              <a:chOff x="4491000" y="779040"/>
              <a:chExt cx="474480" cy="4176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91000" y="779040"/>
                <a:ext cx="474480" cy="4176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91000" y="779040"/>
                <a:ext cx="474480" cy="4176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4858920" y="966600"/>
              <a:ext cx="91800" cy="5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748040" y="967680"/>
              <a:ext cx="72720" cy="34560"/>
              <a:chOff x="4748040" y="967680"/>
              <a:chExt cx="72720" cy="34560"/>
            </a:xfrm>
          </p:grpSpPr>
          <p:sp>
            <p:nvSpPr>
              <p:cNvPr id="122" name=""/>
              <p:cNvSpPr/>
              <p:nvPr/>
            </p:nvSpPr>
            <p:spPr>
              <a:xfrm>
                <a:off x="4748040" y="96768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48040" y="96768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631760" y="978120"/>
              <a:ext cx="74880" cy="34560"/>
              <a:chOff x="4631760" y="978120"/>
              <a:chExt cx="74880" cy="34560"/>
            </a:xfrm>
          </p:grpSpPr>
          <p:sp>
            <p:nvSpPr>
              <p:cNvPr id="125" name=""/>
              <p:cNvSpPr/>
              <p:nvPr/>
            </p:nvSpPr>
            <p:spPr>
              <a:xfrm>
                <a:off x="4631760" y="97812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31760" y="97812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640040" y="1060920"/>
              <a:ext cx="183600" cy="92880"/>
              <a:chOff x="4640040" y="1060920"/>
              <a:chExt cx="183600" cy="92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40040" y="1060920"/>
                <a:ext cx="18360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40040" y="1060920"/>
                <a:ext cx="18360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H="1" flipV="1">
              <a:off x="4502520" y="942120"/>
              <a:ext cx="87480" cy="8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 flipH="1">
              <a:off x="4884840" y="765000"/>
              <a:ext cx="19116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06056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414972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47640" y="2852280"/>
            <a:ext cx="14472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4200" y="3716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20600" y="2360520"/>
            <a:ext cx="1103400" cy="178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4200" y="3789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547640" y="2371680"/>
            <a:ext cx="1273320" cy="48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0200" y="28526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3079200">
            <a:off x="1638000" y="3971880"/>
            <a:ext cx="258840" cy="173160"/>
          </a:xfrm>
          <a:prstGeom prst="blockArc">
            <a:avLst>
              <a:gd name="adj1" fmla="val 10784349"/>
              <a:gd name="adj2" fmla="val 1565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7414800">
            <a:off x="1494360" y="2793240"/>
            <a:ext cx="273240" cy="188640"/>
          </a:xfrm>
          <a:prstGeom prst="blockArc">
            <a:avLst>
              <a:gd name="adj1" fmla="val 11121736"/>
              <a:gd name="adj2" fmla="val 21278264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595200">
            <a:off x="3599640" y="3969000"/>
            <a:ext cx="287280" cy="216000"/>
          </a:xfrm>
          <a:prstGeom prst="blockArc">
            <a:avLst>
              <a:gd name="adj1" fmla="val 11783234"/>
              <a:gd name="adj2" fmla="val 20616766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2322200">
            <a:off x="2647440" y="2363400"/>
            <a:ext cx="298440" cy="228600"/>
          </a:xfrm>
          <a:prstGeom prst="blockArc">
            <a:avLst>
              <a:gd name="adj1" fmla="val 10991697"/>
              <a:gd name="adj2" fmla="val 21408303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704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4960" y="2698920"/>
            <a:ext cx="26352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487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94480" y="5805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414972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08720" y="2421000"/>
            <a:ext cx="28728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2421000"/>
            <a:ext cx="1584360" cy="2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22200" y="3716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3079200">
            <a:off x="5500800" y="3962520"/>
            <a:ext cx="258480" cy="172800"/>
          </a:xfrm>
          <a:prstGeom prst="blockArc">
            <a:avLst>
              <a:gd name="adj1" fmla="val 10784349"/>
              <a:gd name="adj2" fmla="val 1565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389360" y="2688840"/>
            <a:ext cx="567000" cy="14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8595200">
            <a:off x="7674480" y="3949920"/>
            <a:ext cx="287640" cy="216000"/>
          </a:xfrm>
          <a:prstGeom prst="blockArc">
            <a:avLst>
              <a:gd name="adj1" fmla="val 11783234"/>
              <a:gd name="adj2" fmla="val 20616766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972040" y="2468520"/>
            <a:ext cx="3024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756400" y="2614320"/>
            <a:ext cx="21744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79280" y="37465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3360" y="487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2080" y="5805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3314600">
            <a:off x="7171560" y="2650680"/>
            <a:ext cx="345960" cy="214560"/>
          </a:xfrm>
          <a:prstGeom prst="blockArc">
            <a:avLst>
              <a:gd name="adj1" fmla="val 11623818"/>
              <a:gd name="adj2" fmla="val 20776182"/>
              <a:gd name="adj3" fmla="val 1005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94440" y="2790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2852640"/>
            <a:ext cx="26352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989000"/>
            <a:ext cx="0" cy="4605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166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391640" y="12682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計算で求め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477720"/>
            <a:ext cx="3341520" cy="480960"/>
          </a:xfrm>
          <a:prstGeom prst="wedgeEllipseCallout">
            <a:avLst>
              <a:gd name="adj1" fmla="val -52898"/>
              <a:gd name="adj2" fmla="val 698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4936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四角形の４つの角の大きさの和は３６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04280" y="387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427640" y="765000"/>
            <a:ext cx="648360" cy="431640"/>
            <a:chOff x="4427640" y="765000"/>
            <a:chExt cx="648360" cy="431640"/>
          </a:xfrm>
        </p:grpSpPr>
        <p:graphicFrame>
          <p:nvGraphicFramePr>
            <p:cNvPr id="173" name=""/>
            <p:cNvGraphicFramePr/>
            <p:nvPr/>
          </p:nvGraphicFramePr>
          <p:xfrm>
            <a:off x="4427640" y="878760"/>
            <a:ext cx="91800" cy="8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7640" y="878760"/>
                      <a:ext cx="91800" cy="8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5" name=""/>
            <p:cNvGrpSpPr/>
            <p:nvPr/>
          </p:nvGrpSpPr>
          <p:grpSpPr>
            <a:xfrm>
              <a:off x="4491000" y="779040"/>
              <a:ext cx="474480" cy="417600"/>
              <a:chOff x="4491000" y="779040"/>
              <a:chExt cx="474480" cy="41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491000" y="779040"/>
                <a:ext cx="474480" cy="4176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1000" y="779040"/>
                <a:ext cx="474480" cy="4176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ff66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flipV="1">
              <a:off x="4858920" y="966600"/>
              <a:ext cx="91800" cy="5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748040" y="967680"/>
              <a:ext cx="72720" cy="34560"/>
              <a:chOff x="4748040" y="967680"/>
              <a:chExt cx="72720" cy="34560"/>
            </a:xfrm>
          </p:grpSpPr>
          <p:sp>
            <p:nvSpPr>
              <p:cNvPr id="180" name=""/>
              <p:cNvSpPr/>
              <p:nvPr/>
            </p:nvSpPr>
            <p:spPr>
              <a:xfrm>
                <a:off x="4748040" y="96768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8040" y="967680"/>
                <a:ext cx="72720" cy="3456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631760" y="978120"/>
              <a:ext cx="74880" cy="34560"/>
              <a:chOff x="4631760" y="978120"/>
              <a:chExt cx="74880" cy="3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4631760" y="97812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31760" y="978120"/>
                <a:ext cx="74880" cy="3456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640040" y="1060920"/>
              <a:ext cx="183600" cy="92880"/>
              <a:chOff x="4640040" y="1060920"/>
              <a:chExt cx="183600" cy="92880"/>
            </a:xfrm>
          </p:grpSpPr>
          <p:sp>
            <p:nvSpPr>
              <p:cNvPr id="186" name=""/>
              <p:cNvSpPr/>
              <p:nvPr/>
            </p:nvSpPr>
            <p:spPr>
              <a:xfrm>
                <a:off x="4640040" y="1060920"/>
                <a:ext cx="18360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40040" y="1060920"/>
                <a:ext cx="183600" cy="9288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H="1" flipV="1">
              <a:off x="4502520" y="942120"/>
              <a:ext cx="87480" cy="8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 flipH="1">
              <a:off x="4884840" y="765000"/>
              <a:ext cx="19116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579600" y="2265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1400" y="413856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066680" y="2841120"/>
            <a:ext cx="14472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53240" y="37051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339640" y="2349360"/>
            <a:ext cx="1103400" cy="178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93240" y="37782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66680" y="2360520"/>
            <a:ext cx="1273320" cy="48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09240" y="2841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3079200">
            <a:off x="1157040" y="3960720"/>
            <a:ext cx="258840" cy="172800"/>
          </a:xfrm>
          <a:prstGeom prst="blockArc">
            <a:avLst>
              <a:gd name="adj1" fmla="val 10784349"/>
              <a:gd name="adj2" fmla="val 1565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7414800">
            <a:off x="1012680" y="2781720"/>
            <a:ext cx="273240" cy="189000"/>
          </a:xfrm>
          <a:prstGeom prst="blockArc">
            <a:avLst>
              <a:gd name="adj1" fmla="val 11121736"/>
              <a:gd name="adj2" fmla="val 21278264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8595200">
            <a:off x="3118320" y="3957840"/>
            <a:ext cx="287640" cy="216000"/>
          </a:xfrm>
          <a:prstGeom prst="blockArc">
            <a:avLst>
              <a:gd name="adj1" fmla="val 11783234"/>
              <a:gd name="adj2" fmla="val 20616766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2322200">
            <a:off x="2166480" y="2352240"/>
            <a:ext cx="298440" cy="228600"/>
          </a:xfrm>
          <a:prstGeom prst="blockArc">
            <a:avLst>
              <a:gd name="adj1" fmla="val 10991697"/>
              <a:gd name="adj2" fmla="val 21408303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6080" y="2625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2687760"/>
            <a:ext cx="26352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520" y="4365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22840" y="6237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08720" y="414972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508720" y="2421000"/>
            <a:ext cx="28728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2421000"/>
            <a:ext cx="1584360" cy="2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22200" y="3716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3079200">
            <a:off x="5500800" y="3962520"/>
            <a:ext cx="258480" cy="172800"/>
          </a:xfrm>
          <a:prstGeom prst="blockArc">
            <a:avLst>
              <a:gd name="adj1" fmla="val 10784349"/>
              <a:gd name="adj2" fmla="val 1565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389360" y="2688840"/>
            <a:ext cx="567000" cy="14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595200">
            <a:off x="7674480" y="3949920"/>
            <a:ext cx="287640" cy="216000"/>
          </a:xfrm>
          <a:prstGeom prst="blockArc">
            <a:avLst>
              <a:gd name="adj1" fmla="val 11783234"/>
              <a:gd name="adj2" fmla="val 20616766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972040" y="2468520"/>
            <a:ext cx="3024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756400" y="2614320"/>
            <a:ext cx="21744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79280" y="37465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0" y="4365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69720" y="6165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3314600">
            <a:off x="7171560" y="2650680"/>
            <a:ext cx="345960" cy="214560"/>
          </a:xfrm>
          <a:prstGeom prst="blockArc">
            <a:avLst>
              <a:gd name="adj1" fmla="val 11623818"/>
              <a:gd name="adj2" fmla="val 20776182"/>
              <a:gd name="adj3" fmla="val 1005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94440" y="2790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2852640"/>
            <a:ext cx="26352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880" y="4724280"/>
            <a:ext cx="36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6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10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0°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61600" y="47242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6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9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989000"/>
            <a:ext cx="0" cy="4605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5795640" y="2276280"/>
            <a:ext cx="647640" cy="72720"/>
          </a:xfrm>
          <a:prstGeom prst="leftArrow">
            <a:avLst>
              <a:gd name="adj1" fmla="val 50000"/>
              <a:gd name="adj2" fmla="val 22264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35640" y="1844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直角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4560" y="6237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7840" y="6165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4:41:51Z</dcterms:created>
  <dc:creator>kangawa-kaori-1</dc:creator>
  <dc:description/>
  <dc:language>en-US</dc:language>
  <cp:lastModifiedBy>kangawa-kaori-1</cp:lastModifiedBy>
  <dcterms:modified xsi:type="dcterms:W3CDTF">2007-11-14T06:15:19Z</dcterms:modified>
  <cp:revision>14</cp:revision>
  <dc:subject/>
  <dc:title>スライド 1</dc:title>
</cp:coreProperties>
</file>