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BFAA-EE87-43F7-A1D5-200329184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662F-68C1-4445-BEDF-DAC2EB804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3563-AF2B-492E-B4DD-0B26BFBC5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C56F-762F-48E0-9903-C7E774B1D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2ECC-3A68-4A1D-A552-CBEF514DE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965A-07DD-4162-8579-B97BBD2E6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D791-E577-406A-A38D-4EB803692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7327-9315-43CD-9338-DCBF55FE2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DD25-6E63-409B-86BE-98B52A45B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83CC-BFDE-4A42-A105-CC65A7036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0F3F-DBA3-4026-ABCA-9E9C98AE6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74A5-EB98-45E0-BF78-45E92BA88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54FD0-0E7C-40F7-9115-B111E2939C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84360" y="969840"/>
            <a:ext cx="7848360" cy="5888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258920" y="1844640"/>
            <a:ext cx="6697800" cy="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1052640"/>
            <a:ext cx="0" cy="540072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1258920" y="1125360"/>
            <a:ext cx="1728720" cy="16560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 flipV="1">
            <a:off x="1907640" y="1052640"/>
            <a:ext cx="360360" cy="7920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844640"/>
            <a:ext cx="2374920" cy="46800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3634920" y="1125360"/>
            <a:ext cx="360360" cy="71928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95640" y="1844640"/>
            <a:ext cx="2305080" cy="460872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58920" y="4508640"/>
            <a:ext cx="2017800" cy="20160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50920" y="1052640"/>
            <a:ext cx="5400720" cy="540072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6443640" y="1052640"/>
            <a:ext cx="0" cy="540072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20520" y="16336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66"/>
                </a:solidFill>
                <a:latin typeface="Arial"/>
              </a:rPr>
              <a:t>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12680" y="26370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66"/>
                </a:solidFill>
                <a:latin typeface="Arial"/>
              </a:rPr>
              <a:t>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85680" y="42926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66"/>
                </a:solidFill>
                <a:latin typeface="Arial"/>
              </a:rPr>
              <a:t>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800000" y="63817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66"/>
                </a:solidFill>
                <a:latin typeface="Arial"/>
              </a:rPr>
              <a:t>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91960" y="63817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66"/>
                </a:solidFill>
                <a:latin typeface="Arial"/>
              </a:rPr>
              <a:t>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74800" y="64911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66"/>
                </a:solidFill>
                <a:latin typeface="Arial"/>
              </a:rPr>
              <a:t>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41880" y="63817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66"/>
                </a:solidFill>
                <a:latin typeface="Arial"/>
              </a:rPr>
              <a:t>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301440" y="63817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66"/>
                </a:solidFill>
                <a:latin typeface="Arial"/>
              </a:rPr>
              <a:t>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3640" y="5013360"/>
            <a:ext cx="287280" cy="0"/>
          </a:xfrm>
          <a:prstGeom prst="line">
            <a:avLst/>
          </a:prstGeom>
          <a:ln w="507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050920" y="5013360"/>
            <a:ext cx="0" cy="216000"/>
          </a:xfrm>
          <a:prstGeom prst="line">
            <a:avLst/>
          </a:prstGeom>
          <a:ln w="507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987280" y="5516640"/>
            <a:ext cx="289080" cy="0"/>
          </a:xfrm>
          <a:prstGeom prst="line">
            <a:avLst/>
          </a:prstGeom>
          <a:ln w="507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76720" y="5229360"/>
            <a:ext cx="0" cy="287280"/>
          </a:xfrm>
          <a:prstGeom prst="line">
            <a:avLst/>
          </a:prstGeom>
          <a:ln w="507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258920" y="1125360"/>
            <a:ext cx="4897440" cy="24480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982120" y="7650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66"/>
                </a:solidFill>
                <a:latin typeface="Arial"/>
              </a:rPr>
              <a:t>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565360"/>
            <a:ext cx="503280" cy="0"/>
          </a:xfrm>
          <a:prstGeom prst="line">
            <a:avLst/>
          </a:prstGeom>
          <a:ln w="507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3780000" y="2276640"/>
            <a:ext cx="0" cy="287280"/>
          </a:xfrm>
          <a:prstGeom prst="line">
            <a:avLst/>
          </a:prstGeom>
          <a:ln w="507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211640" y="2349360"/>
            <a:ext cx="287280" cy="0"/>
          </a:xfrm>
          <a:prstGeom prst="line">
            <a:avLst/>
          </a:prstGeom>
          <a:ln w="507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4500720" y="2349360"/>
            <a:ext cx="0" cy="432000"/>
          </a:xfrm>
          <a:prstGeom prst="line">
            <a:avLst/>
          </a:prstGeom>
          <a:ln w="507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08520" y="549360"/>
            <a:ext cx="33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垂直になっている直線はどれとどれでしょう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95600" y="2602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＜方眼紙を使って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388360" y="3573360"/>
            <a:ext cx="431640" cy="2288520"/>
          </a:xfrm>
          <a:prstGeom prst="rect">
            <a:avLst/>
          </a:prstGeom>
          <a:noFill/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答えは次の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604360" y="5373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84360" y="969840"/>
            <a:ext cx="7848360" cy="58881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258920" y="1844640"/>
            <a:ext cx="6697800" cy="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268360" y="1052640"/>
            <a:ext cx="0" cy="540072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258920" y="1125360"/>
            <a:ext cx="1728720" cy="16560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1907640" y="1052640"/>
            <a:ext cx="360360" cy="7920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268360" y="1844640"/>
            <a:ext cx="2374920" cy="46800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3634920" y="1125360"/>
            <a:ext cx="360360" cy="71928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95640" y="1844640"/>
            <a:ext cx="2305080" cy="460872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258920" y="4508640"/>
            <a:ext cx="2017800" cy="20160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2050920" y="1052640"/>
            <a:ext cx="5400720" cy="540072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43640" y="1052640"/>
            <a:ext cx="0" cy="540072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20520" y="16336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66"/>
                </a:solidFill>
                <a:latin typeface="Arial"/>
              </a:rPr>
              <a:t>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12680" y="26370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66"/>
                </a:solidFill>
                <a:latin typeface="Arial"/>
              </a:rPr>
              <a:t>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85680" y="42926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66"/>
                </a:solidFill>
                <a:latin typeface="Arial"/>
              </a:rPr>
              <a:t>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800000" y="63817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66"/>
                </a:solidFill>
                <a:latin typeface="Arial"/>
              </a:rPr>
              <a:t>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091960" y="63817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66"/>
                </a:solidFill>
                <a:latin typeface="Arial"/>
              </a:rPr>
              <a:t>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474800" y="64911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66"/>
                </a:solidFill>
                <a:latin typeface="Arial"/>
              </a:rPr>
              <a:t>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41880" y="63817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66"/>
                </a:solidFill>
                <a:latin typeface="Arial"/>
              </a:rPr>
              <a:t>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301440" y="63817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66"/>
                </a:solidFill>
                <a:latin typeface="Arial"/>
              </a:rPr>
              <a:t>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763640" y="5013360"/>
            <a:ext cx="287280" cy="0"/>
          </a:xfrm>
          <a:prstGeom prst="line">
            <a:avLst/>
          </a:prstGeom>
          <a:ln w="507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50920" y="5013360"/>
            <a:ext cx="0" cy="216000"/>
          </a:xfrm>
          <a:prstGeom prst="line">
            <a:avLst/>
          </a:prstGeom>
          <a:ln w="507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2987280" y="5516640"/>
            <a:ext cx="289080" cy="0"/>
          </a:xfrm>
          <a:prstGeom prst="line">
            <a:avLst/>
          </a:prstGeom>
          <a:ln w="507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76720" y="5229360"/>
            <a:ext cx="0" cy="287280"/>
          </a:xfrm>
          <a:prstGeom prst="line">
            <a:avLst/>
          </a:prstGeom>
          <a:ln w="507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1258920" y="1125360"/>
            <a:ext cx="4897440" cy="24480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982120" y="7650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66"/>
                </a:solidFill>
                <a:latin typeface="Arial"/>
              </a:rPr>
              <a:t>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6720" y="2565360"/>
            <a:ext cx="503280" cy="0"/>
          </a:xfrm>
          <a:prstGeom prst="line">
            <a:avLst/>
          </a:prstGeom>
          <a:ln w="507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3780000" y="2276640"/>
            <a:ext cx="0" cy="287280"/>
          </a:xfrm>
          <a:prstGeom prst="line">
            <a:avLst/>
          </a:prstGeom>
          <a:ln w="507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4211640" y="2349360"/>
            <a:ext cx="287280" cy="0"/>
          </a:xfrm>
          <a:prstGeom prst="line">
            <a:avLst/>
          </a:prstGeom>
          <a:ln w="507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500720" y="2349360"/>
            <a:ext cx="0" cy="432000"/>
          </a:xfrm>
          <a:prstGeom prst="line">
            <a:avLst/>
          </a:prstGeom>
          <a:ln w="507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08520" y="549360"/>
            <a:ext cx="33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垂直になっている直線はどれとどれでしょう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95600" y="2602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＜方眼紙を使って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244000" y="981000"/>
            <a:ext cx="504720" cy="947160"/>
          </a:xfrm>
          <a:prstGeom prst="rect">
            <a:avLst/>
          </a:prstGeom>
          <a:noFill/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ff"/>
                </a:solidFill>
                <a:latin typeface="Arial"/>
              </a:rPr>
              <a:t>答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133120" y="227664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と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092800" y="278136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と 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121960" y="328464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と 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136360" y="378288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け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と 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112600" y="432288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い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と 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3524400" y="3767040"/>
            <a:ext cx="0" cy="432000"/>
          </a:xfrm>
          <a:prstGeom prst="line">
            <a:avLst/>
          </a:prstGeom>
          <a:ln w="507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3249720" y="3800520"/>
            <a:ext cx="287280" cy="0"/>
          </a:xfrm>
          <a:prstGeom prst="line">
            <a:avLst/>
          </a:prstGeom>
          <a:ln w="507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84360" y="969840"/>
            <a:ext cx="7848360" cy="58881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258920" y="1844640"/>
            <a:ext cx="6697800" cy="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68360" y="1052640"/>
            <a:ext cx="0" cy="540072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1303200" y="1115640"/>
            <a:ext cx="1729080" cy="165564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1907640" y="1052640"/>
            <a:ext cx="360360" cy="7920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68360" y="1844640"/>
            <a:ext cx="2374920" cy="46800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3634920" y="1125360"/>
            <a:ext cx="360360" cy="71928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95640" y="1844640"/>
            <a:ext cx="2305080" cy="460872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58920" y="4508640"/>
            <a:ext cx="2017800" cy="20160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2050920" y="1052640"/>
            <a:ext cx="5400720" cy="540072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6443640" y="1052640"/>
            <a:ext cx="0" cy="540072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20520" y="16336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66"/>
                </a:solidFill>
                <a:latin typeface="Arial"/>
              </a:rPr>
              <a:t>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012680" y="26370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66"/>
                </a:solidFill>
                <a:latin typeface="Arial"/>
              </a:rPr>
              <a:t>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85680" y="42926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66"/>
                </a:solidFill>
                <a:latin typeface="Arial"/>
              </a:rPr>
              <a:t>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00000" y="63817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66"/>
                </a:solidFill>
                <a:latin typeface="Arial"/>
              </a:rPr>
              <a:t>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091960" y="63817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66"/>
                </a:solidFill>
                <a:latin typeface="Arial"/>
              </a:rPr>
              <a:t>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474800" y="64911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66"/>
                </a:solidFill>
                <a:latin typeface="Arial"/>
              </a:rPr>
              <a:t>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41880" y="63817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66"/>
                </a:solidFill>
                <a:latin typeface="Arial"/>
              </a:rPr>
              <a:t>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301440" y="63817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66"/>
                </a:solidFill>
                <a:latin typeface="Arial"/>
              </a:rPr>
              <a:t>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987640" y="5516640"/>
            <a:ext cx="287280" cy="0"/>
          </a:xfrm>
          <a:prstGeom prst="line">
            <a:avLst/>
          </a:prstGeom>
          <a:ln w="507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3276720" y="5229360"/>
            <a:ext cx="0" cy="287280"/>
          </a:xfrm>
          <a:prstGeom prst="line">
            <a:avLst/>
          </a:prstGeom>
          <a:ln w="507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763640" y="2276640"/>
            <a:ext cx="0" cy="287280"/>
          </a:xfrm>
          <a:prstGeom prst="line">
            <a:avLst/>
          </a:prstGeom>
          <a:ln w="507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476360" y="2565360"/>
            <a:ext cx="287280" cy="0"/>
          </a:xfrm>
          <a:prstGeom prst="line">
            <a:avLst/>
          </a:prstGeom>
          <a:ln w="507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1258920" y="1125360"/>
            <a:ext cx="4897440" cy="24480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982120" y="7650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66"/>
                </a:solidFill>
                <a:latin typeface="Arial"/>
              </a:rPr>
              <a:t>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095600" y="2602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＜方眼紙を使って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08520" y="549360"/>
            <a:ext cx="33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平行になっている直線はどれとどれでしょう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388360" y="3573360"/>
            <a:ext cx="431640" cy="2288520"/>
          </a:xfrm>
          <a:prstGeom prst="rect">
            <a:avLst/>
          </a:prstGeom>
          <a:noFill/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答えは次の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604360" y="5373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4360" y="969840"/>
            <a:ext cx="7848360" cy="58881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258920" y="1844640"/>
            <a:ext cx="6697800" cy="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268360" y="1052640"/>
            <a:ext cx="0" cy="540072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303200" y="1115640"/>
            <a:ext cx="1729080" cy="165564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907640" y="1052640"/>
            <a:ext cx="360360" cy="7920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268360" y="1844640"/>
            <a:ext cx="2374920" cy="46800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3634920" y="1125360"/>
            <a:ext cx="360360" cy="71928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995640" y="1844640"/>
            <a:ext cx="2305080" cy="460872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258920" y="4508640"/>
            <a:ext cx="2017800" cy="20160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2050920" y="1052640"/>
            <a:ext cx="5400720" cy="540072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6443640" y="1052640"/>
            <a:ext cx="0" cy="540072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20520" y="16336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66"/>
                </a:solidFill>
                <a:latin typeface="Arial"/>
              </a:rPr>
              <a:t>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12680" y="26370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66"/>
                </a:solidFill>
                <a:latin typeface="Arial"/>
              </a:rPr>
              <a:t>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85680" y="42926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66"/>
                </a:solidFill>
                <a:latin typeface="Arial"/>
              </a:rPr>
              <a:t>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800000" y="63817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66"/>
                </a:solidFill>
                <a:latin typeface="Arial"/>
              </a:rPr>
              <a:t>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091960" y="63817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66"/>
                </a:solidFill>
                <a:latin typeface="Arial"/>
              </a:rPr>
              <a:t>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74800" y="64911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66"/>
                </a:solidFill>
                <a:latin typeface="Arial"/>
              </a:rPr>
              <a:t>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41880" y="63817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66"/>
                </a:solidFill>
                <a:latin typeface="Arial"/>
              </a:rPr>
              <a:t>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01440" y="63817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66"/>
                </a:solidFill>
                <a:latin typeface="Arial"/>
              </a:rPr>
              <a:t>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987640" y="5516640"/>
            <a:ext cx="287280" cy="0"/>
          </a:xfrm>
          <a:prstGeom prst="line">
            <a:avLst/>
          </a:prstGeom>
          <a:ln w="507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276720" y="5229360"/>
            <a:ext cx="0" cy="287280"/>
          </a:xfrm>
          <a:prstGeom prst="line">
            <a:avLst/>
          </a:prstGeom>
          <a:ln w="507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1763640" y="2276640"/>
            <a:ext cx="0" cy="287280"/>
          </a:xfrm>
          <a:prstGeom prst="line">
            <a:avLst/>
          </a:prstGeom>
          <a:ln w="507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476360" y="2565360"/>
            <a:ext cx="287280" cy="0"/>
          </a:xfrm>
          <a:prstGeom prst="line">
            <a:avLst/>
          </a:prstGeom>
          <a:ln w="507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1258920" y="1125360"/>
            <a:ext cx="4897440" cy="24480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82120" y="7650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66"/>
                </a:solidFill>
                <a:latin typeface="Arial"/>
              </a:rPr>
              <a:t>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211640" y="2349360"/>
            <a:ext cx="287280" cy="0"/>
          </a:xfrm>
          <a:prstGeom prst="line">
            <a:avLst/>
          </a:prstGeom>
          <a:ln w="507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0720" y="2349360"/>
            <a:ext cx="0" cy="432000"/>
          </a:xfrm>
          <a:prstGeom prst="line">
            <a:avLst/>
          </a:prstGeom>
          <a:ln w="507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92360" y="3789360"/>
            <a:ext cx="0" cy="431640"/>
          </a:xfrm>
          <a:prstGeom prst="line">
            <a:avLst/>
          </a:prstGeom>
          <a:ln w="507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276720" y="3789360"/>
            <a:ext cx="287280" cy="0"/>
          </a:xfrm>
          <a:prstGeom prst="line">
            <a:avLst/>
          </a:prstGeom>
          <a:ln w="507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095600" y="2602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＜方眼紙を使って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008520" y="549360"/>
            <a:ext cx="33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平行になっている直線はどれとどれでしょう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244000" y="981000"/>
            <a:ext cx="504720" cy="947160"/>
          </a:xfrm>
          <a:prstGeom prst="rect">
            <a:avLst/>
          </a:prstGeom>
          <a:noFill/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ff"/>
                </a:solidFill>
                <a:latin typeface="Arial"/>
              </a:rPr>
              <a:t>答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093520" y="227664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お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と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128440" y="278136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と 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128440" y="328464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と 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136360" y="378288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け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と 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112600" y="432288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い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と 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684360" y="969840"/>
            <a:ext cx="7848360" cy="588816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1258920" y="5734080"/>
            <a:ext cx="6697800" cy="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1258920" y="1052640"/>
            <a:ext cx="3744720" cy="374472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67960" y="45813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66"/>
                </a:solidFill>
                <a:latin typeface="Arial"/>
              </a:rPr>
              <a:t>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41040" y="55166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66"/>
                </a:solidFill>
                <a:latin typeface="Arial"/>
              </a:rPr>
              <a:t>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932360" y="3284640"/>
            <a:ext cx="287280" cy="0"/>
          </a:xfrm>
          <a:prstGeom prst="line">
            <a:avLst/>
          </a:prstGeom>
          <a:ln w="507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5219640" y="3284640"/>
            <a:ext cx="0" cy="287280"/>
          </a:xfrm>
          <a:prstGeom prst="line">
            <a:avLst/>
          </a:prstGeom>
          <a:ln w="507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2556000" y="3499920"/>
            <a:ext cx="0" cy="287640"/>
          </a:xfrm>
          <a:prstGeom prst="line">
            <a:avLst/>
          </a:prstGeom>
          <a:ln w="507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268360" y="3789360"/>
            <a:ext cx="287640" cy="0"/>
          </a:xfrm>
          <a:prstGeom prst="line">
            <a:avLst/>
          </a:prstGeom>
          <a:ln w="507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40240" y="31352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Arial"/>
              </a:rPr>
              <a:t>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148360" y="350028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 flipV="1">
            <a:off x="2771640" y="1125360"/>
            <a:ext cx="5113440" cy="5112000"/>
          </a:xfrm>
          <a:prstGeom prst="line">
            <a:avLst/>
          </a:prstGeom>
          <a:ln w="63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1835280" y="1413000"/>
            <a:ext cx="1338120" cy="10033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297120" y="1484280"/>
            <a:ext cx="1643760" cy="642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333399"/>
                </a:solidFill>
                <a:latin typeface="Arial"/>
              </a:rPr>
              <a:t>点アを通って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333399"/>
                </a:solidFill>
                <a:latin typeface="Arial"/>
              </a:rPr>
              <a:t>直線あ　に垂直な直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793400" y="5634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点アを通って、直線あ に垂直な直線をかきましょ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095600" y="2602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＜方眼紙を使って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84360" y="969840"/>
            <a:ext cx="7848360" cy="58881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258920" y="5734080"/>
            <a:ext cx="6697800" cy="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1258920" y="1052640"/>
            <a:ext cx="3744720" cy="374472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67960" y="45813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66"/>
                </a:solidFill>
                <a:latin typeface="Arial"/>
              </a:rPr>
              <a:t>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41040" y="55166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66"/>
                </a:solidFill>
                <a:latin typeface="Arial"/>
              </a:rPr>
              <a:t>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956840" y="3854160"/>
            <a:ext cx="238320" cy="160200"/>
          </a:xfrm>
          <a:prstGeom prst="line">
            <a:avLst/>
          </a:prstGeom>
          <a:ln w="507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4953240" y="3642480"/>
            <a:ext cx="245520" cy="149040"/>
          </a:xfrm>
          <a:prstGeom prst="line">
            <a:avLst/>
          </a:prstGeom>
          <a:ln w="507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3741840" y="5498280"/>
            <a:ext cx="220320" cy="184320"/>
          </a:xfrm>
          <a:prstGeom prst="line">
            <a:avLst/>
          </a:prstGeom>
          <a:ln w="507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3971880" y="5481360"/>
            <a:ext cx="191880" cy="214200"/>
          </a:xfrm>
          <a:prstGeom prst="line">
            <a:avLst/>
          </a:prstGeom>
          <a:ln w="507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340240" y="3068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Arial"/>
              </a:rPr>
              <a:t>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148360" y="350028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5148360" y="620640"/>
            <a:ext cx="1338120" cy="10033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6297120" y="1484280"/>
            <a:ext cx="1643760" cy="642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333399"/>
                </a:solidFill>
                <a:latin typeface="Arial"/>
              </a:rPr>
              <a:t>点アを通って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333399"/>
                </a:solidFill>
                <a:latin typeface="Arial"/>
              </a:rPr>
              <a:t>直線い　に垂直な直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5219640" y="1052640"/>
            <a:ext cx="0" cy="5400720"/>
          </a:xfrm>
          <a:prstGeom prst="line">
            <a:avLst/>
          </a:prstGeom>
          <a:ln w="63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793400" y="5634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点アを通って、直線い に垂直な直線をかきましょ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095600" y="2602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＜方眼紙を使って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684360" y="969840"/>
            <a:ext cx="7848360" cy="588816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840960" y="53737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66"/>
                </a:solidFill>
                <a:latin typeface="Arial"/>
              </a:rPr>
              <a:t>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248720" y="63817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66"/>
                </a:solidFill>
                <a:latin typeface="Arial"/>
              </a:rPr>
              <a:t>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219640" y="3573360"/>
            <a:ext cx="287280" cy="0"/>
          </a:xfrm>
          <a:prstGeom prst="line">
            <a:avLst/>
          </a:prstGeom>
          <a:ln w="507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608360" y="3141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Arial"/>
              </a:rPr>
              <a:t>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148360" y="350028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4788000" y="981000"/>
            <a:ext cx="1338120" cy="10033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725040" y="907920"/>
            <a:ext cx="1643760" cy="642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333399"/>
                </a:solidFill>
                <a:latin typeface="Arial"/>
              </a:rPr>
              <a:t>点イを通って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333399"/>
                </a:solidFill>
                <a:latin typeface="Arial"/>
              </a:rPr>
              <a:t>直線う　に平行な直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1258920" y="1125360"/>
            <a:ext cx="2233440" cy="439128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4500720" y="3068640"/>
            <a:ext cx="3384360" cy="338472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3708360" y="1125360"/>
            <a:ext cx="2735280" cy="5399280"/>
          </a:xfrm>
          <a:prstGeom prst="line">
            <a:avLst/>
          </a:prstGeom>
          <a:ln w="63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050920" y="4005360"/>
            <a:ext cx="287640" cy="0"/>
          </a:xfrm>
          <a:prstGeom prst="line">
            <a:avLst/>
          </a:prstGeom>
          <a:ln w="507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268360" y="3573360"/>
            <a:ext cx="0" cy="432000"/>
          </a:xfrm>
          <a:prstGeom prst="line">
            <a:avLst/>
          </a:prstGeom>
          <a:ln w="507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508720" y="3141360"/>
            <a:ext cx="0" cy="431640"/>
          </a:xfrm>
          <a:prstGeom prst="line">
            <a:avLst/>
          </a:prstGeom>
          <a:ln w="507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53800" y="5634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点イを通って、直線う に平行な直線をかきましょ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095600" y="2602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＜方眼紙を使って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684360" y="969840"/>
            <a:ext cx="7848360" cy="588816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840960" y="53737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66"/>
                </a:solidFill>
                <a:latin typeface="Arial"/>
              </a:rPr>
              <a:t>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248720" y="63817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66"/>
                </a:solidFill>
                <a:latin typeface="Arial"/>
              </a:rPr>
              <a:t>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824360" y="3068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Arial"/>
              </a:rPr>
              <a:t>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148360" y="350028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5796000" y="836640"/>
            <a:ext cx="1338120" cy="10033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48080" y="907920"/>
            <a:ext cx="1643760" cy="642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333399"/>
                </a:solidFill>
                <a:latin typeface="Arial"/>
              </a:rPr>
              <a:t>点イを通って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333399"/>
                </a:solidFill>
                <a:latin typeface="Arial"/>
              </a:rPr>
              <a:t>直線え　に平行な直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1258920" y="1125360"/>
            <a:ext cx="2233440" cy="439128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4500720" y="3068640"/>
            <a:ext cx="3384360" cy="338472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435640" y="5516640"/>
            <a:ext cx="287280" cy="0"/>
          </a:xfrm>
          <a:prstGeom prst="line">
            <a:avLst/>
          </a:prstGeom>
          <a:ln w="507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2268360" y="1125360"/>
            <a:ext cx="5400720" cy="5399280"/>
          </a:xfrm>
          <a:prstGeom prst="line">
            <a:avLst/>
          </a:prstGeom>
          <a:ln w="63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5724360" y="5229360"/>
            <a:ext cx="0" cy="287280"/>
          </a:xfrm>
          <a:prstGeom prst="line">
            <a:avLst/>
          </a:prstGeom>
          <a:ln w="507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5508720" y="3284640"/>
            <a:ext cx="0" cy="287280"/>
          </a:xfrm>
          <a:prstGeom prst="line">
            <a:avLst/>
          </a:prstGeom>
          <a:ln w="507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219640" y="3573360"/>
            <a:ext cx="287280" cy="0"/>
          </a:xfrm>
          <a:prstGeom prst="line">
            <a:avLst/>
          </a:prstGeom>
          <a:ln w="507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778280" y="5634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点イを通って、直線え に垂直な直線をかきましょ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095600" y="2602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＜方眼紙を使って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8T01:20:30Z</dcterms:created>
  <dc:creator>岸田好正</dc:creator>
  <dc:description/>
  <dc:language>en-US</dc:language>
  <cp:lastModifiedBy>kangawa-kaori-1</cp:lastModifiedBy>
  <dcterms:modified xsi:type="dcterms:W3CDTF">2007-09-06T06:34:49Z</dcterms:modified>
  <cp:revision>13</cp:revision>
  <dc:subject/>
  <dc:title>垂直・平行</dc:title>
</cp:coreProperties>
</file>