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504-D00D-4848-999F-14351AD2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079-D82F-4F1B-B342-4604C274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DF8-E04D-4DBE-B59A-D77D48F1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C81-3E59-42B4-BBAF-1122E33C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657-CFE6-455A-9C82-190D19E4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E48-F78B-49B6-AF48-18ED1F3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EDD-5673-497D-A691-1B61B7B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B70-20DF-4ED8-91D3-794C8C2A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87B-588A-4E0F-9B88-DF773073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899-4403-47E6-A1CD-528A2CF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C2B-452E-4C92-AC92-5E55FD85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D19-E31C-4349-B277-5177F28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3088-B84D-438D-80FA-1711627A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09680" y="476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捨五入の復習を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2840" y="119700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の数を，四捨五入で，　　　の位までの概数で表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085640" y="1204920"/>
            <a:ext cx="464040" cy="652680"/>
            <a:chOff x="4085640" y="1204920"/>
            <a:chExt cx="464040" cy="652680"/>
          </a:xfrm>
        </p:grpSpPr>
        <p:sp>
          <p:nvSpPr>
            <p:cNvPr id="44" name=""/>
            <p:cNvSpPr/>
            <p:nvPr/>
          </p:nvSpPr>
          <p:spPr>
            <a:xfrm>
              <a:off x="4154040" y="1204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03640" y="152532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85640" y="1458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77960" y="2872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　しゃ　ごにゅ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8160" y="19162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例＞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8160" y="206064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２．５３　　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38160" y="33577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４．２７　　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133720"/>
            <a:ext cx="28728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3397320"/>
            <a:ext cx="28728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5120" y="3408480"/>
            <a:ext cx="28728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4680" y="302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2637000"/>
            <a:ext cx="35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42920" y="4221000"/>
            <a:ext cx="7201080" cy="2016360"/>
            <a:chOff x="1042920" y="4221000"/>
            <a:chExt cx="7201080" cy="2016360"/>
          </a:xfrm>
        </p:grpSpPr>
        <p:sp>
          <p:nvSpPr>
            <p:cNvPr id="57" name=""/>
            <p:cNvSpPr/>
            <p:nvPr/>
          </p:nvSpPr>
          <p:spPr>
            <a:xfrm>
              <a:off x="1455840" y="4344840"/>
              <a:ext cx="678816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すぐ下の位の数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０，１，２，３，４　・・・　切り捨て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５，６，７，８，９　・・・　切り上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17800" y="4738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42920" y="4221000"/>
              <a:ext cx="6769080" cy="20163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196960" y="20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２．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9040" y="3365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４．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4480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四捨五入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44520" y="2868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6720" cy="934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40000" y="76500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99720" y="574560"/>
            <a:ext cx="30351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÷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商を，四捨五入で，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069800" y="1057320"/>
            <a:ext cx="464040" cy="652680"/>
            <a:chOff x="4069800" y="1057320"/>
            <a:chExt cx="464040" cy="652680"/>
          </a:xfrm>
        </p:grpSpPr>
        <p:sp>
          <p:nvSpPr>
            <p:cNvPr id="68" name=""/>
            <p:cNvSpPr/>
            <p:nvPr/>
          </p:nvSpPr>
          <p:spPr>
            <a:xfrm>
              <a:off x="4138200" y="1057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87800" y="137772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9800" y="1311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rot="5400000">
            <a:off x="1724040" y="26017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41560" y="2519280"/>
            <a:ext cx="1101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5440" y="2492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4720" y="2513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419200" y="2500200"/>
            <a:ext cx="358920" cy="720720"/>
            <a:chOff x="2419200" y="2500200"/>
            <a:chExt cx="358920" cy="720720"/>
          </a:xfrm>
        </p:grpSpPr>
        <p:sp>
          <p:nvSpPr>
            <p:cNvPr id="76" name=""/>
            <p:cNvSpPr/>
            <p:nvPr/>
          </p:nvSpPr>
          <p:spPr>
            <a:xfrm rot="16200000">
              <a:off x="2238120" y="268092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2449080" y="258696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90840" y="300492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0840" y="307620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341440" y="198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3355920"/>
            <a:ext cx="8654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9880" y="3336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1520" y="2008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87520" y="2871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3767040" y="260496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84560" y="2522520"/>
            <a:ext cx="14670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68800" y="2495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17720" y="2516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62560" y="2503440"/>
            <a:ext cx="358560" cy="720720"/>
            <a:chOff x="4462560" y="2503440"/>
            <a:chExt cx="358560" cy="720720"/>
          </a:xfrm>
        </p:grpSpPr>
        <p:sp>
          <p:nvSpPr>
            <p:cNvPr id="90" name=""/>
            <p:cNvSpPr/>
            <p:nvPr/>
          </p:nvSpPr>
          <p:spPr>
            <a:xfrm rot="16200000">
              <a:off x="4281480" y="2684520"/>
              <a:ext cx="720720" cy="35856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4492080" y="2590560"/>
              <a:ext cx="304920" cy="2408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33840" y="300816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3840" y="307944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384440" y="2014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94280" y="3357720"/>
            <a:ext cx="144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3240" y="334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64520" y="2011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3340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36880" y="201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3240" y="369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686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119480" y="4149720"/>
            <a:ext cx="1447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6640" y="4138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73400" y="4138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75200" y="2019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08440" y="451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7280" y="4506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51160" y="4989600"/>
            <a:ext cx="1447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7560" y="49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495200" y="5789160"/>
            <a:ext cx="893160" cy="592200"/>
            <a:chOff x="7495200" y="5789160"/>
            <a:chExt cx="893160" cy="592200"/>
          </a:xfrm>
        </p:grpSpPr>
        <p:graphicFrame>
          <p:nvGraphicFramePr>
            <p:cNvPr id="111" name=""/>
            <p:cNvGraphicFramePr/>
            <p:nvPr/>
          </p:nvGraphicFramePr>
          <p:xfrm>
            <a:off x="8261280" y="5986080"/>
            <a:ext cx="127080" cy="11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61280" y="5986080"/>
                      <a:ext cx="127080" cy="1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7651800" y="580536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51800" y="580536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163000" y="6063840"/>
              <a:ext cx="12852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8008920" y="6065640"/>
              <a:ext cx="101520" cy="47520"/>
              <a:chOff x="8008920" y="6065640"/>
              <a:chExt cx="101520" cy="47520"/>
            </a:xfrm>
          </p:grpSpPr>
          <p:sp>
            <p:nvSpPr>
              <p:cNvPr id="117" name=""/>
              <p:cNvSpPr/>
              <p:nvPr/>
            </p:nvSpPr>
            <p:spPr>
              <a:xfrm>
                <a:off x="8008920" y="606564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008920" y="606564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846920" y="6078240"/>
              <a:ext cx="103320" cy="49320"/>
              <a:chOff x="7846920" y="6078240"/>
              <a:chExt cx="103320" cy="49320"/>
            </a:xfrm>
          </p:grpSpPr>
          <p:sp>
            <p:nvSpPr>
              <p:cNvPr id="120" name=""/>
              <p:cNvSpPr/>
              <p:nvPr/>
            </p:nvSpPr>
            <p:spPr>
              <a:xfrm>
                <a:off x="7846920" y="607824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46920" y="607824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859880" y="6192720"/>
              <a:ext cx="253800" cy="128520"/>
              <a:chOff x="7859880" y="6192720"/>
              <a:chExt cx="253800" cy="12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859880" y="619272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859880" y="619272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 flipV="1">
              <a:off x="7667640" y="6028920"/>
              <a:ext cx="1224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 rot="20973000">
              <a:off x="7524360" y="5805360"/>
              <a:ext cx="20952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5869800" y="4653000"/>
            <a:ext cx="2824920" cy="819000"/>
            <a:chOff x="5869800" y="4653000"/>
            <a:chExt cx="2824920" cy="819000"/>
          </a:xfrm>
        </p:grpSpPr>
        <p:sp>
          <p:nvSpPr>
            <p:cNvPr id="128" name=""/>
            <p:cNvSpPr/>
            <p:nvPr/>
          </p:nvSpPr>
          <p:spPr>
            <a:xfrm flipH="1">
              <a:off x="5883840" y="4680000"/>
              <a:ext cx="2808360" cy="792000"/>
            </a:xfrm>
            <a:prstGeom prst="wedgeRoundRectCallout">
              <a:avLst>
                <a:gd name="adj1" fmla="val -34060"/>
                <a:gd name="adj2" fmla="val 88273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869800" y="4653000"/>
              <a:ext cx="2824920" cy="785880"/>
              <a:chOff x="5869800" y="4653000"/>
              <a:chExt cx="2824920" cy="785880"/>
            </a:xfrm>
          </p:grpSpPr>
          <p:sp>
            <p:nvSpPr>
              <p:cNvPr id="130" name=""/>
              <p:cNvSpPr/>
              <p:nvPr/>
            </p:nvSpPr>
            <p:spPr>
              <a:xfrm>
                <a:off x="6029280" y="4761000"/>
                <a:ext cx="26654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3300"/>
                    </a:solidFill>
                    <a:latin typeface="Arial"/>
                  </a:rPr>
                  <a:t>　　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の位の数字に目をつけ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　　んだったね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92920" y="465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45040" y="4956120"/>
                <a:ext cx="419040" cy="3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9800" y="492120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971960" y="2028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923600" y="1756080"/>
            <a:ext cx="969120" cy="664560"/>
            <a:chOff x="7923600" y="1756080"/>
            <a:chExt cx="969120" cy="664560"/>
          </a:xfrm>
        </p:grpSpPr>
        <p:graphicFrame>
          <p:nvGraphicFramePr>
            <p:cNvPr id="136" name=""/>
            <p:cNvGraphicFramePr/>
            <p:nvPr/>
          </p:nvGraphicFramePr>
          <p:xfrm>
            <a:off x="8754480" y="1976400"/>
            <a:ext cx="138240" cy="13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754480" y="1976400"/>
                      <a:ext cx="138240" cy="13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8" name=""/>
            <p:cNvGrpSpPr/>
            <p:nvPr/>
          </p:nvGrpSpPr>
          <p:grpSpPr>
            <a:xfrm>
              <a:off x="8094960" y="1773360"/>
              <a:ext cx="713520" cy="647280"/>
              <a:chOff x="8094960" y="1773360"/>
              <a:chExt cx="713520" cy="647280"/>
            </a:xfrm>
          </p:grpSpPr>
          <p:sp>
            <p:nvSpPr>
              <p:cNvPr id="139" name=""/>
              <p:cNvSpPr/>
              <p:nvPr/>
            </p:nvSpPr>
            <p:spPr>
              <a:xfrm>
                <a:off x="8094960" y="1773360"/>
                <a:ext cx="71352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94960" y="1773360"/>
                <a:ext cx="71352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 flipV="1">
              <a:off x="8648640" y="2063160"/>
              <a:ext cx="13824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8480880" y="2065680"/>
              <a:ext cx="110520" cy="54000"/>
              <a:chOff x="8480880" y="2065680"/>
              <a:chExt cx="110520" cy="54000"/>
            </a:xfrm>
          </p:grpSpPr>
          <p:sp>
            <p:nvSpPr>
              <p:cNvPr id="143" name=""/>
              <p:cNvSpPr/>
              <p:nvPr/>
            </p:nvSpPr>
            <p:spPr>
              <a:xfrm>
                <a:off x="8480880" y="206568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80880" y="206568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8306640" y="2080440"/>
              <a:ext cx="111600" cy="54000"/>
              <a:chOff x="8306640" y="2080440"/>
              <a:chExt cx="111600" cy="54000"/>
            </a:xfrm>
          </p:grpSpPr>
          <p:sp>
            <p:nvSpPr>
              <p:cNvPr id="146" name=""/>
              <p:cNvSpPr/>
              <p:nvPr/>
            </p:nvSpPr>
            <p:spPr>
              <a:xfrm>
                <a:off x="8306640" y="20804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06640" y="20804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8318880" y="2209320"/>
              <a:ext cx="276480" cy="144720"/>
              <a:chOff x="8318880" y="2209320"/>
              <a:chExt cx="276480" cy="144720"/>
            </a:xfrm>
          </p:grpSpPr>
          <p:sp>
            <p:nvSpPr>
              <p:cNvPr id="149" name=""/>
              <p:cNvSpPr/>
              <p:nvPr/>
            </p:nvSpPr>
            <p:spPr>
              <a:xfrm>
                <a:off x="8318880" y="2209320"/>
                <a:ext cx="27648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18880" y="2209320"/>
                <a:ext cx="27648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 flipV="1">
              <a:off x="8112240" y="2025000"/>
              <a:ext cx="13104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7"/>
            <a:stretch/>
          </p:blipFill>
          <p:spPr>
            <a:xfrm rot="20973000">
              <a:off x="7956360" y="1773000"/>
              <a:ext cx="22680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 flipH="1">
            <a:off x="5796000" y="1558800"/>
            <a:ext cx="2232000" cy="717840"/>
          </a:xfrm>
          <a:prstGeom prst="wedgeEllipseCallout">
            <a:avLst>
              <a:gd name="adj1" fmla="val -43745"/>
              <a:gd name="adj2" fmla="val 1968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73680" y="1598760"/>
            <a:ext cx="66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四捨五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８は，きりあげだから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3640" y="2060640"/>
            <a:ext cx="360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060640"/>
            <a:ext cx="36036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7800" y="162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0040" y="3716280"/>
            <a:ext cx="26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答え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3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 flipH="1">
            <a:off x="394920" y="5661000"/>
            <a:ext cx="60804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13360" y="3936960"/>
            <a:ext cx="3121920" cy="1868400"/>
            <a:chOff x="513360" y="3936960"/>
            <a:chExt cx="3121920" cy="1868400"/>
          </a:xfrm>
        </p:grpSpPr>
        <p:sp>
          <p:nvSpPr>
            <p:cNvPr id="161" name=""/>
            <p:cNvSpPr/>
            <p:nvPr/>
          </p:nvSpPr>
          <p:spPr>
            <a:xfrm>
              <a:off x="1116000" y="4365720"/>
              <a:ext cx="2519280" cy="1439640"/>
            </a:xfrm>
            <a:prstGeom prst="wedgeRectCallout">
              <a:avLst>
                <a:gd name="adj1" fmla="val -48740"/>
                <a:gd name="adj2" fmla="val 60254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12840" y="4365720"/>
              <a:ext cx="242244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　 の位までの概数で表すということは，その一つ下の　　　の位まで求めて四捨五入するんだった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760" y="4334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2840" y="4614840"/>
              <a:ext cx="299880" cy="32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3280" y="4554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0880" y="497052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19200" y="5251320"/>
              <a:ext cx="374760" cy="32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1440" y="51800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948800">
              <a:off x="539280" y="4149360"/>
              <a:ext cx="1008000" cy="3603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457000">
              <a:off x="764280" y="4120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ヒ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54480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四捨五入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87720" y="620640"/>
            <a:ext cx="280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商を，四捨五入で，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上から１けた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69228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0560" y="1406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744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1579680" y="26017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97200" y="2519280"/>
            <a:ext cx="140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4922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3440" y="2492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7080" y="198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3429000"/>
            <a:ext cx="1297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0040" y="2021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629080" y="2492280"/>
            <a:ext cx="358560" cy="720720"/>
            <a:chOff x="2629080" y="2492280"/>
            <a:chExt cx="358560" cy="720720"/>
          </a:xfrm>
        </p:grpSpPr>
        <p:sp>
          <p:nvSpPr>
            <p:cNvPr id="184" name=""/>
            <p:cNvSpPr/>
            <p:nvPr/>
          </p:nvSpPr>
          <p:spPr>
            <a:xfrm rot="16200000">
              <a:off x="2448000" y="2673360"/>
              <a:ext cx="720720" cy="35856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2658600" y="2579400"/>
              <a:ext cx="304920" cy="2408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00360" y="299700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00360" y="306828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82640" y="200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1080" y="292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0560" y="2935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744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472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60560" y="1998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55880" y="3828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70040" y="3819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4365720"/>
            <a:ext cx="1297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472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0000" y="1413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4360" y="5157720"/>
            <a:ext cx="3600360" cy="1150560"/>
            <a:chOff x="684360" y="5157720"/>
            <a:chExt cx="3600360" cy="1150560"/>
          </a:xfrm>
        </p:grpSpPr>
        <p:grpSp>
          <p:nvGrpSpPr>
            <p:cNvPr id="200" name=""/>
            <p:cNvGrpSpPr/>
            <p:nvPr/>
          </p:nvGrpSpPr>
          <p:grpSpPr>
            <a:xfrm>
              <a:off x="684360" y="5661000"/>
              <a:ext cx="880920" cy="647280"/>
              <a:chOff x="684360" y="5661000"/>
              <a:chExt cx="880920" cy="647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749520" y="5661000"/>
                <a:ext cx="712800" cy="647280"/>
                <a:chOff x="749520" y="5661000"/>
                <a:chExt cx="712800" cy="647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49520" y="5661000"/>
                  <a:ext cx="712800" cy="647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49520" y="5661000"/>
                  <a:ext cx="712800" cy="647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1301760" y="5951520"/>
                <a:ext cx="138240" cy="7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135080" y="5952960"/>
                <a:ext cx="109440" cy="54000"/>
                <a:chOff x="1135080" y="5952960"/>
                <a:chExt cx="109440" cy="54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135080" y="59529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135080" y="59529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960480" y="5968800"/>
                <a:ext cx="112680" cy="54000"/>
                <a:chOff x="960480" y="5968800"/>
                <a:chExt cx="112680" cy="54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960480" y="5968800"/>
                  <a:ext cx="112680" cy="5400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960480" y="5968800"/>
                  <a:ext cx="112680" cy="5400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973080" y="6097680"/>
                <a:ext cx="276480" cy="144360"/>
                <a:chOff x="973080" y="6097680"/>
                <a:chExt cx="276480" cy="144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973080" y="6097680"/>
                  <a:ext cx="276480" cy="14436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973080" y="6097680"/>
                  <a:ext cx="276480" cy="14436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H="1" flipV="1">
                <a:off x="766800" y="5913000"/>
                <a:ext cx="13176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5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332000" y="5734080"/>
                <a:ext cx="23328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684360" y="5805360"/>
                <a:ext cx="118800" cy="109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403280" y="5157720"/>
              <a:ext cx="2881440" cy="719280"/>
            </a:xfrm>
            <a:prstGeom prst="wedgeEllipseCallout">
              <a:avLst>
                <a:gd name="adj1" fmla="val -34574"/>
                <a:gd name="adj2" fmla="val 5993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71920" y="5229360"/>
              <a:ext cx="1901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「０．」は上から１けたに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　　　　　　　　数えない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876400" y="2114640"/>
            <a:ext cx="360360" cy="35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4240" y="44308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　０．６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40200" y="290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972040" y="26017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89560" y="2519280"/>
            <a:ext cx="11876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73800" y="2492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5800" y="2492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32280" y="2011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3429000"/>
            <a:ext cx="1109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98320" y="205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665760" y="2455920"/>
            <a:ext cx="358920" cy="720720"/>
            <a:chOff x="6665760" y="2455920"/>
            <a:chExt cx="358920" cy="720720"/>
          </a:xfrm>
        </p:grpSpPr>
        <p:sp>
          <p:nvSpPr>
            <p:cNvPr id="230" name=""/>
            <p:cNvSpPr/>
            <p:nvPr/>
          </p:nvSpPr>
          <p:spPr>
            <a:xfrm rot="16200000">
              <a:off x="6484680" y="263664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6695640" y="254268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37400" y="296064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37400" y="303192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386400" y="2897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27840" y="201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3716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3406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08760" y="3406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8120" y="3808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1360" y="3819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4365720"/>
            <a:ext cx="1065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38760" y="4334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8120" y="4349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66000" y="209376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9880" y="555624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4480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四捨五入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274840" y="2500200"/>
            <a:ext cx="358920" cy="720720"/>
            <a:chOff x="2274840" y="2500200"/>
            <a:chExt cx="358920" cy="720720"/>
          </a:xfrm>
        </p:grpSpPr>
        <p:sp>
          <p:nvSpPr>
            <p:cNvPr id="248" name=""/>
            <p:cNvSpPr/>
            <p:nvPr/>
          </p:nvSpPr>
          <p:spPr>
            <a:xfrm rot="16200000">
              <a:off x="2093760" y="268092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2304720" y="258696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46480" y="300492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6480" y="307620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835280" y="907920"/>
            <a:ext cx="2160000" cy="396720"/>
            <a:chOff x="1835280" y="907920"/>
            <a:chExt cx="2160000" cy="396720"/>
          </a:xfrm>
        </p:grpSpPr>
        <p:sp>
          <p:nvSpPr>
            <p:cNvPr id="253" name=""/>
            <p:cNvSpPr/>
            <p:nvPr/>
          </p:nvSpPr>
          <p:spPr>
            <a:xfrm>
              <a:off x="1835280" y="907920"/>
              <a:ext cx="215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95760" y="907920"/>
              <a:ext cx="20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６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195000" y="1494000"/>
            <a:ext cx="303516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商を，四捨五入で，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636360" y="1844640"/>
            <a:ext cx="464040" cy="652680"/>
            <a:chOff x="3636360" y="1844640"/>
            <a:chExt cx="464040" cy="652680"/>
          </a:xfrm>
        </p:grpSpPr>
        <p:sp>
          <p:nvSpPr>
            <p:cNvPr id="257" name=""/>
            <p:cNvSpPr/>
            <p:nvPr/>
          </p:nvSpPr>
          <p:spPr>
            <a:xfrm>
              <a:off x="3704760" y="184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54360" y="216504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6360" y="209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 rot="5400000">
            <a:off x="1569960" y="40100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87480" y="3921120"/>
            <a:ext cx="11271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80640" y="24382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４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697000" y="406404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4880" y="3981600"/>
            <a:ext cx="1209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8400" y="24922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６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4480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四捨五入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1835280" y="907920"/>
            <a:ext cx="2088360" cy="396720"/>
            <a:chOff x="1835280" y="907920"/>
            <a:chExt cx="2088360" cy="396720"/>
          </a:xfrm>
        </p:grpSpPr>
        <p:sp>
          <p:nvSpPr>
            <p:cNvPr id="268" name=""/>
            <p:cNvSpPr/>
            <p:nvPr/>
          </p:nvSpPr>
          <p:spPr>
            <a:xfrm>
              <a:off x="1835280" y="907920"/>
              <a:ext cx="2085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93600" y="907920"/>
              <a:ext cx="20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６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195000" y="1494000"/>
            <a:ext cx="303516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商を，四捨五入で，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36360" y="1844640"/>
            <a:ext cx="464040" cy="652680"/>
            <a:chOff x="3636360" y="1844640"/>
            <a:chExt cx="464040" cy="652680"/>
          </a:xfrm>
        </p:grpSpPr>
        <p:sp>
          <p:nvSpPr>
            <p:cNvPr id="272" name=""/>
            <p:cNvSpPr/>
            <p:nvPr/>
          </p:nvSpPr>
          <p:spPr>
            <a:xfrm>
              <a:off x="3704760" y="184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4360" y="216504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6360" y="209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5400000">
            <a:off x="1569960" y="40100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887480" y="3921120"/>
            <a:ext cx="11271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80640" y="24382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４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5697000" y="406404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4880" y="3981600"/>
            <a:ext cx="1209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08400" y="24922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６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03040" y="981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1528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４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24080" y="3357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５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9508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350028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51520" y="595008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５．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45920" y="392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６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54360" y="39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27720" y="3500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６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６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357336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3645000"/>
            <a:ext cx="360360" cy="35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144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55160" y="595008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６．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4480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四捨五入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835280" y="907920"/>
            <a:ext cx="2160000" cy="396720"/>
            <a:chOff x="1835280" y="907920"/>
            <a:chExt cx="2160000" cy="396720"/>
          </a:xfrm>
        </p:grpSpPr>
        <p:sp>
          <p:nvSpPr>
            <p:cNvPr id="296" name=""/>
            <p:cNvSpPr/>
            <p:nvPr/>
          </p:nvSpPr>
          <p:spPr>
            <a:xfrm>
              <a:off x="1835280" y="907920"/>
              <a:ext cx="215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95760" y="907920"/>
              <a:ext cx="20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６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921120" y="1494000"/>
            <a:ext cx="234936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商を，四捨五入で，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上から１けた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1569960" y="40100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887480" y="3913200"/>
            <a:ext cx="135576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6680" y="24382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5 ÷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5697000" y="406404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4880" y="3981600"/>
            <a:ext cx="1209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04440" y="2492280"/>
            <a:ext cx="24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8 ÷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4480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四捨五入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835280" y="907920"/>
            <a:ext cx="2160000" cy="396720"/>
            <a:chOff x="1835280" y="907920"/>
            <a:chExt cx="2160000" cy="396720"/>
          </a:xfrm>
        </p:grpSpPr>
        <p:sp>
          <p:nvSpPr>
            <p:cNvPr id="307" name=""/>
            <p:cNvSpPr/>
            <p:nvPr/>
          </p:nvSpPr>
          <p:spPr>
            <a:xfrm>
              <a:off x="1835280" y="907920"/>
              <a:ext cx="215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95760" y="907920"/>
              <a:ext cx="20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６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21120" y="1494000"/>
            <a:ext cx="234936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商を，四捨五入で，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上から１けた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1569960" y="40100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7480" y="3913200"/>
            <a:ext cx="1355760" cy="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6680" y="24382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5 ÷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97000" y="406404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4880" y="3981600"/>
            <a:ext cx="1209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4440" y="2492280"/>
            <a:ext cx="24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8 ÷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35360" y="38847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60360" y="386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37280" y="3981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４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65440" y="40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24080" y="3357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６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8132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２．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08720" y="357336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342900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342900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19080" y="29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51520" y="595008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０．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77200" y="59500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4480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四捨五入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8:36Z</dcterms:created>
  <dc:creator>kangawa-kaori-1</dc:creator>
  <dc:description/>
  <dc:language>en-US</dc:language>
  <cp:lastModifiedBy>kangawa-kaori-1</cp:lastModifiedBy>
  <dcterms:modified xsi:type="dcterms:W3CDTF">2007-11-14T06:24:22Z</dcterms:modified>
  <cp:revision>123</cp:revision>
  <dc:subject/>
  <dc:title>スライド 1</dc:title>
</cp:coreProperties>
</file>