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188-F518-4FBF-96F7-D4DF243C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8D4-EFE3-476D-AAA8-D9D4A5D0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6DD-3B1B-4863-95B7-48D171AE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2A8-BEE2-41AF-B7D7-5061102B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F7A-1E03-478E-B85B-19AB58C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247-B15A-4B97-8FBD-097BC775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65A-C8D9-4F0B-A8C9-6896710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BE8-E8EA-4A0B-8DD5-27F69AFE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793-6C31-4991-ACBC-8A44C432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CA4-6EE6-4940-A71D-E39D3A6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BAF-ACDF-43D4-9515-72AE67B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F32-09FF-4134-A959-675F5D29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9141-465E-4386-905F-D230A6397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2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37000" y="324000"/>
            <a:ext cx="157464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百分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77000" y="32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百分率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4680" y="1370160"/>
            <a:ext cx="8578080" cy="119124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割合を表すのに，（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）　を使うことがあり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百分率では，（　</a:t>
            </a:r>
            <a:r>
              <a:rPr b="0" lang="zh-CN" sz="2400" spc="-1" strike="noStrike">
                <a:solidFill>
                  <a:srgbClr val="0099ff"/>
                </a:solidFill>
                <a:latin typeface="Arial"/>
              </a:rPr>
              <a:t>　　　　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のことを（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　　　　　　　　　　　 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とい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21320" y="135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百分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15440" y="21258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99ff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4680" y="2101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１％（１パーセン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60240" y="2681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72360" y="3114720"/>
            <a:ext cx="179640" cy="223920"/>
          </a:xfrm>
          <a:prstGeom prst="upDownArrow">
            <a:avLst>
              <a:gd name="adj1" fmla="val 50000"/>
              <a:gd name="adj2" fmla="val 24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04520" y="3290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273880" y="3411360"/>
            <a:ext cx="24624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77120" y="3406680"/>
            <a:ext cx="85680" cy="10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34440" y="3543480"/>
            <a:ext cx="87120" cy="109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6120" y="293364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例）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61160" y="2925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3800" y="2889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97280" y="28828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9520" y="3186000"/>
            <a:ext cx="7653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17320" y="28893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１０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960" y="392436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61160" y="3916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9520" y="4176720"/>
            <a:ext cx="7653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7320" y="38782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１０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76280" y="3249720"/>
            <a:ext cx="765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20560" y="3214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１０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20560" y="4194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１０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76280" y="4238640"/>
            <a:ext cx="765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3111480"/>
            <a:ext cx="7653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82680" y="28368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１０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825800" y="3174840"/>
            <a:ext cx="765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85920" y="31399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１０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66640" y="4778280"/>
            <a:ext cx="8136000" cy="628560"/>
            <a:chOff x="566640" y="4778280"/>
            <a:chExt cx="8136000" cy="628560"/>
          </a:xfrm>
        </p:grpSpPr>
        <p:sp>
          <p:nvSpPr>
            <p:cNvPr id="72" name=""/>
            <p:cNvSpPr/>
            <p:nvPr/>
          </p:nvSpPr>
          <p:spPr>
            <a:xfrm>
              <a:off x="730080" y="5148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0080" y="51483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41240" y="5398560"/>
              <a:ext cx="776124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7440" y="5403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96040" y="5403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515960" y="524016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287440" y="525276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060720" y="525420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838680" y="525420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614840" y="521172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396040" y="526428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172200" y="526428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945480" y="525276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737480" y="525276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497800" y="51483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6640" y="477828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23200" y="477828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79440" y="4778280"/>
              <a:ext cx="6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27560" y="4792680"/>
              <a:ext cx="6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130400" y="5271840"/>
              <a:ext cx="0" cy="1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16120" y="532584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92080" y="532584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968400" y="532584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044720" y="532584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214280" y="532584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281240" y="532584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355760" y="532584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428840" y="532584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22160" y="5389560"/>
            <a:ext cx="201600" cy="633240"/>
            <a:chOff x="722160" y="5389560"/>
            <a:chExt cx="201600" cy="633240"/>
          </a:xfrm>
        </p:grpSpPr>
        <p:sp>
          <p:nvSpPr>
            <p:cNvPr id="101" name=""/>
            <p:cNvSpPr/>
            <p:nvPr/>
          </p:nvSpPr>
          <p:spPr>
            <a:xfrm>
              <a:off x="722160" y="5413320"/>
              <a:ext cx="0" cy="493920"/>
            </a:xfrm>
            <a:prstGeom prst="line">
              <a:avLst/>
            </a:prstGeom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6400" y="5389560"/>
              <a:ext cx="117360" cy="633240"/>
            </a:xfrm>
            <a:prstGeom prst="line">
              <a:avLst/>
            </a:prstGeom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23960" y="5904000"/>
            <a:ext cx="684000" cy="249120"/>
            <a:chOff x="723960" y="5904000"/>
            <a:chExt cx="684000" cy="249120"/>
          </a:xfrm>
        </p:grpSpPr>
        <p:sp>
          <p:nvSpPr>
            <p:cNvPr id="104" name=""/>
            <p:cNvSpPr/>
            <p:nvPr/>
          </p:nvSpPr>
          <p:spPr>
            <a:xfrm>
              <a:off x="723960" y="5904000"/>
              <a:ext cx="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0080" y="614376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928800" y="6008760"/>
              <a:ext cx="14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135080" y="6012000"/>
              <a:ext cx="14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5400" y="6129360"/>
            <a:ext cx="2016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45720" y="5410080"/>
            <a:ext cx="7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240" y="5408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1520" y="538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" y="615780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77000" y="32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百分率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0" y="104292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4920" y="954000"/>
            <a:ext cx="41169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の表で，割合を表す小数と百分率の等しいものが，たて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ならぶようにしましょ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27000" y="1989000"/>
          <a:ext cx="7245360" cy="1214640"/>
        </p:xfrm>
        <a:graphic>
          <a:graphicData uri="http://schemas.openxmlformats.org/drawingml/2006/table">
            <a:tbl>
              <a:tblPr/>
              <a:tblGrid>
                <a:gridCol w="1746360"/>
                <a:gridCol w="1133640"/>
                <a:gridCol w="1079280"/>
                <a:gridCol w="1125720"/>
                <a:gridCol w="1081080"/>
                <a:gridCol w="107928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1227240" y="2168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割合を表す小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0600" y="2708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百分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63800" y="2079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7600" y="266400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8440" y="2079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2960" y="266400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29520" y="2079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681280" y="2619360"/>
            <a:ext cx="220680" cy="222480"/>
            <a:chOff x="2681280" y="2619360"/>
            <a:chExt cx="220680" cy="222480"/>
          </a:xfrm>
        </p:grpSpPr>
        <p:sp>
          <p:nvSpPr>
            <p:cNvPr id="125" name="SH_01_20071026150303"/>
            <p:cNvSpPr/>
            <p:nvPr/>
          </p:nvSpPr>
          <p:spPr>
            <a:xfrm>
              <a:off x="2681280" y="2619360"/>
              <a:ext cx="220680" cy="22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695680" y="2633760"/>
              <a:ext cx="191520" cy="19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3807000" y="1989000"/>
            <a:ext cx="223920" cy="224280"/>
            <a:chOff x="3807000" y="1989000"/>
            <a:chExt cx="223920" cy="224280"/>
          </a:xfrm>
        </p:grpSpPr>
        <p:sp>
          <p:nvSpPr>
            <p:cNvPr id="128" name="SH_01_20071026150315"/>
            <p:cNvSpPr/>
            <p:nvPr/>
          </p:nvSpPr>
          <p:spPr>
            <a:xfrm>
              <a:off x="3807000" y="1989000"/>
              <a:ext cx="223920" cy="224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3821400" y="2003400"/>
              <a:ext cx="186120" cy="18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4229280" y="3170160"/>
            <a:ext cx="68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886280" y="2619360"/>
            <a:ext cx="223920" cy="223920"/>
            <a:chOff x="4886280" y="2619360"/>
            <a:chExt cx="223920" cy="223920"/>
          </a:xfrm>
        </p:grpSpPr>
        <p:sp>
          <p:nvSpPr>
            <p:cNvPr id="132" name="SH_01_20071026150326"/>
            <p:cNvSpPr/>
            <p:nvPr/>
          </p:nvSpPr>
          <p:spPr>
            <a:xfrm>
              <a:off x="4886280" y="2619360"/>
              <a:ext cx="22392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4894200" y="2625840"/>
              <a:ext cx="200880" cy="20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6012000" y="1989000"/>
            <a:ext cx="223920" cy="224280"/>
            <a:chOff x="6012000" y="1989000"/>
            <a:chExt cx="223920" cy="224280"/>
          </a:xfrm>
        </p:grpSpPr>
        <p:sp>
          <p:nvSpPr>
            <p:cNvPr id="135" name="SH_01_20071026150333"/>
            <p:cNvSpPr/>
            <p:nvPr/>
          </p:nvSpPr>
          <p:spPr>
            <a:xfrm>
              <a:off x="6012000" y="1989000"/>
              <a:ext cx="223920" cy="224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026400" y="2003400"/>
              <a:ext cx="194400" cy="19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7105680" y="2619360"/>
            <a:ext cx="209520" cy="209880"/>
            <a:chOff x="7105680" y="2619360"/>
            <a:chExt cx="209520" cy="209880"/>
          </a:xfrm>
        </p:grpSpPr>
        <p:sp>
          <p:nvSpPr>
            <p:cNvPr id="138" name="SH_01_20071026150356"/>
            <p:cNvSpPr/>
            <p:nvPr/>
          </p:nvSpPr>
          <p:spPr>
            <a:xfrm>
              <a:off x="7105680" y="2619360"/>
              <a:ext cx="209520" cy="209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7111800" y="2625480"/>
              <a:ext cx="189720" cy="19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431640" y="4059360"/>
            <a:ext cx="331200" cy="331200"/>
            <a:chOff x="431640" y="4059360"/>
            <a:chExt cx="331200" cy="331200"/>
          </a:xfrm>
        </p:grpSpPr>
        <p:sp>
          <p:nvSpPr>
            <p:cNvPr id="141" name="SH_01_20071026150937"/>
            <p:cNvSpPr/>
            <p:nvPr/>
          </p:nvSpPr>
          <p:spPr>
            <a:xfrm>
              <a:off x="431640" y="4059360"/>
              <a:ext cx="3312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453240" y="4080960"/>
              <a:ext cx="2876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1185480" y="3441600"/>
            <a:ext cx="2544480" cy="459720"/>
            <a:chOff x="1185480" y="3441600"/>
            <a:chExt cx="2544480" cy="459720"/>
          </a:xfrm>
        </p:grpSpPr>
        <p:sp>
          <p:nvSpPr>
            <p:cNvPr id="144" name=""/>
            <p:cNvSpPr/>
            <p:nvPr/>
          </p:nvSpPr>
          <p:spPr>
            <a:xfrm>
              <a:off x="1185480" y="3441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</a:rPr>
                <a:t>小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30320" y="3627360"/>
              <a:ext cx="809640" cy="139680"/>
            </a:xfrm>
            <a:prstGeom prst="rightArrow">
              <a:avLst>
                <a:gd name="adj1" fmla="val 50000"/>
                <a:gd name="adj2" fmla="val 1449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0600" y="3441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</a:rPr>
                <a:t>百分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921320" y="333540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28800" y="4014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41640" y="4194000"/>
            <a:ext cx="676080" cy="90720"/>
          </a:xfrm>
          <a:prstGeom prst="rightArrow">
            <a:avLst>
              <a:gd name="adj1" fmla="val 50000"/>
              <a:gd name="adj2" fmla="val 186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7000" y="4419720"/>
            <a:ext cx="270000" cy="88920"/>
          </a:xfrm>
          <a:custGeom>
            <a:avLst/>
            <a:gdLst>
              <a:gd name="textAreaLeft" fmla="*/ 53640 w 270000"/>
              <a:gd name="textAreaRight" fmla="*/ 164160 w 27000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2200" y="40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4419720"/>
            <a:ext cx="270000" cy="88920"/>
          </a:xfrm>
          <a:custGeom>
            <a:avLst/>
            <a:gdLst>
              <a:gd name="textAreaLeft" fmla="*/ 53640 w 270000"/>
              <a:gd name="textAreaRight" fmla="*/ 164160 w 27000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0760" y="39877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0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7200" y="4832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19320" y="5011560"/>
            <a:ext cx="676440" cy="90720"/>
          </a:xfrm>
          <a:prstGeom prst="rightArrow">
            <a:avLst>
              <a:gd name="adj1" fmla="val 50000"/>
              <a:gd name="adj2" fmla="val 1864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97000" y="5229360"/>
            <a:ext cx="225360" cy="88920"/>
          </a:xfrm>
          <a:custGeom>
            <a:avLst/>
            <a:gdLst>
              <a:gd name="textAreaLeft" fmla="*/ 44640 w 225360"/>
              <a:gd name="textAreaRight" fmla="*/ 136800 w 22536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8440" y="48052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1.8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31640" y="4915080"/>
            <a:ext cx="331200" cy="331200"/>
            <a:chOff x="431640" y="4915080"/>
            <a:chExt cx="331200" cy="331200"/>
          </a:xfrm>
        </p:grpSpPr>
        <p:sp>
          <p:nvSpPr>
            <p:cNvPr id="159" name="SH_01_20071026150959"/>
            <p:cNvSpPr/>
            <p:nvPr/>
          </p:nvSpPr>
          <p:spPr>
            <a:xfrm>
              <a:off x="431640" y="4915080"/>
              <a:ext cx="3312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443520" y="4924800"/>
              <a:ext cx="297360" cy="29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1413000" y="5229360"/>
            <a:ext cx="225360" cy="88920"/>
          </a:xfrm>
          <a:custGeom>
            <a:avLst/>
            <a:gdLst>
              <a:gd name="textAreaLeft" fmla="*/ 44640 w 225360"/>
              <a:gd name="textAreaRight" fmla="*/ 136800 w 22536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3440" y="4929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7640" y="5681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30480" y="5861160"/>
            <a:ext cx="676080" cy="90360"/>
          </a:xfrm>
          <a:prstGeom prst="rightArrow">
            <a:avLst>
              <a:gd name="adj1" fmla="val 50000"/>
              <a:gd name="adj2" fmla="val 1870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08160" y="6078600"/>
            <a:ext cx="225360" cy="88920"/>
          </a:xfrm>
          <a:custGeom>
            <a:avLst/>
            <a:gdLst>
              <a:gd name="textAreaLeft" fmla="*/ 44640 w 225360"/>
              <a:gd name="textAreaRight" fmla="*/ 136800 w 22536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9960" y="56545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30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24160" y="6078600"/>
            <a:ext cx="225360" cy="88920"/>
          </a:xfrm>
          <a:custGeom>
            <a:avLst/>
            <a:gdLst>
              <a:gd name="textAreaLeft" fmla="*/ 44640 w 225360"/>
              <a:gd name="textAreaRight" fmla="*/ 136800 w 22536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6280" y="5769000"/>
            <a:ext cx="331200" cy="331200"/>
            <a:chOff x="476280" y="5769000"/>
            <a:chExt cx="331200" cy="331200"/>
          </a:xfrm>
        </p:grpSpPr>
        <p:sp>
          <p:nvSpPr>
            <p:cNvPr id="169" name="SH_01_20071026151021"/>
            <p:cNvSpPr/>
            <p:nvPr/>
          </p:nvSpPr>
          <p:spPr>
            <a:xfrm>
              <a:off x="476280" y="5769000"/>
              <a:ext cx="3312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486000" y="5778720"/>
              <a:ext cx="299520" cy="29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1359360" y="5691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11560" y="344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755680" y="3627360"/>
            <a:ext cx="809640" cy="139680"/>
          </a:xfrm>
          <a:prstGeom prst="rightArrow">
            <a:avLst>
              <a:gd name="adj1" fmla="val 50000"/>
              <a:gd name="adj2" fmla="val 14491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26680" y="34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百分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40640" y="333540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÷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0" y="4014720"/>
            <a:ext cx="331200" cy="331200"/>
            <a:chOff x="4572000" y="4014720"/>
            <a:chExt cx="331200" cy="331200"/>
          </a:xfrm>
        </p:grpSpPr>
        <p:sp>
          <p:nvSpPr>
            <p:cNvPr id="177" name="SH_01_20071026150951"/>
            <p:cNvSpPr/>
            <p:nvPr/>
          </p:nvSpPr>
          <p:spPr>
            <a:xfrm>
              <a:off x="4572000" y="4014720"/>
              <a:ext cx="3312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9"/>
            <a:stretch/>
          </p:blipFill>
          <p:spPr>
            <a:xfrm>
              <a:off x="4593600" y="4036320"/>
              <a:ext cx="27540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6818400" y="39686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 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77000" y="4149720"/>
            <a:ext cx="674640" cy="111240"/>
          </a:xfrm>
          <a:prstGeom prst="leftArrow">
            <a:avLst>
              <a:gd name="adj1" fmla="val 50000"/>
              <a:gd name="adj2" fmla="val 15161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022520" y="4308480"/>
            <a:ext cx="269640" cy="88920"/>
          </a:xfrm>
          <a:custGeom>
            <a:avLst/>
            <a:gdLst>
              <a:gd name="textAreaLeft" fmla="*/ 53280 w 269640"/>
              <a:gd name="textAreaRight" fmla="*/ 163800 w 26964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777000" y="4329000"/>
            <a:ext cx="270000" cy="88920"/>
          </a:xfrm>
          <a:custGeom>
            <a:avLst/>
            <a:gdLst>
              <a:gd name="textAreaLeft" fmla="*/ 54000 w 270000"/>
              <a:gd name="textAreaRight" fmla="*/ 164520 w 27000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67480" y="4037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85400" y="397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82120" y="3971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572000" y="4915080"/>
            <a:ext cx="331200" cy="331200"/>
            <a:chOff x="4572000" y="4915080"/>
            <a:chExt cx="331200" cy="331200"/>
          </a:xfrm>
        </p:grpSpPr>
        <p:sp>
          <p:nvSpPr>
            <p:cNvPr id="187" name="SH_01_20071026151007"/>
            <p:cNvSpPr/>
            <p:nvPr/>
          </p:nvSpPr>
          <p:spPr>
            <a:xfrm>
              <a:off x="4572000" y="4915080"/>
              <a:ext cx="3312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0"/>
            <a:stretch/>
          </p:blipFill>
          <p:spPr>
            <a:xfrm>
              <a:off x="4593600" y="4936680"/>
              <a:ext cx="28764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7028280" y="486900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86280" y="5049720"/>
            <a:ext cx="675000" cy="111240"/>
          </a:xfrm>
          <a:prstGeom prst="leftArrow">
            <a:avLst>
              <a:gd name="adj1" fmla="val 50000"/>
              <a:gd name="adj2" fmla="val 15169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002360" y="5211720"/>
            <a:ext cx="270000" cy="88920"/>
          </a:xfrm>
          <a:custGeom>
            <a:avLst/>
            <a:gdLst>
              <a:gd name="textAreaLeft" fmla="*/ 54000 w 270000"/>
              <a:gd name="textAreaRight" fmla="*/ 164520 w 27000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65840" y="5222880"/>
            <a:ext cx="270000" cy="88920"/>
          </a:xfrm>
          <a:custGeom>
            <a:avLst/>
            <a:gdLst>
              <a:gd name="textAreaLeft" fmla="*/ 54000 w 270000"/>
              <a:gd name="textAreaRight" fmla="*/ 164520 w 270000"/>
              <a:gd name="textAreaTop" fmla="*/ 11880 h 88920"/>
              <a:gd name="textAreaBottom" fmla="*/ 77040 h 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-2898935"/>
                <a:lnTo>
                  <a:pt x="21110" y="7200"/>
                </a:lnTo>
                <a:lnTo>
                  <a:pt x="17280" y="0"/>
                </a:lnTo>
                <a:lnTo>
                  <a:pt x="12470" y="7200"/>
                </a:lnTo>
                <a:lnTo>
                  <a:pt x="16662" y="7200"/>
                </a:lnTo>
                <a:arcTo wR="8576" hR="21600" stAng="2501065" swAng="2878561"/>
                <a:lnTo>
                  <a:pt x="8704" y="21598"/>
                </a:lnTo>
                <a:arcTo wR="8576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576" hR="21600" stAng="10800000" swAng="-5400000"/>
                <a:lnTo>
                  <a:pt x="8832" y="21600"/>
                </a:lnTo>
                <a:arcTo wR="8576" hR="21600" stAng="5400000" swAng="20374"/>
                <a:lnTo>
                  <a:pt x="8704" y="21598"/>
                </a:lnTo>
                <a:arcTo wR="8576" hR="21600" stAng="5420374" swAng="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48920" y="48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67480" y="492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0320" y="4902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39280" y="4897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77000" y="32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百分率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9680" y="93816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08320" y="843120"/>
            <a:ext cx="352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る店で，定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円のケーキ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円で売ってい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金は，定価の何％になる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7000" y="1763640"/>
            <a:ext cx="3826080" cy="0"/>
          </a:xfrm>
          <a:prstGeom prst="line">
            <a:avLst/>
          </a:prstGeom>
          <a:ln w="19080">
            <a:solidFill>
              <a:srgbClr val="99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22360" y="1425600"/>
            <a:ext cx="27000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0520" y="142416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7800" y="2214720"/>
            <a:ext cx="455040" cy="368280"/>
          </a:xfrm>
          <a:prstGeom prst="rect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3440" y="2406600"/>
            <a:ext cx="1890720" cy="0"/>
          </a:xfrm>
          <a:prstGeom prst="line">
            <a:avLst/>
          </a:prstGeom>
          <a:ln w="158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85680" y="2225520"/>
            <a:ext cx="455040" cy="368280"/>
          </a:xfrm>
          <a:prstGeom prst="rect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代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4880" y="2394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23960" y="245268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89160" y="2090880"/>
            <a:ext cx="270000" cy="269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06680" y="2046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249520" y="2349360"/>
            <a:ext cx="317880" cy="368280"/>
            <a:chOff x="5249520" y="2349360"/>
            <a:chExt cx="317880" cy="368280"/>
          </a:xfrm>
        </p:grpSpPr>
        <p:sp>
          <p:nvSpPr>
            <p:cNvPr id="211" name=""/>
            <p:cNvSpPr/>
            <p:nvPr/>
          </p:nvSpPr>
          <p:spPr>
            <a:xfrm>
              <a:off x="5249520" y="2349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67520" y="2415960"/>
              <a:ext cx="269640" cy="2700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437840" y="2573280"/>
            <a:ext cx="12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02000" y="2573280"/>
            <a:ext cx="10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7000" y="1719360"/>
            <a:ext cx="5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67360" y="1359000"/>
            <a:ext cx="2788200" cy="1204200"/>
            <a:chOff x="5967360" y="1359000"/>
            <a:chExt cx="2788200" cy="1204200"/>
          </a:xfrm>
        </p:grpSpPr>
        <p:grpSp>
          <p:nvGrpSpPr>
            <p:cNvPr id="217" name=""/>
            <p:cNvGrpSpPr/>
            <p:nvPr/>
          </p:nvGrpSpPr>
          <p:grpSpPr>
            <a:xfrm>
              <a:off x="6058080" y="1808280"/>
              <a:ext cx="2572920" cy="468360"/>
              <a:chOff x="6058080" y="1808280"/>
              <a:chExt cx="2572920" cy="468360"/>
            </a:xfrm>
          </p:grpSpPr>
          <p:sp>
            <p:nvSpPr>
              <p:cNvPr id="218" name=""/>
              <p:cNvSpPr/>
              <p:nvPr/>
            </p:nvSpPr>
            <p:spPr>
              <a:xfrm>
                <a:off x="6476040" y="1900440"/>
                <a:ext cx="185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3300"/>
                    </a:solidFill>
                    <a:latin typeface="Arial"/>
                  </a:rPr>
                  <a:t>割合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400" spc="-1" strike="noStrike">
                    <a:solidFill>
                      <a:srgbClr val="ff00ff"/>
                    </a:solidFill>
                    <a:latin typeface="Arial"/>
                  </a:rPr>
                  <a:t>くらべる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zh-CN" sz="1400" spc="-1" strike="noStrike">
                    <a:solidFill>
                      <a:srgbClr val="0000ff"/>
                    </a:solidFill>
                    <a:latin typeface="Arial"/>
                  </a:rPr>
                  <a:t>もとにする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58080" y="1808280"/>
                <a:ext cx="2572920" cy="46836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5967360" y="1359000"/>
              <a:ext cx="40500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148240" y="22561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だった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376280" y="3152880"/>
            <a:ext cx="4140360" cy="404640"/>
            <a:chOff x="1376280" y="3152880"/>
            <a:chExt cx="4140360" cy="404640"/>
          </a:xfrm>
        </p:grpSpPr>
        <p:sp>
          <p:nvSpPr>
            <p:cNvPr id="223" name=""/>
            <p:cNvSpPr/>
            <p:nvPr/>
          </p:nvSpPr>
          <p:spPr>
            <a:xfrm>
              <a:off x="1379160" y="3152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6280" y="3557520"/>
              <a:ext cx="41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870880" y="32878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27200" y="3152880"/>
            <a:ext cx="26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78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0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27800" y="31528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6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62760" y="3208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6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％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1520" y="388476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760" y="3789360"/>
            <a:ext cx="493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６００円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％は　（　　　　　　　　　）円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43040" y="394668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6640" y="4238640"/>
            <a:ext cx="80964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5240" y="4238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（もとにする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9180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（割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16280" y="4238640"/>
            <a:ext cx="5410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62360" y="4238640"/>
            <a:ext cx="170964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62760" y="42386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ff"/>
                </a:solidFill>
                <a:latin typeface="Arial"/>
              </a:rPr>
              <a:t>（くらべる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967360" y="4103640"/>
            <a:ext cx="2832480" cy="1159560"/>
            <a:chOff x="5967360" y="4103640"/>
            <a:chExt cx="2832480" cy="1159560"/>
          </a:xfrm>
        </p:grpSpPr>
        <p:grpSp>
          <p:nvGrpSpPr>
            <p:cNvPr id="239" name=""/>
            <p:cNvGrpSpPr/>
            <p:nvPr/>
          </p:nvGrpSpPr>
          <p:grpSpPr>
            <a:xfrm>
              <a:off x="6102360" y="4508640"/>
              <a:ext cx="2666520" cy="468000"/>
              <a:chOff x="6102360" y="4508640"/>
              <a:chExt cx="2666520" cy="468000"/>
            </a:xfrm>
          </p:grpSpPr>
          <p:sp>
            <p:nvSpPr>
              <p:cNvPr id="240" name=""/>
              <p:cNvSpPr/>
              <p:nvPr/>
            </p:nvSpPr>
            <p:spPr>
              <a:xfrm>
                <a:off x="6519600" y="4600440"/>
                <a:ext cx="186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ff"/>
                    </a:solidFill>
                    <a:latin typeface="Arial"/>
                  </a:rPr>
                  <a:t>くらべる量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zh-CN" sz="1400" spc="-1" strike="noStrike">
                    <a:solidFill>
                      <a:srgbClr val="0000ff"/>
                    </a:solidFill>
                    <a:latin typeface="Arial"/>
                  </a:rPr>
                  <a:t>もとにする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zh-CN" sz="1400" spc="-1" strike="noStrike">
                    <a:solidFill>
                      <a:srgbClr val="ff3300"/>
                    </a:solidFill>
                    <a:latin typeface="Arial"/>
                  </a:rPr>
                  <a:t>割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102360" y="4508640"/>
                <a:ext cx="2666520" cy="468000"/>
              </a:xfrm>
              <a:prstGeom prst="rect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8192520" y="49561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だった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5967360" y="4103640"/>
              <a:ext cx="40500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"/>
          <p:cNvGrpSpPr/>
          <p:nvPr/>
        </p:nvGrpSpPr>
        <p:grpSpPr>
          <a:xfrm>
            <a:off x="1320480" y="5332320"/>
            <a:ext cx="4140360" cy="405000"/>
            <a:chOff x="1320480" y="5332320"/>
            <a:chExt cx="4140360" cy="405000"/>
          </a:xfrm>
        </p:grpSpPr>
        <p:sp>
          <p:nvSpPr>
            <p:cNvPr id="245" name=""/>
            <p:cNvSpPr/>
            <p:nvPr/>
          </p:nvSpPr>
          <p:spPr>
            <a:xfrm>
              <a:off x="1323360" y="5332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20480" y="5737320"/>
              <a:ext cx="41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577160" y="536400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0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8920" y="5376960"/>
            <a:ext cx="8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8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55160" y="5499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47040" y="54198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8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円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2681280" y="414360"/>
            <a:ext cx="1368000" cy="396720"/>
            <a:chOff x="2681280" y="414360"/>
            <a:chExt cx="1368000" cy="396720"/>
          </a:xfrm>
        </p:grpSpPr>
        <p:sp>
          <p:nvSpPr>
            <p:cNvPr id="252" name=""/>
            <p:cNvSpPr/>
            <p:nvPr/>
          </p:nvSpPr>
          <p:spPr>
            <a:xfrm>
              <a:off x="2681280" y="41436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19440" y="41436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677000" y="32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百分率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29200" y="998640"/>
            <a:ext cx="411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の表で，割合を表す小数と百分率の等しいものが，たて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ならぶようにしましょ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49320" y="1763640"/>
          <a:ext cx="7245360" cy="1214640"/>
        </p:xfrm>
        <a:graphic>
          <a:graphicData uri="http://schemas.openxmlformats.org/drawingml/2006/table">
            <a:tbl>
              <a:tblPr/>
              <a:tblGrid>
                <a:gridCol w="1746360"/>
                <a:gridCol w="1133640"/>
                <a:gridCol w="1079280"/>
                <a:gridCol w="1125720"/>
                <a:gridCol w="1081080"/>
                <a:gridCol w="107928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1249560" y="1943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割合を表す小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9292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百分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99160" y="189864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92600" y="243828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78440" y="18543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5280" y="243828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83800" y="1854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03600" y="2394000"/>
            <a:ext cx="220680" cy="222480"/>
            <a:chOff x="2703600" y="2394000"/>
            <a:chExt cx="220680" cy="222480"/>
          </a:xfrm>
        </p:grpSpPr>
        <p:sp>
          <p:nvSpPr>
            <p:cNvPr id="265" name="SH_01_20071026150303"/>
            <p:cNvSpPr/>
            <p:nvPr/>
          </p:nvSpPr>
          <p:spPr>
            <a:xfrm>
              <a:off x="2703600" y="2394000"/>
              <a:ext cx="220680" cy="22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2718000" y="2408400"/>
              <a:ext cx="191520" cy="19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3828960" y="1763640"/>
            <a:ext cx="223920" cy="223920"/>
            <a:chOff x="3828960" y="1763640"/>
            <a:chExt cx="223920" cy="223920"/>
          </a:xfrm>
        </p:grpSpPr>
        <p:sp>
          <p:nvSpPr>
            <p:cNvPr id="268" name="SH_01_20071026150315"/>
            <p:cNvSpPr/>
            <p:nvPr/>
          </p:nvSpPr>
          <p:spPr>
            <a:xfrm>
              <a:off x="3828960" y="1763640"/>
              <a:ext cx="22392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3843360" y="1778040"/>
              <a:ext cx="186120" cy="1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4251240" y="2944800"/>
            <a:ext cx="68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908600" y="2394000"/>
            <a:ext cx="223920" cy="223920"/>
            <a:chOff x="4908600" y="2394000"/>
            <a:chExt cx="223920" cy="223920"/>
          </a:xfrm>
        </p:grpSpPr>
        <p:sp>
          <p:nvSpPr>
            <p:cNvPr id="272" name="SH_01_20071026150326"/>
            <p:cNvSpPr/>
            <p:nvPr/>
          </p:nvSpPr>
          <p:spPr>
            <a:xfrm>
              <a:off x="4908600" y="2394000"/>
              <a:ext cx="22392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4916520" y="2400480"/>
              <a:ext cx="200880" cy="20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"/>
          <p:cNvGrpSpPr/>
          <p:nvPr/>
        </p:nvGrpSpPr>
        <p:grpSpPr>
          <a:xfrm>
            <a:off x="6033960" y="1763640"/>
            <a:ext cx="224280" cy="223920"/>
            <a:chOff x="6033960" y="1763640"/>
            <a:chExt cx="224280" cy="223920"/>
          </a:xfrm>
        </p:grpSpPr>
        <p:sp>
          <p:nvSpPr>
            <p:cNvPr id="275" name="SH_01_20071026150333"/>
            <p:cNvSpPr/>
            <p:nvPr/>
          </p:nvSpPr>
          <p:spPr>
            <a:xfrm>
              <a:off x="6033960" y="1763640"/>
              <a:ext cx="2242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6048360" y="1778040"/>
              <a:ext cx="194760" cy="19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"/>
          <p:cNvGrpSpPr/>
          <p:nvPr/>
        </p:nvGrpSpPr>
        <p:grpSpPr>
          <a:xfrm>
            <a:off x="7128000" y="2394000"/>
            <a:ext cx="209520" cy="209520"/>
            <a:chOff x="7128000" y="2394000"/>
            <a:chExt cx="209520" cy="209520"/>
          </a:xfrm>
        </p:grpSpPr>
        <p:sp>
          <p:nvSpPr>
            <p:cNvPr id="278" name="SH_01_20071026150356"/>
            <p:cNvSpPr/>
            <p:nvPr/>
          </p:nvSpPr>
          <p:spPr>
            <a:xfrm>
              <a:off x="7128000" y="2394000"/>
              <a:ext cx="209520" cy="20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7134120" y="2400120"/>
              <a:ext cx="189720" cy="18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1015920" y="1042920"/>
            <a:ext cx="349920" cy="349920"/>
            <a:chOff x="1015920" y="1042920"/>
            <a:chExt cx="349920" cy="349920"/>
          </a:xfrm>
        </p:grpSpPr>
        <p:sp>
          <p:nvSpPr>
            <p:cNvPr id="281" name="SH_02_20071025112756"/>
            <p:cNvSpPr/>
            <p:nvPr/>
          </p:nvSpPr>
          <p:spPr>
            <a:xfrm>
              <a:off x="1015920" y="104292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6"/>
            <a:stretch/>
          </p:blipFill>
          <p:spPr>
            <a:xfrm>
              <a:off x="1072080" y="1099080"/>
              <a:ext cx="23760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1384560" y="3879720"/>
            <a:ext cx="596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３００ｋｇ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％は　（　　　　　　　　　）ｋｇ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015920" y="3519360"/>
            <a:ext cx="349920" cy="349920"/>
            <a:chOff x="1015920" y="3519360"/>
            <a:chExt cx="349920" cy="349920"/>
          </a:xfrm>
        </p:grpSpPr>
        <p:sp>
          <p:nvSpPr>
            <p:cNvPr id="285" name="SH_02_20071025112806"/>
            <p:cNvSpPr/>
            <p:nvPr/>
          </p:nvSpPr>
          <p:spPr>
            <a:xfrm>
              <a:off x="1015920" y="351936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7"/>
            <a:stretch/>
          </p:blipFill>
          <p:spPr>
            <a:xfrm>
              <a:off x="1072440" y="3575520"/>
              <a:ext cx="23688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"/>
          <p:cNvSpPr/>
          <p:nvPr/>
        </p:nvSpPr>
        <p:spPr>
          <a:xfrm>
            <a:off x="2039400" y="3505320"/>
            <a:ext cx="43790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（　　　　）の中にあてはまる数字をかきいれましょ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523960" y="4373640"/>
            <a:ext cx="4140360" cy="404640"/>
            <a:chOff x="2523960" y="4373640"/>
            <a:chExt cx="4140360" cy="404640"/>
          </a:xfrm>
        </p:grpSpPr>
        <p:sp>
          <p:nvSpPr>
            <p:cNvPr id="289" name=""/>
            <p:cNvSpPr/>
            <p:nvPr/>
          </p:nvSpPr>
          <p:spPr>
            <a:xfrm>
              <a:off x="2526840" y="43736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23960" y="4778280"/>
              <a:ext cx="41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28560" y="4869000"/>
            <a:ext cx="543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円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（　　　　　　　　　）％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543040" y="5297400"/>
            <a:ext cx="4140360" cy="405000"/>
            <a:chOff x="2543040" y="5297400"/>
            <a:chExt cx="4140360" cy="405000"/>
          </a:xfrm>
        </p:grpSpPr>
        <p:sp>
          <p:nvSpPr>
            <p:cNvPr id="293" name=""/>
            <p:cNvSpPr/>
            <p:nvPr/>
          </p:nvSpPr>
          <p:spPr>
            <a:xfrm>
              <a:off x="2545920" y="5297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43040" y="5702400"/>
              <a:ext cx="41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892520" y="5743440"/>
            <a:ext cx="398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２４㎞は（　　　　　　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％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496960" y="6172200"/>
            <a:ext cx="4140360" cy="404640"/>
            <a:chOff x="2496960" y="6172200"/>
            <a:chExt cx="4140360" cy="404640"/>
          </a:xfrm>
        </p:grpSpPr>
        <p:sp>
          <p:nvSpPr>
            <p:cNvPr id="297" name=""/>
            <p:cNvSpPr/>
            <p:nvPr/>
          </p:nvSpPr>
          <p:spPr>
            <a:xfrm>
              <a:off x="2499840" y="6172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96960" y="6576840"/>
              <a:ext cx="41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681280" y="414360"/>
            <a:ext cx="1368000" cy="396720"/>
            <a:chOff x="2681280" y="414360"/>
            <a:chExt cx="1368000" cy="396720"/>
          </a:xfrm>
        </p:grpSpPr>
        <p:sp>
          <p:nvSpPr>
            <p:cNvPr id="300" name=""/>
            <p:cNvSpPr/>
            <p:nvPr/>
          </p:nvSpPr>
          <p:spPr>
            <a:xfrm>
              <a:off x="2681280" y="41436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19440" y="41436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677000" y="32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百分率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29200" y="998640"/>
            <a:ext cx="411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の表で，割合を表す小数と百分率の等しいものが，たて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ならぶようにしましょ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49320" y="1763640"/>
          <a:ext cx="7245360" cy="1214640"/>
        </p:xfrm>
        <a:graphic>
          <a:graphicData uri="http://schemas.openxmlformats.org/drawingml/2006/table">
            <a:tbl>
              <a:tblPr/>
              <a:tblGrid>
                <a:gridCol w="1746360"/>
                <a:gridCol w="1133640"/>
                <a:gridCol w="1079280"/>
                <a:gridCol w="1125720"/>
                <a:gridCol w="1081080"/>
                <a:gridCol w="107928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1249560" y="1943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割合を表す小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9292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百分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99160" y="189864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92600" y="243828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78440" y="18543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45280" y="243828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83800" y="1854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703600" y="2394000"/>
            <a:ext cx="220680" cy="222480"/>
            <a:chOff x="2703600" y="2394000"/>
            <a:chExt cx="220680" cy="222480"/>
          </a:xfrm>
        </p:grpSpPr>
        <p:sp>
          <p:nvSpPr>
            <p:cNvPr id="313" name="SH_01_20071026150303"/>
            <p:cNvSpPr/>
            <p:nvPr/>
          </p:nvSpPr>
          <p:spPr>
            <a:xfrm>
              <a:off x="2703600" y="2394000"/>
              <a:ext cx="220680" cy="22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2718000" y="2408400"/>
              <a:ext cx="191520" cy="19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"/>
          <p:cNvGrpSpPr/>
          <p:nvPr/>
        </p:nvGrpSpPr>
        <p:grpSpPr>
          <a:xfrm>
            <a:off x="3828960" y="1763640"/>
            <a:ext cx="223920" cy="223920"/>
            <a:chOff x="3828960" y="1763640"/>
            <a:chExt cx="223920" cy="223920"/>
          </a:xfrm>
        </p:grpSpPr>
        <p:sp>
          <p:nvSpPr>
            <p:cNvPr id="316" name="SH_01_20071026150315"/>
            <p:cNvSpPr/>
            <p:nvPr/>
          </p:nvSpPr>
          <p:spPr>
            <a:xfrm>
              <a:off x="3828960" y="1763640"/>
              <a:ext cx="22392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843360" y="1778040"/>
              <a:ext cx="186120" cy="1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"/>
          <p:cNvSpPr/>
          <p:nvPr/>
        </p:nvSpPr>
        <p:spPr>
          <a:xfrm>
            <a:off x="4251240" y="2944800"/>
            <a:ext cx="68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908600" y="2394000"/>
            <a:ext cx="223920" cy="223920"/>
            <a:chOff x="4908600" y="2394000"/>
            <a:chExt cx="223920" cy="223920"/>
          </a:xfrm>
        </p:grpSpPr>
        <p:sp>
          <p:nvSpPr>
            <p:cNvPr id="320" name="SH_01_20071026150326"/>
            <p:cNvSpPr/>
            <p:nvPr/>
          </p:nvSpPr>
          <p:spPr>
            <a:xfrm>
              <a:off x="4908600" y="2394000"/>
              <a:ext cx="22392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4916520" y="2400480"/>
              <a:ext cx="200880" cy="20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6033960" y="1763640"/>
            <a:ext cx="224280" cy="223920"/>
            <a:chOff x="6033960" y="1763640"/>
            <a:chExt cx="224280" cy="223920"/>
          </a:xfrm>
        </p:grpSpPr>
        <p:sp>
          <p:nvSpPr>
            <p:cNvPr id="323" name="SH_01_20071026150333"/>
            <p:cNvSpPr/>
            <p:nvPr/>
          </p:nvSpPr>
          <p:spPr>
            <a:xfrm>
              <a:off x="6033960" y="1763640"/>
              <a:ext cx="2242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4"/>
            <a:stretch/>
          </p:blipFill>
          <p:spPr>
            <a:xfrm>
              <a:off x="6048360" y="1778040"/>
              <a:ext cx="194760" cy="19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7128000" y="2394000"/>
            <a:ext cx="209520" cy="209520"/>
            <a:chOff x="7128000" y="2394000"/>
            <a:chExt cx="209520" cy="209520"/>
          </a:xfrm>
        </p:grpSpPr>
        <p:sp>
          <p:nvSpPr>
            <p:cNvPr id="326" name="SH_01_20071026150356"/>
            <p:cNvSpPr/>
            <p:nvPr/>
          </p:nvSpPr>
          <p:spPr>
            <a:xfrm>
              <a:off x="7128000" y="2394000"/>
              <a:ext cx="209520" cy="20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5"/>
            <a:stretch/>
          </p:blipFill>
          <p:spPr>
            <a:xfrm>
              <a:off x="7134120" y="2400120"/>
              <a:ext cx="189720" cy="18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1015920" y="1042920"/>
            <a:ext cx="349920" cy="349920"/>
            <a:chOff x="1015920" y="1042920"/>
            <a:chExt cx="349920" cy="349920"/>
          </a:xfrm>
        </p:grpSpPr>
        <p:sp>
          <p:nvSpPr>
            <p:cNvPr id="329" name="SH_02_20071025112756"/>
            <p:cNvSpPr/>
            <p:nvPr/>
          </p:nvSpPr>
          <p:spPr>
            <a:xfrm>
              <a:off x="1015920" y="104292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6"/>
            <a:stretch/>
          </p:blipFill>
          <p:spPr>
            <a:xfrm>
              <a:off x="1072080" y="1099080"/>
              <a:ext cx="23760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"/>
          <p:cNvSpPr/>
          <p:nvPr/>
        </p:nvSpPr>
        <p:spPr>
          <a:xfrm>
            <a:off x="393840" y="3924360"/>
            <a:ext cx="596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３００ｋｇ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％は　（　　　　　　　　　）ｋｇ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015920" y="3519360"/>
            <a:ext cx="349920" cy="349920"/>
            <a:chOff x="1015920" y="3519360"/>
            <a:chExt cx="349920" cy="349920"/>
          </a:xfrm>
        </p:grpSpPr>
        <p:sp>
          <p:nvSpPr>
            <p:cNvPr id="333" name="SH_02_20071025112806"/>
            <p:cNvSpPr/>
            <p:nvPr/>
          </p:nvSpPr>
          <p:spPr>
            <a:xfrm>
              <a:off x="1015920" y="3519360"/>
              <a:ext cx="349920" cy="34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7"/>
            <a:stretch/>
          </p:blipFill>
          <p:spPr>
            <a:xfrm>
              <a:off x="1072440" y="3575520"/>
              <a:ext cx="23688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"/>
          <p:cNvSpPr/>
          <p:nvPr/>
        </p:nvSpPr>
        <p:spPr>
          <a:xfrm>
            <a:off x="2039400" y="3505320"/>
            <a:ext cx="43790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（　　　　）の中にあてはまる数字をかきいれましょ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533240" y="4417920"/>
            <a:ext cx="4140360" cy="405000"/>
            <a:chOff x="1533240" y="4417920"/>
            <a:chExt cx="4140360" cy="405000"/>
          </a:xfrm>
        </p:grpSpPr>
        <p:sp>
          <p:nvSpPr>
            <p:cNvPr id="337" name=""/>
            <p:cNvSpPr/>
            <p:nvPr/>
          </p:nvSpPr>
          <p:spPr>
            <a:xfrm>
              <a:off x="1536120" y="4417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33240" y="4822920"/>
              <a:ext cx="41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7840" y="4913280"/>
            <a:ext cx="543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円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（　　　　　　　　　）％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552320" y="5342040"/>
            <a:ext cx="4140360" cy="404640"/>
            <a:chOff x="1552320" y="5342040"/>
            <a:chExt cx="4140360" cy="404640"/>
          </a:xfrm>
        </p:grpSpPr>
        <p:sp>
          <p:nvSpPr>
            <p:cNvPr id="341" name=""/>
            <p:cNvSpPr/>
            <p:nvPr/>
          </p:nvSpPr>
          <p:spPr>
            <a:xfrm>
              <a:off x="1555200" y="53420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52320" y="5746680"/>
              <a:ext cx="41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15760" y="5788080"/>
            <a:ext cx="449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２４㎞は（　　　　　　　　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％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06240" y="6216480"/>
            <a:ext cx="4140360" cy="405000"/>
            <a:chOff x="1506240" y="6216480"/>
            <a:chExt cx="4140360" cy="405000"/>
          </a:xfrm>
        </p:grpSpPr>
        <p:sp>
          <p:nvSpPr>
            <p:cNvPr id="345" name=""/>
            <p:cNvSpPr/>
            <p:nvPr/>
          </p:nvSpPr>
          <p:spPr>
            <a:xfrm>
              <a:off x="1509120" y="6216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06240" y="6621480"/>
              <a:ext cx="41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82040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52720" y="18986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94520" y="1854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19680" y="242892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06520" y="25081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6.8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02600" y="243828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20000" y="4464000"/>
            <a:ext cx="31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4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63440" y="39686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05600" y="5378400"/>
            <a:ext cx="31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29520" y="50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5240" y="62546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61320" y="585936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25720" y="4071960"/>
            <a:ext cx="26964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95400" y="5073480"/>
            <a:ext cx="27000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90720" y="506268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95400" y="5073480"/>
            <a:ext cx="270000" cy="27000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90720" y="5062680"/>
            <a:ext cx="270000" cy="26964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09720" y="5934240"/>
            <a:ext cx="270000" cy="269640"/>
          </a:xfrm>
          <a:prstGeom prst="ellipse">
            <a:avLst/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98800" y="5943600"/>
            <a:ext cx="270000" cy="270000"/>
          </a:xfrm>
          <a:prstGeom prst="ellipse">
            <a:avLst/>
          </a:prstGeom>
          <a:noFill/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20920" y="4329000"/>
            <a:ext cx="5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89320" y="5383080"/>
            <a:ext cx="1873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320920" y="4329000"/>
            <a:ext cx="5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89320" y="5383080"/>
            <a:ext cx="1873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72040" y="6211800"/>
            <a:ext cx="5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372360" y="5138640"/>
            <a:ext cx="2572920" cy="468360"/>
            <a:chOff x="6372360" y="5138640"/>
            <a:chExt cx="2572920" cy="468360"/>
          </a:xfrm>
        </p:grpSpPr>
        <p:sp>
          <p:nvSpPr>
            <p:cNvPr id="372" name=""/>
            <p:cNvSpPr/>
            <p:nvPr/>
          </p:nvSpPr>
          <p:spPr>
            <a:xfrm>
              <a:off x="6790320" y="5230800"/>
              <a:ext cx="185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</a:rPr>
                <a:t>割合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400" spc="-1" strike="noStrike">
                  <a:solidFill>
                    <a:srgbClr val="ff00ff"/>
                  </a:solidFill>
                  <a:latin typeface="Arial"/>
                </a:rPr>
                <a:t>くらべる量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400" spc="-1" strike="noStrike">
                  <a:solidFill>
                    <a:srgbClr val="0000ff"/>
                  </a:solidFill>
                  <a:latin typeface="Arial"/>
                </a:rPr>
                <a:t>もとにする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72360" y="5138640"/>
              <a:ext cx="2572920" cy="4683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" descr=""/>
          <p:cNvPicPr/>
          <p:nvPr/>
        </p:nvPicPr>
        <p:blipFill>
          <a:blip r:embed="rId8"/>
          <a:stretch/>
        </p:blipFill>
        <p:spPr>
          <a:xfrm>
            <a:off x="6281640" y="4059360"/>
            <a:ext cx="405000" cy="40464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6327720" y="4508640"/>
            <a:ext cx="2666520" cy="468000"/>
            <a:chOff x="6327720" y="4508640"/>
            <a:chExt cx="2666520" cy="468000"/>
          </a:xfrm>
        </p:grpSpPr>
        <p:sp>
          <p:nvSpPr>
            <p:cNvPr id="376" name=""/>
            <p:cNvSpPr/>
            <p:nvPr/>
          </p:nvSpPr>
          <p:spPr>
            <a:xfrm>
              <a:off x="6744960" y="4600440"/>
              <a:ext cx="186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ff"/>
                  </a:solidFill>
                  <a:latin typeface="Arial"/>
                </a:rPr>
                <a:t>くらべる量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400" spc="-1" strike="noStrike">
                  <a:solidFill>
                    <a:srgbClr val="0000ff"/>
                  </a:solidFill>
                  <a:latin typeface="Arial"/>
                </a:rPr>
                <a:t>もとにする量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400" spc="-1" strike="noStrike">
                  <a:solidFill>
                    <a:srgbClr val="ff3300"/>
                  </a:solidFill>
                  <a:latin typeface="Arial"/>
                </a:rPr>
                <a:t>割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27720" y="4508640"/>
              <a:ext cx="2666520" cy="46800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7563960" y="6264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だった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9"/>
          <a:stretch/>
        </p:blipFill>
        <p:spPr>
          <a:xfrm>
            <a:off x="6732720" y="4059360"/>
            <a:ext cx="404640" cy="40464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6316560" y="5735520"/>
            <a:ext cx="2666880" cy="468360"/>
            <a:chOff x="6316560" y="5735520"/>
            <a:chExt cx="2666880" cy="468360"/>
          </a:xfrm>
        </p:grpSpPr>
        <p:sp>
          <p:nvSpPr>
            <p:cNvPr id="381" name=""/>
            <p:cNvSpPr/>
            <p:nvPr/>
          </p:nvSpPr>
          <p:spPr>
            <a:xfrm>
              <a:off x="6736320" y="5827680"/>
              <a:ext cx="185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ff"/>
                  </a:solidFill>
                  <a:latin typeface="Arial"/>
                </a:rPr>
                <a:t>もとにする量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400" spc="-1" strike="noStrike">
                  <a:solidFill>
                    <a:srgbClr val="ff00ff"/>
                  </a:solidFill>
                  <a:latin typeface="Arial"/>
                </a:rPr>
                <a:t>くらべる量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÷</a:t>
              </a:r>
              <a:r>
                <a:rPr b="0" lang="zh-CN" sz="1400" spc="-1" strike="noStrike">
                  <a:solidFill>
                    <a:srgbClr val="ff3300"/>
                  </a:solidFill>
                  <a:latin typeface="Arial"/>
                </a:rPr>
                <a:t>割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16560" y="5735520"/>
              <a:ext cx="2666880" cy="4683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7:39:48Z</dcterms:created>
  <dc:creator>kangawa-kaori-1</dc:creator>
  <dc:description/>
  <dc:language>en-US</dc:language>
  <cp:lastModifiedBy>kangawa-kaori-1</cp:lastModifiedBy>
  <dcterms:modified xsi:type="dcterms:W3CDTF">2007-11-14T06:20:02Z</dcterms:modified>
  <cp:revision>62</cp:revision>
  <dc:subject/>
  <dc:title>スライド 1</dc:title>
</cp:coreProperties>
</file>