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FCD-51F5-4592-BE8A-94B69B74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856-09A0-4959-B190-4D80B263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461-AA01-40E6-BAD1-DC03A284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CA6-DF0E-4AFF-9E5A-5949B685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FE4-1311-4D35-AB59-F0887FC3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433-BE77-4634-9E88-95FBD0FD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66C-DA01-479A-B0B4-4EDA4140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A3A-002D-4067-A4FF-1645FFD0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643-E447-4898-85E5-6B5E5B5A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3B9-68AA-443E-B58E-B19FC4FD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AE1-D0BA-4B53-ABBD-C2C2F8D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D9A-385B-44BF-BE02-2A0C4BF0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0CDD-B8B7-4C4D-97FE-A82DE6829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620640"/>
            <a:ext cx="93528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20640"/>
            <a:ext cx="511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リボンを同じ長さに切って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４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分け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人分は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なる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9870800">
            <a:off x="7234200" y="1196640"/>
            <a:ext cx="1909800" cy="289080"/>
          </a:xfrm>
          <a:custGeom>
            <a:avLst/>
            <a:gdLst>
              <a:gd name="textAreaLeft" fmla="*/ 477360 w 1909800"/>
              <a:gd name="textAreaRight" fmla="*/ 1432440 w 1909800"/>
              <a:gd name="textAreaTop" fmla="*/ 828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247840" y="1628640"/>
            <a:ext cx="3476160" cy="432000"/>
            <a:chOff x="2247840" y="1628640"/>
            <a:chExt cx="3476160" cy="432000"/>
          </a:xfrm>
        </p:grpSpPr>
        <p:sp>
          <p:nvSpPr>
            <p:cNvPr id="45" name=""/>
            <p:cNvSpPr/>
            <p:nvPr/>
          </p:nvSpPr>
          <p:spPr>
            <a:xfrm>
              <a:off x="2247840" y="1628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66920" y="206064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 flipV="1">
            <a:off x="7031160" y="1002960"/>
            <a:ext cx="92700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9640" y="2205000"/>
            <a:ext cx="2664000" cy="647640"/>
            <a:chOff x="539640" y="2205000"/>
            <a:chExt cx="2664000" cy="647640"/>
          </a:xfrm>
        </p:grpSpPr>
        <p:grpSp>
          <p:nvGrpSpPr>
            <p:cNvPr id="49" name=""/>
            <p:cNvGrpSpPr/>
            <p:nvPr/>
          </p:nvGrpSpPr>
          <p:grpSpPr>
            <a:xfrm>
              <a:off x="539640" y="2205000"/>
              <a:ext cx="898560" cy="647640"/>
              <a:chOff x="539640" y="2205000"/>
              <a:chExt cx="898560" cy="647640"/>
            </a:xfrm>
          </p:grpSpPr>
          <p:graphicFrame>
            <p:nvGraphicFramePr>
              <p:cNvPr id="50" name=""/>
              <p:cNvGraphicFramePr/>
              <p:nvPr/>
            </p:nvGraphicFramePr>
            <p:xfrm>
              <a:off x="1299960" y="2409840"/>
              <a:ext cx="138240" cy="133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99960" y="2409840"/>
                        <a:ext cx="138240" cy="13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2" name=""/>
              <p:cNvSpPr/>
              <p:nvPr/>
            </p:nvSpPr>
            <p:spPr>
              <a:xfrm flipV="1">
                <a:off x="1187280" y="2517840"/>
                <a:ext cx="138240" cy="7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3" name=""/>
              <p:cNvGraphicFramePr/>
              <p:nvPr/>
            </p:nvGraphicFramePr>
            <p:xfrm>
              <a:off x="539640" y="2347920"/>
              <a:ext cx="137880" cy="133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9640" y="2347920"/>
                        <a:ext cx="137880" cy="13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55" name=""/>
              <p:cNvGrpSpPr/>
              <p:nvPr/>
            </p:nvGrpSpPr>
            <p:grpSpPr>
              <a:xfrm>
                <a:off x="612720" y="2205000"/>
                <a:ext cx="712800" cy="647640"/>
                <a:chOff x="612720" y="2205000"/>
                <a:chExt cx="712800" cy="6476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612720" y="2205000"/>
                  <a:ext cx="712800" cy="64764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12720" y="2205000"/>
                  <a:ext cx="712800" cy="64764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 flipH="1" flipV="1">
                <a:off x="631800" y="2441160"/>
                <a:ext cx="13176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798480" y="2491920"/>
                <a:ext cx="144360" cy="7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07840" y="2625840"/>
                <a:ext cx="358920" cy="144360"/>
              </a:xfrm>
              <a:prstGeom prst="cloudCallout">
                <a:avLst>
                  <a:gd name="adj1" fmla="val 10175"/>
                  <a:gd name="adj2" fmla="val 40111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982080" y="2482560"/>
                <a:ext cx="144360" cy="7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476360" y="2205000"/>
              <a:ext cx="1727280" cy="368280"/>
              <a:chOff x="1476360" y="2205000"/>
              <a:chExt cx="1727280" cy="368280"/>
            </a:xfrm>
          </p:grpSpPr>
          <p:sp>
            <p:nvSpPr>
              <p:cNvPr id="63" name=""/>
              <p:cNvSpPr/>
              <p:nvPr/>
            </p:nvSpPr>
            <p:spPr>
              <a:xfrm>
                <a:off x="1476360" y="2256120"/>
                <a:ext cx="1727280" cy="287280"/>
              </a:xfrm>
              <a:prstGeom prst="wedgeRoundRectCallout">
                <a:avLst>
                  <a:gd name="adj1" fmla="val -35476"/>
                  <a:gd name="adj2" fmla="val 68231"/>
                  <a:gd name="adj3" fmla="val 1666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24080" y="2205000"/>
                <a:ext cx="29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われないよ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5724000" y="1989000"/>
            <a:ext cx="3168720" cy="1150560"/>
            <a:chOff x="5724000" y="1989000"/>
            <a:chExt cx="3168720" cy="1150560"/>
          </a:xfrm>
        </p:grpSpPr>
        <p:grpSp>
          <p:nvGrpSpPr>
            <p:cNvPr id="66" name=""/>
            <p:cNvGrpSpPr/>
            <p:nvPr/>
          </p:nvGrpSpPr>
          <p:grpSpPr>
            <a:xfrm>
              <a:off x="7923600" y="2475000"/>
              <a:ext cx="969120" cy="664560"/>
              <a:chOff x="7923600" y="2475000"/>
              <a:chExt cx="969120" cy="66456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8754480" y="2695320"/>
              <a:ext cx="138240" cy="1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754480" y="2695320"/>
                        <a:ext cx="138240" cy="1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9" name=""/>
              <p:cNvGrpSpPr/>
              <p:nvPr/>
            </p:nvGrpSpPr>
            <p:grpSpPr>
              <a:xfrm>
                <a:off x="8094960" y="2492280"/>
                <a:ext cx="713520" cy="647280"/>
                <a:chOff x="8094960" y="2492280"/>
                <a:chExt cx="713520" cy="647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094960" y="2492280"/>
                  <a:ext cx="713520" cy="64728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94960" y="2492280"/>
                  <a:ext cx="713520" cy="64728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V="1">
                <a:off x="8648640" y="2782080"/>
                <a:ext cx="13824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8480880" y="2784600"/>
                <a:ext cx="110520" cy="54000"/>
                <a:chOff x="8480880" y="2784600"/>
                <a:chExt cx="110520" cy="540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480880" y="2784600"/>
                  <a:ext cx="110520" cy="54000"/>
                </a:xfrm>
                <a:custGeom>
                  <a:avLst/>
                  <a:gdLst/>
                  <a:ahLst/>
                  <a:rect l="l" t="t" r="r" b="b"/>
                  <a:pathLst>
                    <a:path w="908" h="425">
                      <a:moveTo>
                        <a:pt x="0" y="425"/>
                      </a:moveTo>
                      <a:cubicBezTo>
                        <a:pt x="6" y="188"/>
                        <a:pt x="208" y="0"/>
                        <a:pt x="454" y="0"/>
                      </a:cubicBezTo>
                      <a:cubicBezTo>
                        <a:pt x="700" y="0"/>
                        <a:pt x="901" y="188"/>
                        <a:pt x="908" y="425"/>
                      </a:cubicBezTo>
                      <a:cubicBezTo>
                        <a:pt x="901" y="188"/>
                        <a:pt x="700" y="0"/>
                        <a:pt x="454" y="0"/>
                      </a:cubicBezTo>
                      <a:cubicBezTo>
                        <a:pt x="208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480880" y="2784600"/>
                  <a:ext cx="110520" cy="54000"/>
                </a:xfrm>
                <a:custGeom>
                  <a:avLst/>
                  <a:gdLst/>
                  <a:ahLst/>
                  <a:rect l="l" t="t" r="r" b="b"/>
                  <a:pathLst>
                    <a:path w="109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4" y="0"/>
                        <a:pt x="108" y="22"/>
                        <a:pt x="109" y="51"/>
                      </a:cubicBezTo>
                      <a:cubicBezTo>
                        <a:pt x="108" y="22"/>
                        <a:pt x="84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8306640" y="2799360"/>
                <a:ext cx="111600" cy="54000"/>
                <a:chOff x="8306640" y="2799360"/>
                <a:chExt cx="111600" cy="54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306640" y="2799360"/>
                  <a:ext cx="111600" cy="54000"/>
                </a:xfrm>
                <a:custGeom>
                  <a:avLst/>
                  <a:gdLst/>
                  <a:ahLst/>
                  <a:rect l="l" t="t" r="r" b="b"/>
                  <a:pathLst>
                    <a:path w="916" h="425">
                      <a:moveTo>
                        <a:pt x="0" y="425"/>
                      </a:moveTo>
                      <a:cubicBezTo>
                        <a:pt x="6" y="188"/>
                        <a:pt x="209" y="0"/>
                        <a:pt x="458" y="0"/>
                      </a:cubicBezTo>
                      <a:cubicBezTo>
                        <a:pt x="706" y="0"/>
                        <a:pt x="909" y="188"/>
                        <a:pt x="916" y="425"/>
                      </a:cubicBezTo>
                      <a:cubicBezTo>
                        <a:pt x="909" y="188"/>
                        <a:pt x="706" y="0"/>
                        <a:pt x="458" y="0"/>
                      </a:cubicBezTo>
                      <a:cubicBezTo>
                        <a:pt x="209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306640" y="2799360"/>
                  <a:ext cx="111600" cy="54000"/>
                </a:xfrm>
                <a:custGeom>
                  <a:avLst/>
                  <a:gdLst/>
                  <a:ahLst/>
                  <a:rect l="l" t="t" r="r" b="b"/>
                  <a:pathLst>
                    <a:path w="110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5" y="0"/>
                        <a:pt x="109" y="22"/>
                        <a:pt x="110" y="51"/>
                      </a:cubicBezTo>
                      <a:cubicBezTo>
                        <a:pt x="109" y="22"/>
                        <a:pt x="85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318880" y="2928240"/>
                <a:ext cx="276480" cy="144720"/>
                <a:chOff x="8318880" y="2928240"/>
                <a:chExt cx="276480" cy="144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318880" y="2928240"/>
                  <a:ext cx="276480" cy="1447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318880" y="2928240"/>
                  <a:ext cx="276480" cy="1447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 flipH="1" flipV="1">
                <a:off x="8112240" y="2743920"/>
                <a:ext cx="1310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" descr=""/>
              <p:cNvPicPr/>
              <p:nvPr/>
            </p:nvPicPr>
            <p:blipFill>
              <a:blip r:embed="rId7"/>
              <a:stretch/>
            </p:blipFill>
            <p:spPr>
              <a:xfrm rot="20973000">
                <a:off x="7956360" y="2491920"/>
                <a:ext cx="22680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" name=""/>
            <p:cNvSpPr/>
            <p:nvPr/>
          </p:nvSpPr>
          <p:spPr>
            <a:xfrm flipH="1">
              <a:off x="5723640" y="1989000"/>
              <a:ext cx="2303640" cy="722520"/>
            </a:xfrm>
            <a:prstGeom prst="wedgeEllipseCallout">
              <a:avLst>
                <a:gd name="adj1" fmla="val -43870"/>
                <a:gd name="adj2" fmla="val 5966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18200" y="2060640"/>
              <a:ext cx="1535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２は，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が何こかを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　　　考えてみよ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91440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32040" y="3789360"/>
            <a:ext cx="7200720" cy="287280"/>
            <a:chOff x="932040" y="3789360"/>
            <a:chExt cx="7200720" cy="287280"/>
          </a:xfrm>
        </p:grpSpPr>
        <p:grpSp>
          <p:nvGrpSpPr>
            <p:cNvPr id="88" name=""/>
            <p:cNvGrpSpPr/>
            <p:nvPr/>
          </p:nvGrpSpPr>
          <p:grpSpPr>
            <a:xfrm>
              <a:off x="932040" y="3789360"/>
              <a:ext cx="7200720" cy="287280"/>
              <a:chOff x="932040" y="3789360"/>
              <a:chExt cx="7200720" cy="287280"/>
            </a:xfrm>
          </p:grpSpPr>
          <p:sp>
            <p:nvSpPr>
              <p:cNvPr id="89" name=""/>
              <p:cNvSpPr/>
              <p:nvPr/>
            </p:nvSpPr>
            <p:spPr>
              <a:xfrm>
                <a:off x="932040" y="378936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932040" y="3933720"/>
                <a:ext cx="720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132760" y="378936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4532400" y="3789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5276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7168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9240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168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5312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7240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9312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204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9240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132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3204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5276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204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9276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1204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276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5348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3860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H="1" flipV="1">
            <a:off x="930240" y="3398040"/>
            <a:ext cx="58068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1760" y="3427920"/>
            <a:ext cx="59194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32040" y="3860640"/>
            <a:ext cx="14184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38320" y="3860640"/>
            <a:ext cx="14256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28280" y="4149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360" y="36608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797360"/>
            <a:ext cx="4845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・・・・・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　　　　　　　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6021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64960" y="1484280"/>
            <a:ext cx="20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20160" y="4789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0200" y="50943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 ÷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6912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8920" y="6021360"/>
            <a:ext cx="3476520" cy="503280"/>
            <a:chOff x="1528920" y="6021360"/>
            <a:chExt cx="3476520" cy="503280"/>
          </a:xfrm>
        </p:grpSpPr>
        <p:grpSp>
          <p:nvGrpSpPr>
            <p:cNvPr id="124" name=""/>
            <p:cNvGrpSpPr/>
            <p:nvPr/>
          </p:nvGrpSpPr>
          <p:grpSpPr>
            <a:xfrm>
              <a:off x="1528920" y="6093000"/>
              <a:ext cx="3476520" cy="431640"/>
              <a:chOff x="1528920" y="6093000"/>
              <a:chExt cx="3476520" cy="431640"/>
            </a:xfrm>
          </p:grpSpPr>
          <p:sp>
            <p:nvSpPr>
              <p:cNvPr id="125" name=""/>
              <p:cNvSpPr/>
              <p:nvPr/>
            </p:nvSpPr>
            <p:spPr>
              <a:xfrm>
                <a:off x="1528920" y="6093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48000" y="6524640"/>
                <a:ext cx="34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336760" y="6021360"/>
              <a:ext cx="16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÷ 4 = 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41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27280" y="62064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73240" y="549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÷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を計算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1052640"/>
            <a:ext cx="61930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・・・・・・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　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　　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197000"/>
            <a:ext cx="3889440" cy="1008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411280" y="1197000"/>
            <a:ext cx="3889440" cy="1008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495200" y="3412800"/>
            <a:ext cx="893160" cy="592200"/>
            <a:chOff x="7495200" y="3412800"/>
            <a:chExt cx="893160" cy="592200"/>
          </a:xfrm>
        </p:grpSpPr>
        <p:graphicFrame>
          <p:nvGraphicFramePr>
            <p:cNvPr id="135" name=""/>
            <p:cNvGraphicFramePr/>
            <p:nvPr/>
          </p:nvGraphicFramePr>
          <p:xfrm>
            <a:off x="8261280" y="3609720"/>
            <a:ext cx="127080" cy="117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61280" y="3609720"/>
                      <a:ext cx="127080" cy="1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7651800" y="3429000"/>
              <a:ext cx="65880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51800" y="3429000"/>
              <a:ext cx="65880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8163000" y="3687480"/>
              <a:ext cx="12852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8008920" y="3689280"/>
              <a:ext cx="101520" cy="47520"/>
              <a:chOff x="8008920" y="3689280"/>
              <a:chExt cx="101520" cy="47520"/>
            </a:xfrm>
          </p:grpSpPr>
          <p:sp>
            <p:nvSpPr>
              <p:cNvPr id="141" name=""/>
              <p:cNvSpPr/>
              <p:nvPr/>
            </p:nvSpPr>
            <p:spPr>
              <a:xfrm>
                <a:off x="8008920" y="3689280"/>
                <a:ext cx="101520" cy="4752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008920" y="3689280"/>
                <a:ext cx="101520" cy="4752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846920" y="3701880"/>
              <a:ext cx="103320" cy="49320"/>
              <a:chOff x="7846920" y="3701880"/>
              <a:chExt cx="103320" cy="49320"/>
            </a:xfrm>
          </p:grpSpPr>
          <p:sp>
            <p:nvSpPr>
              <p:cNvPr id="144" name=""/>
              <p:cNvSpPr/>
              <p:nvPr/>
            </p:nvSpPr>
            <p:spPr>
              <a:xfrm>
                <a:off x="7846920" y="370188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6920" y="370188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859880" y="3816360"/>
              <a:ext cx="253800" cy="128520"/>
              <a:chOff x="7859880" y="3816360"/>
              <a:chExt cx="253800" cy="128520"/>
            </a:xfrm>
          </p:grpSpPr>
          <p:sp>
            <p:nvSpPr>
              <p:cNvPr id="147" name=""/>
              <p:cNvSpPr/>
              <p:nvPr/>
            </p:nvSpPr>
            <p:spPr>
              <a:xfrm>
                <a:off x="7859880" y="3816360"/>
                <a:ext cx="25380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59880" y="3816360"/>
                <a:ext cx="25380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flipH="1" flipV="1">
              <a:off x="7667640" y="3652560"/>
              <a:ext cx="12240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 rot="20973000">
              <a:off x="7524360" y="3429000"/>
              <a:ext cx="20952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4643280" y="3068640"/>
            <a:ext cx="2771640" cy="358560"/>
            <a:chOff x="4643280" y="3068640"/>
            <a:chExt cx="2771640" cy="358560"/>
          </a:xfrm>
        </p:grpSpPr>
        <p:sp>
          <p:nvSpPr>
            <p:cNvPr id="152" name=""/>
            <p:cNvSpPr/>
            <p:nvPr/>
          </p:nvSpPr>
          <p:spPr>
            <a:xfrm flipH="1">
              <a:off x="4714560" y="3068640"/>
              <a:ext cx="2592720" cy="358560"/>
            </a:xfrm>
            <a:prstGeom prst="wedgeRoundRectCallout">
              <a:avLst>
                <a:gd name="adj1" fmla="val -44615"/>
                <a:gd name="adj2" fmla="val 92916"/>
                <a:gd name="adj3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3280" y="3068640"/>
              <a:ext cx="27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0.01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をもとにして考えてみよ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050920" y="4005360"/>
            <a:ext cx="511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・・・・・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　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　　　　　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.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　　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4078440"/>
            <a:ext cx="5040360" cy="187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9640" y="2637000"/>
            <a:ext cx="2952720" cy="718920"/>
            <a:chOff x="539640" y="2637000"/>
            <a:chExt cx="2952720" cy="718920"/>
          </a:xfrm>
        </p:grpSpPr>
        <p:sp>
          <p:nvSpPr>
            <p:cNvPr id="157" name=""/>
            <p:cNvSpPr/>
            <p:nvPr/>
          </p:nvSpPr>
          <p:spPr>
            <a:xfrm>
              <a:off x="1476360" y="2637000"/>
              <a:ext cx="2016000" cy="431640"/>
            </a:xfrm>
            <a:prstGeom prst="wedgeEllipseCallout">
              <a:avLst>
                <a:gd name="adj1" fmla="val -44800"/>
                <a:gd name="adj2" fmla="val 5845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われないよ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9640" y="2708280"/>
              <a:ext cx="898560" cy="647640"/>
              <a:chOff x="539640" y="2708280"/>
              <a:chExt cx="898560" cy="647640"/>
            </a:xfrm>
          </p:grpSpPr>
          <p:graphicFrame>
            <p:nvGraphicFramePr>
              <p:cNvPr id="159" name=""/>
              <p:cNvGraphicFramePr/>
              <p:nvPr/>
            </p:nvGraphicFramePr>
            <p:xfrm>
              <a:off x="1299960" y="2913120"/>
              <a:ext cx="138240" cy="1335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60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299960" y="2913120"/>
                        <a:ext cx="138240" cy="1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1" name=""/>
              <p:cNvSpPr/>
              <p:nvPr/>
            </p:nvSpPr>
            <p:spPr>
              <a:xfrm flipV="1">
                <a:off x="1187280" y="3020760"/>
                <a:ext cx="13824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62" name=""/>
              <p:cNvGraphicFramePr/>
              <p:nvPr/>
            </p:nvGraphicFramePr>
            <p:xfrm>
              <a:off x="539640" y="2851200"/>
              <a:ext cx="138240" cy="1335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63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539640" y="2851200"/>
                        <a:ext cx="138240" cy="1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4" name=""/>
              <p:cNvSpPr/>
              <p:nvPr/>
            </p:nvSpPr>
            <p:spPr>
              <a:xfrm>
                <a:off x="612720" y="2708280"/>
                <a:ext cx="712800" cy="64764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2720" y="2708280"/>
                <a:ext cx="712800" cy="64764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cc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631800" y="2944800"/>
                <a:ext cx="131760" cy="12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98480" y="2995200"/>
                <a:ext cx="144360" cy="7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07840" y="3129120"/>
                <a:ext cx="358920" cy="144360"/>
              </a:xfrm>
              <a:prstGeom prst="cloudCallout">
                <a:avLst>
                  <a:gd name="adj1" fmla="val 26106"/>
                  <a:gd name="adj2" fmla="val -28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982440" y="2985840"/>
                <a:ext cx="144360" cy="7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5167800" y="45813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 ÷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87680" y="505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63160" y="5516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.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00200" y="4118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1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2556000" y="1052640"/>
            <a:ext cx="4032000" cy="2809080"/>
            <a:chOff x="2556000" y="1052640"/>
            <a:chExt cx="4032000" cy="2809080"/>
          </a:xfrm>
        </p:grpSpPr>
        <p:sp>
          <p:nvSpPr>
            <p:cNvPr id="176" name=""/>
            <p:cNvSpPr/>
            <p:nvPr/>
          </p:nvSpPr>
          <p:spPr>
            <a:xfrm>
              <a:off x="2649240" y="1052640"/>
              <a:ext cx="3866760" cy="1584360"/>
            </a:xfrm>
            <a:prstGeom prst="rect">
              <a:avLst/>
            </a:prstGeom>
            <a:solidFill>
              <a:srgbClr val="ccffff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56000" y="1052640"/>
              <a:ext cx="4032000" cy="28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（１）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・・・・・【　　　】が（　　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・・【　　　】が（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・・【　　　】が（　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＝　（　　　　　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340000" y="260280"/>
            <a:ext cx="1872360" cy="396720"/>
            <a:chOff x="2340000" y="260280"/>
            <a:chExt cx="1872360" cy="396720"/>
          </a:xfrm>
        </p:grpSpPr>
        <p:sp>
          <p:nvSpPr>
            <p:cNvPr id="179" name=""/>
            <p:cNvSpPr/>
            <p:nvPr/>
          </p:nvSpPr>
          <p:spPr>
            <a:xfrm>
              <a:off x="2340000" y="260280"/>
              <a:ext cx="1870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92200" y="260280"/>
              <a:ext cx="182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2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575160" y="6922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計算を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028000" y="3357720"/>
            <a:ext cx="733320" cy="765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2015280" y="2852640"/>
            <a:ext cx="5054760" cy="1656000"/>
            <a:chOff x="2015280" y="2852640"/>
            <a:chExt cx="5054760" cy="1656000"/>
          </a:xfrm>
        </p:grpSpPr>
        <p:sp>
          <p:nvSpPr>
            <p:cNvPr id="184" name=""/>
            <p:cNvSpPr/>
            <p:nvPr/>
          </p:nvSpPr>
          <p:spPr>
            <a:xfrm>
              <a:off x="2647800" y="2852640"/>
              <a:ext cx="3868200" cy="1656000"/>
            </a:xfrm>
            <a:prstGeom prst="rect">
              <a:avLst/>
            </a:prstGeom>
            <a:solidFill>
              <a:srgbClr val="ccffff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15280" y="2852640"/>
              <a:ext cx="5054760" cy="16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（２）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・・・・・【　　　】が（　　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・・【　　　】が（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・・【　　　】が（　　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＝　（　　　　　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15280" y="4724280"/>
            <a:ext cx="5054760" cy="1656000"/>
            <a:chOff x="2015280" y="4724280"/>
            <a:chExt cx="5054760" cy="1656000"/>
          </a:xfrm>
        </p:grpSpPr>
        <p:sp>
          <p:nvSpPr>
            <p:cNvPr id="187" name=""/>
            <p:cNvSpPr/>
            <p:nvPr/>
          </p:nvSpPr>
          <p:spPr>
            <a:xfrm>
              <a:off x="2628720" y="4724280"/>
              <a:ext cx="3866760" cy="1656000"/>
            </a:xfrm>
            <a:prstGeom prst="rect">
              <a:avLst/>
            </a:prstGeom>
            <a:solidFill>
              <a:srgbClr val="ccffff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5280" y="4724280"/>
              <a:ext cx="5054760" cy="16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（３）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・・・・・【　　　】が（　　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・・【　　　】が（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・・【　　　】が（　　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＝　（　　　　　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6587280" y="1413000"/>
            <a:ext cx="2233800" cy="1663560"/>
          </a:xfrm>
          <a:prstGeom prst="wedgeRoundRectCallout">
            <a:avLst>
              <a:gd name="adj1" fmla="val -32018"/>
              <a:gd name="adj2" fmla="val 5982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88000" y="1557360"/>
            <a:ext cx="208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【　　】の中には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どちらが入る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よく考えよ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344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848600" y="2852640"/>
            <a:ext cx="50547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２）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・・・・・【　　　】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【　　　】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【　　　】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42680" y="189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5240" y="1052640"/>
            <a:ext cx="3867120" cy="158436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1052640"/>
            <a:ext cx="403236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１）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・・・・・【　　　】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【　　　】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【　　　】が（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30040" y="13557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14640" y="1343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11200" y="1646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20560" y="19591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6520" y="1655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59120" y="165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05160" y="1947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5960" y="22384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3440" y="2852640"/>
            <a:ext cx="3868920" cy="165600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160" y="3152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7080" y="3467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77360" y="37576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78000" y="3173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40000" y="346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7920" y="345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00560" y="3755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39280" y="4079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4797360"/>
            <a:ext cx="3867120" cy="165600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70920" y="4797360"/>
            <a:ext cx="50547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３）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・・・・・【　　　】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【　　　】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【　　　】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34360" y="51004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02920" y="5402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5520" y="5703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0080" y="5095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44680" y="5397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9360" y="5372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44840" y="571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12280" y="59896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84360" y="333360"/>
            <a:ext cx="1872720" cy="396720"/>
            <a:chOff x="2484360" y="333360"/>
            <a:chExt cx="1872720" cy="396720"/>
          </a:xfrm>
        </p:grpSpPr>
        <p:sp>
          <p:nvSpPr>
            <p:cNvPr id="224" name=""/>
            <p:cNvSpPr/>
            <p:nvPr/>
          </p:nvSpPr>
          <p:spPr>
            <a:xfrm>
              <a:off x="2484360" y="333360"/>
              <a:ext cx="1870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36560" y="33336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2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273800" y="40464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H="1">
            <a:off x="4210920" y="5229360"/>
            <a:ext cx="3024360" cy="431640"/>
          </a:xfrm>
          <a:prstGeom prst="wedgeEllipseCallout">
            <a:avLst>
              <a:gd name="adj1" fmla="val -51472"/>
              <a:gd name="adj2" fmla="val 48893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411280" y="907920"/>
            <a:ext cx="1944360" cy="396720"/>
            <a:chOff x="2411280" y="907920"/>
            <a:chExt cx="1944360" cy="396720"/>
          </a:xfrm>
        </p:grpSpPr>
        <p:sp>
          <p:nvSpPr>
            <p:cNvPr id="229" name=""/>
            <p:cNvSpPr/>
            <p:nvPr/>
          </p:nvSpPr>
          <p:spPr>
            <a:xfrm>
              <a:off x="2411280" y="907920"/>
              <a:ext cx="194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5640" y="907920"/>
              <a:ext cx="18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900000" y="1700280"/>
            <a:ext cx="374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 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3280" y="1700280"/>
            <a:ext cx="414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53080" y="530064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よく考えて　ときましょう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51640" y="5157720"/>
            <a:ext cx="795600" cy="1079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41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2195640" y="907920"/>
            <a:ext cx="1944360" cy="396720"/>
            <a:chOff x="2195640" y="907920"/>
            <a:chExt cx="1944360" cy="396720"/>
          </a:xfrm>
        </p:grpSpPr>
        <p:sp>
          <p:nvSpPr>
            <p:cNvPr id="237" name=""/>
            <p:cNvSpPr/>
            <p:nvPr/>
          </p:nvSpPr>
          <p:spPr>
            <a:xfrm>
              <a:off x="2195640" y="907920"/>
              <a:ext cx="194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50000" y="907920"/>
              <a:ext cx="18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900000" y="1700280"/>
            <a:ext cx="395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 10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0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700280"/>
            <a:ext cx="41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84120" y="692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948360" y="4365720"/>
            <a:ext cx="949320" cy="1224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41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2556000" y="981000"/>
            <a:ext cx="1944360" cy="396720"/>
            <a:chOff x="2556000" y="981000"/>
            <a:chExt cx="1944360" cy="396720"/>
          </a:xfrm>
        </p:grpSpPr>
        <p:sp>
          <p:nvSpPr>
            <p:cNvPr id="245" name=""/>
            <p:cNvSpPr/>
            <p:nvPr/>
          </p:nvSpPr>
          <p:spPr>
            <a:xfrm>
              <a:off x="2556000" y="981000"/>
              <a:ext cx="194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10360" y="981000"/>
              <a:ext cx="18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-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900000" y="1700280"/>
            <a:ext cx="3743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700280"/>
            <a:ext cx="414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 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0000" y="54450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よく考えて　ときましょう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924360" y="5373720"/>
            <a:ext cx="3024000" cy="431640"/>
          </a:xfrm>
          <a:prstGeom prst="wedgeEllipseCallout">
            <a:avLst>
              <a:gd name="adj1" fmla="val -57300"/>
              <a:gd name="adj2" fmla="val 25000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380360" y="4724280"/>
            <a:ext cx="1033560" cy="144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841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340000" y="981000"/>
            <a:ext cx="1944360" cy="396720"/>
            <a:chOff x="2340000" y="981000"/>
            <a:chExt cx="1944360" cy="396720"/>
          </a:xfrm>
        </p:grpSpPr>
        <p:sp>
          <p:nvSpPr>
            <p:cNvPr id="254" name=""/>
            <p:cNvSpPr/>
            <p:nvPr/>
          </p:nvSpPr>
          <p:spPr>
            <a:xfrm>
              <a:off x="2340000" y="981000"/>
              <a:ext cx="194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94360" y="981000"/>
              <a:ext cx="18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-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900000" y="1700280"/>
            <a:ext cx="395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 10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700280"/>
            <a:ext cx="41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 6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337440" y="4724280"/>
            <a:ext cx="1163520" cy="14144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841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２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8:36Z</dcterms:created>
  <dc:creator>kangawa-kaori-1</dc:creator>
  <dc:description/>
  <dc:language>en-US</dc:language>
  <cp:lastModifiedBy>kangawa-kaori-1</cp:lastModifiedBy>
  <dcterms:modified xsi:type="dcterms:W3CDTF">2007-11-14T06:24:05Z</dcterms:modified>
  <cp:revision>121</cp:revision>
  <dc:subject/>
  <dc:title>スライド 1</dc:title>
</cp:coreProperties>
</file>