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F12-D797-4A24-95A7-EC2ECF5D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9ED-AC3E-40FC-94C1-FF8AEA3D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181-F049-4692-89A6-0908F3BF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A60-8259-49BB-A461-98ACE7FF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96C-DE5F-449D-B8E1-23236C1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B9E-BFFE-41FD-AF40-B5A24D87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F7D-C364-41A2-B856-9AF5D16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83E-EE95-44D7-A50F-0589059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1BF-63EC-4504-A658-CFC0DE1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52C-5239-4EE6-96D0-2755553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301-DBAE-42A7-8A39-7B2F7D0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202-4197-48F7-9E67-FC90F61F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B07-8A82-47EE-9AD3-C254AFCF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6840" y="6070680"/>
            <a:ext cx="431640" cy="431640"/>
          </a:xfrm>
          <a:prstGeom prst="rect">
            <a:avLst/>
          </a:prstGeom>
          <a:solidFill>
            <a:srgbClr val="ffcc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3432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分の１，１００分の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49360"/>
            <a:ext cx="3672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１０分の１，１００分の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1280" y="1268280"/>
            <a:ext cx="3600720" cy="459720"/>
            <a:chOff x="611280" y="1268280"/>
            <a:chExt cx="3600720" cy="459720"/>
          </a:xfrm>
        </p:grpSpPr>
        <p:sp>
          <p:nvSpPr>
            <p:cNvPr id="45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15880" y="12682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18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１０分の１にした数を考え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1065240" y="1658520"/>
            <a:ext cx="615960" cy="9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332000" y="16995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80" y="1989000"/>
            <a:ext cx="58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と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と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をあわせた数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3493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89120" y="24123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70828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÷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70120" y="23385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2440" y="2328840"/>
            <a:ext cx="56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16280" y="24123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91040" y="239004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57640" y="270828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÷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2000" y="269892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÷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90720" y="407664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1640" y="3218040"/>
            <a:ext cx="6398640" cy="642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も整数と同じように，１０分の１にすると，各位の数字は位が（　　　　　つ）下が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点の位置は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左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つ）うつ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0800" y="127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76960" y="1271520"/>
            <a:ext cx="432000" cy="43200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08960" y="1271520"/>
            <a:ext cx="431640" cy="43200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42400" y="1271520"/>
            <a:ext cx="431640" cy="43200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474040" y="1271520"/>
            <a:ext cx="432000" cy="43200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20520" y="132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55400" y="131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92080" y="131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6400" y="119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9360" y="2019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75520" y="2014560"/>
            <a:ext cx="431640" cy="43164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07160" y="2014560"/>
            <a:ext cx="432000" cy="43164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0600" y="2014560"/>
            <a:ext cx="432000" cy="43164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72600" y="2014560"/>
            <a:ext cx="431640" cy="43164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2052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46040" y="2062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3320" y="2058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rot="2321400">
            <a:off x="7353000" y="1814400"/>
            <a:ext cx="517320" cy="83880"/>
          </a:xfrm>
          <a:prstGeom prst="leftArrow">
            <a:avLst>
              <a:gd name="adj1" fmla="val 50000"/>
              <a:gd name="adj2" fmla="val 1541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2321400">
            <a:off x="7786440" y="1814400"/>
            <a:ext cx="517320" cy="83880"/>
          </a:xfrm>
          <a:prstGeom prst="leftArrow">
            <a:avLst>
              <a:gd name="adj1" fmla="val 50000"/>
              <a:gd name="adj2" fmla="val 1541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2321400">
            <a:off x="8217720" y="1814040"/>
            <a:ext cx="517680" cy="84600"/>
          </a:xfrm>
          <a:prstGeom prst="leftArrow">
            <a:avLst>
              <a:gd name="adj1" fmla="val 50000"/>
              <a:gd name="adj2" fmla="val 152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877080" y="1454040"/>
            <a:ext cx="216000" cy="8654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2280" y="1619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１０分の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088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5440" y="3468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4724280"/>
            <a:ext cx="3704400" cy="459720"/>
            <a:chOff x="755640" y="4724280"/>
            <a:chExt cx="3704400" cy="459720"/>
          </a:xfrm>
        </p:grpSpPr>
        <p:sp>
          <p:nvSpPr>
            <p:cNvPr id="86" name=""/>
            <p:cNvSpPr/>
            <p:nvPr/>
          </p:nvSpPr>
          <p:spPr>
            <a:xfrm>
              <a:off x="755640" y="4779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63920" y="47242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18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１００分の１にした数を考え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003400" y="53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5332320"/>
            <a:ext cx="432000" cy="43200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1560" y="5332320"/>
            <a:ext cx="431640" cy="43200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4640" y="5332320"/>
            <a:ext cx="432000" cy="43200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6640" y="5332320"/>
            <a:ext cx="431640" cy="43200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33920" y="537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6840" y="537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83160" y="537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8360" y="5226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1960" y="608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8120" y="6075360"/>
            <a:ext cx="431640" cy="43164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9760" y="6075360"/>
            <a:ext cx="432000" cy="43164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6075360"/>
            <a:ext cx="431640" cy="43164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6075360"/>
            <a:ext cx="432000" cy="43164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3400" y="6102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81720" y="608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6920" y="59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1174800">
            <a:off x="2012400" y="5873040"/>
            <a:ext cx="919080" cy="73080"/>
          </a:xfrm>
          <a:prstGeom prst="leftArrow">
            <a:avLst>
              <a:gd name="adj1" fmla="val 50000"/>
              <a:gd name="adj2" fmla="val 3144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581120" y="5513400"/>
            <a:ext cx="216000" cy="86508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571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００分の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1174800">
            <a:off x="2446200" y="5873040"/>
            <a:ext cx="919440" cy="73080"/>
          </a:xfrm>
          <a:prstGeom prst="leftArrow">
            <a:avLst>
              <a:gd name="adj1" fmla="val 50000"/>
              <a:gd name="adj2" fmla="val 3145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 rot="1174800">
            <a:off x="2877480" y="5873040"/>
            <a:ext cx="919080" cy="73080"/>
          </a:xfrm>
          <a:prstGeom prst="leftArrow">
            <a:avLst>
              <a:gd name="adj1" fmla="val 50000"/>
              <a:gd name="adj2" fmla="val 3144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50080" y="608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90720" y="5877000"/>
            <a:ext cx="24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6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10800" y="2048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640" y="1886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85000" y="608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3000" y="608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5300640"/>
            <a:ext cx="0" cy="122400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42880" y="537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．１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 rot="21241800">
            <a:off x="5000760" y="5618880"/>
            <a:ext cx="320400" cy="183240"/>
          </a:xfrm>
          <a:custGeom>
            <a:avLst/>
            <a:gdLst>
              <a:gd name="textAreaLeft" fmla="*/ 360 w 320400"/>
              <a:gd name="textAreaRight" fmla="*/ 321120 w 320400"/>
              <a:gd name="textAreaTop" fmla="*/ -360 h 183240"/>
              <a:gd name="textAreaBottom" fmla="*/ 183240 h 183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 rot="21241800">
            <a:off x="4660200" y="5630760"/>
            <a:ext cx="320760" cy="182880"/>
          </a:xfrm>
          <a:custGeom>
            <a:avLst/>
            <a:gdLst>
              <a:gd name="textAreaLeft" fmla="*/ -360 w 320760"/>
              <a:gd name="textAreaRight" fmla="*/ 320760 w 320760"/>
              <a:gd name="textAreaTop" fmla="*/ 360 h 182880"/>
              <a:gd name="textAreaBottom" fmla="*/ 183600 h 18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64320" y="533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8480" y="5343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0600" y="5375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8280" y="5380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87960" cy="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565360"/>
            <a:ext cx="0" cy="57636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82880" y="25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６．１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 rot="21241800">
            <a:off x="6442920" y="2781360"/>
            <a:ext cx="320760" cy="182880"/>
          </a:xfrm>
          <a:custGeom>
            <a:avLst/>
            <a:gdLst>
              <a:gd name="textAreaLeft" fmla="*/ -360 w 320760"/>
              <a:gd name="textAreaRight" fmla="*/ 320760 w 320760"/>
              <a:gd name="textAreaTop" fmla="*/ 360 h 182880"/>
              <a:gd name="textAreaBottom" fmla="*/ 183600 h 18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67600" y="2503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880" y="256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6360" y="5535720"/>
            <a:ext cx="145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11840" y="2708280"/>
            <a:ext cx="1461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33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242600" y="1125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数を１０分の１，１００分の１にした数をか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76360" y="1773360"/>
          <a:ext cx="6095880" cy="4105080"/>
        </p:xfrm>
        <a:graphic>
          <a:graphicData uri="http://schemas.openxmlformats.org/drawingml/2006/table">
            <a:tbl>
              <a:tblPr/>
              <a:tblGrid>
                <a:gridCol w="2016000"/>
                <a:gridCol w="2048040"/>
                <a:gridCol w="203184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636920" y="2655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36200" y="3284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6560" y="3933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6560" y="465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36200" y="5300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12560" y="19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分の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9520" y="19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０分の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分の１，１００分の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46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42600" y="1125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数を１０分の１，１００分の１にした数をか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1773360"/>
          <a:ext cx="6095880" cy="4105080"/>
        </p:xfrm>
        <a:graphic>
          <a:graphicData uri="http://schemas.openxmlformats.org/drawingml/2006/table">
            <a:tbl>
              <a:tblPr/>
              <a:tblGrid>
                <a:gridCol w="2016000"/>
                <a:gridCol w="2048040"/>
                <a:gridCol w="203184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636920" y="2655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36200" y="3284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6560" y="3933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6560" y="465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36200" y="53006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12560" y="19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分の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9520" y="19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０分の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60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分の１，１００分の１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652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2520" y="2637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9080" y="3284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8880" y="3284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9440" y="39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4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6040" y="3933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4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1800" y="4653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50320" y="4641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2160" y="5300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6680" y="5321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412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36:04Z</dcterms:created>
  <dc:creator>kangawa-kaori-1</dc:creator>
  <dc:description/>
  <dc:language>en-US</dc:language>
  <cp:lastModifiedBy>kangawa-kaori-1</cp:lastModifiedBy>
  <dcterms:modified xsi:type="dcterms:W3CDTF">2007-11-14T06:18:33Z</dcterms:modified>
  <cp:revision>62</cp:revision>
  <dc:subject/>
  <dc:title>スライド 1</dc:title>
</cp:coreProperties>
</file>