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5C3D-23AB-41E8-BA21-6C5760BD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53F-5538-4932-8A1A-5F10928B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ECC-26C8-424C-BE7E-C407D40F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ABB6-3CC0-4597-A06D-2FA87DCF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9E2-C12F-4CB1-9F42-A56CF289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5C03-69A2-4445-A306-D8221091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0A49-60C8-40DE-9CD2-0B98BD6F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9B3-F60D-4C8C-80DD-29BFFD72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095-906C-4B93-B118-5C3B385D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3DF-73A8-4BCD-94C3-C951BDD1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4F6-91E4-4CDF-9E07-F602C653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6CE-D3FA-4C62-A19C-02674BEC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DCDA-0964-410C-BE7D-5A7FD9C85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000" y="333360"/>
            <a:ext cx="295128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数でわる計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197000"/>
            <a:ext cx="1439640" cy="3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まずこの問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9040" y="120168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リボン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ｍ買って，７２０円はらいました。このリボン１ｍ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ねだんは何円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60560" y="2133720"/>
            <a:ext cx="3906360" cy="431640"/>
            <a:chOff x="1960560" y="2133720"/>
            <a:chExt cx="3906360" cy="431640"/>
          </a:xfrm>
        </p:grpSpPr>
        <p:sp>
          <p:nvSpPr>
            <p:cNvPr id="45" name=""/>
            <p:cNvSpPr/>
            <p:nvPr/>
          </p:nvSpPr>
          <p:spPr>
            <a:xfrm>
              <a:off x="1960560" y="2133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88280" y="2565360"/>
              <a:ext cx="387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675520" y="2060640"/>
            <a:ext cx="308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７２０　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÷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２  ＝ ３６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16360" y="26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26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932360" y="3068640"/>
            <a:ext cx="1511280" cy="368280"/>
            <a:chOff x="4932360" y="3068640"/>
            <a:chExt cx="1511280" cy="368280"/>
          </a:xfrm>
        </p:grpSpPr>
        <p:sp>
          <p:nvSpPr>
            <p:cNvPr id="51" name=""/>
            <p:cNvSpPr/>
            <p:nvPr/>
          </p:nvSpPr>
          <p:spPr>
            <a:xfrm>
              <a:off x="4932360" y="306864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１ｍのねだん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32360" y="3068640"/>
              <a:ext cx="1368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5445000" y="2644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627280" y="3068640"/>
            <a:ext cx="649440" cy="368280"/>
            <a:chOff x="2627280" y="3068640"/>
            <a:chExt cx="649440" cy="368280"/>
          </a:xfrm>
        </p:grpSpPr>
        <p:sp>
          <p:nvSpPr>
            <p:cNvPr id="55" name=""/>
            <p:cNvSpPr/>
            <p:nvPr/>
          </p:nvSpPr>
          <p:spPr>
            <a:xfrm>
              <a:off x="2627280" y="3068640"/>
              <a:ext cx="6494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27280" y="3068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代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995640" y="3068640"/>
            <a:ext cx="647640" cy="368280"/>
            <a:chOff x="3995640" y="3068640"/>
            <a:chExt cx="647640" cy="368280"/>
          </a:xfrm>
        </p:grpSpPr>
        <p:sp>
          <p:nvSpPr>
            <p:cNvPr id="58" name=""/>
            <p:cNvSpPr/>
            <p:nvPr/>
          </p:nvSpPr>
          <p:spPr>
            <a:xfrm>
              <a:off x="3995640" y="3068640"/>
              <a:ext cx="576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95640" y="3068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長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900000" y="3933720"/>
            <a:ext cx="93528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7920" y="3860640"/>
            <a:ext cx="126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リボン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ｍ買って，７２０円はらいました。このリボン１ｍ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ねだんは何円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176200" y="5589720"/>
            <a:ext cx="4411440" cy="431640"/>
            <a:chOff x="2176200" y="5589720"/>
            <a:chExt cx="4411440" cy="431640"/>
          </a:xfrm>
        </p:grpSpPr>
        <p:sp>
          <p:nvSpPr>
            <p:cNvPr id="63" name=""/>
            <p:cNvSpPr/>
            <p:nvPr/>
          </p:nvSpPr>
          <p:spPr>
            <a:xfrm>
              <a:off x="2176200" y="558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14360" y="6021360"/>
              <a:ext cx="43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932360" y="4653000"/>
            <a:ext cx="1511280" cy="368280"/>
            <a:chOff x="4932360" y="4653000"/>
            <a:chExt cx="1511280" cy="368280"/>
          </a:xfrm>
        </p:grpSpPr>
        <p:sp>
          <p:nvSpPr>
            <p:cNvPr id="66" name=""/>
            <p:cNvSpPr/>
            <p:nvPr/>
          </p:nvSpPr>
          <p:spPr>
            <a:xfrm>
              <a:off x="4932360" y="465300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１ｍのねだん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32360" y="4653000"/>
              <a:ext cx="1368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627280" y="4653000"/>
            <a:ext cx="649440" cy="368280"/>
            <a:chOff x="2627280" y="4653000"/>
            <a:chExt cx="649440" cy="368280"/>
          </a:xfrm>
        </p:grpSpPr>
        <p:sp>
          <p:nvSpPr>
            <p:cNvPr id="69" name=""/>
            <p:cNvSpPr/>
            <p:nvPr/>
          </p:nvSpPr>
          <p:spPr>
            <a:xfrm>
              <a:off x="2627280" y="4653000"/>
              <a:ext cx="6494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27280" y="4653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代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995640" y="4653000"/>
            <a:ext cx="647640" cy="368280"/>
            <a:chOff x="3995640" y="4653000"/>
            <a:chExt cx="647640" cy="368280"/>
          </a:xfrm>
        </p:grpSpPr>
        <p:sp>
          <p:nvSpPr>
            <p:cNvPr id="72" name=""/>
            <p:cNvSpPr/>
            <p:nvPr/>
          </p:nvSpPr>
          <p:spPr>
            <a:xfrm>
              <a:off x="3995640" y="4653000"/>
              <a:ext cx="576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95640" y="4653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長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834520" y="220500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93160" y="2127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３６０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11720" y="5064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8764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436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84360" y="551664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７２０　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÷  2.4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78320" y="462744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86400" y="4653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78320" y="306864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5240" y="3071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04960" y="2602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でわる計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08000" y="333360"/>
            <a:ext cx="360360" cy="36036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64160" y="33336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0÷2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計算の仕方を考えよ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052640"/>
            <a:ext cx="93492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28800" y="21337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【考え方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68160" y="248760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４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67160" y="2462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７２０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81720" y="2894040"/>
            <a:ext cx="87480" cy="550800"/>
          </a:xfrm>
          <a:prstGeom prst="downArrow">
            <a:avLst>
              <a:gd name="adj1" fmla="val 50000"/>
              <a:gd name="adj2" fmla="val 1574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90000" y="2894040"/>
            <a:ext cx="87120" cy="550800"/>
          </a:xfrm>
          <a:prstGeom prst="downArrow">
            <a:avLst>
              <a:gd name="adj1" fmla="val 50000"/>
              <a:gd name="adj2" fmla="val 1580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83640" y="34783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７２００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2494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10360" y="2421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0360" y="3500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81760" y="295596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１０　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2205000"/>
            <a:ext cx="331128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64480" y="1052640"/>
            <a:ext cx="126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リボン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ｍ買って，７２０円はらいました。このリボン１ｍ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ねだんは何円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49880" y="34862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４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67360" y="297504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１０　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2637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７２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263700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×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×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321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0 ÷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37180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437000"/>
            <a:ext cx="23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3080" y="4378320"/>
            <a:ext cx="10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5229360"/>
            <a:ext cx="8510400" cy="916920"/>
          </a:xfrm>
          <a:prstGeom prst="rect">
            <a:avLst/>
          </a:prstGeom>
          <a:noFill/>
          <a:ln cap="rnd" w="507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数でわる計算では、（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　　　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　と　（　　　　　　　　　　）の両方に（　　　　　　）をか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66"/>
                </a:solidFill>
                <a:latin typeface="Arial"/>
              </a:rPr>
              <a:t>わる数を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　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339966"/>
                </a:solidFill>
                <a:latin typeface="Arial"/>
              </a:rPr>
              <a:t>）にして計算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19120" y="3036960"/>
            <a:ext cx="6476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7200" y="5248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わる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54520" y="52513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わられる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76320" y="5246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同じ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63200" y="5813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整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04960" y="2602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でわる計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89440" y="1125360"/>
            <a:ext cx="18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÷0.8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60720" y="2852640"/>
            <a:ext cx="18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÷0.5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720" y="450864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÷0.4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7840" y="112536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×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÷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48000" y="2133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29480" y="285264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×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328464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7162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720" y="476280"/>
            <a:ext cx="1689480" cy="3682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いっしょに考えよう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9280" y="3254400"/>
            <a:ext cx="502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09800" y="4906800"/>
            <a:ext cx="503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6360" y="1484280"/>
            <a:ext cx="503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450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5013360"/>
            <a:ext cx="7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29880" y="11253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8×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29880" y="28526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×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333360"/>
            <a:ext cx="576360" cy="5763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04960" y="2602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でわる計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140360" y="5445000"/>
            <a:ext cx="3024000" cy="1008360"/>
          </a:xfrm>
          <a:prstGeom prst="wedgeRoundRectCallout">
            <a:avLst>
              <a:gd name="adj1" fmla="val 58083"/>
              <a:gd name="adj2" fmla="val 937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68360" y="549360"/>
            <a:ext cx="1798560" cy="396720"/>
            <a:chOff x="2268360" y="549360"/>
            <a:chExt cx="1798560" cy="396720"/>
          </a:xfrm>
        </p:grpSpPr>
        <p:sp>
          <p:nvSpPr>
            <p:cNvPr id="136" name=""/>
            <p:cNvSpPr/>
            <p:nvPr/>
          </p:nvSpPr>
          <p:spPr>
            <a:xfrm>
              <a:off x="2268360" y="549360"/>
              <a:ext cx="179604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18760" y="549360"/>
              <a:ext cx="17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971640" y="1557360"/>
            <a:ext cx="290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 ÷ 0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÷ 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443700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÷0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4520" y="1557360"/>
            <a:ext cx="272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÷ 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6 ÷ 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8360" y="443700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4÷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551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わる数が整数になるように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わる数，わられる数の両方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１０倍するんだ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04960" y="2602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でわる計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495200" y="5717880"/>
            <a:ext cx="893160" cy="592200"/>
            <a:chOff x="7495200" y="5717880"/>
            <a:chExt cx="893160" cy="592200"/>
          </a:xfrm>
        </p:grpSpPr>
        <p:graphicFrame>
          <p:nvGraphicFramePr>
            <p:cNvPr id="145" name=""/>
            <p:cNvGraphicFramePr/>
            <p:nvPr/>
          </p:nvGraphicFramePr>
          <p:xfrm>
            <a:off x="8261280" y="5914800"/>
            <a:ext cx="127080" cy="117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261280" y="5914800"/>
                      <a:ext cx="127080" cy="11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>
              <a:off x="7651800" y="5734080"/>
              <a:ext cx="658800" cy="576000"/>
            </a:xfrm>
            <a:custGeom>
              <a:avLst/>
              <a:gdLst/>
              <a:ahLst/>
              <a:rect l="l" t="t" r="r" b="b"/>
              <a:pathLst>
                <a:path w="484" h="395">
                  <a:moveTo>
                    <a:pt x="242" y="0"/>
                  </a:moveTo>
                  <a:lnTo>
                    <a:pt x="0" y="395"/>
                  </a:lnTo>
                  <a:lnTo>
                    <a:pt x="484" y="395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51800" y="5734080"/>
              <a:ext cx="658800" cy="576000"/>
            </a:xfrm>
            <a:custGeom>
              <a:avLst/>
              <a:gdLst/>
              <a:ahLst/>
              <a:rect l="l" t="t" r="r" b="b"/>
              <a:pathLst>
                <a:path w="484" h="395">
                  <a:moveTo>
                    <a:pt x="242" y="0"/>
                  </a:moveTo>
                  <a:lnTo>
                    <a:pt x="0" y="395"/>
                  </a:lnTo>
                  <a:lnTo>
                    <a:pt x="484" y="395"/>
                  </a:lnTo>
                  <a:lnTo>
                    <a:pt x="242" y="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163000" y="5992560"/>
              <a:ext cx="128520" cy="6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8008920" y="5994360"/>
              <a:ext cx="101520" cy="47520"/>
              <a:chOff x="8008920" y="5994360"/>
              <a:chExt cx="101520" cy="47520"/>
            </a:xfrm>
          </p:grpSpPr>
          <p:sp>
            <p:nvSpPr>
              <p:cNvPr id="151" name=""/>
              <p:cNvSpPr/>
              <p:nvPr/>
            </p:nvSpPr>
            <p:spPr>
              <a:xfrm>
                <a:off x="8008920" y="5994360"/>
                <a:ext cx="101520" cy="4752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08920" y="5994360"/>
                <a:ext cx="101520" cy="4752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7846920" y="6006960"/>
              <a:ext cx="103320" cy="49320"/>
              <a:chOff x="7846920" y="6006960"/>
              <a:chExt cx="103320" cy="49320"/>
            </a:xfrm>
          </p:grpSpPr>
          <p:sp>
            <p:nvSpPr>
              <p:cNvPr id="154" name=""/>
              <p:cNvSpPr/>
              <p:nvPr/>
            </p:nvSpPr>
            <p:spPr>
              <a:xfrm>
                <a:off x="7846920" y="6006960"/>
                <a:ext cx="103320" cy="4932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846920" y="6006960"/>
                <a:ext cx="103320" cy="4932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859880" y="6121440"/>
              <a:ext cx="253800" cy="128520"/>
              <a:chOff x="7859880" y="6121440"/>
              <a:chExt cx="253800" cy="128520"/>
            </a:xfrm>
          </p:grpSpPr>
          <p:sp>
            <p:nvSpPr>
              <p:cNvPr id="157" name=""/>
              <p:cNvSpPr/>
              <p:nvPr/>
            </p:nvSpPr>
            <p:spPr>
              <a:xfrm>
                <a:off x="7859880" y="6121440"/>
                <a:ext cx="253800" cy="1285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859880" y="6121440"/>
                <a:ext cx="253800" cy="1285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flipH="1" flipV="1">
              <a:off x="7667640" y="5957640"/>
              <a:ext cx="12240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 rot="20973000">
              <a:off x="7524360" y="5734080"/>
              <a:ext cx="209520" cy="34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628640"/>
            <a:ext cx="290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 ÷ 0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÷ 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÷0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4520" y="1557360"/>
            <a:ext cx="272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÷ 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6 ÷ 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8360" y="443700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4÷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84120" y="47628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03480" y="2133720"/>
            <a:ext cx="503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17720" y="3573360"/>
            <a:ext cx="503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03400" y="5013360"/>
            <a:ext cx="503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56320" y="2060640"/>
            <a:ext cx="503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31000" y="3513240"/>
            <a:ext cx="503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785680" y="2003400"/>
            <a:ext cx="503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84840" y="4921200"/>
            <a:ext cx="503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95040" y="3421080"/>
            <a:ext cx="503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465680" y="1927080"/>
            <a:ext cx="503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94120" y="1647720"/>
            <a:ext cx="136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60÷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75680" y="1585800"/>
            <a:ext cx="136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70÷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98640" y="3111480"/>
            <a:ext cx="11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0÷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03920" y="3057480"/>
            <a:ext cx="11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6÷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69560" y="4508640"/>
            <a:ext cx="10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÷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89800" y="4459320"/>
            <a:ext cx="11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4÷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04960" y="2602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でわる計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268360" y="549360"/>
            <a:ext cx="1798560" cy="396720"/>
            <a:chOff x="2268360" y="549360"/>
            <a:chExt cx="1798560" cy="396720"/>
          </a:xfrm>
        </p:grpSpPr>
        <p:sp>
          <p:nvSpPr>
            <p:cNvPr id="183" name=""/>
            <p:cNvSpPr/>
            <p:nvPr/>
          </p:nvSpPr>
          <p:spPr>
            <a:xfrm>
              <a:off x="2268360" y="549360"/>
              <a:ext cx="179604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18760" y="549360"/>
              <a:ext cx="17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2:55:57Z</dcterms:created>
  <dc:creator>kangawa-kaori-1</dc:creator>
  <dc:description/>
  <dc:language>en-US</dc:language>
  <cp:lastModifiedBy>kangawa-kaori-1</cp:lastModifiedBy>
  <dcterms:modified xsi:type="dcterms:W3CDTF">2007-11-14T06:32:44Z</dcterms:modified>
  <cp:revision>89</cp:revision>
  <dc:subject/>
  <dc:title>スライド 1</dc:title>
</cp:coreProperties>
</file>