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17AC-78F0-4E25-B183-56EE0D3B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8378-140A-4C71-8B0A-50A7866C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37FE-F630-4D83-9135-F22C14A0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544B-EFDD-43A5-A300-73C64645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6C4C-1D7D-409F-ACE8-282489D1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6688-707D-4A38-81F4-57C7A71F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C22D-35B4-4B95-98C2-9DFE1D01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1033-2EBA-47BC-AE99-5E694B5F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D01F-379F-4407-BBA9-FDFCCD97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8A35-5541-4C84-98AA-A0F68711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2AE9-40A1-4D33-A9E2-4F4CAECB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5F03-9FE6-4042-8105-30C9A701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01DC-CA2B-42C6-8AA0-ED30DD798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04000" y="260280"/>
            <a:ext cx="19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割合を求める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333360"/>
            <a:ext cx="2475000" cy="5778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割合を求め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82720" y="2535120"/>
            <a:ext cx="495360" cy="4716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09400" y="2448000"/>
            <a:ext cx="513612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太郎くんのおこづかい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円で，弟のおこづかい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円だそう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太郎くんのおこづかいは，弟のおこづかいの何倍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1120" y="1359000"/>
            <a:ext cx="7815960" cy="91692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ある量を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もとにし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（　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　　　　　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　が　（　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　　　　　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の何倍にあたるか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した数を　（　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　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とい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86280" y="1359000"/>
            <a:ext cx="1485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くらべる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21280" y="1359000"/>
            <a:ext cx="1485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もとにする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76640" y="1763640"/>
            <a:ext cx="80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割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22360" y="3446640"/>
            <a:ext cx="5399280" cy="0"/>
          </a:xfrm>
          <a:prstGeom prst="line">
            <a:avLst/>
          </a:prstGeom>
          <a:ln w="19080">
            <a:solidFill>
              <a:srgbClr val="99cc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947000" y="68436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06280" y="773280"/>
            <a:ext cx="674640" cy="803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19680" y="87156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ポイント　絶対覚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27720" y="3124080"/>
            <a:ext cx="280800" cy="281160"/>
          </a:xfrm>
          <a:prstGeom prst="ellipse">
            <a:avLst/>
          </a:prstGeom>
          <a:noFill/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6960" y="3389400"/>
            <a:ext cx="1486080" cy="0"/>
          </a:xfrm>
          <a:prstGeom prst="line">
            <a:avLst/>
          </a:prstGeom>
          <a:ln w="22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19160" y="42512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20960" y="4309920"/>
            <a:ext cx="280800" cy="281160"/>
          </a:xfrm>
          <a:prstGeom prst="ellipse">
            <a:avLst/>
          </a:prstGeom>
          <a:noFill/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36880" y="4238640"/>
            <a:ext cx="1890720" cy="0"/>
          </a:xfrm>
          <a:prstGeom prst="line">
            <a:avLst/>
          </a:prstGeom>
          <a:ln w="1584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24400" y="3124080"/>
            <a:ext cx="280800" cy="28116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11640" y="4251240"/>
            <a:ext cx="281160" cy="28116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118040" y="4092480"/>
            <a:ext cx="820800" cy="686520"/>
            <a:chOff x="4118040" y="4092480"/>
            <a:chExt cx="820800" cy="686520"/>
          </a:xfrm>
        </p:grpSpPr>
        <p:sp>
          <p:nvSpPr>
            <p:cNvPr id="61" name=""/>
            <p:cNvSpPr/>
            <p:nvPr/>
          </p:nvSpPr>
          <p:spPr>
            <a:xfrm>
              <a:off x="4187160" y="4092480"/>
              <a:ext cx="729360" cy="368280"/>
            </a:xfrm>
            <a:prstGeom prst="rect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太郎く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18040" y="447192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（６００円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239840" y="4103640"/>
            <a:ext cx="820800" cy="678600"/>
            <a:chOff x="1239840" y="4103640"/>
            <a:chExt cx="820800" cy="678600"/>
          </a:xfrm>
        </p:grpSpPr>
        <p:sp>
          <p:nvSpPr>
            <p:cNvPr id="64" name=""/>
            <p:cNvSpPr/>
            <p:nvPr/>
          </p:nvSpPr>
          <p:spPr>
            <a:xfrm>
              <a:off x="1520640" y="4103640"/>
              <a:ext cx="317880" cy="368280"/>
            </a:xfrm>
            <a:prstGeom prst="rect">
              <a:avLst/>
            </a:prstGeom>
            <a:noFill/>
            <a:ln w="158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39840" y="447516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（３００円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67000" y="3400560"/>
            <a:ext cx="1979640" cy="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546280" y="3844800"/>
            <a:ext cx="590760" cy="368280"/>
            <a:chOff x="2546280" y="3844800"/>
            <a:chExt cx="590760" cy="368280"/>
          </a:xfrm>
        </p:grpSpPr>
        <p:sp>
          <p:nvSpPr>
            <p:cNvPr id="68" name=""/>
            <p:cNvSpPr/>
            <p:nvPr/>
          </p:nvSpPr>
          <p:spPr>
            <a:xfrm>
              <a:off x="2546280" y="3890880"/>
              <a:ext cx="270000" cy="26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19160" y="38448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923760" y="472140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＜もとにする量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3760" y="4713120"/>
            <a:ext cx="18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＜くらべる量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41640" y="3548160"/>
            <a:ext cx="13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＜割合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83560" y="5184720"/>
            <a:ext cx="30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式　　６００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３００　＝　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40320" y="513864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２　倍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2000" y="5634000"/>
            <a:ext cx="16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くらべる量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77160" y="5634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もとにする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19520" y="5634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21280" y="55897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割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1280" y="5634000"/>
            <a:ext cx="8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割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88800" y="5634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76280" y="5543640"/>
            <a:ext cx="4230720" cy="49536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53640" y="60847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ポイント　絶対覚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497720" y="5994360"/>
            <a:ext cx="78732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958080" y="549360"/>
            <a:ext cx="18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割合を求める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15920" y="1224000"/>
            <a:ext cx="99072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61880" y="1257480"/>
            <a:ext cx="5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ある学校では，６００㎡の中庭があります。そのうち，１５０㎡が池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残りの４５０㎡がしばふになっ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00280" y="2278080"/>
            <a:ext cx="270000" cy="270000"/>
          </a:xfrm>
          <a:prstGeom prst="ellipse">
            <a:avLst/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2303640"/>
            <a:ext cx="270000" cy="269640"/>
          </a:xfrm>
          <a:prstGeom prst="ellipse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97440" y="2832120"/>
            <a:ext cx="729360" cy="368280"/>
          </a:xfrm>
          <a:prstGeom prst="rect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庭全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6640" y="3024360"/>
            <a:ext cx="1890720" cy="0"/>
          </a:xfrm>
          <a:prstGeom prst="line">
            <a:avLst/>
          </a:prstGeom>
          <a:ln w="1584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3160" y="2843280"/>
            <a:ext cx="317880" cy="368280"/>
          </a:xfrm>
          <a:prstGeom prst="rect">
            <a:avLst/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8080" y="3011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97160" y="3070080"/>
            <a:ext cx="270000" cy="270000"/>
          </a:xfrm>
          <a:prstGeom prst="ellipse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62360" y="2708280"/>
            <a:ext cx="270000" cy="270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79520" y="2664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028520" y="2251080"/>
            <a:ext cx="3452760" cy="368280"/>
            <a:chOff x="1028520" y="2251080"/>
            <a:chExt cx="3452760" cy="368280"/>
          </a:xfrm>
        </p:grpSpPr>
        <p:sp>
          <p:nvSpPr>
            <p:cNvPr id="97" name=""/>
            <p:cNvSpPr/>
            <p:nvPr/>
          </p:nvSpPr>
          <p:spPr>
            <a:xfrm>
              <a:off x="4189320" y="2251080"/>
              <a:ext cx="29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池の面積は，中庭全体の面積の何倍にあたるでしょう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28520" y="2251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ア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066680" y="342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＜線分図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789200" y="4170240"/>
            <a:ext cx="4324320" cy="314280"/>
            <a:chOff x="1789200" y="4170240"/>
            <a:chExt cx="4324320" cy="314280"/>
          </a:xfrm>
        </p:grpSpPr>
        <p:sp>
          <p:nvSpPr>
            <p:cNvPr id="101" name=""/>
            <p:cNvSpPr/>
            <p:nvPr/>
          </p:nvSpPr>
          <p:spPr>
            <a:xfrm>
              <a:off x="1789200" y="417024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92080" y="4327200"/>
              <a:ext cx="432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07040" y="417024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076560" y="417024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1785960" y="3508920"/>
            <a:ext cx="3072960" cy="153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026520" y="3594600"/>
            <a:ext cx="3072240" cy="145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88120" y="4867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６００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785960" y="3630600"/>
            <a:ext cx="3072960" cy="153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35520" y="3627360"/>
            <a:ext cx="3072960" cy="145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68120" y="3429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1784520" y="4002840"/>
            <a:ext cx="720000" cy="54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302200" y="4105800"/>
            <a:ext cx="76752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44800" y="4373640"/>
            <a:ext cx="7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792440" y="4089240"/>
            <a:ext cx="745200" cy="48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4086360"/>
            <a:ext cx="793440" cy="51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22360" y="3968640"/>
            <a:ext cx="223920" cy="2239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46280" y="2573280"/>
            <a:ext cx="946080" cy="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986200" y="2557080"/>
            <a:ext cx="1500120" cy="468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71360" y="56340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式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01960" y="30002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21400" y="3059280"/>
            <a:ext cx="269640" cy="269640"/>
          </a:xfrm>
          <a:prstGeom prst="ellipse">
            <a:avLst/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11400" y="3565440"/>
            <a:ext cx="185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3300"/>
                </a:solidFill>
                <a:latin typeface="Arial"/>
              </a:rPr>
              <a:t>割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400" spc="-1" strike="noStrike">
                <a:solidFill>
                  <a:srgbClr val="ff00ff"/>
                </a:solidFill>
                <a:latin typeface="Arial"/>
              </a:rPr>
              <a:t>くらべる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400" spc="-1" strike="noStrike">
                <a:solidFill>
                  <a:srgbClr val="0000ff"/>
                </a:solidFill>
                <a:latin typeface="Arial"/>
              </a:rPr>
              <a:t>もとにする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92720" y="3473280"/>
            <a:ext cx="2573280" cy="4683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57360" y="6084720"/>
            <a:ext cx="373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91920" y="5667480"/>
            <a:ext cx="22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５０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６００　＝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163560" y="4903920"/>
            <a:ext cx="1640520" cy="1703520"/>
            <a:chOff x="6163560" y="4903920"/>
            <a:chExt cx="1640520" cy="1703520"/>
          </a:xfrm>
        </p:grpSpPr>
        <p:grpSp>
          <p:nvGrpSpPr>
            <p:cNvPr id="127" name=""/>
            <p:cNvGrpSpPr/>
            <p:nvPr/>
          </p:nvGrpSpPr>
          <p:grpSpPr>
            <a:xfrm>
              <a:off x="6551640" y="5229360"/>
              <a:ext cx="1185840" cy="299880"/>
              <a:chOff x="6551640" y="5229360"/>
              <a:chExt cx="1185840" cy="299880"/>
            </a:xfrm>
          </p:grpSpPr>
          <p:sp>
            <p:nvSpPr>
              <p:cNvPr id="128" name=""/>
              <p:cNvSpPr/>
              <p:nvPr/>
            </p:nvSpPr>
            <p:spPr>
              <a:xfrm rot="5400000">
                <a:off x="6507000" y="5273640"/>
                <a:ext cx="299880" cy="210960"/>
              </a:xfrm>
              <a:prstGeom prst="blockArc">
                <a:avLst>
                  <a:gd name="adj1" fmla="val 12064740"/>
                  <a:gd name="adj2" fmla="val 20335260"/>
                  <a:gd name="adj3" fmla="val 2273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710400" y="5238360"/>
                <a:ext cx="102708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6719400" y="51800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63560" y="51912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81840" y="490392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38800" y="5178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59320" y="4905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19040" y="54468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59320" y="4905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6777000" y="5768640"/>
              <a:ext cx="10270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5560" y="57117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88200" y="5711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96120" y="4905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65200" y="59342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754680" y="6268680"/>
              <a:ext cx="10270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80280" y="6208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561120" y="56674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85920" y="3878280"/>
            <a:ext cx="990720" cy="181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7200" y="36640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8960" y="631656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答え（　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０．２５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42000" y="2529000"/>
            <a:ext cx="450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82160" y="31622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01680" y="31719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192720" y="2946240"/>
            <a:ext cx="58608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04000" y="260280"/>
            <a:ext cx="19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割合を求める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36800" y="785880"/>
            <a:ext cx="101412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82760" y="819000"/>
            <a:ext cx="5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ある学校では，６００㎡の中庭があります。そのうち，１５０㎡が池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残りの４５０㎡がしばふになっ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68560" y="1797120"/>
            <a:ext cx="270000" cy="269640"/>
          </a:xfrm>
          <a:prstGeom prst="ellipse">
            <a:avLst/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81480" y="1795320"/>
            <a:ext cx="270000" cy="270000"/>
          </a:xfrm>
          <a:prstGeom prst="ellipse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32000" y="2573280"/>
            <a:ext cx="428760" cy="368280"/>
          </a:xfrm>
          <a:prstGeom prst="rect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81280" y="2754360"/>
            <a:ext cx="1890720" cy="0"/>
          </a:xfrm>
          <a:prstGeom prst="line">
            <a:avLst/>
          </a:prstGeom>
          <a:ln w="1584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1440" y="2563920"/>
            <a:ext cx="835200" cy="368280"/>
          </a:xfrm>
          <a:prstGeom prst="rect">
            <a:avLst/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しば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28800" y="2798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47880" y="2857680"/>
            <a:ext cx="270000" cy="269640"/>
          </a:xfrm>
          <a:prstGeom prst="ellipse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22720" y="2438280"/>
            <a:ext cx="269640" cy="270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39880" y="2394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998280" y="1717560"/>
            <a:ext cx="3319560" cy="368280"/>
            <a:chOff x="998280" y="1717560"/>
            <a:chExt cx="3319560" cy="368280"/>
          </a:xfrm>
        </p:grpSpPr>
        <p:sp>
          <p:nvSpPr>
            <p:cNvPr id="165" name=""/>
            <p:cNvSpPr/>
            <p:nvPr/>
          </p:nvSpPr>
          <p:spPr>
            <a:xfrm>
              <a:off x="4025880" y="1717560"/>
              <a:ext cx="29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しばふの面積は，池の面積の何倍にあたるでしょう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98280" y="1717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イ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697040" y="342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＜線分図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419200" y="4170240"/>
            <a:ext cx="4324320" cy="314280"/>
            <a:chOff x="2419200" y="4170240"/>
            <a:chExt cx="4324320" cy="314280"/>
          </a:xfrm>
        </p:grpSpPr>
        <p:sp>
          <p:nvSpPr>
            <p:cNvPr id="169" name=""/>
            <p:cNvSpPr/>
            <p:nvPr/>
          </p:nvSpPr>
          <p:spPr>
            <a:xfrm>
              <a:off x="2419200" y="417024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22080" y="4327200"/>
              <a:ext cx="432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37040" y="417024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706920" y="417024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416320" y="3508920"/>
            <a:ext cx="3072240" cy="153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656160" y="3594600"/>
            <a:ext cx="3072960" cy="145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18120" y="4867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４５０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416320" y="3630600"/>
            <a:ext cx="3072240" cy="153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6240" y="3627360"/>
            <a:ext cx="3072240" cy="145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74240" y="3924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2414520" y="4002840"/>
            <a:ext cx="720000" cy="54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932560" y="4105800"/>
            <a:ext cx="76752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75160" y="4373640"/>
            <a:ext cx="7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422440" y="4089240"/>
            <a:ext cx="745920" cy="48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4086360"/>
            <a:ext cx="793440" cy="51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673280" y="2079360"/>
            <a:ext cx="1278000" cy="324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02000" y="2079720"/>
            <a:ext cx="900000" cy="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71360" y="56340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式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63800" y="2754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92600" y="2809800"/>
            <a:ext cx="270000" cy="270000"/>
          </a:xfrm>
          <a:prstGeom prst="ellipse">
            <a:avLst/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57360" y="6084720"/>
            <a:ext cx="373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91920" y="5667480"/>
            <a:ext cx="22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４５０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１５０　＝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138080" y="4959360"/>
            <a:ext cx="1338840" cy="1208160"/>
            <a:chOff x="7138080" y="4959360"/>
            <a:chExt cx="1338840" cy="1208160"/>
          </a:xfrm>
        </p:grpSpPr>
        <p:grpSp>
          <p:nvGrpSpPr>
            <p:cNvPr id="192" name=""/>
            <p:cNvGrpSpPr/>
            <p:nvPr/>
          </p:nvGrpSpPr>
          <p:grpSpPr>
            <a:xfrm>
              <a:off x="7138080" y="5224320"/>
              <a:ext cx="1338840" cy="943200"/>
              <a:chOff x="7138080" y="5224320"/>
              <a:chExt cx="1338840" cy="94320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7525800" y="5273640"/>
                <a:ext cx="946080" cy="299880"/>
                <a:chOff x="7525800" y="5273640"/>
                <a:chExt cx="946080" cy="299880"/>
              </a:xfrm>
            </p:grpSpPr>
            <p:sp>
              <p:nvSpPr>
                <p:cNvPr id="194" name=""/>
                <p:cNvSpPr/>
                <p:nvPr/>
              </p:nvSpPr>
              <p:spPr>
                <a:xfrm rot="5400000">
                  <a:off x="7459920" y="5339520"/>
                  <a:ext cx="299880" cy="168120"/>
                </a:xfrm>
                <a:prstGeom prst="blockArc">
                  <a:avLst>
                    <a:gd name="adj1" fmla="val 12064740"/>
                    <a:gd name="adj2" fmla="val 20335260"/>
                    <a:gd name="adj3" fmla="val 2273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V="1">
                  <a:off x="7652520" y="5282640"/>
                  <a:ext cx="819360" cy="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>
                <a:off x="7693920" y="522432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5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138080" y="523548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93920" y="549108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5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751520" y="5816520"/>
                <a:ext cx="72540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978320" y="5768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978320" y="4959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551040" y="558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57720" y="3429000"/>
            <a:ext cx="990360" cy="181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53520" y="3230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10160" y="631656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答え（　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３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20040" y="345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＜つづき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97400" y="3505320"/>
            <a:ext cx="189000" cy="188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69840" y="34290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42840" y="2889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07640" y="2889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7063920" y="260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割合を求める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41280" y="1133640"/>
            <a:ext cx="711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 あるテニススクールに通う子どもの人数は１５０人で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そのうち，男子は９０人，女子が６０人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041640" y="638280"/>
            <a:ext cx="1368000" cy="396720"/>
            <a:chOff x="3041640" y="638280"/>
            <a:chExt cx="1368000" cy="396720"/>
          </a:xfrm>
        </p:grpSpPr>
        <p:sp>
          <p:nvSpPr>
            <p:cNvPr id="214" name=""/>
            <p:cNvSpPr/>
            <p:nvPr/>
          </p:nvSpPr>
          <p:spPr>
            <a:xfrm>
              <a:off x="3041640" y="63828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79800" y="63828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147480" y="190656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１）男子の人数は，全体の人数の何倍で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26320" y="448776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２）男子の人数は，女子の人数の何倍で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15920" y="2438280"/>
            <a:ext cx="108108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97000" y="266400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22720" y="2438280"/>
            <a:ext cx="108108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99120" y="23446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＜線分図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8240" y="3732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式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67000" y="4194000"/>
            <a:ext cx="423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05880" y="387828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27080" y="4998960"/>
            <a:ext cx="108108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08160" y="52243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33880" y="4998960"/>
            <a:ext cx="108108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13080" y="49053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＜線分図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02240" y="5991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式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1000" y="6453360"/>
            <a:ext cx="423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825160" y="595008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51280" y="2349360"/>
            <a:ext cx="0" cy="803520"/>
          </a:xfrm>
          <a:prstGeom prst="line">
            <a:avLst/>
          </a:prstGeom>
          <a:ln w="1584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40120" y="4941720"/>
            <a:ext cx="0" cy="847800"/>
          </a:xfrm>
          <a:prstGeom prst="line">
            <a:avLst/>
          </a:prstGeom>
          <a:ln w="1584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586640" y="1133640"/>
            <a:ext cx="95256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7063920" y="260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割合を求める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41280" y="1133640"/>
            <a:ext cx="711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 あるテニススクールに通う子どもの人数は１５０人で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そのうち，男子は９０人，女子が６０人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041640" y="638280"/>
            <a:ext cx="1368000" cy="396720"/>
            <a:chOff x="3041640" y="638280"/>
            <a:chExt cx="1368000" cy="396720"/>
          </a:xfrm>
        </p:grpSpPr>
        <p:sp>
          <p:nvSpPr>
            <p:cNvPr id="238" name=""/>
            <p:cNvSpPr/>
            <p:nvPr/>
          </p:nvSpPr>
          <p:spPr>
            <a:xfrm>
              <a:off x="3041640" y="63828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79800" y="63828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3147480" y="190656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１）男子の人数は，全体の人数の何倍で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26320" y="448776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２）男子の人数は，女子の人数の何倍で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15920" y="2438280"/>
            <a:ext cx="108108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97000" y="266400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22720" y="2438280"/>
            <a:ext cx="108108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99120" y="23446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＜線分図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48240" y="3732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式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67000" y="4194000"/>
            <a:ext cx="423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05880" y="387828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27080" y="4998960"/>
            <a:ext cx="108108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08160" y="52243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33880" y="4998960"/>
            <a:ext cx="108108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13080" y="49053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＜線分図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02240" y="5991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式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1000" y="6453360"/>
            <a:ext cx="423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645520" y="599436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51280" y="2349360"/>
            <a:ext cx="0" cy="803520"/>
          </a:xfrm>
          <a:prstGeom prst="line">
            <a:avLst/>
          </a:prstGeom>
          <a:ln w="1584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40120" y="4941720"/>
            <a:ext cx="0" cy="847800"/>
          </a:xfrm>
          <a:prstGeom prst="line">
            <a:avLst/>
          </a:prstGeom>
          <a:ln w="1584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26680" y="18900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11280" y="4554360"/>
            <a:ext cx="270000" cy="270000"/>
          </a:xfrm>
          <a:prstGeom prst="ellipse">
            <a:avLst/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23920" y="4867200"/>
            <a:ext cx="1324080" cy="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08360" y="4867200"/>
            <a:ext cx="1333440" cy="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44760" y="1990800"/>
            <a:ext cx="270000" cy="269640"/>
          </a:xfrm>
          <a:prstGeom prst="ellipse">
            <a:avLst/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30640" y="1989000"/>
            <a:ext cx="270000" cy="270000"/>
          </a:xfrm>
          <a:prstGeom prst="ellipse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098960" y="4559400"/>
            <a:ext cx="270000" cy="269640"/>
          </a:xfrm>
          <a:prstGeom prst="ellipse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16280" y="2303640"/>
            <a:ext cx="1353960" cy="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46240" y="2297160"/>
            <a:ext cx="1333440" cy="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35480" y="2790720"/>
            <a:ext cx="270000" cy="270000"/>
          </a:xfrm>
          <a:prstGeom prst="ellipse">
            <a:avLst/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097000" y="2806560"/>
            <a:ext cx="270000" cy="270000"/>
          </a:xfrm>
          <a:prstGeom prst="ellipse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34040" y="5303880"/>
            <a:ext cx="269640" cy="270000"/>
          </a:xfrm>
          <a:prstGeom prst="ellipse">
            <a:avLst/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93760" y="5349960"/>
            <a:ext cx="270000" cy="269640"/>
          </a:xfrm>
          <a:prstGeom prst="ellipse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22360" y="2394000"/>
            <a:ext cx="179640" cy="179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33520" y="4987800"/>
            <a:ext cx="179640" cy="179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38000" y="2281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38000" y="4871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76480" y="24652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全体の人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59160" y="24987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男子の人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368880" y="50482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男子の人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76480" y="5049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女子の人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02360" y="2529000"/>
            <a:ext cx="0" cy="26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02360" y="2664000"/>
            <a:ext cx="283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931240" y="2517840"/>
            <a:ext cx="0" cy="26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210520" y="2506680"/>
            <a:ext cx="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rot="20883000">
            <a:off x="6079320" y="2261880"/>
            <a:ext cx="2044080" cy="42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627000">
            <a:off x="7371000" y="2290680"/>
            <a:ext cx="1569600" cy="50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23" y="419"/>
                </a:moveTo>
                <a:arcTo wR="10800" hR="10800" stAng="-6360157" swAng="6360157"/>
                <a:lnTo>
                  <a:pt x="10800" y="10800"/>
                </a:lnTo>
                <a:close/>
              </a:path>
              <a:path fill="none" w="21600" h="21600">
                <a:moveTo>
                  <a:pt x="7823" y="419"/>
                </a:moveTo>
                <a:arcTo wR="10800" hR="10800" stAng="-6360157" swAng="636015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 rot="717000">
            <a:off x="6108840" y="2798640"/>
            <a:ext cx="1704240" cy="8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 rot="20883000">
            <a:off x="6665760" y="2772720"/>
            <a:ext cx="1552320" cy="1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 rot="20883000">
            <a:off x="6072120" y="2455920"/>
            <a:ext cx="1704240" cy="8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717000">
            <a:off x="6688800" y="2438280"/>
            <a:ext cx="1551600" cy="1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 flipV="1" rot="717000">
            <a:off x="6080040" y="2652120"/>
            <a:ext cx="2044080" cy="42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 rot="20973000">
            <a:off x="7359480" y="2530440"/>
            <a:ext cx="1570320" cy="50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23" y="419"/>
                </a:moveTo>
                <a:arcTo wR="10800" hR="10800" stAng="-6360157" swAng="6360157"/>
                <a:lnTo>
                  <a:pt x="10800" y="10800"/>
                </a:lnTo>
                <a:close/>
              </a:path>
              <a:path fill="none" w="21600" h="21600">
                <a:moveTo>
                  <a:pt x="7823" y="419"/>
                </a:moveTo>
                <a:arcTo wR="10800" hR="10800" stAng="-6360157" swAng="636015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93080" y="288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089040" y="4636800"/>
            <a:ext cx="2394000" cy="1113840"/>
            <a:chOff x="6089040" y="4636800"/>
            <a:chExt cx="2394000" cy="1113840"/>
          </a:xfrm>
        </p:grpSpPr>
        <p:sp>
          <p:nvSpPr>
            <p:cNvPr id="293" name=""/>
            <p:cNvSpPr/>
            <p:nvPr/>
          </p:nvSpPr>
          <p:spPr>
            <a:xfrm>
              <a:off x="6129720" y="5052960"/>
              <a:ext cx="0" cy="26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29720" y="5187960"/>
              <a:ext cx="231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444160" y="504180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854480" y="503064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rot="20883000">
              <a:off x="6114960" y="4805280"/>
              <a:ext cx="1671840" cy="42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627000">
              <a:off x="7163280" y="4824000"/>
              <a:ext cx="12841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823" y="419"/>
                  </a:moveTo>
                  <a:arcTo wR="10800" hR="10800" stAng="-6360157" swAng="6360157"/>
                  <a:lnTo>
                    <a:pt x="10800" y="10800"/>
                  </a:lnTo>
                  <a:close/>
                </a:path>
                <a:path fill="none" w="21600" h="21600">
                  <a:moveTo>
                    <a:pt x="7823" y="419"/>
                  </a:moveTo>
                  <a:arcTo wR="10800" hR="10800" stAng="-6360157" swAng="6360157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 rot="717000">
              <a:off x="6135840" y="5307480"/>
              <a:ext cx="1393920" cy="8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 rot="20883000">
              <a:off x="6589800" y="5282640"/>
              <a:ext cx="1269360" cy="12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rot="20883000">
              <a:off x="6105600" y="4996440"/>
              <a:ext cx="1393920" cy="8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717000">
              <a:off x="6608160" y="4976640"/>
              <a:ext cx="126936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 rot="717000">
              <a:off x="6114240" y="5157360"/>
              <a:ext cx="1671840" cy="42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20973000">
              <a:off x="7154280" y="5045400"/>
              <a:ext cx="12841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823" y="419"/>
                  </a:moveTo>
                  <a:arcTo wR="10800" hR="10800" stAng="-6360157" swAng="6360157"/>
                  <a:lnTo>
                    <a:pt x="10800" y="10800"/>
                  </a:lnTo>
                  <a:close/>
                </a:path>
                <a:path fill="none" w="21600" h="21600">
                  <a:moveTo>
                    <a:pt x="7823" y="419"/>
                  </a:moveTo>
                  <a:arcTo wR="10800" hR="10800" stAng="-6360157" swAng="6360157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7018200" y="542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373520" y="2033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178760" y="2951280"/>
            <a:ext cx="7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927480" y="2754360"/>
            <a:ext cx="5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47000" y="2349360"/>
            <a:ext cx="22392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28840" y="3746520"/>
            <a:ext cx="26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90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50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＝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254720" y="38782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.6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78160" y="4824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182000" y="4689360"/>
            <a:ext cx="225360" cy="22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46640" y="5475240"/>
            <a:ext cx="5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98960" y="5259240"/>
            <a:ext cx="5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03360" y="6016680"/>
            <a:ext cx="25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90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60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＝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892560" y="59500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.5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038240" y="2855880"/>
            <a:ext cx="8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人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308760" y="2846520"/>
            <a:ext cx="78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人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48440" y="5405400"/>
            <a:ext cx="78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人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22920" y="5425920"/>
            <a:ext cx="78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人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07:39:48Z</dcterms:created>
  <dc:creator>kangawa-kaori-1</dc:creator>
  <dc:description/>
  <dc:language>en-US</dc:language>
  <cp:lastModifiedBy>kangawa-kaori-1</cp:lastModifiedBy>
  <dcterms:modified xsi:type="dcterms:W3CDTF">2007-11-14T06:20:37Z</dcterms:modified>
  <cp:revision>60</cp:revision>
  <dc:subject/>
  <dc:title>スライド 1</dc:title>
</cp:coreProperties>
</file>