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A46-7FE6-4C40-93BD-60D0323E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DF6-9007-48A1-9B97-EA1C2F4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54F-FAE3-430B-8F9F-939ECCD7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26E-5C7F-4227-873A-6DC8B11F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5FD-F5AF-4B7B-941B-2F36D82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5BE-BDF4-4880-BD2B-7A9C9959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244-1FF3-400B-BA51-BB2F712C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D12-805D-4660-A573-67A03DC7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821-0424-4463-9B62-A867491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4A5-AEE1-4236-A5DF-92F9871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A48-1FE5-4AD0-89BC-9BE834D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2DD-10CE-420C-A4D8-5E334F8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E875-91FD-4DD2-807C-F6D9E1F75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3160" y="6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14200" y="5335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式のよみ方を使って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838080"/>
            <a:ext cx="291960" cy="3682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りんごを正方形の形にならべ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1447920"/>
            <a:ext cx="1828800" cy="1806480"/>
            <a:chOff x="533520" y="1447920"/>
            <a:chExt cx="1828800" cy="18064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533520" y="259092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1295280" y="144792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1676520" y="144792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2057400" y="144792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2057400" y="182880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7"/>
            <a:stretch/>
          </p:blipFill>
          <p:spPr>
            <a:xfrm>
              <a:off x="2057400" y="220968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2057400" y="259092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tretch/>
          </p:blipFill>
          <p:spPr>
            <a:xfrm>
              <a:off x="2057400" y="297180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0"/>
            <a:stretch/>
          </p:blipFill>
          <p:spPr>
            <a:xfrm>
              <a:off x="1676520" y="297180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1"/>
            <a:stretch/>
          </p:blipFill>
          <p:spPr>
            <a:xfrm>
              <a:off x="1295280" y="297180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2"/>
            <a:stretch/>
          </p:blipFill>
          <p:spPr>
            <a:xfrm>
              <a:off x="914400" y="2971800"/>
              <a:ext cx="304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3"/>
            <a:stretch/>
          </p:blipFill>
          <p:spPr>
            <a:xfrm>
              <a:off x="533520" y="297180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4"/>
            <a:stretch/>
          </p:blipFill>
          <p:spPr>
            <a:xfrm>
              <a:off x="533520" y="144792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5"/>
            <a:stretch/>
          </p:blipFill>
          <p:spPr>
            <a:xfrm>
              <a:off x="533520" y="1828800"/>
              <a:ext cx="30456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6"/>
            <a:stretch/>
          </p:blipFill>
          <p:spPr>
            <a:xfrm>
              <a:off x="533520" y="2209680"/>
              <a:ext cx="30456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590920" y="1447920"/>
            <a:ext cx="52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けんたさんは，１辺に５こならべたときのりんごの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33960" y="190512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５－１）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23623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式に表して求め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21920" y="28195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どのように考えたのでしょう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1371600"/>
            <a:ext cx="1981080" cy="1981080"/>
            <a:chOff x="457200" y="1371600"/>
            <a:chExt cx="1981080" cy="1981080"/>
          </a:xfrm>
        </p:grpSpPr>
        <p:sp>
          <p:nvSpPr>
            <p:cNvPr id="66" name=""/>
            <p:cNvSpPr/>
            <p:nvPr/>
          </p:nvSpPr>
          <p:spPr>
            <a:xfrm>
              <a:off x="457200" y="1828800"/>
              <a:ext cx="457200" cy="15238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81080" y="1371600"/>
              <a:ext cx="457200" cy="15238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2895480"/>
              <a:ext cx="1600200" cy="4572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1371600"/>
              <a:ext cx="1600200" cy="4572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867280" y="2743200"/>
            <a:ext cx="679680" cy="6858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6340320" y="1981080"/>
            <a:ext cx="2286000" cy="761760"/>
            <a:chOff x="6340320" y="1981080"/>
            <a:chExt cx="2286000" cy="761760"/>
          </a:xfrm>
        </p:grpSpPr>
        <p:sp>
          <p:nvSpPr>
            <p:cNvPr id="72" name=""/>
            <p:cNvSpPr/>
            <p:nvPr/>
          </p:nvSpPr>
          <p:spPr>
            <a:xfrm>
              <a:off x="6652800" y="2003040"/>
              <a:ext cx="168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１辺から１ことった数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４倍だよ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40320" y="1981080"/>
              <a:ext cx="2286000" cy="761760"/>
            </a:xfrm>
            <a:prstGeom prst="wedgeRoundRectCallout">
              <a:avLst>
                <a:gd name="adj1" fmla="val -40416"/>
                <a:gd name="adj2" fmla="val 70000"/>
                <a:gd name="adj3" fmla="val 16667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33520" y="3962520"/>
            <a:ext cx="1008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3400" y="4419720"/>
            <a:ext cx="4844160" cy="64260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辺に６こや７こをならべたときのりんごの数は，けんたさんの求め方で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どんな式になります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4000" y="52038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辺が６このとき・・・・・・・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3440" y="4797360"/>
            <a:ext cx="232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－１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21520" y="6186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辺が７このとき・・・・・・・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0720" y="5805360"/>
            <a:ext cx="232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$ＪＳ明朝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－１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5227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66800" y="6165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191200"/>
            <a:ext cx="4316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4080" y="6165720"/>
            <a:ext cx="43200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04440" y="2492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ゆうすけさんはみかんの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5280" y="294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４－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5040" y="35593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式に表して求め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3520" y="1676520"/>
            <a:ext cx="2717640" cy="2638440"/>
            <a:chOff x="533520" y="1676520"/>
            <a:chExt cx="2717640" cy="2638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33520" y="21337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335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533520" y="25909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533520" y="35053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533520" y="30481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9907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5335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14479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19051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23623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2819520" y="1676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2819520" y="21337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3"/>
            <a:stretch/>
          </p:blipFill>
          <p:spPr>
            <a:xfrm>
              <a:off x="2819520" y="25909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4"/>
            <a:stretch/>
          </p:blipFill>
          <p:spPr>
            <a:xfrm>
              <a:off x="2819520" y="30481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5"/>
            <a:stretch/>
          </p:blipFill>
          <p:spPr>
            <a:xfrm>
              <a:off x="2819520" y="35053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6"/>
            <a:stretch/>
          </p:blipFill>
          <p:spPr>
            <a:xfrm>
              <a:off x="23623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7"/>
            <a:stretch/>
          </p:blipFill>
          <p:spPr>
            <a:xfrm>
              <a:off x="28195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8"/>
            <a:stretch/>
          </p:blipFill>
          <p:spPr>
            <a:xfrm>
              <a:off x="9907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9"/>
            <a:stretch/>
          </p:blipFill>
          <p:spPr>
            <a:xfrm>
              <a:off x="19051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0"/>
            <a:stretch/>
          </p:blipFill>
          <p:spPr>
            <a:xfrm>
              <a:off x="1447920" y="3962520"/>
              <a:ext cx="43164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630600" y="5084640"/>
            <a:ext cx="3152520" cy="64260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１辺に１０こならべたときのみかんの数は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ゆうすけさんの求め方ではどんな式になります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4508640"/>
            <a:ext cx="9349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4200" y="5335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式のよみ方を使って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1052640"/>
            <a:ext cx="1640520" cy="396720"/>
            <a:chOff x="1332000" y="1052640"/>
            <a:chExt cx="1640520" cy="396720"/>
          </a:xfrm>
        </p:grpSpPr>
        <p:sp>
          <p:nvSpPr>
            <p:cNvPr id="112" name=""/>
            <p:cNvSpPr/>
            <p:nvPr/>
          </p:nvSpPr>
          <p:spPr>
            <a:xfrm>
              <a:off x="1332000" y="1052640"/>
              <a:ext cx="16387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7720" y="1052640"/>
              <a:ext cx="159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05960" y="1143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ゆうすけさんはみかんの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20760" y="1600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６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４－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0600" y="2133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式に表して求め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990720"/>
            <a:ext cx="1640880" cy="396720"/>
            <a:chOff x="914400" y="990720"/>
            <a:chExt cx="1640880" cy="396720"/>
          </a:xfrm>
        </p:grpSpPr>
        <p:sp>
          <p:nvSpPr>
            <p:cNvPr id="118" name=""/>
            <p:cNvSpPr/>
            <p:nvPr/>
          </p:nvSpPr>
          <p:spPr>
            <a:xfrm>
              <a:off x="914400" y="990720"/>
              <a:ext cx="16390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0120" y="990720"/>
              <a:ext cx="15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349880" y="2743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１辺に１０こならべたときのみかんの数は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ゆうすけさんの求め方ではどんな式になります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1752480"/>
            <a:ext cx="1803240" cy="1752840"/>
            <a:chOff x="685800" y="1752480"/>
            <a:chExt cx="1803240" cy="17528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8580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85800" y="205740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85800" y="23623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85800" y="26668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685800" y="297180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68580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2209680" y="205740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99072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9"/>
            <a:stretch/>
          </p:blipFill>
          <p:spPr>
            <a:xfrm>
              <a:off x="129528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0"/>
            <a:stretch/>
          </p:blipFill>
          <p:spPr>
            <a:xfrm>
              <a:off x="160020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1"/>
            <a:stretch/>
          </p:blipFill>
          <p:spPr>
            <a:xfrm>
              <a:off x="190512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2"/>
            <a:stretch/>
          </p:blipFill>
          <p:spPr>
            <a:xfrm>
              <a:off x="2209680" y="17524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3"/>
            <a:stretch/>
          </p:blipFill>
          <p:spPr>
            <a:xfrm>
              <a:off x="2209680" y="23623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2209680" y="266688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5"/>
            <a:stretch/>
          </p:blipFill>
          <p:spPr>
            <a:xfrm>
              <a:off x="220968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6"/>
            <a:stretch/>
          </p:blipFill>
          <p:spPr>
            <a:xfrm>
              <a:off x="2209680" y="297180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7"/>
            <a:stretch/>
          </p:blipFill>
          <p:spPr>
            <a:xfrm>
              <a:off x="99072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8"/>
            <a:stretch/>
          </p:blipFill>
          <p:spPr>
            <a:xfrm>
              <a:off x="129528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9"/>
            <a:stretch/>
          </p:blipFill>
          <p:spPr>
            <a:xfrm>
              <a:off x="160020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0"/>
            <a:stretch/>
          </p:blipFill>
          <p:spPr>
            <a:xfrm>
              <a:off x="1905120" y="3276720"/>
              <a:ext cx="2793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685800" y="3886200"/>
            <a:ext cx="2438280" cy="2730240"/>
            <a:chOff x="685800" y="3886200"/>
            <a:chExt cx="2438280" cy="2730240"/>
          </a:xfrm>
        </p:grpSpPr>
        <p:sp>
          <p:nvSpPr>
            <p:cNvPr id="143" name=""/>
            <p:cNvSpPr/>
            <p:nvPr/>
          </p:nvSpPr>
          <p:spPr>
            <a:xfrm>
              <a:off x="1137240" y="3886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○○○○○○○○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37240" y="624816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○○○○○○○○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4114440"/>
              <a:ext cx="38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○○○○○○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4114440"/>
              <a:ext cx="38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○○○○○○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1600200"/>
            <a:ext cx="381240" cy="19810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600200"/>
            <a:ext cx="380880" cy="19810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200400"/>
            <a:ext cx="2057400" cy="3808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76520"/>
            <a:ext cx="2057400" cy="3808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5800" y="3886200"/>
            <a:ext cx="2514600" cy="2743200"/>
            <a:chOff x="685800" y="3886200"/>
            <a:chExt cx="2514600" cy="2743200"/>
          </a:xfrm>
        </p:grpSpPr>
        <p:sp>
          <p:nvSpPr>
            <p:cNvPr id="152" name=""/>
            <p:cNvSpPr/>
            <p:nvPr/>
          </p:nvSpPr>
          <p:spPr>
            <a:xfrm>
              <a:off x="685800" y="3962520"/>
              <a:ext cx="457200" cy="26668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3962520"/>
              <a:ext cx="457200" cy="26668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3886200"/>
              <a:ext cx="2438280" cy="38124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6248520"/>
              <a:ext cx="2438280" cy="3808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64880" y="4724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3657600" y="3657600"/>
            <a:ext cx="928800" cy="106524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105520" y="3429000"/>
            <a:ext cx="3429000" cy="762120"/>
            <a:chOff x="5105520" y="3429000"/>
            <a:chExt cx="3429000" cy="762120"/>
          </a:xfrm>
        </p:grpSpPr>
        <p:sp>
          <p:nvSpPr>
            <p:cNvPr id="159" name=""/>
            <p:cNvSpPr/>
            <p:nvPr/>
          </p:nvSpPr>
          <p:spPr>
            <a:xfrm>
              <a:off x="5105520" y="3429000"/>
              <a:ext cx="3429000" cy="762120"/>
            </a:xfrm>
            <a:prstGeom prst="wedgeRoundRectCallout">
              <a:avLst>
                <a:gd name="adj1" fmla="val -64444"/>
                <a:gd name="adj2" fmla="val 23541"/>
                <a:gd name="adj3" fmla="val 16667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82680" y="3505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すみにある４つのみかんは２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たしているから４をひいて・・・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980240" y="56386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１０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４ー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4200" y="5335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式のよみ方を使って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0:49:45Z</dcterms:created>
  <dc:creator>板野東小学校</dc:creator>
  <dc:description/>
  <dc:language>en-US</dc:language>
  <cp:lastModifiedBy>kangawa-kaori-1</cp:lastModifiedBy>
  <dcterms:modified xsi:type="dcterms:W3CDTF">2007-11-14T06:31:26Z</dcterms:modified>
  <cp:revision>31</cp:revision>
  <dc:subject/>
  <dc:title>PowerPoint プレゼンテーション</dc:title>
</cp:coreProperties>
</file>