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6C2-CCAF-4902-9EF6-DBFA6BCE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5E4-0B44-4682-B196-5B55AF17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32B-EDFE-4722-940C-5D42E133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FEDA-55A9-404D-9717-12F00399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902-7BD5-4E10-8B9A-FC622E2D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931-0BA6-4668-9A49-0F815647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A3A-D260-4905-AE93-0A858430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94EF-4054-4B1B-83F3-23F23F2E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BD29-06F4-49DF-A0E7-688296C3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C42-80EC-40A1-BF04-F464BA15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FCC-D424-43AF-A028-AB568141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FCEE-0144-42C8-8642-2E2191D6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E47A-070B-4C24-AB6D-8C806F529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97720" y="27936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・整数を分数に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22360" y="458640"/>
            <a:ext cx="3284640" cy="5781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数・整数を分数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63680" y="1220760"/>
            <a:ext cx="4948920" cy="459720"/>
            <a:chOff x="463680" y="1220760"/>
            <a:chExt cx="4948920" cy="459720"/>
          </a:xfrm>
        </p:grpSpPr>
        <p:sp>
          <p:nvSpPr>
            <p:cNvPr id="44" name=""/>
            <p:cNvSpPr/>
            <p:nvPr/>
          </p:nvSpPr>
          <p:spPr>
            <a:xfrm>
              <a:off x="463680" y="127620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62720" y="1220760"/>
              <a:ext cx="344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　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27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　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003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を分数で表しましょ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542520" y="2033640"/>
            <a:ext cx="10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6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595520" y="1866960"/>
            <a:ext cx="690480" cy="906120"/>
            <a:chOff x="1595520" y="1866960"/>
            <a:chExt cx="690480" cy="906120"/>
          </a:xfrm>
        </p:grpSpPr>
        <p:sp>
          <p:nvSpPr>
            <p:cNvPr id="48" name=""/>
            <p:cNvSpPr/>
            <p:nvPr/>
          </p:nvSpPr>
          <p:spPr>
            <a:xfrm flipV="1">
              <a:off x="1595520" y="2309760"/>
              <a:ext cx="69048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57520" y="18669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67160" y="22525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211640" y="5049720"/>
            <a:ext cx="4534560" cy="1359000"/>
            <a:chOff x="4211640" y="5049720"/>
            <a:chExt cx="4534560" cy="135900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4302000" y="5049720"/>
              <a:ext cx="49536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270680" y="5635440"/>
              <a:ext cx="57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1400" y="51404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ポイン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211640" y="5095800"/>
              <a:ext cx="4321080" cy="1260360"/>
            </a:xfrm>
            <a:prstGeom prst="rect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05680" y="5635440"/>
              <a:ext cx="6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11760" y="5635440"/>
              <a:ext cx="77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001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53440" y="5454720"/>
              <a:ext cx="435960" cy="641160"/>
              <a:chOff x="4753440" y="5454720"/>
              <a:chExt cx="435960" cy="641160"/>
            </a:xfrm>
          </p:grpSpPr>
          <p:sp>
            <p:nvSpPr>
              <p:cNvPr id="59" name=""/>
              <p:cNvSpPr/>
              <p:nvPr/>
            </p:nvSpPr>
            <p:spPr>
              <a:xfrm>
                <a:off x="4779720" y="5773680"/>
                <a:ext cx="4096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753440" y="572760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803840" y="5454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912640" y="5489640"/>
              <a:ext cx="560160" cy="609840"/>
              <a:chOff x="5912640" y="5489640"/>
              <a:chExt cx="560160" cy="609840"/>
            </a:xfrm>
          </p:grpSpPr>
          <p:sp>
            <p:nvSpPr>
              <p:cNvPr id="63" name=""/>
              <p:cNvSpPr/>
              <p:nvPr/>
            </p:nvSpPr>
            <p:spPr>
              <a:xfrm>
                <a:off x="5927760" y="5788080"/>
                <a:ext cx="5284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912640" y="573120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048720" y="5489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7380000" y="5765760"/>
              <a:ext cx="6112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19520" y="5724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44160" y="5454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95560" y="60404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を使っ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801920" y="558972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・・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824760" y="2979720"/>
            <a:ext cx="1219680" cy="711720"/>
            <a:chOff x="824760" y="2979720"/>
            <a:chExt cx="1219680" cy="711720"/>
          </a:xfrm>
        </p:grpSpPr>
        <p:sp>
          <p:nvSpPr>
            <p:cNvPr id="72" name=""/>
            <p:cNvSpPr/>
            <p:nvPr/>
          </p:nvSpPr>
          <p:spPr>
            <a:xfrm>
              <a:off x="824760" y="3147840"/>
              <a:ext cx="7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0.</a:t>
              </a:r>
              <a:r>
                <a:rPr b="1" lang="zh-CN" sz="2000" spc="-1" strike="noStrike">
                  <a:solidFill>
                    <a:srgbClr val="ff00ff"/>
                  </a:solidFill>
                  <a:latin typeface="Arial"/>
                </a:rPr>
                <a:t>１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37920" y="3346560"/>
              <a:ext cx="50652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7280" y="3292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45200" y="297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ff"/>
                  </a:solidFill>
                  <a:latin typeface="Arial"/>
                </a:rPr>
                <a:t>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791640" y="4508640"/>
            <a:ext cx="74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.6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515960" y="4354560"/>
            <a:ext cx="506520" cy="716400"/>
            <a:chOff x="1515960" y="4354560"/>
            <a:chExt cx="506520" cy="716400"/>
          </a:xfrm>
        </p:grpSpPr>
        <p:sp>
          <p:nvSpPr>
            <p:cNvPr id="78" name=""/>
            <p:cNvSpPr/>
            <p:nvPr/>
          </p:nvSpPr>
          <p:spPr>
            <a:xfrm>
              <a:off x="1515960" y="4707000"/>
              <a:ext cx="50652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28560" y="4672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12800" y="4354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376280" y="3789360"/>
            <a:ext cx="135000" cy="406440"/>
          </a:xfrm>
          <a:prstGeom prst="downArrow">
            <a:avLst>
              <a:gd name="adj1" fmla="val 50000"/>
              <a:gd name="adj2" fmla="val 752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9760" y="2011320"/>
            <a:ext cx="12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27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456080" y="1808280"/>
            <a:ext cx="955800" cy="971280"/>
            <a:chOff x="4456080" y="1808280"/>
            <a:chExt cx="955800" cy="971280"/>
          </a:xfrm>
        </p:grpSpPr>
        <p:sp>
          <p:nvSpPr>
            <p:cNvPr id="84" name=""/>
            <p:cNvSpPr/>
            <p:nvPr/>
          </p:nvSpPr>
          <p:spPr>
            <a:xfrm flipV="1">
              <a:off x="4456080" y="2270160"/>
              <a:ext cx="95580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4529880" y="1808280"/>
              <a:ext cx="775080" cy="971280"/>
              <a:chOff x="4529880" y="1808280"/>
              <a:chExt cx="775080" cy="971280"/>
            </a:xfrm>
          </p:grpSpPr>
          <p:sp>
            <p:nvSpPr>
              <p:cNvPr id="86" name=""/>
              <p:cNvSpPr/>
              <p:nvPr/>
            </p:nvSpPr>
            <p:spPr>
              <a:xfrm>
                <a:off x="4664160" y="180828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529880" y="2259000"/>
                <a:ext cx="775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" name=""/>
          <p:cNvSpPr/>
          <p:nvPr/>
        </p:nvSpPr>
        <p:spPr>
          <a:xfrm>
            <a:off x="3716280" y="2438280"/>
            <a:ext cx="13500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299400" y="2979720"/>
            <a:ext cx="1553760" cy="687960"/>
            <a:chOff x="3299400" y="2979720"/>
            <a:chExt cx="1553760" cy="687960"/>
          </a:xfrm>
        </p:grpSpPr>
        <p:sp>
          <p:nvSpPr>
            <p:cNvPr id="90" name=""/>
            <p:cNvSpPr/>
            <p:nvPr/>
          </p:nvSpPr>
          <p:spPr>
            <a:xfrm>
              <a:off x="3299400" y="3114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0.0</a:t>
              </a:r>
              <a:r>
                <a:rPr b="1" lang="zh-CN" sz="2000" spc="-1" strike="noStrike">
                  <a:solidFill>
                    <a:srgbClr val="ff00ff"/>
                  </a:solidFill>
                  <a:latin typeface="Arial"/>
                </a:rPr>
                <a:t>１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30720" y="3322800"/>
              <a:ext cx="62244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39720" y="32688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52040" y="297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ff"/>
                  </a:solidFill>
                  <a:latin typeface="Arial"/>
                </a:rPr>
                <a:t>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076640" y="3789360"/>
            <a:ext cx="135000" cy="406440"/>
          </a:xfrm>
          <a:prstGeom prst="downArrow">
            <a:avLst>
              <a:gd name="adj1" fmla="val 50000"/>
              <a:gd name="adj2" fmla="val 752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3240" y="4508640"/>
            <a:ext cx="88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.27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281480" y="4329000"/>
            <a:ext cx="636480" cy="713160"/>
            <a:chOff x="4281480" y="4329000"/>
            <a:chExt cx="636480" cy="713160"/>
          </a:xfrm>
        </p:grpSpPr>
        <p:sp>
          <p:nvSpPr>
            <p:cNvPr id="97" name=""/>
            <p:cNvSpPr/>
            <p:nvPr/>
          </p:nvSpPr>
          <p:spPr>
            <a:xfrm>
              <a:off x="4281480" y="4695840"/>
              <a:ext cx="636480" cy="32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03080" y="46432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93800" y="4329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038640" y="2022480"/>
            <a:ext cx="14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3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902920" y="2928960"/>
            <a:ext cx="1799640" cy="700560"/>
            <a:chOff x="5902920" y="2928960"/>
            <a:chExt cx="1799640" cy="700560"/>
          </a:xfrm>
        </p:grpSpPr>
        <p:sp>
          <p:nvSpPr>
            <p:cNvPr id="102" name=""/>
            <p:cNvSpPr/>
            <p:nvPr/>
          </p:nvSpPr>
          <p:spPr>
            <a:xfrm>
              <a:off x="5902920" y="3094200"/>
              <a:ext cx="104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0.00</a:t>
              </a:r>
              <a:r>
                <a:rPr b="1" lang="zh-CN" sz="2000" spc="-1" strike="noStrike">
                  <a:solidFill>
                    <a:srgbClr val="ff00ff"/>
                  </a:solidFill>
                  <a:latin typeface="Arial"/>
                </a:rPr>
                <a:t>１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31080" y="3271680"/>
              <a:ext cx="771480" cy="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09480" y="32306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49240" y="2928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ff"/>
                  </a:solidFill>
                  <a:latin typeface="Arial"/>
                </a:rPr>
                <a:t>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669000" y="3789360"/>
            <a:ext cx="135000" cy="406440"/>
          </a:xfrm>
          <a:prstGeom prst="downArrow">
            <a:avLst>
              <a:gd name="adj1" fmla="val 50000"/>
              <a:gd name="adj2" fmla="val 752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32720" y="449748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.003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853320" y="4373640"/>
            <a:ext cx="775440" cy="709920"/>
            <a:chOff x="6853320" y="4373640"/>
            <a:chExt cx="775440" cy="709920"/>
          </a:xfrm>
        </p:grpSpPr>
        <p:sp>
          <p:nvSpPr>
            <p:cNvPr id="109" name=""/>
            <p:cNvSpPr/>
            <p:nvPr/>
          </p:nvSpPr>
          <p:spPr>
            <a:xfrm>
              <a:off x="6853320" y="4707000"/>
              <a:ext cx="755640" cy="32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81040" y="46846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94520" y="4373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510320" y="1835280"/>
            <a:ext cx="1097280" cy="923760"/>
            <a:chOff x="7510320" y="1835280"/>
            <a:chExt cx="1097280" cy="923760"/>
          </a:xfrm>
        </p:grpSpPr>
        <p:sp>
          <p:nvSpPr>
            <p:cNvPr id="113" name=""/>
            <p:cNvSpPr/>
            <p:nvPr/>
          </p:nvSpPr>
          <p:spPr>
            <a:xfrm flipV="1">
              <a:off x="7510320" y="2260440"/>
              <a:ext cx="109728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48720" y="1835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42360" y="2238480"/>
              <a:ext cx="99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06280" y="5454720"/>
            <a:ext cx="3870360" cy="900000"/>
            <a:chOff x="206280" y="5454720"/>
            <a:chExt cx="3870360" cy="900000"/>
          </a:xfrm>
        </p:grpSpPr>
        <p:sp>
          <p:nvSpPr>
            <p:cNvPr id="117" name=""/>
            <p:cNvSpPr/>
            <p:nvPr/>
          </p:nvSpPr>
          <p:spPr>
            <a:xfrm>
              <a:off x="206280" y="5454720"/>
              <a:ext cx="3870360" cy="90000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8480" y="5589720"/>
              <a:ext cx="342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小数は，分母が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,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などの分数で表すことができ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566640" y="979560"/>
            <a:ext cx="4456440" cy="459720"/>
            <a:chOff x="566640" y="979560"/>
            <a:chExt cx="4456440" cy="459720"/>
          </a:xfrm>
        </p:grpSpPr>
        <p:sp>
          <p:nvSpPr>
            <p:cNvPr id="120" name=""/>
            <p:cNvSpPr/>
            <p:nvPr/>
          </p:nvSpPr>
          <p:spPr>
            <a:xfrm>
              <a:off x="566640" y="105408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01120" y="979560"/>
              <a:ext cx="362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　７，　１３　を分数で表しましょ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597720" y="27936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・整数を分数に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54480" y="243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７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185920" y="2257560"/>
            <a:ext cx="690480" cy="926640"/>
            <a:chOff x="2185920" y="2257560"/>
            <a:chExt cx="690480" cy="926640"/>
          </a:xfrm>
        </p:grpSpPr>
        <p:sp>
          <p:nvSpPr>
            <p:cNvPr id="125" name=""/>
            <p:cNvSpPr/>
            <p:nvPr/>
          </p:nvSpPr>
          <p:spPr>
            <a:xfrm flipV="1">
              <a:off x="2185920" y="2720520"/>
              <a:ext cx="69048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2322720" y="2257560"/>
              <a:ext cx="408600" cy="926640"/>
              <a:chOff x="2322720" y="2257560"/>
              <a:chExt cx="408600" cy="926640"/>
            </a:xfrm>
          </p:grpSpPr>
          <p:sp>
            <p:nvSpPr>
              <p:cNvPr id="127" name=""/>
              <p:cNvSpPr/>
              <p:nvPr/>
            </p:nvSpPr>
            <p:spPr>
              <a:xfrm>
                <a:off x="2337120" y="225756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７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322720" y="26636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4781520" y="2438280"/>
            <a:ext cx="8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619600" y="2279520"/>
            <a:ext cx="690480" cy="884160"/>
            <a:chOff x="5619600" y="2279520"/>
            <a:chExt cx="690480" cy="884160"/>
          </a:xfrm>
        </p:grpSpPr>
        <p:sp>
          <p:nvSpPr>
            <p:cNvPr id="131" name=""/>
            <p:cNvSpPr/>
            <p:nvPr/>
          </p:nvSpPr>
          <p:spPr>
            <a:xfrm flipV="1">
              <a:off x="5619600" y="2700000"/>
              <a:ext cx="69048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22840" y="22795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56400" y="2643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39640" y="4508640"/>
            <a:ext cx="8172720" cy="1416960"/>
            <a:chOff x="539640" y="4508640"/>
            <a:chExt cx="8172720" cy="141696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 flipH="1" rot="21114000">
              <a:off x="610560" y="4778280"/>
              <a:ext cx="101448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871640" y="4508640"/>
              <a:ext cx="6840720" cy="990360"/>
            </a:xfrm>
            <a:prstGeom prst="octagon">
              <a:avLst>
                <a:gd name="adj" fmla="val 29287"/>
              </a:avLst>
            </a:prstGeom>
            <a:noFill/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41640" y="4734000"/>
              <a:ext cx="630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整数は，</a:t>
              </a:r>
              <a:r>
                <a:rPr b="0" lang="zh-CN" sz="2400" spc="-1" strike="noStrike">
                  <a:solidFill>
                    <a:srgbClr val="ff3300"/>
                  </a:solidFill>
                  <a:latin typeface="Arial"/>
                </a:rPr>
                <a:t>１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を分母とする分数とみることができ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086840" y="4168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</a:rPr>
              <a:t>ポイ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2627280" y="620640"/>
            <a:ext cx="1368000" cy="396720"/>
            <a:chOff x="2627280" y="620640"/>
            <a:chExt cx="1368000" cy="396720"/>
          </a:xfrm>
        </p:grpSpPr>
        <p:sp>
          <p:nvSpPr>
            <p:cNvPr id="140" name=""/>
            <p:cNvSpPr/>
            <p:nvPr/>
          </p:nvSpPr>
          <p:spPr>
            <a:xfrm>
              <a:off x="2627280" y="620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5440" y="620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66640" y="1216080"/>
            <a:ext cx="3566520" cy="459720"/>
            <a:chOff x="566640" y="1216080"/>
            <a:chExt cx="3566520" cy="459720"/>
          </a:xfrm>
        </p:grpSpPr>
        <p:sp>
          <p:nvSpPr>
            <p:cNvPr id="143" name=""/>
            <p:cNvSpPr/>
            <p:nvPr/>
          </p:nvSpPr>
          <p:spPr>
            <a:xfrm>
              <a:off x="566640" y="129060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38040" y="1216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　次の小数・整数を分数で表しましょ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496880" y="245916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7640" y="2484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97240" y="3363840"/>
            <a:ext cx="117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7640" y="33894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06600" y="4255920"/>
            <a:ext cx="8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27000" y="42814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17760" y="5052960"/>
            <a:ext cx="117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0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38160" y="507852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98680" y="249228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19440" y="25178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78520" y="3406680"/>
            <a:ext cx="117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8920" y="34322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56200" y="4363920"/>
            <a:ext cx="13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76600" y="43894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87880" y="5192640"/>
            <a:ext cx="8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8640" y="52182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97720" y="27936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・整数を分数に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2627280" y="620640"/>
            <a:ext cx="1368000" cy="396720"/>
            <a:chOff x="2627280" y="620640"/>
            <a:chExt cx="1368000" cy="396720"/>
          </a:xfrm>
        </p:grpSpPr>
        <p:sp>
          <p:nvSpPr>
            <p:cNvPr id="163" name=""/>
            <p:cNvSpPr/>
            <p:nvPr/>
          </p:nvSpPr>
          <p:spPr>
            <a:xfrm>
              <a:off x="2627280" y="620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65440" y="620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66640" y="1216080"/>
            <a:ext cx="3566880" cy="459720"/>
            <a:chOff x="566640" y="1216080"/>
            <a:chExt cx="3566880" cy="459720"/>
          </a:xfrm>
        </p:grpSpPr>
        <p:sp>
          <p:nvSpPr>
            <p:cNvPr id="166" name=""/>
            <p:cNvSpPr/>
            <p:nvPr/>
          </p:nvSpPr>
          <p:spPr>
            <a:xfrm>
              <a:off x="566640" y="129060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38400" y="1216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　次の小数・整数を分数で表しましょ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496880" y="245916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7640" y="2484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97240" y="3363840"/>
            <a:ext cx="117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7640" y="33894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06600" y="4255920"/>
            <a:ext cx="8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27000" y="42814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17760" y="5052960"/>
            <a:ext cx="117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0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38160" y="507852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98680" y="249228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19440" y="25178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78520" y="3406680"/>
            <a:ext cx="117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8920" y="34322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56200" y="4363920"/>
            <a:ext cx="13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76600" y="43894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87880" y="5192640"/>
            <a:ext cx="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08640" y="52182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06120" y="27936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97720" y="27936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小数・整数を分数に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477160" y="2303640"/>
            <a:ext cx="526320" cy="845280"/>
            <a:chOff x="2477160" y="2303640"/>
            <a:chExt cx="526320" cy="845280"/>
          </a:xfrm>
        </p:grpSpPr>
        <p:sp>
          <p:nvSpPr>
            <p:cNvPr id="187" name=""/>
            <p:cNvSpPr/>
            <p:nvPr/>
          </p:nvSpPr>
          <p:spPr>
            <a:xfrm>
              <a:off x="2560320" y="230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Arial"/>
                </a:rPr>
                <a:t>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477160" y="26892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496960" y="2706840"/>
              <a:ext cx="506520" cy="2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014160" y="2303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26760" y="2720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046920" y="2738160"/>
            <a:ext cx="506160" cy="3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83440" y="3249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94880" y="36082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679840" y="3641400"/>
            <a:ext cx="506160" cy="3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30680" y="3294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52480" y="36622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37440" y="3695400"/>
            <a:ext cx="506160" cy="3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3800" y="4103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73560" y="4464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411280" y="4503240"/>
            <a:ext cx="506520" cy="3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6520" y="4248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75240" y="4599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54800" y="4633920"/>
            <a:ext cx="741240" cy="3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53560" y="49482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58600" y="52974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743200" y="5330520"/>
            <a:ext cx="506520" cy="3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34520" y="504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04280" y="541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742000" y="5450040"/>
            <a:ext cx="506520" cy="28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5:21:33Z</dcterms:created>
  <dc:creator>kangawa-kaori-1</dc:creator>
  <dc:description/>
  <dc:language>en-US</dc:language>
  <cp:lastModifiedBy>kangawa-kaori-1</cp:lastModifiedBy>
  <dcterms:modified xsi:type="dcterms:W3CDTF">2007-11-14T06:21:42Z</dcterms:modified>
  <cp:revision>55</cp:revision>
  <dc:subject/>
  <dc:title>スライド 1</dc:title>
</cp:coreProperties>
</file>