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831-E907-4B94-9CD2-57CA86D6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BEE-F383-46A0-AE42-097C906C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471-C6ED-4EAF-B71E-6950EB3E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A71-88D8-4A15-9A63-6983DC56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317-BA2D-47E5-8F36-C3CE688D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688-19CF-48CD-BC2E-B7718C26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7E5-3A60-4C2E-9159-656B4F7A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4FC-2026-4E9C-8792-D50CC122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B9F-7C2E-4B6F-90CA-932387C9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7A9-DC32-4159-AC7A-A90058AC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66E-8F87-4FFF-BE08-FEA2C68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161-D2E0-4900-B2A8-30AE0321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CB31-2B90-4394-9699-C0A539EEA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43160" y="2022480"/>
            <a:ext cx="1642680" cy="591120"/>
            <a:chOff x="2243160" y="2022480"/>
            <a:chExt cx="1642680" cy="591120"/>
          </a:xfrm>
        </p:grpSpPr>
        <p:sp>
          <p:nvSpPr>
            <p:cNvPr id="42" name=""/>
            <p:cNvSpPr/>
            <p:nvPr/>
          </p:nvSpPr>
          <p:spPr>
            <a:xfrm rot="5400000">
              <a:off x="2488320" y="2132280"/>
              <a:ext cx="503280" cy="293400"/>
            </a:xfrm>
            <a:prstGeom prst="blockArc">
              <a:avLst>
                <a:gd name="adj1" fmla="val 12064740"/>
                <a:gd name="adj2" fmla="val 20335260"/>
                <a:gd name="adj3" fmla="val 227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06560" y="204948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12400" y="203220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3.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43160" y="20224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692280"/>
            <a:ext cx="31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.6 ÷ 4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筆算のしか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54080" y="155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9440" y="1555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4880" y="1569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76360" y="5157720"/>
            <a:ext cx="974880" cy="669600"/>
            <a:chOff x="1476360" y="5157720"/>
            <a:chExt cx="974880" cy="669600"/>
          </a:xfrm>
        </p:grpSpPr>
        <p:graphicFrame>
          <p:nvGraphicFramePr>
            <p:cNvPr id="51" name=""/>
            <p:cNvGraphicFramePr/>
            <p:nvPr/>
          </p:nvGraphicFramePr>
          <p:xfrm>
            <a:off x="1476360" y="5334120"/>
            <a:ext cx="138240" cy="13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5334120"/>
                      <a:ext cx="138240" cy="1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3" name=""/>
            <p:cNvGrpSpPr/>
            <p:nvPr/>
          </p:nvGrpSpPr>
          <p:grpSpPr>
            <a:xfrm>
              <a:off x="1571760" y="5180040"/>
              <a:ext cx="712800" cy="647280"/>
              <a:chOff x="1571760" y="5180040"/>
              <a:chExt cx="712800" cy="647280"/>
            </a:xfrm>
          </p:grpSpPr>
          <p:sp>
            <p:nvSpPr>
              <p:cNvPr id="54" name=""/>
              <p:cNvSpPr/>
              <p:nvPr/>
            </p:nvSpPr>
            <p:spPr>
              <a:xfrm>
                <a:off x="1571760" y="518004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1760" y="518004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 flipV="1">
              <a:off x="2124360" y="5470200"/>
              <a:ext cx="13788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957680" y="5472000"/>
              <a:ext cx="109440" cy="54000"/>
              <a:chOff x="1957680" y="5472000"/>
              <a:chExt cx="109440" cy="54000"/>
            </a:xfrm>
          </p:grpSpPr>
          <p:sp>
            <p:nvSpPr>
              <p:cNvPr id="58" name=""/>
              <p:cNvSpPr/>
              <p:nvPr/>
            </p:nvSpPr>
            <p:spPr>
              <a:xfrm>
                <a:off x="1957680" y="547200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57680" y="547200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1783080" y="5488200"/>
              <a:ext cx="112680" cy="53640"/>
              <a:chOff x="1783080" y="5488200"/>
              <a:chExt cx="112680" cy="53640"/>
            </a:xfrm>
          </p:grpSpPr>
          <p:sp>
            <p:nvSpPr>
              <p:cNvPr id="61" name=""/>
              <p:cNvSpPr/>
              <p:nvPr/>
            </p:nvSpPr>
            <p:spPr>
              <a:xfrm>
                <a:off x="1783080" y="5488200"/>
                <a:ext cx="112680" cy="5364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83080" y="5488200"/>
                <a:ext cx="112680" cy="5364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795680" y="5616720"/>
              <a:ext cx="276120" cy="144360"/>
              <a:chOff x="1795680" y="5616720"/>
              <a:chExt cx="276120" cy="144360"/>
            </a:xfrm>
          </p:grpSpPr>
          <p:sp>
            <p:nvSpPr>
              <p:cNvPr id="64" name=""/>
              <p:cNvSpPr/>
              <p:nvPr/>
            </p:nvSpPr>
            <p:spPr>
              <a:xfrm>
                <a:off x="1795680" y="5616720"/>
                <a:ext cx="27612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95680" y="5616720"/>
                <a:ext cx="27612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 flipV="1">
              <a:off x="1589400" y="5432040"/>
              <a:ext cx="13176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 flipH="1">
              <a:off x="2163960" y="5157720"/>
              <a:ext cx="28728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2124000" y="4076640"/>
            <a:ext cx="1801800" cy="662040"/>
            <a:chOff x="2124000" y="4076640"/>
            <a:chExt cx="1801800" cy="662040"/>
          </a:xfrm>
        </p:grpSpPr>
        <p:sp>
          <p:nvSpPr>
            <p:cNvPr id="69" name=""/>
            <p:cNvSpPr/>
            <p:nvPr/>
          </p:nvSpPr>
          <p:spPr>
            <a:xfrm>
              <a:off x="2124000" y="4076640"/>
              <a:ext cx="1730160" cy="662040"/>
            </a:xfrm>
            <a:prstGeom prst="wedgeRectCallout">
              <a:avLst>
                <a:gd name="adj1" fmla="val -44861"/>
                <a:gd name="adj2" fmla="val 87171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97080" y="4076640"/>
              <a:ext cx="172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一の位には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商がたたない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574360" y="4841280"/>
            <a:ext cx="2096640" cy="1135080"/>
            <a:chOff x="2574360" y="4841280"/>
            <a:chExt cx="2096640" cy="1135080"/>
          </a:xfrm>
        </p:grpSpPr>
        <p:sp>
          <p:nvSpPr>
            <p:cNvPr id="72" name=""/>
            <p:cNvSpPr/>
            <p:nvPr/>
          </p:nvSpPr>
          <p:spPr>
            <a:xfrm rot="952200">
              <a:off x="2626920" y="5084640"/>
              <a:ext cx="1871640" cy="648000"/>
            </a:xfrm>
            <a:prstGeom prst="wedgeRoundRectCallout">
              <a:avLst>
                <a:gd name="adj1" fmla="val -49407"/>
                <a:gd name="adj2" fmla="val 60050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918000">
              <a:off x="2699640" y="515772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．とかくよ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157560" y="1994040"/>
            <a:ext cx="358920" cy="720720"/>
            <a:chOff x="3157560" y="1994040"/>
            <a:chExt cx="358920" cy="720720"/>
          </a:xfrm>
        </p:grpSpPr>
        <p:sp>
          <p:nvSpPr>
            <p:cNvPr id="75" name=""/>
            <p:cNvSpPr/>
            <p:nvPr/>
          </p:nvSpPr>
          <p:spPr>
            <a:xfrm rot="16200000">
              <a:off x="2976480" y="217476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6200000">
              <a:off x="3187440" y="208080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29200" y="249876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29200" y="257004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502080" y="1989000"/>
            <a:ext cx="358560" cy="720720"/>
            <a:chOff x="3502080" y="1989000"/>
            <a:chExt cx="358560" cy="720720"/>
          </a:xfrm>
        </p:grpSpPr>
        <p:sp>
          <p:nvSpPr>
            <p:cNvPr id="80" name=""/>
            <p:cNvSpPr/>
            <p:nvPr/>
          </p:nvSpPr>
          <p:spPr>
            <a:xfrm rot="16200000">
              <a:off x="3321000" y="2170080"/>
              <a:ext cx="720720" cy="35856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3531600" y="2076120"/>
              <a:ext cx="304920" cy="24084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73360" y="249372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73360" y="256500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333840" y="155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189400" y="2022480"/>
            <a:ext cx="1642680" cy="591120"/>
            <a:chOff x="5189400" y="2022480"/>
            <a:chExt cx="1642680" cy="591120"/>
          </a:xfrm>
        </p:grpSpPr>
        <p:sp>
          <p:nvSpPr>
            <p:cNvPr id="86" name=""/>
            <p:cNvSpPr/>
            <p:nvPr/>
          </p:nvSpPr>
          <p:spPr>
            <a:xfrm rot="5400000">
              <a:off x="5434560" y="2132280"/>
              <a:ext cx="503280" cy="293400"/>
            </a:xfrm>
            <a:prstGeom prst="blockArc">
              <a:avLst>
                <a:gd name="adj1" fmla="val 12064740"/>
                <a:gd name="adj2" fmla="val 20335260"/>
                <a:gd name="adj3" fmla="val 227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52800" y="204948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58640" y="203220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3.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9400" y="20224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249960" y="1560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99040" y="155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33920" y="2463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58320" y="2435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79880" y="2468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86280" y="298944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4508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96440" y="4221000"/>
            <a:ext cx="170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0.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90880" y="5092560"/>
            <a:ext cx="20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4149720"/>
            <a:ext cx="2879640" cy="1727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4292640"/>
            <a:ext cx="1800360" cy="576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95640" y="4292640"/>
            <a:ext cx="1800360" cy="576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5013360"/>
            <a:ext cx="935280" cy="865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24000" y="476280"/>
            <a:ext cx="762120" cy="115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93144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算の筆算２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340000" y="907920"/>
            <a:ext cx="1944360" cy="396720"/>
            <a:chOff x="2340000" y="907920"/>
            <a:chExt cx="1944360" cy="396720"/>
          </a:xfrm>
        </p:grpSpPr>
        <p:sp>
          <p:nvSpPr>
            <p:cNvPr id="106" name=""/>
            <p:cNvSpPr/>
            <p:nvPr/>
          </p:nvSpPr>
          <p:spPr>
            <a:xfrm>
              <a:off x="2340000" y="907920"/>
              <a:ext cx="194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94360" y="907920"/>
              <a:ext cx="18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805360" y="12682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筆算を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09104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408560" y="277128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56080" y="2781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1440" y="2781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5600" y="21528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1353960" y="2881440"/>
            <a:ext cx="50292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71480" y="2795760"/>
            <a:ext cx="115740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28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4360" y="2805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8880" y="217656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7041600" y="284940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359480" y="276336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07360" y="27734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４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360" y="2773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36880" y="214488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2205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144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算の筆算２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340000" y="907920"/>
            <a:ext cx="1944360" cy="396720"/>
            <a:chOff x="2340000" y="907920"/>
            <a:chExt cx="1944360" cy="396720"/>
          </a:xfrm>
        </p:grpSpPr>
        <p:sp>
          <p:nvSpPr>
            <p:cNvPr id="127" name=""/>
            <p:cNvSpPr/>
            <p:nvPr/>
          </p:nvSpPr>
          <p:spPr>
            <a:xfrm>
              <a:off x="2340000" y="907920"/>
              <a:ext cx="194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94360" y="907920"/>
              <a:ext cx="18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5400000">
            <a:off x="409104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08560" y="277128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56080" y="2781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1440" y="2781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5600" y="21528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353960" y="2881440"/>
            <a:ext cx="50292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671480" y="2795760"/>
            <a:ext cx="115740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19360" y="28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4360" y="2805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8880" y="217656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7041600" y="284940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359480" y="276336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07360" y="27734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４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32360" y="2773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36880" y="214488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6680" y="9810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2205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9720" y="2205000"/>
            <a:ext cx="9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０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1000" y="2165400"/>
            <a:ext cx="9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０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79520" y="2158920"/>
            <a:ext cx="9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０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144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算の筆算２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8:36Z</dcterms:created>
  <dc:creator>kangawa-kaori-1</dc:creator>
  <dc:description/>
  <dc:language>en-US</dc:language>
  <cp:lastModifiedBy>kangawa-kaori-1</cp:lastModifiedBy>
  <dcterms:modified xsi:type="dcterms:W3CDTF">2007-11-14T06:24:59Z</dcterms:modified>
  <cp:revision>120</cp:revision>
  <dc:subject/>
  <dc:title>スライド 1</dc:title>
</cp:coreProperties>
</file>