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1B7-152B-44D6-8E75-D5398A79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201-634F-4CF3-B53B-A7EC5D3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AAC-3033-4D5A-B440-262599B8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05A-A3D8-4684-B6D1-D60B44EF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552-FD4A-41DA-AE90-5D803AD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594-0646-4187-B7B2-821CA46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162-6A77-4932-B2AB-C1E7F6D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AD2-6841-4A3F-997F-1A230BF9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F1F-71ED-4499-9F92-3FFA999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F7E-0EC8-489A-9C93-2E42A33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19A-9F93-49AF-9455-2777A30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78E-B562-4A75-8C7A-A01B571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103-E8C7-448B-BEF5-0F179FEE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08040" y="252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計算のきま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13040" y="436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きまり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9640" y="1143000"/>
            <a:ext cx="546480" cy="3682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数を求める式を考え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26720" y="1676520"/>
            <a:ext cx="2592360" cy="1371600"/>
            <a:chOff x="2826720" y="1676520"/>
            <a:chExt cx="2592360" cy="1371600"/>
          </a:xfrm>
        </p:grpSpPr>
        <p:sp>
          <p:nvSpPr>
            <p:cNvPr id="45" name=""/>
            <p:cNvSpPr/>
            <p:nvPr/>
          </p:nvSpPr>
          <p:spPr>
            <a:xfrm>
              <a:off x="2895480" y="1676520"/>
              <a:ext cx="2514600" cy="13716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42560" y="213372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26720" y="1698840"/>
              <a:ext cx="25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42560" y="259092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861480" y="3733920"/>
            <a:ext cx="2652840" cy="1815840"/>
            <a:chOff x="861480" y="3733920"/>
            <a:chExt cx="2652840" cy="1815840"/>
          </a:xfrm>
        </p:grpSpPr>
        <p:sp>
          <p:nvSpPr>
            <p:cNvPr id="50" name=""/>
            <p:cNvSpPr/>
            <p:nvPr/>
          </p:nvSpPr>
          <p:spPr>
            <a:xfrm>
              <a:off x="861480" y="441972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1480" y="373392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37800" y="518148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　○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01000" y="573876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18760" y="4029120"/>
            <a:ext cx="3883680" cy="1406520"/>
            <a:chOff x="4118760" y="4029120"/>
            <a:chExt cx="3883680" cy="1406520"/>
          </a:xfrm>
        </p:grpSpPr>
        <p:sp>
          <p:nvSpPr>
            <p:cNvPr id="55" name=""/>
            <p:cNvSpPr/>
            <p:nvPr/>
          </p:nvSpPr>
          <p:spPr>
            <a:xfrm>
              <a:off x="556668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088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248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828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876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7760" y="4029120"/>
              <a:ext cx="45468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　○　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044800" y="3213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通りの式を考えましょ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87200" y="573876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7880" y="571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71640" y="3645000"/>
            <a:ext cx="2514600" cy="1981080"/>
            <a:chOff x="971640" y="3645000"/>
            <a:chExt cx="2514600" cy="1981080"/>
          </a:xfrm>
        </p:grpSpPr>
        <p:sp>
          <p:nvSpPr>
            <p:cNvPr id="65" name=""/>
            <p:cNvSpPr/>
            <p:nvPr/>
          </p:nvSpPr>
          <p:spPr>
            <a:xfrm>
              <a:off x="971640" y="3645000"/>
              <a:ext cx="2438640" cy="5335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1640" y="4330800"/>
              <a:ext cx="2438640" cy="5335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47960" y="5092920"/>
              <a:ext cx="2438280" cy="5331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67280" y="4005360"/>
            <a:ext cx="3961800" cy="1371600"/>
            <a:chOff x="4067280" y="4005360"/>
            <a:chExt cx="3961800" cy="1371600"/>
          </a:xfrm>
        </p:grpSpPr>
        <p:sp>
          <p:nvSpPr>
            <p:cNvPr id="69" name=""/>
            <p:cNvSpPr/>
            <p:nvPr/>
          </p:nvSpPr>
          <p:spPr>
            <a:xfrm>
              <a:off x="406728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904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1484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0064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8644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5920" y="4005360"/>
              <a:ext cx="533160" cy="1371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838080" y="114300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26280" y="174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47520" y="1268280"/>
            <a:ext cx="605880" cy="3988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にあてはまる数を入れましょ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58320" y="1943280"/>
            <a:ext cx="5769360" cy="3777840"/>
            <a:chOff x="958320" y="1943280"/>
            <a:chExt cx="5769360" cy="3777840"/>
          </a:xfrm>
        </p:grpSpPr>
        <p:sp>
          <p:nvSpPr>
            <p:cNvPr id="79" name=""/>
            <p:cNvSpPr/>
            <p:nvPr/>
          </p:nvSpPr>
          <p:spPr>
            <a:xfrm>
              <a:off x="1140840" y="1943280"/>
              <a:ext cx="324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ア　１３＋２６＝２６＋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73520" y="2662200"/>
              <a:ext cx="271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イ　８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５＝５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80880" y="3454560"/>
              <a:ext cx="471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ウ　１２＋６＋２４＝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＋（６＋２４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8320" y="4175280"/>
              <a:ext cx="533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エ　１６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２５＝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４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２５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4920" y="4896000"/>
              <a:ext cx="5432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オ　（１３＋５８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４＝１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４＋５８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55640" y="126828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26280" y="174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848240" y="981000"/>
            <a:ext cx="3865680" cy="2576880"/>
            <a:chOff x="1848240" y="981000"/>
            <a:chExt cx="3865680" cy="2576880"/>
          </a:xfrm>
        </p:grpSpPr>
        <p:sp>
          <p:nvSpPr>
            <p:cNvPr id="87" name=""/>
            <p:cNvSpPr/>
            <p:nvPr/>
          </p:nvSpPr>
          <p:spPr>
            <a:xfrm>
              <a:off x="1967400" y="981000"/>
              <a:ext cx="226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ア　１３＋２６＝２６＋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43640" y="1413000"/>
              <a:ext cx="188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イ　８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５＝５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760" y="1916280"/>
              <a:ext cx="32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ウ　１２＋６＋２４＝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＋（６＋２４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8240" y="2421000"/>
              <a:ext cx="361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エ　１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２５＝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４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２５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83320" y="2854440"/>
              <a:ext cx="363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オ　（１３＋５８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４＝１３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４＋５８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ＭＳ Ｐ明朝"/>
                </a:rPr>
                <a:t>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832200" y="119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１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4600" y="1628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9120" y="213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１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0040" y="2637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１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20600" y="3068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0440" y="37306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計算には下のようなきまりがあ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03000" y="4292640"/>
            <a:ext cx="341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＋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＋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）＋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（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＋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＋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5000" y="6093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このきまりは小数の計算でも同じ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304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08600" y="38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計算のきまり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71840" y="838080"/>
            <a:ext cx="291960" cy="3682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の計算をして答えをくらべ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2000" y="1371600"/>
            <a:ext cx="58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．５　　　　　　　　　　　（２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２．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9680" y="1828800"/>
            <a:ext cx="65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．５＝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８．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　（２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２．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）＝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８．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　　　　　　　　　　　　　　　　　　　 ８４　　　　　　１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320" y="27176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小数のわり算でも，下のようなきまりがあ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9240" y="3276720"/>
            <a:ext cx="28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19840" y="4137120"/>
            <a:ext cx="3922560" cy="2098440"/>
            <a:chOff x="1419840" y="4137120"/>
            <a:chExt cx="3922560" cy="2098440"/>
          </a:xfrm>
        </p:grpSpPr>
        <p:sp>
          <p:nvSpPr>
            <p:cNvPr id="108" name=""/>
            <p:cNvSpPr/>
            <p:nvPr/>
          </p:nvSpPr>
          <p:spPr>
            <a:xfrm>
              <a:off x="1419840" y="4137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計算のきま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28520" y="4495680"/>
              <a:ext cx="3413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＋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＋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）＋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＋（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＋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＋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5560" y="5867280"/>
              <a:ext cx="280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（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□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○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△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215040" y="4470480"/>
            <a:ext cx="216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□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，○，△にいろいろな数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あてはめて，計算のきまり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たしかめてみましょ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83808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0:49:45Z</dcterms:created>
  <dc:creator>板野東小学校</dc:creator>
  <dc:description/>
  <dc:language>en-US</dc:language>
  <cp:lastModifiedBy>kangawa-kaori-1</cp:lastModifiedBy>
  <dcterms:modified xsi:type="dcterms:W3CDTF">2007-11-14T06:27:11Z</dcterms:modified>
  <cp:revision>28</cp:revision>
  <dc:subject/>
  <dc:title>PowerPoint プレゼンテーション</dc:title>
</cp:coreProperties>
</file>