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8C3-51D1-4559-BD2B-4D0AF91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F1A-C2A0-46BC-B7BF-9903126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489-1F01-45DA-81A7-94EEE10E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AD7-C89D-48E4-9202-3BAFB605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10B-6DC7-41F0-81C5-2E6AF009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C6B-D138-4F8B-83BE-95FC18D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A2E-6794-4214-802B-CC04863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821-270A-4EB3-8452-54D0EF2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96B-87BE-4094-9D62-251B7C2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B65-6590-4EFB-9FC6-C691A1CD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C10-1F9B-49E9-A141-6252D29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D6C-AF92-4C2E-B31C-7058DC0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1D79-2989-4A49-932F-FC6294D8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5160" y="6010200"/>
            <a:ext cx="432000" cy="432000"/>
          </a:xfrm>
          <a:prstGeom prst="rect">
            <a:avLst/>
          </a:prstGeom>
          <a:solidFill>
            <a:srgbClr val="ffcc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9228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倍，１００倍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49360"/>
            <a:ext cx="2448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１０倍，１００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1280" y="1268280"/>
            <a:ext cx="3200400" cy="459720"/>
            <a:chOff x="611280" y="1268280"/>
            <a:chExt cx="3200400" cy="459720"/>
          </a:xfrm>
        </p:grpSpPr>
        <p:sp>
          <p:nvSpPr>
            <p:cNvPr id="45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5560" y="12682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１０倍した数を考え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065240" y="166860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332000" y="16995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80" y="1989000"/>
            <a:ext cx="58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と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と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をあわせた数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3493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89120" y="24123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600" y="2708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×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70120" y="233856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2440" y="2328840"/>
            <a:ext cx="56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16280" y="241236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91040" y="2390040"/>
            <a:ext cx="98280" cy="320760"/>
          </a:xfrm>
          <a:prstGeom prst="upArrow">
            <a:avLst>
              <a:gd name="adj1" fmla="val 50000"/>
              <a:gd name="adj2" fmla="val 8159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64200" y="2708280"/>
            <a:ext cx="11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×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46960" y="2698920"/>
            <a:ext cx="14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4×10=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91080" y="4076640"/>
            <a:ext cx="21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97320" y="3218040"/>
            <a:ext cx="5987160" cy="642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も整数と同じように，１０倍すると，各位の数字は位が（　　　　　つ）上が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点の位置は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右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つ）うつ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3920" y="109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1087560"/>
            <a:ext cx="431640" cy="43164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81720" y="1087560"/>
            <a:ext cx="432000" cy="43164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15160" y="1087560"/>
            <a:ext cx="431640" cy="43164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46800" y="1087560"/>
            <a:ext cx="432000" cy="43164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38600" y="1127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64840" y="1127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90360" y="1127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74400" y="98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72120" y="1835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8280" y="1830240"/>
            <a:ext cx="432000" cy="43200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80280" y="1830240"/>
            <a:ext cx="431640" cy="43200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13720" y="1830240"/>
            <a:ext cx="431640" cy="43200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45360" y="1830240"/>
            <a:ext cx="431640" cy="43200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92560" y="1876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69520" y="186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72600" y="1724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36080" y="1874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278600">
            <a:off x="6126120" y="1630080"/>
            <a:ext cx="517680" cy="84240"/>
          </a:xfrm>
          <a:prstGeom prst="leftArrow">
            <a:avLst>
              <a:gd name="adj1" fmla="val 50000"/>
              <a:gd name="adj2" fmla="val 1536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278600">
            <a:off x="6559560" y="1630080"/>
            <a:ext cx="517680" cy="84240"/>
          </a:xfrm>
          <a:prstGeom prst="leftArrow">
            <a:avLst>
              <a:gd name="adj1" fmla="val 50000"/>
              <a:gd name="adj2" fmla="val 1536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278600">
            <a:off x="6991200" y="1630080"/>
            <a:ext cx="517680" cy="84240"/>
          </a:xfrm>
          <a:prstGeom prst="leftArrow">
            <a:avLst>
              <a:gd name="adj1" fmla="val 50000"/>
              <a:gd name="adj2" fmla="val 1536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83560" y="1270080"/>
            <a:ext cx="216000" cy="86508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0840" y="1486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０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452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440" y="3468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4724280"/>
            <a:ext cx="3304440" cy="459720"/>
            <a:chOff x="755640" y="4724280"/>
            <a:chExt cx="3304440" cy="459720"/>
          </a:xfrm>
        </p:grpSpPr>
        <p:sp>
          <p:nvSpPr>
            <p:cNvPr id="87" name=""/>
            <p:cNvSpPr/>
            <p:nvPr/>
          </p:nvSpPr>
          <p:spPr>
            <a:xfrm>
              <a:off x="755640" y="4779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63960" y="47242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１００倍した数を考え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49200" y="5268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25360" y="5264280"/>
            <a:ext cx="432000" cy="43164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7360" y="5264280"/>
            <a:ext cx="431640" cy="43164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90800" y="5264280"/>
            <a:ext cx="431640" cy="43164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22440" y="5264280"/>
            <a:ext cx="432000" cy="43164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4240" y="5303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40480" y="5303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66000" y="5305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50040" y="51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47760" y="601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23920" y="6006960"/>
            <a:ext cx="432000" cy="432000"/>
          </a:xfrm>
          <a:prstGeom prst="rect">
            <a:avLst/>
          </a:prstGeom>
          <a:solidFill>
            <a:srgbClr val="cc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55920" y="6006960"/>
            <a:ext cx="431640" cy="432000"/>
          </a:xfrm>
          <a:prstGeom prst="rect">
            <a:avLst/>
          </a:prstGeom>
          <a:solidFill>
            <a:srgbClr val="ffff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6006960"/>
            <a:ext cx="432000" cy="432000"/>
          </a:xfrm>
          <a:prstGeom prst="rect">
            <a:avLst/>
          </a:prstGeom>
          <a:solidFill>
            <a:srgbClr val="ff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21000" y="6006960"/>
            <a:ext cx="431640" cy="432000"/>
          </a:xfrm>
          <a:prstGeom prst="rect">
            <a:avLst/>
          </a:prstGeom>
          <a:solidFill>
            <a:srgbClr val="ccff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4120" y="6060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21440" y="603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48240" y="5900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20425200">
            <a:off x="884160" y="5804640"/>
            <a:ext cx="919080" cy="73080"/>
          </a:xfrm>
          <a:prstGeom prst="leftArrow">
            <a:avLst>
              <a:gd name="adj1" fmla="val 50000"/>
              <a:gd name="adj2" fmla="val 3144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59200" y="5446800"/>
            <a:ext cx="215640" cy="86508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6920" y="5662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００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20425200">
            <a:off x="1301760" y="5823720"/>
            <a:ext cx="919080" cy="73080"/>
          </a:xfrm>
          <a:prstGeom prst="leftArrow">
            <a:avLst>
              <a:gd name="adj1" fmla="val 50000"/>
              <a:gd name="adj2" fmla="val 3144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20425200">
            <a:off x="1758960" y="5833440"/>
            <a:ext cx="919080" cy="73080"/>
          </a:xfrm>
          <a:prstGeom prst="leftArrow">
            <a:avLst>
              <a:gd name="adj1" fmla="val 50000"/>
              <a:gd name="adj2" fmla="val 3144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54520" y="6051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91080" y="5877000"/>
            <a:ext cx="21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565360"/>
            <a:ext cx="3387960" cy="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565360"/>
            <a:ext cx="0" cy="576360"/>
          </a:xfrm>
          <a:prstGeom prst="line">
            <a:avLst/>
          </a:prstGeom>
          <a:ln w="1908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25653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３．２　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358200">
            <a:off x="6732720" y="2851920"/>
            <a:ext cx="320400" cy="182880"/>
          </a:xfrm>
          <a:custGeom>
            <a:avLst/>
            <a:gdLst>
              <a:gd name="textAreaLeft" fmla="*/ 0 w 320400"/>
              <a:gd name="textAreaRight" fmla="*/ 320760 w 320400"/>
              <a:gd name="textAreaTop" fmla="*/ 360 h 182880"/>
              <a:gd name="textAreaBottom" fmla="*/ 183600 h 18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56640" y="2509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0160" y="2781360"/>
            <a:ext cx="1443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20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749040" y="1125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数を１０倍，１００倍した数をか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76360" y="1773360"/>
          <a:ext cx="6095880" cy="4105080"/>
        </p:xfrm>
        <a:graphic>
          <a:graphicData uri="http://schemas.openxmlformats.org/drawingml/2006/table">
            <a:tbl>
              <a:tblPr/>
              <a:tblGrid>
                <a:gridCol w="2016000"/>
                <a:gridCol w="2048040"/>
                <a:gridCol w="203184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560640" y="3333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倍，１００倍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6920" y="2655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36560" y="3284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36560" y="3933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6200" y="4653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83480" y="18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08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０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36560" y="5300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916360" y="404640"/>
            <a:ext cx="1368000" cy="396720"/>
            <a:chOff x="2916360" y="404640"/>
            <a:chExt cx="1368000" cy="396720"/>
          </a:xfrm>
        </p:grpSpPr>
        <p:sp>
          <p:nvSpPr>
            <p:cNvPr id="133" name=""/>
            <p:cNvSpPr/>
            <p:nvPr/>
          </p:nvSpPr>
          <p:spPr>
            <a:xfrm>
              <a:off x="2916360" y="404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54520" y="404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749040" y="1125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数を１０倍，１００倍した数をか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76360" y="1773360"/>
          <a:ext cx="6095880" cy="4103640"/>
        </p:xfrm>
        <a:graphic>
          <a:graphicData uri="http://schemas.openxmlformats.org/drawingml/2006/table">
            <a:tbl>
              <a:tblPr/>
              <a:tblGrid>
                <a:gridCol w="2016000"/>
                <a:gridCol w="2048040"/>
                <a:gridCol w="203184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136640" y="189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１０倍，１００倍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36920" y="2655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6560" y="3284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6560" y="3933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36200" y="4653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④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36560" y="5300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⑤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83480" y="18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08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１００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6680" y="189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9800" y="2637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600" y="2637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05520" y="2584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1800" y="3284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416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9080" y="393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30160" y="393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652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2880" y="465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9320" y="5300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3240" y="5300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36:04Z</dcterms:created>
  <dc:creator>kangawa-kaori-1</dc:creator>
  <dc:description/>
  <dc:language>en-US</dc:language>
  <cp:lastModifiedBy>kangawa-kaori-1</cp:lastModifiedBy>
  <dcterms:modified xsi:type="dcterms:W3CDTF">2007-11-14T06:18:23Z</dcterms:modified>
  <cp:revision>62</cp:revision>
  <dc:subject/>
  <dc:title>スライド 1</dc:title>
</cp:coreProperties>
</file>