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DF5-FC85-4A43-9656-5FFB284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0B6-06C6-4C0A-A5B3-289FFB27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18E-C51B-4220-80D9-D9832677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D83-4450-427F-AFE9-E688797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C80-CC4F-491B-89AE-F95C464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F1B-5840-486E-87CB-840410F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BC0-37EA-48E1-8802-93C7E95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877-93CE-4529-A12E-B4D8F1DA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10C-B22A-40A7-A506-0984225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198-AE6C-47B0-8559-D1667B1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3F3-6FB7-4891-8A80-B9E547F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050-EB2C-43BA-8E14-4FD1FB7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75D4-585B-4B1C-8A97-1D7F057F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404640"/>
            <a:ext cx="2159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垂直と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9080" y="1339920"/>
            <a:ext cx="0" cy="1297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06064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771560"/>
            <a:ext cx="0" cy="86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060640"/>
            <a:ext cx="1439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2637000"/>
            <a:ext cx="144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484280"/>
            <a:ext cx="0" cy="1081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565360"/>
            <a:ext cx="1440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9080" y="1844640"/>
            <a:ext cx="216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405080" y="1844640"/>
            <a:ext cx="0" cy="21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421000"/>
            <a:ext cx="215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74920" y="2421000"/>
            <a:ext cx="0" cy="21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349360"/>
            <a:ext cx="216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88000" y="2349360"/>
            <a:ext cx="0" cy="216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2000" y="3324240"/>
            <a:ext cx="475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２つの直線が交わってできる角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直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のとき，この２つの直線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）であるとい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3213000"/>
            <a:ext cx="7632720" cy="2521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440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垂直と平行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268280"/>
            <a:ext cx="718920" cy="72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240680" y="1679400"/>
            <a:ext cx="1168200" cy="1159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51640" y="1989000"/>
            <a:ext cx="320760" cy="320760"/>
          </a:xfrm>
          <a:prstGeom prst="line">
            <a:avLst/>
          </a:prstGeom>
          <a:ln w="2232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628040" y="2001960"/>
            <a:ext cx="172800" cy="171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791120" y="2001600"/>
            <a:ext cx="144360" cy="144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8120" y="4797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垂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71640" y="404640"/>
            <a:ext cx="2159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垂直と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0480" y="422280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１つの直線に垂直な２つの直線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）であるとい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005360"/>
            <a:ext cx="7632720" cy="2017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440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垂直と平行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1557360"/>
            <a:ext cx="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1988280"/>
            <a:ext cx="43354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2851920"/>
            <a:ext cx="43354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11280" y="1989000"/>
            <a:ext cx="215640" cy="216000"/>
            <a:chOff x="2411280" y="1989000"/>
            <a:chExt cx="215640" cy="216000"/>
          </a:xfrm>
        </p:grpSpPr>
        <p:sp>
          <p:nvSpPr>
            <p:cNvPr id="72" name=""/>
            <p:cNvSpPr/>
            <p:nvPr/>
          </p:nvSpPr>
          <p:spPr>
            <a:xfrm>
              <a:off x="2411280" y="2205000"/>
              <a:ext cx="2156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26920" y="1989000"/>
              <a:ext cx="0" cy="2160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11280" y="2637000"/>
            <a:ext cx="216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27280" y="2636640"/>
            <a:ext cx="0" cy="215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8640" y="177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8640" y="2638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8120" y="4941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平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71640" y="404640"/>
            <a:ext cx="2159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垂直と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1413000"/>
            <a:ext cx="1008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59360" y="141300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の図で、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垂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なっている直線と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平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なっている直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それぞれみつ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9640" y="220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542960" y="2494080"/>
            <a:ext cx="2355840" cy="23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32040" y="2505240"/>
            <a:ext cx="2948040" cy="29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4120" y="3692520"/>
            <a:ext cx="2946600" cy="237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84520" y="3929040"/>
            <a:ext cx="217008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831920" y="2715120"/>
            <a:ext cx="734400" cy="29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954160" y="5352840"/>
            <a:ext cx="3391560" cy="8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424960" y="2905920"/>
            <a:ext cx="73512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1280" y="3446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02400" y="2611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74680" y="486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7360" y="595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30120" y="623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93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79840" y="4214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459960" y="2953440"/>
            <a:ext cx="167760" cy="291240"/>
            <a:chOff x="3459960" y="2953440"/>
            <a:chExt cx="167760" cy="291240"/>
          </a:xfrm>
        </p:grpSpPr>
        <p:sp>
          <p:nvSpPr>
            <p:cNvPr id="99" name=""/>
            <p:cNvSpPr/>
            <p:nvPr/>
          </p:nvSpPr>
          <p:spPr>
            <a:xfrm>
              <a:off x="3459960" y="2953440"/>
              <a:ext cx="167760" cy="1591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492360" y="3104280"/>
              <a:ext cx="132840" cy="140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638240" y="4152600"/>
            <a:ext cx="167760" cy="290880"/>
            <a:chOff x="4638240" y="4152600"/>
            <a:chExt cx="167760" cy="290880"/>
          </a:xfrm>
        </p:grpSpPr>
        <p:sp>
          <p:nvSpPr>
            <p:cNvPr id="102" name=""/>
            <p:cNvSpPr/>
            <p:nvPr/>
          </p:nvSpPr>
          <p:spPr>
            <a:xfrm>
              <a:off x="4638240" y="4152600"/>
              <a:ext cx="167760" cy="1591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671000" y="4302720"/>
              <a:ext cx="133200" cy="1407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477400" y="5276880"/>
            <a:ext cx="305640" cy="229320"/>
            <a:chOff x="5477400" y="5276880"/>
            <a:chExt cx="305640" cy="229320"/>
          </a:xfrm>
        </p:grpSpPr>
        <p:sp>
          <p:nvSpPr>
            <p:cNvPr id="105" name=""/>
            <p:cNvSpPr/>
            <p:nvPr/>
          </p:nvSpPr>
          <p:spPr>
            <a:xfrm flipV="1">
              <a:off x="5477400" y="5281200"/>
              <a:ext cx="274320" cy="475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741280" y="5276880"/>
              <a:ext cx="41760" cy="229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72320" y="5835600"/>
            <a:ext cx="305640" cy="229320"/>
            <a:chOff x="3172320" y="5835600"/>
            <a:chExt cx="305640" cy="229320"/>
          </a:xfrm>
        </p:grpSpPr>
        <p:sp>
          <p:nvSpPr>
            <p:cNvPr id="108" name=""/>
            <p:cNvSpPr/>
            <p:nvPr/>
          </p:nvSpPr>
          <p:spPr>
            <a:xfrm flipV="1">
              <a:off x="3172320" y="5839920"/>
              <a:ext cx="274320" cy="475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436200" y="5835600"/>
              <a:ext cx="41760" cy="229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186000" y="5877000"/>
            <a:ext cx="79560" cy="2937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997360"/>
            <a:ext cx="2016000" cy="93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797360"/>
            <a:ext cx="2016000" cy="9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440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垂直と平行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1160" y="6129360"/>
            <a:ext cx="1415160" cy="3682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は，次の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9460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71640" y="404640"/>
            <a:ext cx="2159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垂直と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1413000"/>
            <a:ext cx="1008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9640" y="220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42960" y="2494080"/>
            <a:ext cx="2355840" cy="23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32040" y="2505240"/>
            <a:ext cx="2948040" cy="29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4120" y="3692520"/>
            <a:ext cx="2946600" cy="237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84520" y="3929040"/>
            <a:ext cx="217008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831920" y="2715120"/>
            <a:ext cx="734400" cy="29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54160" y="5352840"/>
            <a:ext cx="3391560" cy="8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424960" y="2905920"/>
            <a:ext cx="735120" cy="29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1280" y="3446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02400" y="2611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6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7360" y="595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30120" y="623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593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79840" y="4214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459960" y="2953440"/>
            <a:ext cx="167760" cy="291240"/>
            <a:chOff x="3459960" y="2953440"/>
            <a:chExt cx="167760" cy="291240"/>
          </a:xfrm>
        </p:grpSpPr>
        <p:sp>
          <p:nvSpPr>
            <p:cNvPr id="135" name=""/>
            <p:cNvSpPr/>
            <p:nvPr/>
          </p:nvSpPr>
          <p:spPr>
            <a:xfrm>
              <a:off x="3459960" y="2953440"/>
              <a:ext cx="167760" cy="1591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92360" y="3104280"/>
              <a:ext cx="132840" cy="140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38240" y="4152600"/>
            <a:ext cx="167760" cy="290880"/>
            <a:chOff x="4638240" y="4152600"/>
            <a:chExt cx="167760" cy="290880"/>
          </a:xfrm>
        </p:grpSpPr>
        <p:sp>
          <p:nvSpPr>
            <p:cNvPr id="138" name=""/>
            <p:cNvSpPr/>
            <p:nvPr/>
          </p:nvSpPr>
          <p:spPr>
            <a:xfrm>
              <a:off x="4638240" y="4152600"/>
              <a:ext cx="167760" cy="1591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671000" y="4302720"/>
              <a:ext cx="133200" cy="1407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77400" y="5276880"/>
            <a:ext cx="305640" cy="229320"/>
            <a:chOff x="5477400" y="5276880"/>
            <a:chExt cx="305640" cy="229320"/>
          </a:xfrm>
        </p:grpSpPr>
        <p:sp>
          <p:nvSpPr>
            <p:cNvPr id="141" name=""/>
            <p:cNvSpPr/>
            <p:nvPr/>
          </p:nvSpPr>
          <p:spPr>
            <a:xfrm flipV="1">
              <a:off x="5477400" y="5281200"/>
              <a:ext cx="274320" cy="475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741280" y="5276880"/>
              <a:ext cx="41760" cy="229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172320" y="5835600"/>
            <a:ext cx="305640" cy="229320"/>
            <a:chOff x="3172320" y="5835600"/>
            <a:chExt cx="305640" cy="229320"/>
          </a:xfrm>
        </p:grpSpPr>
        <p:sp>
          <p:nvSpPr>
            <p:cNvPr id="144" name=""/>
            <p:cNvSpPr/>
            <p:nvPr/>
          </p:nvSpPr>
          <p:spPr>
            <a:xfrm flipV="1">
              <a:off x="3172320" y="5839920"/>
              <a:ext cx="274320" cy="475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436200" y="5835600"/>
              <a:ext cx="41760" cy="229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186000" y="5877000"/>
            <a:ext cx="79560" cy="2937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75120" y="306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66640" y="306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2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864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2997360"/>
            <a:ext cx="2016000" cy="93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4797360"/>
            <a:ext cx="2016000" cy="9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72240" y="508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53320" y="508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440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垂直と平行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508720" y="404640"/>
          <a:ext cx="8208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04640"/>
                    <a:ext cx="8208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059360" y="141300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の図で、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垂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なっている直線と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平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になっている直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それぞれみつ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1:59:16Z</dcterms:created>
  <dc:creator>kangawa-kaori-1</dc:creator>
  <dc:description/>
  <dc:language>en-US</dc:language>
  <cp:lastModifiedBy>kangawa-kaori-1</cp:lastModifiedBy>
  <dcterms:modified xsi:type="dcterms:W3CDTF">2007-11-14T06:22:38Z</dcterms:modified>
  <cp:revision>13</cp:revision>
  <dc:subject/>
  <dc:title>スライド 1</dc:title>
</cp:coreProperties>
</file>