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7C4-C7E6-4D9B-B57D-9BC8260C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FBA-91F0-40D2-A513-40FDCF55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9C4-244C-41C7-AB64-8FBC82FA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91B-FB33-40A7-9436-02D98B5C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6D6-F5FF-45A4-9E2B-4694072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C6B-3034-475F-9C4D-B03A208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C13-97A5-4CDF-B6AD-4C6F153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43A-6F11-4DB3-92BA-83420768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FBA-0BFD-4910-9612-E66322C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770-7CD0-4F55-B3FC-7BB1AC1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8AD-3A66-42BC-A3CC-B0DE015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17C-D6C3-4620-A738-857E566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8733-6907-4431-B164-4AA07B0CC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549360"/>
            <a:ext cx="187344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のしく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1268280"/>
            <a:ext cx="6540120" cy="459720"/>
            <a:chOff x="611280" y="1268280"/>
            <a:chExt cx="6540120" cy="459720"/>
          </a:xfrm>
        </p:grpSpPr>
        <p:sp>
          <p:nvSpPr>
            <p:cNvPr id="43" name=""/>
            <p:cNvSpPr/>
            <p:nvPr/>
          </p:nvSpPr>
          <p:spPr>
            <a:xfrm>
              <a:off x="611280" y="1323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58760" y="1268280"/>
              <a:ext cx="51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　と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，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，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01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の関係を調べ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208880" y="191628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は　１の何分の１です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03280" y="2781360"/>
            <a:ext cx="8135640" cy="627480"/>
            <a:chOff x="503280" y="2781360"/>
            <a:chExt cx="8135640" cy="627480"/>
          </a:xfrm>
        </p:grpSpPr>
        <p:sp>
          <p:nvSpPr>
            <p:cNvPr id="47" name=""/>
            <p:cNvSpPr/>
            <p:nvPr/>
          </p:nvSpPr>
          <p:spPr>
            <a:xfrm>
              <a:off x="66708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7080" y="31518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77520" y="3400560"/>
              <a:ext cx="77605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3720" y="3406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1600" y="3406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52600" y="33192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22372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99664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77532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55184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3160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10848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88140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673760" y="3321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34800" y="31518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3280" y="278136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0200" y="278136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2000" y="27813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15000" y="2781360"/>
              <a:ext cx="62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38880" y="2796840"/>
              <a:ext cx="61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11800" y="27813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3840" y="279504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33160" y="279828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06800" y="280008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85120" y="2786400"/>
              <a:ext cx="6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83960" y="2784600"/>
              <a:ext cx="62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 flipV="1">
            <a:off x="674640" y="3151800"/>
            <a:ext cx="77184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454040" y="3150720"/>
            <a:ext cx="77184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224080" y="3150720"/>
            <a:ext cx="77184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005280" y="3150720"/>
            <a:ext cx="77184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773520" y="3150720"/>
            <a:ext cx="77184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554360" y="3150720"/>
            <a:ext cx="77040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332320" y="3142440"/>
            <a:ext cx="77184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6099120" y="3129480"/>
            <a:ext cx="77184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885000" y="3148560"/>
            <a:ext cx="77184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669080" y="3142440"/>
            <a:ext cx="77184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95320" y="3686040"/>
            <a:ext cx="321840" cy="321840"/>
            <a:chOff x="895320" y="3686040"/>
            <a:chExt cx="321840" cy="321840"/>
          </a:xfrm>
        </p:grpSpPr>
        <p:sp>
          <p:nvSpPr>
            <p:cNvPr id="84" name="SH_02_20071004115327"/>
            <p:cNvSpPr/>
            <p:nvPr/>
          </p:nvSpPr>
          <p:spPr>
            <a:xfrm>
              <a:off x="895320" y="3686040"/>
              <a:ext cx="321840" cy="321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946800" y="3728160"/>
              <a:ext cx="21852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657440" y="3686040"/>
            <a:ext cx="321480" cy="321840"/>
            <a:chOff x="1657440" y="3686040"/>
            <a:chExt cx="321480" cy="321840"/>
          </a:xfrm>
        </p:grpSpPr>
        <p:sp>
          <p:nvSpPr>
            <p:cNvPr id="87" name="SH_02_20071004115527"/>
            <p:cNvSpPr/>
            <p:nvPr/>
          </p:nvSpPr>
          <p:spPr>
            <a:xfrm>
              <a:off x="1657440" y="3686040"/>
              <a:ext cx="321480" cy="321840"/>
            </a:xfrm>
            <a:custGeom>
              <a:avLst/>
              <a:gdLst>
                <a:gd name="textAreaLeft" fmla="*/ 15480 w 321480"/>
                <a:gd name="textAreaRight" fmla="*/ 306000 w 321480"/>
                <a:gd name="textAreaTop" fmla="*/ 15480 h 321840"/>
                <a:gd name="textAreaBottom" fmla="*/ 306360 h 321840"/>
              </a:gdLst>
              <a:ahLst/>
              <a:rect l="textAreaLeft" t="textAreaTop" r="textAreaRight" b="textAreaBottom"/>
              <a:pathLst>
                <a:path w="21600" h="21624">
                  <a:moveTo>
                    <a:pt x="3600" y="0"/>
                  </a:moveTo>
                  <a:arcTo wR="3600" hR="3600" stAng="16200000" swAng="-5400000"/>
                  <a:lnTo>
                    <a:pt x="0" y="18024"/>
                  </a:lnTo>
                  <a:arcTo wR="3600" hR="3600" stAng="10800000" swAng="-5400000"/>
                  <a:lnTo>
                    <a:pt x="18000" y="21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1709280" y="3728160"/>
              <a:ext cx="21744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2428920" y="3686040"/>
            <a:ext cx="321480" cy="321840"/>
            <a:chOff x="2428920" y="3686040"/>
            <a:chExt cx="321480" cy="321840"/>
          </a:xfrm>
        </p:grpSpPr>
        <p:sp>
          <p:nvSpPr>
            <p:cNvPr id="90" name="SH_02_20071004115729"/>
            <p:cNvSpPr/>
            <p:nvPr/>
          </p:nvSpPr>
          <p:spPr>
            <a:xfrm>
              <a:off x="2428920" y="3686040"/>
              <a:ext cx="321480" cy="321840"/>
            </a:xfrm>
            <a:custGeom>
              <a:avLst/>
              <a:gdLst>
                <a:gd name="textAreaLeft" fmla="*/ 15480 w 321480"/>
                <a:gd name="textAreaRight" fmla="*/ 306000 w 321480"/>
                <a:gd name="textAreaTop" fmla="*/ 15480 h 321840"/>
                <a:gd name="textAreaBottom" fmla="*/ 306360 h 321840"/>
              </a:gdLst>
              <a:ahLst/>
              <a:rect l="textAreaLeft" t="textAreaTop" r="textAreaRight" b="textAreaBottom"/>
              <a:pathLst>
                <a:path w="21600" h="21624">
                  <a:moveTo>
                    <a:pt x="3600" y="0"/>
                  </a:moveTo>
                  <a:arcTo wR="3600" hR="3600" stAng="16200000" swAng="-5400000"/>
                  <a:lnTo>
                    <a:pt x="0" y="18024"/>
                  </a:lnTo>
                  <a:arcTo wR="3600" hR="3600" stAng="10800000" swAng="-5400000"/>
                  <a:lnTo>
                    <a:pt x="18000" y="21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482920" y="372816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3238560" y="3686040"/>
            <a:ext cx="321480" cy="321840"/>
            <a:chOff x="3238560" y="3686040"/>
            <a:chExt cx="321480" cy="321840"/>
          </a:xfrm>
        </p:grpSpPr>
        <p:sp>
          <p:nvSpPr>
            <p:cNvPr id="93" name="SH_02_20071004115735"/>
            <p:cNvSpPr/>
            <p:nvPr/>
          </p:nvSpPr>
          <p:spPr>
            <a:xfrm>
              <a:off x="3238560" y="3686040"/>
              <a:ext cx="321480" cy="321840"/>
            </a:xfrm>
            <a:custGeom>
              <a:avLst/>
              <a:gdLst>
                <a:gd name="textAreaLeft" fmla="*/ 15480 w 321480"/>
                <a:gd name="textAreaRight" fmla="*/ 306000 w 321480"/>
                <a:gd name="textAreaTop" fmla="*/ 15480 h 321840"/>
                <a:gd name="textAreaBottom" fmla="*/ 306360 h 321840"/>
              </a:gdLst>
              <a:ahLst/>
              <a:rect l="textAreaLeft" t="textAreaTop" r="textAreaRight" b="textAreaBottom"/>
              <a:pathLst>
                <a:path w="21600" h="21624">
                  <a:moveTo>
                    <a:pt x="3600" y="0"/>
                  </a:moveTo>
                  <a:arcTo wR="3600" hR="3600" stAng="16200000" swAng="-5400000"/>
                  <a:lnTo>
                    <a:pt x="0" y="18024"/>
                  </a:lnTo>
                  <a:arcTo wR="3600" hR="3600" stAng="10800000" swAng="-5400000"/>
                  <a:lnTo>
                    <a:pt x="18000" y="21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3290040" y="3728160"/>
              <a:ext cx="218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3995640" y="3686040"/>
            <a:ext cx="321840" cy="321840"/>
            <a:chOff x="3995640" y="3686040"/>
            <a:chExt cx="321840" cy="321840"/>
          </a:xfrm>
        </p:grpSpPr>
        <p:sp>
          <p:nvSpPr>
            <p:cNvPr id="96" name="SH_02_20071004115736"/>
            <p:cNvSpPr/>
            <p:nvPr/>
          </p:nvSpPr>
          <p:spPr>
            <a:xfrm>
              <a:off x="3995640" y="3686040"/>
              <a:ext cx="321840" cy="321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4047120" y="3728160"/>
              <a:ext cx="21852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4788000" y="3686040"/>
            <a:ext cx="321480" cy="321840"/>
            <a:chOff x="4788000" y="3686040"/>
            <a:chExt cx="321480" cy="321840"/>
          </a:xfrm>
        </p:grpSpPr>
        <p:sp>
          <p:nvSpPr>
            <p:cNvPr id="99" name="SH_02_20071004115737"/>
            <p:cNvSpPr/>
            <p:nvPr/>
          </p:nvSpPr>
          <p:spPr>
            <a:xfrm>
              <a:off x="4788000" y="3686040"/>
              <a:ext cx="321480" cy="321840"/>
            </a:xfrm>
            <a:custGeom>
              <a:avLst/>
              <a:gdLst>
                <a:gd name="textAreaLeft" fmla="*/ 15480 w 321480"/>
                <a:gd name="textAreaRight" fmla="*/ 306000 w 321480"/>
                <a:gd name="textAreaTop" fmla="*/ 15480 h 321840"/>
                <a:gd name="textAreaBottom" fmla="*/ 306360 h 321840"/>
              </a:gdLst>
              <a:ahLst/>
              <a:rect l="textAreaLeft" t="textAreaTop" r="textAreaRight" b="textAreaBottom"/>
              <a:pathLst>
                <a:path w="21600" h="21624">
                  <a:moveTo>
                    <a:pt x="3600" y="0"/>
                  </a:moveTo>
                  <a:arcTo wR="3600" hR="3600" stAng="16200000" swAng="-5400000"/>
                  <a:lnTo>
                    <a:pt x="0" y="18024"/>
                  </a:lnTo>
                  <a:arcTo wR="3600" hR="3600" stAng="10800000" swAng="-5400000"/>
                  <a:lnTo>
                    <a:pt x="18000" y="21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4839840" y="3728160"/>
              <a:ext cx="21744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5580000" y="3686040"/>
            <a:ext cx="321840" cy="321840"/>
            <a:chOff x="5580000" y="3686040"/>
            <a:chExt cx="321840" cy="321840"/>
          </a:xfrm>
        </p:grpSpPr>
        <p:sp>
          <p:nvSpPr>
            <p:cNvPr id="102" name="SH_02_20071004115738"/>
            <p:cNvSpPr/>
            <p:nvPr/>
          </p:nvSpPr>
          <p:spPr>
            <a:xfrm>
              <a:off x="5580000" y="3686040"/>
              <a:ext cx="321840" cy="321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5634000" y="372816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6329520" y="3686040"/>
            <a:ext cx="321480" cy="321840"/>
            <a:chOff x="6329520" y="3686040"/>
            <a:chExt cx="321480" cy="321840"/>
          </a:xfrm>
        </p:grpSpPr>
        <p:sp>
          <p:nvSpPr>
            <p:cNvPr id="105" name="SH_02_20071004115738"/>
            <p:cNvSpPr/>
            <p:nvPr/>
          </p:nvSpPr>
          <p:spPr>
            <a:xfrm>
              <a:off x="6329520" y="3686040"/>
              <a:ext cx="321480" cy="321840"/>
            </a:xfrm>
            <a:custGeom>
              <a:avLst/>
              <a:gdLst>
                <a:gd name="textAreaLeft" fmla="*/ 15480 w 321480"/>
                <a:gd name="textAreaRight" fmla="*/ 306000 w 321480"/>
                <a:gd name="textAreaTop" fmla="*/ 15480 h 321840"/>
                <a:gd name="textAreaBottom" fmla="*/ 306360 h 321840"/>
              </a:gdLst>
              <a:ahLst/>
              <a:rect l="textAreaLeft" t="textAreaTop" r="textAreaRight" b="textAreaBottom"/>
              <a:pathLst>
                <a:path w="21600" h="21624">
                  <a:moveTo>
                    <a:pt x="3600" y="0"/>
                  </a:moveTo>
                  <a:arcTo wR="3600" hR="3600" stAng="16200000" swAng="-5400000"/>
                  <a:lnTo>
                    <a:pt x="0" y="18024"/>
                  </a:lnTo>
                  <a:arcTo wR="3600" hR="3600" stAng="10800000" swAng="-5400000"/>
                  <a:lnTo>
                    <a:pt x="18000" y="21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6381000" y="3728160"/>
              <a:ext cx="218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7095960" y="3686040"/>
            <a:ext cx="321840" cy="321840"/>
            <a:chOff x="7095960" y="3686040"/>
            <a:chExt cx="321840" cy="321840"/>
          </a:xfrm>
        </p:grpSpPr>
        <p:sp>
          <p:nvSpPr>
            <p:cNvPr id="108" name="SH_02_20071004115739"/>
            <p:cNvSpPr/>
            <p:nvPr/>
          </p:nvSpPr>
          <p:spPr>
            <a:xfrm>
              <a:off x="7095960" y="3686040"/>
              <a:ext cx="321840" cy="321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7147440" y="3728160"/>
              <a:ext cx="21852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7896240" y="3686040"/>
            <a:ext cx="321840" cy="321840"/>
            <a:chOff x="7896240" y="3686040"/>
            <a:chExt cx="321840" cy="321840"/>
          </a:xfrm>
        </p:grpSpPr>
        <p:sp>
          <p:nvSpPr>
            <p:cNvPr id="111" name="SH_02_20071004115740"/>
            <p:cNvSpPr/>
            <p:nvPr/>
          </p:nvSpPr>
          <p:spPr>
            <a:xfrm>
              <a:off x="7896240" y="3686040"/>
              <a:ext cx="321840" cy="321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0"/>
            <a:stretch/>
          </p:blipFill>
          <p:spPr>
            <a:xfrm>
              <a:off x="7907760" y="3686040"/>
              <a:ext cx="300600" cy="3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2701440" y="450864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0.1</a:t>
            </a:r>
            <a:r>
              <a:rPr b="0" lang="ja-JP" sz="2400" spc="-1" strike="noStrike">
                <a:solidFill>
                  <a:srgbClr val="0000cc"/>
                </a:solidFill>
                <a:latin typeface="Arial"/>
              </a:rPr>
              <a:t>　は　１　を　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１０こに分けた一つ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515772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7640" y="5589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0.1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　は　１の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１０分の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9732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しくみ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28083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6237360"/>
            <a:ext cx="2087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24880" y="83664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は　１の何分の１です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03280" y="1557360"/>
            <a:ext cx="8135640" cy="627480"/>
            <a:chOff x="503280" y="1557360"/>
            <a:chExt cx="8135640" cy="627480"/>
          </a:xfrm>
        </p:grpSpPr>
        <p:sp>
          <p:nvSpPr>
            <p:cNvPr id="121" name=""/>
            <p:cNvSpPr/>
            <p:nvPr/>
          </p:nvSpPr>
          <p:spPr>
            <a:xfrm>
              <a:off x="667080" y="1927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7080" y="19278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77520" y="2176560"/>
              <a:ext cx="77605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3720" y="2182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1600" y="2182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52600" y="20952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22372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99664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77532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55184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33160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10848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88140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673760" y="2097000"/>
              <a:ext cx="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34800" y="19278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3280" y="155736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0200" y="155736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62000" y="15573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5000" y="1557360"/>
              <a:ext cx="62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38880" y="1572840"/>
              <a:ext cx="61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1800" y="15573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3840" y="157104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3160" y="157428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06800" y="157608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5120" y="1562400"/>
              <a:ext cx="6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3960" y="1560600"/>
              <a:ext cx="62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 flipV="1">
            <a:off x="691560" y="310248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70920" y="2205000"/>
            <a:ext cx="23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0.1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　は　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１　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を　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１０こに分けた一つ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9732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しくみ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440" y="2773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9880" y="32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44800" y="32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35680" y="3046320"/>
            <a:ext cx="9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215360" y="310248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39160" y="3110400"/>
            <a:ext cx="507960" cy="3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272680" y="310248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796480" y="310248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320280" y="310248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844080" y="309312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368240" y="310248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901400" y="309312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434920" y="3093120"/>
            <a:ext cx="507960" cy="3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26920" y="3481560"/>
            <a:ext cx="236880" cy="236520"/>
            <a:chOff x="826920" y="3481560"/>
            <a:chExt cx="236880" cy="236520"/>
          </a:xfrm>
        </p:grpSpPr>
        <p:sp>
          <p:nvSpPr>
            <p:cNvPr id="164" name="SH_02_20071005144437"/>
            <p:cNvSpPr/>
            <p:nvPr/>
          </p:nvSpPr>
          <p:spPr>
            <a:xfrm>
              <a:off x="826920" y="3481560"/>
              <a:ext cx="236880" cy="23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865080" y="3511080"/>
              <a:ext cx="16020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1324080" y="3476520"/>
            <a:ext cx="236520" cy="236880"/>
            <a:chOff x="1324080" y="3476520"/>
            <a:chExt cx="236520" cy="236880"/>
          </a:xfrm>
        </p:grpSpPr>
        <p:sp>
          <p:nvSpPr>
            <p:cNvPr id="167" name="SH_02_20071005144438"/>
            <p:cNvSpPr/>
            <p:nvPr/>
          </p:nvSpPr>
          <p:spPr>
            <a:xfrm>
              <a:off x="1324080" y="3476520"/>
              <a:ext cx="236520" cy="236880"/>
            </a:xfrm>
            <a:custGeom>
              <a:avLst/>
              <a:gdLst>
                <a:gd name="textAreaLeft" fmla="*/ 11520 w 236520"/>
                <a:gd name="textAreaRight" fmla="*/ 225000 w 236520"/>
                <a:gd name="textAreaTop" fmla="*/ 11520 h 236880"/>
                <a:gd name="textAreaBottom" fmla="*/ 225360 h 236880"/>
              </a:gdLst>
              <a:ahLst/>
              <a:rect l="textAreaLeft" t="textAreaTop" r="textAreaRight" b="textAreaBottom"/>
              <a:pathLst>
                <a:path w="21600" h="21633">
                  <a:moveTo>
                    <a:pt x="3600" y="0"/>
                  </a:moveTo>
                  <a:arcTo wR="3600" hR="3600" stAng="16200000" swAng="-5400000"/>
                  <a:lnTo>
                    <a:pt x="0" y="18033"/>
                  </a:lnTo>
                  <a:arcTo wR="3600" hR="3600" stAng="10800000" swAng="-5400000"/>
                  <a:lnTo>
                    <a:pt x="18000" y="216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1363680" y="3506040"/>
              <a:ext cx="15876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1866960" y="3476520"/>
            <a:ext cx="236520" cy="236880"/>
            <a:chOff x="1866960" y="3476520"/>
            <a:chExt cx="236520" cy="236880"/>
          </a:xfrm>
        </p:grpSpPr>
        <p:sp>
          <p:nvSpPr>
            <p:cNvPr id="170" name="SH_02_20071005144440"/>
            <p:cNvSpPr/>
            <p:nvPr/>
          </p:nvSpPr>
          <p:spPr>
            <a:xfrm>
              <a:off x="1866960" y="3476520"/>
              <a:ext cx="236520" cy="236880"/>
            </a:xfrm>
            <a:custGeom>
              <a:avLst/>
              <a:gdLst>
                <a:gd name="textAreaLeft" fmla="*/ 11520 w 236520"/>
                <a:gd name="textAreaRight" fmla="*/ 225000 w 236520"/>
                <a:gd name="textAreaTop" fmla="*/ 11520 h 236880"/>
                <a:gd name="textAreaBottom" fmla="*/ 225360 h 236880"/>
              </a:gdLst>
              <a:ahLst/>
              <a:rect l="textAreaLeft" t="textAreaTop" r="textAreaRight" b="textAreaBottom"/>
              <a:pathLst>
                <a:path w="21600" h="21633">
                  <a:moveTo>
                    <a:pt x="3600" y="0"/>
                  </a:moveTo>
                  <a:arcTo wR="3600" hR="3600" stAng="16200000" swAng="-5400000"/>
                  <a:lnTo>
                    <a:pt x="0" y="18033"/>
                  </a:lnTo>
                  <a:arcTo wR="3600" hR="3600" stAng="10800000" swAng="-5400000"/>
                  <a:lnTo>
                    <a:pt x="18000" y="216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904760" y="3506040"/>
              <a:ext cx="16056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2428920" y="3476520"/>
            <a:ext cx="236520" cy="236880"/>
            <a:chOff x="2428920" y="3476520"/>
            <a:chExt cx="236520" cy="236880"/>
          </a:xfrm>
        </p:grpSpPr>
        <p:sp>
          <p:nvSpPr>
            <p:cNvPr id="173" name="SH_02_20071005144440"/>
            <p:cNvSpPr/>
            <p:nvPr/>
          </p:nvSpPr>
          <p:spPr>
            <a:xfrm>
              <a:off x="2428920" y="3476520"/>
              <a:ext cx="236520" cy="236880"/>
            </a:xfrm>
            <a:custGeom>
              <a:avLst/>
              <a:gdLst>
                <a:gd name="textAreaLeft" fmla="*/ 11520 w 236520"/>
                <a:gd name="textAreaRight" fmla="*/ 225000 w 236520"/>
                <a:gd name="textAreaTop" fmla="*/ 11520 h 236880"/>
                <a:gd name="textAreaBottom" fmla="*/ 225360 h 236880"/>
              </a:gdLst>
              <a:ahLst/>
              <a:rect l="textAreaLeft" t="textAreaTop" r="textAreaRight" b="textAreaBottom"/>
              <a:pathLst>
                <a:path w="21600" h="21633">
                  <a:moveTo>
                    <a:pt x="3600" y="0"/>
                  </a:moveTo>
                  <a:arcTo wR="3600" hR="3600" stAng="16200000" swAng="-5400000"/>
                  <a:lnTo>
                    <a:pt x="0" y="18033"/>
                  </a:lnTo>
                  <a:arcTo wR="3600" hR="3600" stAng="10800000" swAng="-5400000"/>
                  <a:lnTo>
                    <a:pt x="18000" y="216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466720" y="3506040"/>
              <a:ext cx="16056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2943360" y="3467160"/>
            <a:ext cx="236520" cy="236520"/>
            <a:chOff x="2943360" y="3467160"/>
            <a:chExt cx="236520" cy="236520"/>
          </a:xfrm>
        </p:grpSpPr>
        <p:sp>
          <p:nvSpPr>
            <p:cNvPr id="176" name="SH_02_20071005144441"/>
            <p:cNvSpPr/>
            <p:nvPr/>
          </p:nvSpPr>
          <p:spPr>
            <a:xfrm>
              <a:off x="2943360" y="3467160"/>
              <a:ext cx="236520" cy="23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2981520" y="3496680"/>
              <a:ext cx="1598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3463920" y="3462480"/>
            <a:ext cx="236520" cy="236520"/>
            <a:chOff x="3463920" y="3462480"/>
            <a:chExt cx="236520" cy="236520"/>
          </a:xfrm>
        </p:grpSpPr>
        <p:sp>
          <p:nvSpPr>
            <p:cNvPr id="179" name="SH_02_20071005144441"/>
            <p:cNvSpPr/>
            <p:nvPr/>
          </p:nvSpPr>
          <p:spPr>
            <a:xfrm>
              <a:off x="3463920" y="3462480"/>
              <a:ext cx="236520" cy="23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6"/>
            <a:stretch/>
          </p:blipFill>
          <p:spPr>
            <a:xfrm>
              <a:off x="3503520" y="3492000"/>
              <a:ext cx="15876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3990960" y="3467160"/>
            <a:ext cx="236880" cy="236520"/>
            <a:chOff x="3990960" y="3467160"/>
            <a:chExt cx="236880" cy="236520"/>
          </a:xfrm>
        </p:grpSpPr>
        <p:sp>
          <p:nvSpPr>
            <p:cNvPr id="182" name="SH_02_20071005144442"/>
            <p:cNvSpPr/>
            <p:nvPr/>
          </p:nvSpPr>
          <p:spPr>
            <a:xfrm>
              <a:off x="3990960" y="3467160"/>
              <a:ext cx="236880" cy="23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4028760" y="3496680"/>
              <a:ext cx="16056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4495680" y="3476520"/>
            <a:ext cx="236880" cy="236880"/>
            <a:chOff x="4495680" y="3476520"/>
            <a:chExt cx="236880" cy="236880"/>
          </a:xfrm>
        </p:grpSpPr>
        <p:sp>
          <p:nvSpPr>
            <p:cNvPr id="185" name="SH_02_20071005144442"/>
            <p:cNvSpPr/>
            <p:nvPr/>
          </p:nvSpPr>
          <p:spPr>
            <a:xfrm>
              <a:off x="4495680" y="3476520"/>
              <a:ext cx="236880" cy="236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4533480" y="3506040"/>
              <a:ext cx="16056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5048280" y="3476520"/>
            <a:ext cx="236520" cy="236880"/>
            <a:chOff x="5048280" y="3476520"/>
            <a:chExt cx="236520" cy="236880"/>
          </a:xfrm>
        </p:grpSpPr>
        <p:sp>
          <p:nvSpPr>
            <p:cNvPr id="188" name="SH_02_20071005144443"/>
            <p:cNvSpPr/>
            <p:nvPr/>
          </p:nvSpPr>
          <p:spPr>
            <a:xfrm>
              <a:off x="5048280" y="3476520"/>
              <a:ext cx="236520" cy="236880"/>
            </a:xfrm>
            <a:custGeom>
              <a:avLst/>
              <a:gdLst>
                <a:gd name="textAreaLeft" fmla="*/ 11520 w 236520"/>
                <a:gd name="textAreaRight" fmla="*/ 225000 w 236520"/>
                <a:gd name="textAreaTop" fmla="*/ 11520 h 236880"/>
                <a:gd name="textAreaBottom" fmla="*/ 225360 h 236880"/>
              </a:gdLst>
              <a:ahLst/>
              <a:rect l="textAreaLeft" t="textAreaTop" r="textAreaRight" b="textAreaBottom"/>
              <a:pathLst>
                <a:path w="21600" h="21633">
                  <a:moveTo>
                    <a:pt x="3600" y="0"/>
                  </a:moveTo>
                  <a:arcTo wR="3600" hR="3600" stAng="16200000" swAng="-5400000"/>
                  <a:lnTo>
                    <a:pt x="0" y="18033"/>
                  </a:lnTo>
                  <a:arcTo wR="3600" hR="3600" stAng="10800000" swAng="-5400000"/>
                  <a:lnTo>
                    <a:pt x="18000" y="216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9"/>
            <a:stretch/>
          </p:blipFill>
          <p:spPr>
            <a:xfrm>
              <a:off x="5086440" y="3506040"/>
              <a:ext cx="15984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5581800" y="3457440"/>
            <a:ext cx="236520" cy="236880"/>
            <a:chOff x="5581800" y="3457440"/>
            <a:chExt cx="236520" cy="236880"/>
          </a:xfrm>
        </p:grpSpPr>
        <p:sp>
          <p:nvSpPr>
            <p:cNvPr id="191" name="SH_02_20071005144443"/>
            <p:cNvSpPr/>
            <p:nvPr/>
          </p:nvSpPr>
          <p:spPr>
            <a:xfrm>
              <a:off x="5581800" y="3457440"/>
              <a:ext cx="236520" cy="236880"/>
            </a:xfrm>
            <a:custGeom>
              <a:avLst/>
              <a:gdLst>
                <a:gd name="textAreaLeft" fmla="*/ 11520 w 236520"/>
                <a:gd name="textAreaRight" fmla="*/ 225000 w 236520"/>
                <a:gd name="textAreaTop" fmla="*/ 11520 h 236880"/>
                <a:gd name="textAreaBottom" fmla="*/ 225360 h 236880"/>
              </a:gdLst>
              <a:ahLst/>
              <a:rect l="textAreaLeft" t="textAreaTop" r="textAreaRight" b="textAreaBottom"/>
              <a:pathLst>
                <a:path w="21600" h="21633">
                  <a:moveTo>
                    <a:pt x="3600" y="0"/>
                  </a:moveTo>
                  <a:arcTo wR="3600" hR="3600" stAng="16200000" swAng="-5400000"/>
                  <a:lnTo>
                    <a:pt x="0" y="18033"/>
                  </a:lnTo>
                  <a:arcTo wR="3600" hR="3600" stAng="10800000" swAng="-5400000"/>
                  <a:lnTo>
                    <a:pt x="18000" y="216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0"/>
            <a:stretch/>
          </p:blipFill>
          <p:spPr>
            <a:xfrm>
              <a:off x="5590080" y="3464280"/>
              <a:ext cx="219240" cy="2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673200" y="2168640"/>
            <a:ext cx="1440" cy="91908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7880" y="3065400"/>
            <a:ext cx="792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2280" y="3255480"/>
            <a:ext cx="5254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17520" y="3154320"/>
            <a:ext cx="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3988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6368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9072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1632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4480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37040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9276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29160" y="3155760"/>
            <a:ext cx="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0280" y="277344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48480" y="2754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38280" y="277344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8880" y="277344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1560" y="27734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46280" y="27734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2773440"/>
            <a:ext cx="51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25920" y="2773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56200" y="277344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29240" y="27734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0280" y="277344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34960" y="2179800"/>
            <a:ext cx="4508640" cy="10490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84360" y="1926720"/>
            <a:ext cx="771840" cy="49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" y="10115"/>
                </a:moveTo>
                <a:arcTo wR="10800" hR="10800" stAng="-10581711" swAng="10581711"/>
                <a:lnTo>
                  <a:pt x="10800" y="10800"/>
                </a:lnTo>
                <a:close/>
              </a:path>
              <a:path fill="none" w="21600" h="21600">
                <a:moveTo>
                  <a:pt x="22" y="10115"/>
                </a:moveTo>
                <a:arcTo wR="10800" hR="10800" stAng="-10581711" swAng="10581711"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557360"/>
            <a:ext cx="576360" cy="3603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83320" y="2725560"/>
            <a:ext cx="576360" cy="3607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9000" y="3787920"/>
            <a:ext cx="28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　は　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0.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１　を　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１０こに分けた一つ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77080" y="2563920"/>
            <a:ext cx="144360" cy="1008000"/>
          </a:xfrm>
          <a:prstGeom prst="downArrow">
            <a:avLst>
              <a:gd name="adj1" fmla="val 50000"/>
              <a:gd name="adj2" fmla="val 17456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77080" y="4148280"/>
            <a:ext cx="142920" cy="360360"/>
          </a:xfrm>
          <a:prstGeom prst="downArrow">
            <a:avLst>
              <a:gd name="adj1" fmla="val 50000"/>
              <a:gd name="adj2" fmla="val 6303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70040" y="4540320"/>
            <a:ext cx="24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0.01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　は　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　を　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１００こに分けた一つ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5084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8880" y="5351400"/>
            <a:ext cx="57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0.01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　は　１の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00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分の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16480" y="4900680"/>
            <a:ext cx="244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7840" y="5989680"/>
            <a:ext cx="2357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90400" y="40464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は　１の何分の１です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74640" y="907920"/>
            <a:ext cx="33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0.001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　は　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　を　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１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000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こに分けた一つ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81680" y="1341360"/>
            <a:ext cx="237960" cy="289080"/>
          </a:xfrm>
          <a:prstGeom prst="downArrow">
            <a:avLst>
              <a:gd name="adj1" fmla="val 50000"/>
              <a:gd name="adj2" fmla="val 3037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53800" y="1557360"/>
            <a:ext cx="631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0.001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　は　１の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000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分の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280" y="2276640"/>
            <a:ext cx="8569440" cy="0"/>
          </a:xfrm>
          <a:prstGeom prst="line">
            <a:avLst/>
          </a:prstGeom>
          <a:ln w="22320">
            <a:solidFill>
              <a:srgbClr val="0099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2421000"/>
            <a:ext cx="503280" cy="287280"/>
          </a:xfrm>
          <a:custGeom>
            <a:avLst/>
            <a:gdLst>
              <a:gd name="textAreaLeft" fmla="*/ 118080 w 503280"/>
              <a:gd name="textAreaRight" fmla="*/ 384840 w 503280"/>
              <a:gd name="textAreaTop" fmla="*/ 33480 h 287280"/>
              <a:gd name="textAreaBottom" fmla="*/ 180360 h 287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1680" y="234936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の関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65280" y="285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10000" y="357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88760" y="4303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82280" y="4994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86600" y="56944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15400" y="3265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40120" y="310032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40120" y="3100320"/>
            <a:ext cx="0" cy="1857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1280" y="3521160"/>
            <a:ext cx="0" cy="1760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70512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15400" y="400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40120" y="384012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860640"/>
            <a:ext cx="0" cy="1857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4303800"/>
            <a:ext cx="0" cy="1760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48776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13960" y="4724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838680" y="455940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38680" y="4559400"/>
            <a:ext cx="0" cy="1857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49840" y="4981680"/>
            <a:ext cx="0" cy="1760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49840" y="5165640"/>
            <a:ext cx="43308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15400" y="544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40120" y="528012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40120" y="5280120"/>
            <a:ext cx="0" cy="1857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1280" y="5743440"/>
            <a:ext cx="0" cy="17640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927760"/>
            <a:ext cx="43344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11720" y="32529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87880" y="37130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21320" y="3527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499000" y="31143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65560" y="31068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127480" y="39988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97600" y="45007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530680" y="431496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519880" y="38271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76720" y="38289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35480" y="47275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30720" y="51274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533920" y="493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22760" y="458928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89320" y="4581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098680" y="5292720"/>
            <a:ext cx="647280" cy="647640"/>
            <a:chOff x="5098680" y="5292720"/>
            <a:chExt cx="647280" cy="647640"/>
          </a:xfrm>
        </p:grpSpPr>
        <p:sp>
          <p:nvSpPr>
            <p:cNvPr id="276" name=""/>
            <p:cNvSpPr/>
            <p:nvPr/>
          </p:nvSpPr>
          <p:spPr>
            <a:xfrm flipH="1">
              <a:off x="5244840" y="54385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１０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098680" y="5292720"/>
              <a:ext cx="444600" cy="647640"/>
              <a:chOff x="5098680" y="5292720"/>
              <a:chExt cx="444600" cy="647640"/>
            </a:xfrm>
          </p:grpSpPr>
          <p:sp>
            <p:nvSpPr>
              <p:cNvPr id="278" name=""/>
              <p:cNvSpPr/>
              <p:nvPr/>
            </p:nvSpPr>
            <p:spPr>
              <a:xfrm>
                <a:off x="5109840" y="594036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543280" y="575460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532120" y="5300640"/>
                <a:ext cx="0" cy="1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098680" y="529272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3041640" y="3794040"/>
            <a:ext cx="6480" cy="60012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59680" y="4365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Arial"/>
              </a:rPr>
              <a:t>１００分の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4653000"/>
            <a:ext cx="0" cy="57636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059280" y="3797280"/>
            <a:ext cx="12254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27760" y="436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Arial"/>
              </a:rPr>
              <a:t>１００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5229360"/>
            <a:ext cx="122544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69040" y="3798720"/>
            <a:ext cx="0" cy="55116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69040" y="4626000"/>
            <a:ext cx="0" cy="5508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87880" y="5180040"/>
            <a:ext cx="119232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3789360"/>
            <a:ext cx="119232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76640" y="3762360"/>
            <a:ext cx="2008080" cy="648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3768840"/>
            <a:ext cx="3240" cy="936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75240" y="4724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１０００分の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68360" y="4970520"/>
            <a:ext cx="0" cy="102060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6000840"/>
            <a:ext cx="201636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106600" y="6000480"/>
            <a:ext cx="1973160" cy="32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62840" y="3746520"/>
            <a:ext cx="3240" cy="97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27680" y="4724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１０００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1920" y="5056200"/>
            <a:ext cx="3240" cy="946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060880" y="3747960"/>
            <a:ext cx="2005200" cy="1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1268280"/>
            <a:ext cx="266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40200" y="2165400"/>
            <a:ext cx="266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8640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しくみ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306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959040" y="1341360"/>
            <a:ext cx="39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１は，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　）倍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58320" y="2276640"/>
            <a:ext cx="42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１は，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0.001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　）倍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23040" y="321300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１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分の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0760" y="4148280"/>
            <a:ext cx="37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１０は，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１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　）倍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51400" y="5084640"/>
            <a:ext cx="50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分の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256360" y="6237360"/>
            <a:ext cx="648360" cy="431280"/>
            <a:chOff x="5256360" y="6237360"/>
            <a:chExt cx="648360" cy="431280"/>
          </a:xfrm>
        </p:grpSpPr>
        <p:graphicFrame>
          <p:nvGraphicFramePr>
            <p:cNvPr id="314" name=""/>
            <p:cNvGraphicFramePr/>
            <p:nvPr/>
          </p:nvGraphicFramePr>
          <p:xfrm>
            <a:off x="5256360" y="6350760"/>
            <a:ext cx="91800" cy="8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6360" y="6350760"/>
                      <a:ext cx="91800" cy="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6" name=""/>
            <p:cNvGrpSpPr/>
            <p:nvPr/>
          </p:nvGrpSpPr>
          <p:grpSpPr>
            <a:xfrm>
              <a:off x="5319720" y="6251400"/>
              <a:ext cx="474480" cy="417240"/>
              <a:chOff x="5319720" y="6251400"/>
              <a:chExt cx="474480" cy="417240"/>
            </a:xfrm>
          </p:grpSpPr>
          <p:sp>
            <p:nvSpPr>
              <p:cNvPr id="317" name=""/>
              <p:cNvSpPr/>
              <p:nvPr/>
            </p:nvSpPr>
            <p:spPr>
              <a:xfrm>
                <a:off x="5319720" y="6251400"/>
                <a:ext cx="474480" cy="4172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19720" y="6251400"/>
                <a:ext cx="474480" cy="4172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flipV="1">
              <a:off x="5687640" y="6438960"/>
              <a:ext cx="91800" cy="5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76760" y="6439680"/>
              <a:ext cx="72720" cy="34560"/>
              <a:chOff x="5576760" y="6439680"/>
              <a:chExt cx="72720" cy="34560"/>
            </a:xfrm>
          </p:grpSpPr>
          <p:sp>
            <p:nvSpPr>
              <p:cNvPr id="321" name=""/>
              <p:cNvSpPr/>
              <p:nvPr/>
            </p:nvSpPr>
            <p:spPr>
              <a:xfrm>
                <a:off x="5576760" y="643968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76760" y="643968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460480" y="6450120"/>
              <a:ext cx="74880" cy="34560"/>
              <a:chOff x="5460480" y="6450120"/>
              <a:chExt cx="74880" cy="34560"/>
            </a:xfrm>
          </p:grpSpPr>
          <p:sp>
            <p:nvSpPr>
              <p:cNvPr id="324" name=""/>
              <p:cNvSpPr/>
              <p:nvPr/>
            </p:nvSpPr>
            <p:spPr>
              <a:xfrm>
                <a:off x="5460480" y="645012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60480" y="645012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468760" y="6532920"/>
              <a:ext cx="183600" cy="92880"/>
              <a:chOff x="5468760" y="6532920"/>
              <a:chExt cx="183600" cy="92880"/>
            </a:xfrm>
          </p:grpSpPr>
          <p:sp>
            <p:nvSpPr>
              <p:cNvPr id="327" name=""/>
              <p:cNvSpPr/>
              <p:nvPr/>
            </p:nvSpPr>
            <p:spPr>
              <a:xfrm>
                <a:off x="5468760" y="6532920"/>
                <a:ext cx="18360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68760" y="6532920"/>
                <a:ext cx="18360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flipH="1" flipV="1">
              <a:off x="5331240" y="6414120"/>
              <a:ext cx="87480" cy="8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3"/>
            <a:stretch/>
          </p:blipFill>
          <p:spPr>
            <a:xfrm flipH="1">
              <a:off x="5713560" y="6237360"/>
              <a:ext cx="191160" cy="2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"/>
          <p:cNvSpPr/>
          <p:nvPr/>
        </p:nvSpPr>
        <p:spPr>
          <a:xfrm>
            <a:off x="5651640" y="4869000"/>
            <a:ext cx="3205080" cy="1372680"/>
          </a:xfrm>
          <a:prstGeom prst="rect">
            <a:avLst/>
          </a:prstGeom>
          <a:noFill/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１０倍すると１つ上の位の数になる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１００倍すると２つ上の位になる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１つ下の位は１０分の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２つ下の位は１００分の１だった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58080" y="59500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9732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しくみ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2050920" y="620640"/>
            <a:ext cx="1368360" cy="396720"/>
            <a:chOff x="2050920" y="620640"/>
            <a:chExt cx="1368360" cy="396720"/>
          </a:xfrm>
        </p:grpSpPr>
        <p:sp>
          <p:nvSpPr>
            <p:cNvPr id="335" name=""/>
            <p:cNvSpPr/>
            <p:nvPr/>
          </p:nvSpPr>
          <p:spPr>
            <a:xfrm>
              <a:off x="2050920" y="620640"/>
              <a:ext cx="136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9080" y="620640"/>
              <a:ext cx="13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959040" y="1341360"/>
            <a:ext cx="39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１は，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　）倍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58320" y="2276640"/>
            <a:ext cx="42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１は，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0.001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　）倍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23040" y="321300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１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分の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0760" y="4148280"/>
            <a:ext cx="37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１０は，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１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　）倍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1400" y="5084640"/>
            <a:ext cx="50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　　　分の　　　）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7800" y="561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7816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07600" y="15526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72320" y="20113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708240" y="25239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.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11160" y="80964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560640" y="714240"/>
            <a:ext cx="2206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61000" y="714240"/>
            <a:ext cx="0" cy="1238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67480" y="993600"/>
            <a:ext cx="0" cy="1177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67480" y="1117440"/>
            <a:ext cx="21924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560640" y="1206360"/>
            <a:ext cx="2206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67480" y="1220760"/>
            <a:ext cx="0" cy="1238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67480" y="1515960"/>
            <a:ext cx="0" cy="1177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67480" y="1638360"/>
            <a:ext cx="21924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60640" y="1685880"/>
            <a:ext cx="2192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61000" y="1685880"/>
            <a:ext cx="0" cy="1238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66040" y="1967040"/>
            <a:ext cx="0" cy="1173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66040" y="2090880"/>
            <a:ext cx="22068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560640" y="2166840"/>
            <a:ext cx="2206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61000" y="2166840"/>
            <a:ext cx="0" cy="12384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67480" y="2475000"/>
            <a:ext cx="0" cy="11736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67480" y="2597040"/>
            <a:ext cx="21924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222680" y="81612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94600" y="112248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413480" y="99864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402680" y="723960"/>
            <a:ext cx="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183080" y="7192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9280" y="164772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418520" y="152388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413480" y="119808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187760" y="120024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15120" y="206532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419960" y="193824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415280" y="170604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7194240" y="170028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199640" y="2174760"/>
            <a:ext cx="225000" cy="432000"/>
            <a:chOff x="7199640" y="2174760"/>
            <a:chExt cx="225000" cy="432000"/>
          </a:xfrm>
        </p:grpSpPr>
        <p:sp>
          <p:nvSpPr>
            <p:cNvPr id="378" name=""/>
            <p:cNvSpPr/>
            <p:nvPr/>
          </p:nvSpPr>
          <p:spPr>
            <a:xfrm>
              <a:off x="7205040" y="260676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424640" y="248292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419240" y="217980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199640" y="217476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156360" y="1176480"/>
            <a:ext cx="3240" cy="39996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80240" y="15559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cc"/>
                </a:solidFill>
                <a:latin typeface="Arial"/>
              </a:rPr>
              <a:t>１００分の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65720" y="1747800"/>
            <a:ext cx="0" cy="38412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165360" y="1177920"/>
            <a:ext cx="6210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69720" y="15112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cc"/>
                </a:solidFill>
                <a:latin typeface="Arial"/>
              </a:rPr>
              <a:t>１００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65720" y="2131920"/>
            <a:ext cx="62100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92920" y="1179360"/>
            <a:ext cx="0" cy="3668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792920" y="1730520"/>
            <a:ext cx="0" cy="3664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194600" y="2100240"/>
            <a:ext cx="6033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188120" y="1173240"/>
            <a:ext cx="60480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768640" y="1155600"/>
            <a:ext cx="1017720" cy="32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64320" y="1158840"/>
            <a:ext cx="1440" cy="62388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73000" y="175104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9999"/>
                </a:solidFill>
                <a:latin typeface="Arial"/>
              </a:rPr>
              <a:t>１０００分の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64320" y="1960560"/>
            <a:ext cx="0" cy="6793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64320" y="2646360"/>
            <a:ext cx="102240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7203960" y="2646360"/>
            <a:ext cx="1000080" cy="1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194680" y="1144440"/>
            <a:ext cx="1440" cy="652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25040" y="179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9999"/>
                </a:solidFill>
                <a:latin typeface="Arial"/>
              </a:rPr>
              <a:t>１０００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04040" y="2017800"/>
            <a:ext cx="1800" cy="6300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180200" y="1146240"/>
            <a:ext cx="101592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12600" y="13096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34920" y="17557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46080" y="22557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Arial"/>
              </a:rPr>
              <a:t>１０分の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243200" y="128412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241760" y="176220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252920" y="22622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１０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184720" y="6164280"/>
            <a:ext cx="648720" cy="431280"/>
            <a:chOff x="5184720" y="6164280"/>
            <a:chExt cx="648720" cy="431280"/>
          </a:xfrm>
        </p:grpSpPr>
        <p:graphicFrame>
          <p:nvGraphicFramePr>
            <p:cNvPr id="409" name=""/>
            <p:cNvGraphicFramePr/>
            <p:nvPr/>
          </p:nvGraphicFramePr>
          <p:xfrm>
            <a:off x="5184720" y="6277680"/>
            <a:ext cx="91800" cy="8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4720" y="6277680"/>
                      <a:ext cx="91800" cy="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1" name=""/>
            <p:cNvGrpSpPr/>
            <p:nvPr/>
          </p:nvGrpSpPr>
          <p:grpSpPr>
            <a:xfrm>
              <a:off x="5248080" y="6178320"/>
              <a:ext cx="474840" cy="417240"/>
              <a:chOff x="5248080" y="6178320"/>
              <a:chExt cx="474840" cy="417240"/>
            </a:xfrm>
          </p:grpSpPr>
          <p:sp>
            <p:nvSpPr>
              <p:cNvPr id="412" name=""/>
              <p:cNvSpPr/>
              <p:nvPr/>
            </p:nvSpPr>
            <p:spPr>
              <a:xfrm>
                <a:off x="5248080" y="6178320"/>
                <a:ext cx="474840" cy="4172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48080" y="6178320"/>
                <a:ext cx="474840" cy="4172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flipV="1">
              <a:off x="5616360" y="6365880"/>
              <a:ext cx="91800" cy="5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505120" y="6366600"/>
              <a:ext cx="72720" cy="34560"/>
              <a:chOff x="5505120" y="6366600"/>
              <a:chExt cx="72720" cy="34560"/>
            </a:xfrm>
          </p:grpSpPr>
          <p:sp>
            <p:nvSpPr>
              <p:cNvPr id="416" name=""/>
              <p:cNvSpPr/>
              <p:nvPr/>
            </p:nvSpPr>
            <p:spPr>
              <a:xfrm>
                <a:off x="5505120" y="636660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05120" y="636660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388840" y="6377040"/>
              <a:ext cx="74880" cy="34560"/>
              <a:chOff x="5388840" y="6377040"/>
              <a:chExt cx="74880" cy="34560"/>
            </a:xfrm>
          </p:grpSpPr>
          <p:sp>
            <p:nvSpPr>
              <p:cNvPr id="419" name=""/>
              <p:cNvSpPr/>
              <p:nvPr/>
            </p:nvSpPr>
            <p:spPr>
              <a:xfrm>
                <a:off x="5388840" y="637704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88840" y="637704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397480" y="6459840"/>
              <a:ext cx="183960" cy="92880"/>
              <a:chOff x="5397480" y="6459840"/>
              <a:chExt cx="183960" cy="92880"/>
            </a:xfrm>
          </p:grpSpPr>
          <p:sp>
            <p:nvSpPr>
              <p:cNvPr id="422" name=""/>
              <p:cNvSpPr/>
              <p:nvPr/>
            </p:nvSpPr>
            <p:spPr>
              <a:xfrm>
                <a:off x="5397480" y="6459840"/>
                <a:ext cx="18396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97480" y="6459840"/>
                <a:ext cx="18396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flipH="1" flipV="1">
              <a:off x="5259600" y="6341040"/>
              <a:ext cx="87480" cy="8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 flipH="1">
              <a:off x="5642280" y="6164280"/>
              <a:ext cx="191160" cy="2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/>
          <p:cNvSpPr/>
          <p:nvPr/>
        </p:nvSpPr>
        <p:spPr>
          <a:xfrm>
            <a:off x="5580000" y="4869000"/>
            <a:ext cx="3205080" cy="1372680"/>
          </a:xfrm>
          <a:prstGeom prst="rect">
            <a:avLst/>
          </a:prstGeom>
          <a:noFill/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１０倍すると１つ上の位の数になる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１００倍すると２つ上の位になる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１つ下の位は１０分の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33"/>
                </a:solidFill>
                <a:latin typeface="Arial"/>
              </a:rPr>
              <a:t>２つ下の位は１００分の１だった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86800" y="5877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61440" y="126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8760" y="22478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90160" y="3181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08840" y="317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61440" y="414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33360" y="50529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0892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75760" y="404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4204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しくみ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36:04Z</dcterms:created>
  <dc:creator>kangawa-kaori-1</dc:creator>
  <dc:description/>
  <dc:language>en-US</dc:language>
  <cp:lastModifiedBy>kangawa-kaori-1</cp:lastModifiedBy>
  <dcterms:modified xsi:type="dcterms:W3CDTF">2007-11-14T06:18:56Z</dcterms:modified>
  <cp:revision>64</cp:revision>
  <dc:subject/>
  <dc:title>スライド 1</dc:title>
</cp:coreProperties>
</file>