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E82-C5E7-493A-B90F-B3465204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E33-D418-43B8-9D72-BAECE43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E38-54C2-4C13-8A0F-868E4D31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4C2-54E9-4B70-AEDA-E2A16D9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331-22A1-4E43-90D3-AF031E19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244-7F13-4124-8FBF-575F9C2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8BF-0331-41F6-BC58-BE5B59E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C0E-F926-43A2-9C78-E85F26A5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C90-679C-4B1B-A7B7-D251D6EA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ADB-747C-4E2C-AB89-5A60BF2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87F-6487-461F-ACFE-3D3178D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537-0B3B-45B8-A88E-8C8E48A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4D2-96FD-4BD9-809A-176C24EDE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24462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数の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21280" y="9446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数直線の０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までの数で，２でわり切れる数に○をつ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0792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82760" y="1521000"/>
            <a:ext cx="8177040" cy="539280"/>
            <a:chOff x="482760" y="1521000"/>
            <a:chExt cx="8177040" cy="539280"/>
          </a:xfrm>
        </p:grpSpPr>
        <p:sp>
          <p:nvSpPr>
            <p:cNvPr id="45" name=""/>
            <p:cNvSpPr/>
            <p:nvPr/>
          </p:nvSpPr>
          <p:spPr>
            <a:xfrm>
              <a:off x="642960" y="184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2960" y="2057400"/>
              <a:ext cx="80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296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647640" y="2057040"/>
              <a:ext cx="7859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444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596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8304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83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031760" y="19839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4144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7985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1844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570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9559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34152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7260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18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2689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6530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246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4245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8184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196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5754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9660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3520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5200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760" y="15271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6096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0160" y="1521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70080" y="15433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8840" y="154152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2760" y="154008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30400" y="154332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27120" y="1538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08360" y="15415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92480" y="15433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78400" y="153216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5120" y="153036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56240" y="152892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5476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5148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5080" y="15321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19720" y="152892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67480" y="15321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62760" y="15210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4544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54760" y="15210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03280" y="155736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79440" y="158760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5811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30680" y="15811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036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9880" y="15638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5640" y="158580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516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72240" y="15685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3904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97920" y="15685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3159000"/>
            <a:ext cx="3095640" cy="5400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でわり切れる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6560" y="3965400"/>
            <a:ext cx="39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÷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4616280"/>
            <a:ext cx="39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÷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6560" y="5291280"/>
            <a:ext cx="43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÷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" y="5877000"/>
            <a:ext cx="15519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0040" y="5877000"/>
            <a:ext cx="15519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332100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43640" y="2781360"/>
            <a:ext cx="2197080" cy="1386720"/>
            <a:chOff x="6443640" y="2781360"/>
            <a:chExt cx="2197080" cy="1386720"/>
          </a:xfrm>
        </p:grpSpPr>
        <p:sp>
          <p:nvSpPr>
            <p:cNvPr id="113" name=""/>
            <p:cNvSpPr/>
            <p:nvPr/>
          </p:nvSpPr>
          <p:spPr>
            <a:xfrm>
              <a:off x="6443640" y="2820960"/>
              <a:ext cx="2197080" cy="1220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6720" y="3068640"/>
              <a:ext cx="2100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</a:rPr>
                <a:t>偶 数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1160" y="2781360"/>
              <a:ext cx="149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ぐう     す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 flipV="1">
            <a:off x="647280" y="1844280"/>
            <a:ext cx="1584360" cy="1297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476360" y="1881000"/>
            <a:ext cx="1224000" cy="12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32000" y="1881000"/>
            <a:ext cx="720720" cy="12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987280" y="1881000"/>
            <a:ext cx="71640" cy="12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66920" y="1916280"/>
            <a:ext cx="505080" cy="1225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76720" y="1916280"/>
            <a:ext cx="1079280" cy="1225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56000" y="1916280"/>
            <a:ext cx="1763640" cy="1225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35280" y="1881000"/>
            <a:ext cx="2268720" cy="12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24360" y="1881000"/>
            <a:ext cx="2735280" cy="12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176720" y="1844280"/>
            <a:ext cx="3132000" cy="1297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392720" y="1844280"/>
            <a:ext cx="3851280" cy="1297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076640"/>
            <a:ext cx="108000" cy="1692360"/>
          </a:xfrm>
          <a:custGeom>
            <a:avLst/>
            <a:gdLst>
              <a:gd name="textAreaLeft" fmla="*/ 0 w 108000"/>
              <a:gd name="textAreaRight" fmla="*/ 38880 w 108000"/>
              <a:gd name="textAreaTop" fmla="*/ 43920 h 1692360"/>
              <a:gd name="textAreaBottom" fmla="*/ 1648440 h 16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8720" y="3907800"/>
            <a:ext cx="1017720" cy="2166840"/>
            <a:chOff x="6408720" y="3907800"/>
            <a:chExt cx="1017720" cy="2166840"/>
          </a:xfrm>
        </p:grpSpPr>
        <p:sp>
          <p:nvSpPr>
            <p:cNvPr id="129" name=""/>
            <p:cNvSpPr/>
            <p:nvPr/>
          </p:nvSpPr>
          <p:spPr>
            <a:xfrm>
              <a:off x="6408720" y="4076640"/>
              <a:ext cx="1008000" cy="1800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4560" y="3907800"/>
              <a:ext cx="91188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わり切れ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400720" y="3968640"/>
            <a:ext cx="468360" cy="18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98480" y="404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偶数と奇数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34920" y="259920"/>
            <a:ext cx="24462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数の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47040" y="94464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の数直線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までの数で，２でわり切れない数をいい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907920"/>
            <a:ext cx="93492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82760" y="1521000"/>
            <a:ext cx="8177040" cy="539280"/>
            <a:chOff x="482760" y="1521000"/>
            <a:chExt cx="8177040" cy="539280"/>
          </a:xfrm>
        </p:grpSpPr>
        <p:sp>
          <p:nvSpPr>
            <p:cNvPr id="137" name=""/>
            <p:cNvSpPr/>
            <p:nvPr/>
          </p:nvSpPr>
          <p:spPr>
            <a:xfrm>
              <a:off x="642960" y="184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2960" y="2057400"/>
              <a:ext cx="801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96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47640" y="2057040"/>
              <a:ext cx="7859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1444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596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8304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883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031760" y="19839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4144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7985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1844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0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9559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34152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260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18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2689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6530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246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42456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8184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9604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5754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96608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352000" y="1986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52000" y="18417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2760" y="15271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096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20160" y="15210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0080" y="15433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840" y="154152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2760" y="154008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30400" y="154332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27120" y="1538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8360" y="15415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480" y="154332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8400" y="153216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5120" y="153036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56240" y="152892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5476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5148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15080" y="15321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9720" y="152892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67480" y="15321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62760" y="15210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45440" y="153036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54760" y="15210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03280" y="155736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79440" y="158760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15811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30680" y="15811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0036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9880" y="15638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65640" y="158580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1516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72240" y="15685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39040" y="157644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97920" y="1568520"/>
            <a:ext cx="263520" cy="26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122640"/>
            <a:ext cx="3059280" cy="61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でわり切れな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6880" y="4292640"/>
            <a:ext cx="53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÷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4360" y="4797360"/>
            <a:ext cx="53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÷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0480" y="533700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÷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・・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8720" y="3753000"/>
            <a:ext cx="18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でわる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余る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15240" y="538452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15960" y="54208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321000"/>
            <a:ext cx="1296720" cy="287280"/>
          </a:xfrm>
          <a:prstGeom prst="rightArrow">
            <a:avLst>
              <a:gd name="adj1" fmla="val 50000"/>
              <a:gd name="adj2" fmla="val 11284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9640" y="4365720"/>
            <a:ext cx="108000" cy="1403280"/>
          </a:xfrm>
          <a:custGeom>
            <a:avLst/>
            <a:gdLst>
              <a:gd name="textAreaLeft" fmla="*/ 0 w 108000"/>
              <a:gd name="textAreaRight" fmla="*/ 38880 w 1080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940360" y="2735280"/>
            <a:ext cx="2197080" cy="1386720"/>
            <a:chOff x="5940360" y="2735280"/>
            <a:chExt cx="2197080" cy="1386720"/>
          </a:xfrm>
        </p:grpSpPr>
        <p:sp>
          <p:nvSpPr>
            <p:cNvPr id="207" name=""/>
            <p:cNvSpPr/>
            <p:nvPr/>
          </p:nvSpPr>
          <p:spPr>
            <a:xfrm>
              <a:off x="5940360" y="2774880"/>
              <a:ext cx="2197080" cy="1220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13440" y="3022560"/>
              <a:ext cx="2100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</a:rPr>
                <a:t>奇 数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97120" y="2735280"/>
              <a:ext cx="155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き      す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736960" y="4221000"/>
            <a:ext cx="1751400" cy="1837080"/>
            <a:chOff x="5736960" y="4221000"/>
            <a:chExt cx="1751400" cy="1837080"/>
          </a:xfrm>
        </p:grpSpPr>
        <p:sp>
          <p:nvSpPr>
            <p:cNvPr id="211" name=""/>
            <p:cNvSpPr/>
            <p:nvPr/>
          </p:nvSpPr>
          <p:spPr>
            <a:xfrm>
              <a:off x="6408720" y="4221000"/>
              <a:ext cx="1079640" cy="1837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36960" y="4348080"/>
              <a:ext cx="164340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でわる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　１　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H="1" flipV="1">
            <a:off x="1079640" y="1881000"/>
            <a:ext cx="684000" cy="122364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800000" y="1844280"/>
            <a:ext cx="21564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11280" y="1844280"/>
            <a:ext cx="18108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35280" y="1844280"/>
            <a:ext cx="57780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024360" y="1844280"/>
            <a:ext cx="104616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1844280"/>
            <a:ext cx="154944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27280" y="1844280"/>
            <a:ext cx="2089440" cy="1260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780000" y="1808280"/>
            <a:ext cx="2592360" cy="12967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924360" y="1808280"/>
            <a:ext cx="3240000" cy="12967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103640" y="1808280"/>
            <a:ext cx="3853080" cy="12967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4113360"/>
            <a:ext cx="1044720" cy="1908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98480" y="404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偶数と奇数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800280"/>
            <a:ext cx="8425080" cy="20872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0440" y="1197000"/>
            <a:ext cx="70448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でわり切れる整数を（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でわり切れない整数を（ </a:t>
            </a:r>
            <a:r>
              <a:rPr b="0" lang="zh-CN" sz="4400" spc="-1" strike="noStrike">
                <a:solidFill>
                  <a:srgbClr val="3399ff"/>
                </a:solidFill>
                <a:latin typeface="Arial"/>
              </a:rPr>
              <a:t>　　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）とい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1800" y="299736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数は，必ず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偶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か</a:t>
            </a:r>
            <a:r>
              <a:rPr b="0" lang="zh-CN" sz="2800" spc="-1" strike="noStrike">
                <a:solidFill>
                  <a:srgbClr val="3399ff"/>
                </a:solidFill>
                <a:latin typeface="Arial"/>
              </a:rPr>
              <a:t>奇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組に分けることができ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952520" y="907920"/>
            <a:ext cx="1521720" cy="1018080"/>
            <a:chOff x="4952520" y="907920"/>
            <a:chExt cx="1521720" cy="1018080"/>
          </a:xfrm>
        </p:grpSpPr>
        <p:sp>
          <p:nvSpPr>
            <p:cNvPr id="229" name=""/>
            <p:cNvSpPr/>
            <p:nvPr/>
          </p:nvSpPr>
          <p:spPr>
            <a:xfrm>
              <a:off x="4990680" y="1161720"/>
              <a:ext cx="141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</a:rPr>
                <a:t>偶　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2520" y="90792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ぐう　　す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46440" y="1773360"/>
            <a:ext cx="1338840" cy="1053000"/>
            <a:chOff x="5446440" y="1773360"/>
            <a:chExt cx="1338840" cy="1053000"/>
          </a:xfrm>
        </p:grpSpPr>
        <p:sp>
          <p:nvSpPr>
            <p:cNvPr id="232" name=""/>
            <p:cNvSpPr/>
            <p:nvPr/>
          </p:nvSpPr>
          <p:spPr>
            <a:xfrm>
              <a:off x="5528520" y="20620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99ff"/>
                  </a:solidFill>
                  <a:latin typeface="Arial"/>
                </a:rPr>
                <a:t>奇  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6440" y="177336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き　　す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692360" y="447372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０，３，６，２１，８９，１０８，３１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87280" y="3860640"/>
            <a:ext cx="4536360" cy="503280"/>
            <a:chOff x="287280" y="3860640"/>
            <a:chExt cx="4536360" cy="503280"/>
          </a:xfrm>
        </p:grpSpPr>
        <p:grpSp>
          <p:nvGrpSpPr>
            <p:cNvPr id="236" name=""/>
            <p:cNvGrpSpPr/>
            <p:nvPr/>
          </p:nvGrpSpPr>
          <p:grpSpPr>
            <a:xfrm>
              <a:off x="287280" y="3968640"/>
              <a:ext cx="4536360" cy="395280"/>
              <a:chOff x="287280" y="3968640"/>
              <a:chExt cx="4536360" cy="395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87280" y="4005000"/>
                <a:ext cx="934920" cy="3589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問　 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36880" y="3968640"/>
                <a:ext cx="278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次の整数を，偶数と奇数に分けましょ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787480" y="3860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ぐう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74640" y="386064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き　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0520" y="5265720"/>
            <a:ext cx="5484240" cy="480960"/>
            <a:chOff x="380520" y="5265720"/>
            <a:chExt cx="5484240" cy="480960"/>
          </a:xfrm>
        </p:grpSpPr>
        <p:grpSp>
          <p:nvGrpSpPr>
            <p:cNvPr id="242" name=""/>
            <p:cNvGrpSpPr/>
            <p:nvPr/>
          </p:nvGrpSpPr>
          <p:grpSpPr>
            <a:xfrm>
              <a:off x="736560" y="5265720"/>
              <a:ext cx="485640" cy="480960"/>
              <a:chOff x="736560" y="5265720"/>
              <a:chExt cx="485640" cy="480960"/>
            </a:xfrm>
          </p:grpSpPr>
          <p:sp>
            <p:nvSpPr>
              <p:cNvPr id="243" name=""/>
              <p:cNvSpPr/>
              <p:nvPr/>
            </p:nvSpPr>
            <p:spPr>
              <a:xfrm>
                <a:off x="740520" y="5378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偶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6560" y="5265720"/>
                <a:ext cx="485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ぐうす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80520" y="5342040"/>
              <a:ext cx="54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　　　　　　　　　　　　　　　　　　　　）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851000" y="5265720"/>
            <a:ext cx="4076640" cy="750240"/>
            <a:chOff x="4851000" y="5265720"/>
            <a:chExt cx="4076640" cy="750240"/>
          </a:xfrm>
        </p:grpSpPr>
        <p:grpSp>
          <p:nvGrpSpPr>
            <p:cNvPr id="247" name=""/>
            <p:cNvGrpSpPr/>
            <p:nvPr/>
          </p:nvGrpSpPr>
          <p:grpSpPr>
            <a:xfrm>
              <a:off x="4851000" y="5265720"/>
              <a:ext cx="535680" cy="475920"/>
              <a:chOff x="4851000" y="5265720"/>
              <a:chExt cx="535680" cy="475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880880" y="53733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奇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1000" y="5265720"/>
                <a:ext cx="53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き　す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364000" y="5373360"/>
              <a:ext cx="35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　　　　　　　　　　　　　　　　　　　　）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79280" y="3716280"/>
            <a:ext cx="86774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87640" y="297000"/>
            <a:ext cx="971640" cy="1022040"/>
            <a:chOff x="2087640" y="297000"/>
            <a:chExt cx="971640" cy="1022040"/>
          </a:xfrm>
        </p:grpSpPr>
        <p:sp>
          <p:nvSpPr>
            <p:cNvPr id="253" name=""/>
            <p:cNvSpPr/>
            <p:nvPr/>
          </p:nvSpPr>
          <p:spPr>
            <a:xfrm>
              <a:off x="2189160" y="533520"/>
              <a:ext cx="768240" cy="6271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2240" y="297000"/>
              <a:ext cx="623880" cy="571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421000" y="533520"/>
              <a:ext cx="304920" cy="209520"/>
            </a:xfrm>
            <a:prstGeom prst="blockArc">
              <a:avLst>
                <a:gd name="adj1" fmla="val 11238553"/>
                <a:gd name="adj2" fmla="val 21161447"/>
                <a:gd name="adj3" fmla="val 1421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10000" y="492120"/>
              <a:ext cx="172800" cy="166680"/>
            </a:xfrm>
            <a:prstGeom prst="blockArc">
              <a:avLst>
                <a:gd name="adj1" fmla="val 10893357"/>
                <a:gd name="adj2" fmla="val 21506643"/>
                <a:gd name="adj3" fmla="val 0"/>
              </a:avLst>
            </a:pr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2320" y="492120"/>
              <a:ext cx="174600" cy="166680"/>
            </a:xfrm>
            <a:prstGeom prst="blockArc">
              <a:avLst>
                <a:gd name="adj1" fmla="val 10893357"/>
                <a:gd name="adj2" fmla="val 21506643"/>
                <a:gd name="adj3" fmla="val 0"/>
              </a:avLst>
            </a:pr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4880" y="743040"/>
              <a:ext cx="21888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782800" y="687600"/>
              <a:ext cx="276480" cy="194760"/>
              <a:chOff x="2782800" y="687600"/>
              <a:chExt cx="276480" cy="19476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2782800" y="743040"/>
                <a:ext cx="21852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86920" y="687600"/>
                <a:ext cx="72360" cy="69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087640" y="687600"/>
              <a:ext cx="73080" cy="698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5400000">
              <a:off x="2496600" y="847440"/>
              <a:ext cx="153720" cy="3049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616120" y="1164600"/>
              <a:ext cx="98640" cy="154440"/>
              <a:chOff x="2616120" y="1164600"/>
              <a:chExt cx="98640" cy="154440"/>
            </a:xfrm>
          </p:grpSpPr>
          <p:sp>
            <p:nvSpPr>
              <p:cNvPr id="265" name=""/>
              <p:cNvSpPr/>
              <p:nvPr/>
            </p:nvSpPr>
            <p:spPr>
              <a:xfrm>
                <a:off x="2662920" y="1164600"/>
                <a:ext cx="0" cy="6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7364400">
                <a:off x="2630520" y="1233720"/>
                <a:ext cx="69480" cy="727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422080" y="1162440"/>
              <a:ext cx="99000" cy="156600"/>
              <a:chOff x="2422080" y="1162440"/>
              <a:chExt cx="99000" cy="15660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2468880" y="1162440"/>
                <a:ext cx="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7364400">
                <a:off x="2436120" y="1233360"/>
                <a:ext cx="70200" cy="727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3311280" y="271080"/>
            <a:ext cx="1403280" cy="717120"/>
            <a:chOff x="3311280" y="271080"/>
            <a:chExt cx="1403280" cy="717120"/>
          </a:xfrm>
        </p:grpSpPr>
        <p:sp>
          <p:nvSpPr>
            <p:cNvPr id="271" name=""/>
            <p:cNvSpPr/>
            <p:nvPr/>
          </p:nvSpPr>
          <p:spPr>
            <a:xfrm rot="627600">
              <a:off x="3347640" y="367920"/>
              <a:ext cx="1116000" cy="504720"/>
            </a:xfrm>
            <a:prstGeom prst="wedgeEllipseCallout">
              <a:avLst>
                <a:gd name="adj1" fmla="val -71837"/>
                <a:gd name="adj2" fmla="val 49361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19600">
              <a:off x="3384000" y="441000"/>
              <a:ext cx="130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ポイン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365520" y="6093000"/>
            <a:ext cx="1415160" cy="3682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は，次の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22480" y="29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偶数と奇数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43280" y="1844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０，３，６，２１，８９，１０８，３１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3280" y="1233360"/>
            <a:ext cx="4536360" cy="503280"/>
            <a:chOff x="503280" y="1233360"/>
            <a:chExt cx="4536360" cy="503280"/>
          </a:xfrm>
        </p:grpSpPr>
        <p:grpSp>
          <p:nvGrpSpPr>
            <p:cNvPr id="277" name=""/>
            <p:cNvGrpSpPr/>
            <p:nvPr/>
          </p:nvGrpSpPr>
          <p:grpSpPr>
            <a:xfrm>
              <a:off x="503280" y="1341360"/>
              <a:ext cx="4536360" cy="395280"/>
              <a:chOff x="503280" y="1341360"/>
              <a:chExt cx="4536360" cy="395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280" y="1377720"/>
                <a:ext cx="934920" cy="3589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問　 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52880" y="1341360"/>
                <a:ext cx="278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次の整数を，偶数と奇数に分けましょ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003480" y="12333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ぐう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90640" y="123336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き　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36560" y="5265720"/>
            <a:ext cx="485640" cy="480960"/>
            <a:chOff x="736560" y="5265720"/>
            <a:chExt cx="485640" cy="480960"/>
          </a:xfrm>
        </p:grpSpPr>
        <p:sp>
          <p:nvSpPr>
            <p:cNvPr id="283" name=""/>
            <p:cNvSpPr/>
            <p:nvPr/>
          </p:nvSpPr>
          <p:spPr>
            <a:xfrm>
              <a:off x="740520" y="5378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偶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6560" y="526572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ぐう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64680" y="533700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　　　　　　　　　　　　　　　）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851000" y="5265720"/>
            <a:ext cx="535680" cy="476280"/>
            <a:chOff x="4851000" y="5265720"/>
            <a:chExt cx="535680" cy="476280"/>
          </a:xfrm>
        </p:grpSpPr>
        <p:sp>
          <p:nvSpPr>
            <p:cNvPr id="287" name=""/>
            <p:cNvSpPr/>
            <p:nvPr/>
          </p:nvSpPr>
          <p:spPr>
            <a:xfrm>
              <a:off x="4880880" y="5373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奇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51000" y="526572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き　す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364000" y="537372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　　　　　　　　　　　　　　　）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37080" y="297000"/>
            <a:ext cx="3673440" cy="612720"/>
            <a:chOff x="3637080" y="297000"/>
            <a:chExt cx="3673440" cy="612720"/>
          </a:xfrm>
        </p:grpSpPr>
        <p:sp>
          <p:nvSpPr>
            <p:cNvPr id="291" name=""/>
            <p:cNvSpPr/>
            <p:nvPr/>
          </p:nvSpPr>
          <p:spPr>
            <a:xfrm>
              <a:off x="3637080" y="297000"/>
              <a:ext cx="3673440" cy="612720"/>
            </a:xfrm>
            <a:prstGeom prst="wedgeEllipseCallout">
              <a:avLst>
                <a:gd name="adj1" fmla="val -63384"/>
                <a:gd name="adj2" fmla="val -2122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46520" y="40464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２でわり切れる数が偶数だった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268360" y="189000"/>
            <a:ext cx="971640" cy="1022040"/>
            <a:chOff x="2268360" y="189000"/>
            <a:chExt cx="971640" cy="1022040"/>
          </a:xfrm>
        </p:grpSpPr>
        <p:sp>
          <p:nvSpPr>
            <p:cNvPr id="294" name=""/>
            <p:cNvSpPr/>
            <p:nvPr/>
          </p:nvSpPr>
          <p:spPr>
            <a:xfrm>
              <a:off x="2369880" y="425520"/>
              <a:ext cx="768600" cy="6271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42960" y="189000"/>
              <a:ext cx="623880" cy="571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601720" y="425520"/>
              <a:ext cx="304920" cy="209520"/>
            </a:xfrm>
            <a:prstGeom prst="blockArc">
              <a:avLst>
                <a:gd name="adj1" fmla="val 11238553"/>
                <a:gd name="adj2" fmla="val 21161447"/>
                <a:gd name="adj3" fmla="val 1421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0720" y="384120"/>
              <a:ext cx="173160" cy="166680"/>
            </a:xfrm>
            <a:prstGeom prst="blockArc">
              <a:avLst>
                <a:gd name="adj1" fmla="val 10893357"/>
                <a:gd name="adj2" fmla="val 21506643"/>
                <a:gd name="adj3" fmla="val 0"/>
              </a:avLst>
            </a:pr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43040" y="384120"/>
              <a:ext cx="174600" cy="166680"/>
            </a:xfrm>
            <a:prstGeom prst="blockArc">
              <a:avLst>
                <a:gd name="adj1" fmla="val 10893357"/>
                <a:gd name="adj2" fmla="val 21506643"/>
                <a:gd name="adj3" fmla="val 0"/>
              </a:avLst>
            </a:pr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25600" y="635040"/>
              <a:ext cx="21888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63880" y="579600"/>
              <a:ext cx="276120" cy="194760"/>
              <a:chOff x="2963880" y="579600"/>
              <a:chExt cx="276120" cy="19476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963880" y="635040"/>
                <a:ext cx="21852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67640" y="579600"/>
                <a:ext cx="72360" cy="69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268360" y="579600"/>
              <a:ext cx="73080" cy="698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5400000">
              <a:off x="2676960" y="740520"/>
              <a:ext cx="154080" cy="3049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796480" y="1055880"/>
              <a:ext cx="99000" cy="155160"/>
              <a:chOff x="2796480" y="1055880"/>
              <a:chExt cx="99000" cy="155160"/>
            </a:xfrm>
          </p:grpSpPr>
          <p:sp>
            <p:nvSpPr>
              <p:cNvPr id="306" name=""/>
              <p:cNvSpPr/>
              <p:nvPr/>
            </p:nvSpPr>
            <p:spPr>
              <a:xfrm>
                <a:off x="2843640" y="1055880"/>
                <a:ext cx="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7364400">
                <a:off x="2810880" y="1125360"/>
                <a:ext cx="69480" cy="730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602440" y="1054440"/>
              <a:ext cx="99360" cy="156600"/>
              <a:chOff x="2602440" y="1054440"/>
              <a:chExt cx="99360" cy="15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649960" y="1054440"/>
                <a:ext cx="0" cy="6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7364400">
                <a:off x="2616840" y="1125000"/>
                <a:ext cx="70200" cy="7308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6192720" y="1521000"/>
            <a:ext cx="2664000" cy="1303920"/>
            <a:chOff x="6192720" y="1521000"/>
            <a:chExt cx="2664000" cy="1303920"/>
          </a:xfrm>
        </p:grpSpPr>
        <p:grpSp>
          <p:nvGrpSpPr>
            <p:cNvPr id="312" name=""/>
            <p:cNvGrpSpPr/>
            <p:nvPr/>
          </p:nvGrpSpPr>
          <p:grpSpPr>
            <a:xfrm>
              <a:off x="8353440" y="2204640"/>
              <a:ext cx="503280" cy="620280"/>
              <a:chOff x="8353440" y="2204640"/>
              <a:chExt cx="503280" cy="620280"/>
            </a:xfrm>
          </p:grpSpPr>
          <p:sp>
            <p:nvSpPr>
              <p:cNvPr id="313" name=""/>
              <p:cNvSpPr/>
              <p:nvPr/>
            </p:nvSpPr>
            <p:spPr>
              <a:xfrm>
                <a:off x="8415360" y="2352240"/>
                <a:ext cx="441360" cy="36684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53520" y="2204640"/>
                <a:ext cx="358200" cy="334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544960" y="2342880"/>
                <a:ext cx="174960" cy="122400"/>
              </a:xfrm>
              <a:prstGeom prst="blockArc">
                <a:avLst>
                  <a:gd name="adj1" fmla="val 11238553"/>
                  <a:gd name="adj2" fmla="val 21161447"/>
                  <a:gd name="adj3" fmla="val 1421"/>
                </a:avLst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653320" y="2318760"/>
                <a:ext cx="99000" cy="97200"/>
              </a:xfrm>
              <a:prstGeom prst="blockArc">
                <a:avLst>
                  <a:gd name="adj1" fmla="val 10893357"/>
                  <a:gd name="adj2" fmla="val 21506643"/>
                  <a:gd name="adj3" fmla="val 0"/>
                </a:avLst>
              </a:prstGeom>
              <a:solidFill>
                <a:srgbClr val="bbe0e3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11120" y="2318760"/>
                <a:ext cx="100080" cy="97200"/>
              </a:xfrm>
              <a:prstGeom prst="blockArc">
                <a:avLst>
                  <a:gd name="adj1" fmla="val 10893357"/>
                  <a:gd name="adj2" fmla="val 21506643"/>
                  <a:gd name="adj3" fmla="val 0"/>
                </a:avLst>
              </a:prstGeom>
              <a:solidFill>
                <a:srgbClr val="bbe0e3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386200" y="2465280"/>
                <a:ext cx="125640" cy="81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8616600" y="2481840"/>
                <a:ext cx="167760" cy="103680"/>
                <a:chOff x="8616600" y="2481840"/>
                <a:chExt cx="167760" cy="1036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 flipV="1">
                  <a:off x="8652240" y="2514960"/>
                  <a:ext cx="13212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rot="21307800">
                  <a:off x="8617680" y="2483280"/>
                  <a:ext cx="41400" cy="4068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8353440" y="2432880"/>
                <a:ext cx="41760" cy="406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 rot="5400000">
                <a:off x="8581680" y="2540880"/>
                <a:ext cx="90000" cy="174960"/>
              </a:xfrm>
              <a:prstGeom prst="flowChartDelay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8489520" y="2714400"/>
                <a:ext cx="81360" cy="106920"/>
                <a:chOff x="8489520" y="2714400"/>
                <a:chExt cx="81360" cy="106920"/>
              </a:xfrm>
            </p:grpSpPr>
            <p:sp>
              <p:nvSpPr>
                <p:cNvPr id="325" name=""/>
                <p:cNvSpPr/>
                <p:nvPr/>
              </p:nvSpPr>
              <p:spPr>
                <a:xfrm flipH="1">
                  <a:off x="8537400" y="2714400"/>
                  <a:ext cx="33480" cy="8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7364400">
                  <a:off x="8497800" y="2772000"/>
                  <a:ext cx="40680" cy="4176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613360" y="2718720"/>
                <a:ext cx="81360" cy="106200"/>
                <a:chOff x="8613360" y="2718720"/>
                <a:chExt cx="81360" cy="10620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8661600" y="2718720"/>
                  <a:ext cx="33120" cy="8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7364400">
                  <a:off x="8621640" y="2775600"/>
                  <a:ext cx="40680" cy="4176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"/>
            <p:cNvSpPr/>
            <p:nvPr/>
          </p:nvSpPr>
          <p:spPr>
            <a:xfrm flipH="1">
              <a:off x="6192720" y="1521000"/>
              <a:ext cx="2124000" cy="863280"/>
            </a:xfrm>
            <a:prstGeom prst="cloudCallout">
              <a:avLst>
                <a:gd name="adj1" fmla="val -43722"/>
                <a:gd name="adj2" fmla="val 39888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00720" y="1628640"/>
              <a:ext cx="187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00"/>
                  </a:solidFill>
                  <a:latin typeface="Arial"/>
                </a:rPr>
                <a:t>一の位がわり切れた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00"/>
                  </a:solidFill>
                  <a:latin typeface="Arial"/>
                </a:rPr>
                <a:t>その数は偶数だ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296000" y="260028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96000" y="310500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19160" y="2529000"/>
            <a:ext cx="15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１・・・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7640" y="3033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１０・・・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3537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４４・・・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48000" y="40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１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１５６・・・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00000" y="36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０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＝５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43280" y="1989000"/>
            <a:ext cx="396720" cy="217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76360" y="1989000"/>
            <a:ext cx="397080" cy="217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35280" y="1989000"/>
            <a:ext cx="396720" cy="217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1989000"/>
            <a:ext cx="397080" cy="217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7640" y="1989000"/>
            <a:ext cx="397080" cy="217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1916280"/>
            <a:ext cx="539640" cy="288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27640" y="1952640"/>
            <a:ext cx="539640" cy="28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3280" y="2457360"/>
            <a:ext cx="0" cy="2051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4000" y="53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77640" y="537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42360" y="533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553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317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4000" y="53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０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53800" y="537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１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98840" y="765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偶数と奇数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34920" y="873000"/>
            <a:ext cx="93528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問　 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30480" y="7286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男子の人数が偶数，女子の人数が奇数のクラスの人数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数でしょうか，奇数で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36920" y="5493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ぐうす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68560" y="11253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ぐうす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89800" y="1844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男子・・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偶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9440" y="1844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女子・・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奇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19280" y="2457360"/>
            <a:ext cx="2340000" cy="647640"/>
            <a:chOff x="1619280" y="2457360"/>
            <a:chExt cx="2340000" cy="647640"/>
          </a:xfrm>
        </p:grpSpPr>
        <p:sp>
          <p:nvSpPr>
            <p:cNvPr id="362" name=""/>
            <p:cNvSpPr/>
            <p:nvPr/>
          </p:nvSpPr>
          <p:spPr>
            <a:xfrm>
              <a:off x="1619280" y="2457360"/>
              <a:ext cx="2340000" cy="647640"/>
            </a:xfrm>
            <a:prstGeom prst="rect">
              <a:avLst/>
            </a:prstGeom>
            <a:solidFill>
              <a:srgbClr val="cc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63640" y="252900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63640" y="285264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252900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1280" y="252900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87640" y="285264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11280" y="285264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11640" y="252900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11640" y="285264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5280" y="252900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5280" y="285264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8920" y="252900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22560" y="252900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98920" y="285264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22560" y="285264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11280" y="213372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　１４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09700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　１１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124000" y="4076640"/>
            <a:ext cx="4429080" cy="647640"/>
            <a:chOff x="2124000" y="4076640"/>
            <a:chExt cx="4429080" cy="647640"/>
          </a:xfrm>
        </p:grpSpPr>
        <p:sp>
          <p:nvSpPr>
            <p:cNvPr id="380" name=""/>
            <p:cNvSpPr/>
            <p:nvPr/>
          </p:nvSpPr>
          <p:spPr>
            <a:xfrm>
              <a:off x="2124000" y="4076640"/>
              <a:ext cx="4429080" cy="647640"/>
            </a:xfrm>
            <a:prstGeom prst="rect">
              <a:avLst/>
            </a:prstGeom>
            <a:solidFill>
              <a:srgbClr val="cc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464000" y="4149720"/>
              <a:ext cx="1834560" cy="503280"/>
              <a:chOff x="4464000" y="4149720"/>
              <a:chExt cx="1834560" cy="503280"/>
            </a:xfrm>
          </p:grpSpPr>
          <p:sp>
            <p:nvSpPr>
              <p:cNvPr id="382" name=""/>
              <p:cNvSpPr/>
              <p:nvPr/>
            </p:nvSpPr>
            <p:spPr>
              <a:xfrm>
                <a:off x="4464000" y="4149720"/>
                <a:ext cx="178920" cy="1792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64000" y="4473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87640" y="4149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87640" y="4473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58920" y="414972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58920" y="447372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19280" y="414972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11280" y="4149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35280" y="4149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11280" y="4473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35280" y="447372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68360" y="414828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8360" y="4471920"/>
              <a:ext cx="17964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2360" y="414828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16000" y="414828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92360" y="4471920"/>
              <a:ext cx="17928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16000" y="4471920"/>
              <a:ext cx="17964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6360" y="414828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6360" y="4471920"/>
              <a:ext cx="17928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40000" y="4148280"/>
              <a:ext cx="17964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40000" y="4471920"/>
              <a:ext cx="17964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03640" y="414828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7280" y="4148280"/>
              <a:ext cx="179280" cy="179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4471920"/>
              <a:ext cx="17928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27280" y="4471920"/>
              <a:ext cx="179280" cy="179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48360" y="2457360"/>
            <a:ext cx="2087640" cy="684360"/>
            <a:chOff x="5148360" y="2457360"/>
            <a:chExt cx="2087640" cy="684360"/>
          </a:xfrm>
        </p:grpSpPr>
        <p:sp>
          <p:nvSpPr>
            <p:cNvPr id="408" name=""/>
            <p:cNvSpPr/>
            <p:nvPr/>
          </p:nvSpPr>
          <p:spPr>
            <a:xfrm>
              <a:off x="5148360" y="2457360"/>
              <a:ext cx="2087640" cy="684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256360" y="2565360"/>
              <a:ext cx="1834560" cy="503280"/>
              <a:chOff x="5256360" y="2565360"/>
              <a:chExt cx="1834560" cy="503280"/>
            </a:xfrm>
          </p:grpSpPr>
          <p:sp>
            <p:nvSpPr>
              <p:cNvPr id="410" name=""/>
              <p:cNvSpPr/>
              <p:nvPr/>
            </p:nvSpPr>
            <p:spPr>
              <a:xfrm>
                <a:off x="5256360" y="2565360"/>
                <a:ext cx="178920" cy="1792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56360" y="2889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80000" y="2565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580000" y="2889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51280" y="256536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1280" y="288936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11640" y="2565360"/>
                <a:ext cx="17928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03640" y="2565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27640" y="2565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03640" y="2889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27640" y="2889360"/>
                <a:ext cx="178920" cy="179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3024720" y="4976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　　１４　＋　１１　＝　２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89720" y="5553000"/>
            <a:ext cx="33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偶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＋　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奇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58080" y="4097160"/>
            <a:ext cx="28872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08360" y="3824280"/>
            <a:ext cx="792360" cy="39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371628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２でわった時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１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0000" y="436572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23800" y="45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08360" y="3213000"/>
            <a:ext cx="934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040000" y="3213000"/>
            <a:ext cx="826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332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わせ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46480" y="33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偶数と奇数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3:08:17Z</dcterms:created>
  <dc:creator>kangawa-kaori-1</dc:creator>
  <dc:description/>
  <dc:language>en-US</dc:language>
  <cp:lastModifiedBy>kangawa-kaori-1</cp:lastModifiedBy>
  <dcterms:modified xsi:type="dcterms:W3CDTF">2007-11-14T06:26:42Z</dcterms:modified>
  <cp:revision>42</cp:revision>
  <dc:subject/>
  <dc:title>整数の見方</dc:title>
</cp:coreProperties>
</file>