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01E-3346-4050-804C-87B59BC0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643-9628-411C-99B7-07C5CCDF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E18-57F1-4BC9-9D17-50F080A7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BFC-051D-481C-99AA-0704CAF5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F06-474B-4E45-A56A-AAB30150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652-9940-4FAE-ABDF-1E26E522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699-2432-4871-A867-F2AFA37D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224-E7F2-4EFD-9DF7-47D2B880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724-ED81-4A46-9D61-C089B36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D86-16EC-4877-9E4C-0D1AED1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290-0652-4423-87E0-E3EE1EA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DFF-7953-4AFF-A07A-D234F12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05CF-8B75-43F3-9FE6-8ED41E75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42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391640" y="12682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056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476360" y="2997360"/>
            <a:ext cx="2664000" cy="1415520"/>
            <a:chOff x="1476360" y="2997360"/>
            <a:chExt cx="2664000" cy="1415520"/>
          </a:xfrm>
        </p:grpSpPr>
        <p:grpSp>
          <p:nvGrpSpPr>
            <p:cNvPr id="48" name=""/>
            <p:cNvGrpSpPr/>
            <p:nvPr/>
          </p:nvGrpSpPr>
          <p:grpSpPr>
            <a:xfrm>
              <a:off x="1476360" y="2997360"/>
              <a:ext cx="2664000" cy="1366560"/>
              <a:chOff x="1476360" y="2997360"/>
              <a:chExt cx="2664000" cy="1366560"/>
            </a:xfrm>
          </p:grpSpPr>
          <p:sp>
            <p:nvSpPr>
              <p:cNvPr id="49" name=""/>
              <p:cNvSpPr/>
              <p:nvPr/>
            </p:nvSpPr>
            <p:spPr>
              <a:xfrm>
                <a:off x="1476360" y="4363920"/>
                <a:ext cx="266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1476360" y="2997360"/>
                <a:ext cx="503280" cy="136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79640" y="2997360"/>
                <a:ext cx="2152800" cy="136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 flipV="1" rot="20472000">
              <a:off x="1895040" y="3071520"/>
              <a:ext cx="287280" cy="169920"/>
            </a:xfrm>
            <a:prstGeom prst="blockArc">
              <a:avLst>
                <a:gd name="adj1" fmla="val 11003852"/>
                <a:gd name="adj2" fmla="val 21396148"/>
                <a:gd name="adj3" fmla="val 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4367000">
              <a:off x="1488600" y="4201920"/>
              <a:ext cx="266400" cy="127080"/>
            </a:xfrm>
            <a:prstGeom prst="blockArc">
              <a:avLst>
                <a:gd name="adj1" fmla="val 11003852"/>
                <a:gd name="adj2" fmla="val 21396148"/>
                <a:gd name="adj3" fmla="val 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6861000">
              <a:off x="3686400" y="4235760"/>
              <a:ext cx="207720" cy="69840"/>
            </a:xfrm>
            <a:prstGeom prst="blockArc">
              <a:avLst>
                <a:gd name="adj1" fmla="val 11003852"/>
                <a:gd name="adj2" fmla="val 21396148"/>
                <a:gd name="adj3" fmla="val 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905840" y="3213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67800" y="4048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6680" y="39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04960" y="3995640"/>
            <a:ext cx="26352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700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97720" y="6093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4437000"/>
            <a:ext cx="23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216480" y="2625840"/>
            <a:ext cx="216072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2637000"/>
            <a:ext cx="50508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7921400">
            <a:off x="7980840" y="4268160"/>
            <a:ext cx="236880" cy="142920"/>
          </a:xfrm>
          <a:prstGeom prst="blockArc">
            <a:avLst>
              <a:gd name="adj1" fmla="val 11210988"/>
              <a:gd name="adj2" fmla="val 21189012"/>
              <a:gd name="adj3" fmla="val 3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9728000">
            <a:off x="6300720" y="2851920"/>
            <a:ext cx="216000" cy="144720"/>
          </a:xfrm>
          <a:prstGeom prst="blockArc">
            <a:avLst>
              <a:gd name="adj1" fmla="val 11475340"/>
              <a:gd name="adj2" fmla="val 20924660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530400">
            <a:off x="6507000" y="4241880"/>
            <a:ext cx="287280" cy="287640"/>
          </a:xfrm>
          <a:prstGeom prst="blockArc">
            <a:avLst>
              <a:gd name="adj1" fmla="val 12460349"/>
              <a:gd name="adj2" fmla="val 1993965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6920" y="4076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82440" y="2975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05320" y="39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4051440"/>
            <a:ext cx="26352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7160" y="508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58440" y="6021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91840" y="333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（問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75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391640" y="12682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056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76360" y="2997360"/>
            <a:ext cx="2664000" cy="1415520"/>
            <a:chOff x="1476360" y="2997360"/>
            <a:chExt cx="2664000" cy="1415520"/>
          </a:xfrm>
        </p:grpSpPr>
        <p:grpSp>
          <p:nvGrpSpPr>
            <p:cNvPr id="81" name=""/>
            <p:cNvGrpSpPr/>
            <p:nvPr/>
          </p:nvGrpSpPr>
          <p:grpSpPr>
            <a:xfrm>
              <a:off x="1476360" y="2997360"/>
              <a:ext cx="2664000" cy="1366560"/>
              <a:chOff x="1476360" y="2997360"/>
              <a:chExt cx="2664000" cy="1366560"/>
            </a:xfrm>
          </p:grpSpPr>
          <p:sp>
            <p:nvSpPr>
              <p:cNvPr id="82" name=""/>
              <p:cNvSpPr/>
              <p:nvPr/>
            </p:nvSpPr>
            <p:spPr>
              <a:xfrm>
                <a:off x="1476360" y="4363920"/>
                <a:ext cx="266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476360" y="2997360"/>
                <a:ext cx="503280" cy="136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79640" y="2997360"/>
                <a:ext cx="2152800" cy="136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V="1" rot="20472000">
              <a:off x="1895040" y="3071520"/>
              <a:ext cx="287280" cy="169920"/>
            </a:xfrm>
            <a:prstGeom prst="blockArc">
              <a:avLst>
                <a:gd name="adj1" fmla="val 11003852"/>
                <a:gd name="adj2" fmla="val 21396148"/>
                <a:gd name="adj3" fmla="val 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14367000">
              <a:off x="1488600" y="4201920"/>
              <a:ext cx="266400" cy="127080"/>
            </a:xfrm>
            <a:prstGeom prst="blockArc">
              <a:avLst>
                <a:gd name="adj1" fmla="val 11003852"/>
                <a:gd name="adj2" fmla="val 21396148"/>
                <a:gd name="adj3" fmla="val 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6861000">
              <a:off x="3686400" y="4235760"/>
              <a:ext cx="207720" cy="69840"/>
            </a:xfrm>
            <a:prstGeom prst="blockArc">
              <a:avLst>
                <a:gd name="adj1" fmla="val 11003852"/>
                <a:gd name="adj2" fmla="val 21396148"/>
                <a:gd name="adj3" fmla="val 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905840" y="3213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67800" y="4048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6680" y="39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04960" y="3995640"/>
            <a:ext cx="26352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97720" y="6093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4437000"/>
            <a:ext cx="23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216480" y="2625840"/>
            <a:ext cx="216072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637000"/>
            <a:ext cx="50508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7921400">
            <a:off x="7980840" y="4268160"/>
            <a:ext cx="236880" cy="142920"/>
          </a:xfrm>
          <a:prstGeom prst="blockArc">
            <a:avLst>
              <a:gd name="adj1" fmla="val 11210988"/>
              <a:gd name="adj2" fmla="val 21189012"/>
              <a:gd name="adj3" fmla="val 3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19728000">
            <a:off x="6300720" y="2851920"/>
            <a:ext cx="216000" cy="144720"/>
          </a:xfrm>
          <a:prstGeom prst="blockArc">
            <a:avLst>
              <a:gd name="adj1" fmla="val 11475340"/>
              <a:gd name="adj2" fmla="val 20924660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530400">
            <a:off x="6507000" y="4241880"/>
            <a:ext cx="287280" cy="287640"/>
          </a:xfrm>
          <a:prstGeom prst="blockArc">
            <a:avLst>
              <a:gd name="adj1" fmla="val 12460349"/>
              <a:gd name="adj2" fmla="val 1993965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66920" y="4076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82440" y="2975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05320" y="39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0880" y="4051440"/>
            <a:ext cx="26352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24240" y="51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3720" y="609300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6680" y="476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16240" y="515772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123640" y="3573000"/>
            <a:ext cx="576360" cy="1584360"/>
          </a:xfrm>
          <a:prstGeom prst="line">
            <a:avLst/>
          </a:prstGeom>
          <a:ln w="255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492000" y="4437000"/>
            <a:ext cx="71640" cy="720720"/>
          </a:xfrm>
          <a:prstGeom prst="line">
            <a:avLst/>
          </a:prstGeom>
          <a:ln w="255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9360" y="60930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７０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58320" y="514836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23800">
            <a:off x="6630840" y="4232160"/>
            <a:ext cx="287640" cy="263520"/>
          </a:xfrm>
          <a:prstGeom prst="blockArc">
            <a:avLst>
              <a:gd name="adj1" fmla="val 11609249"/>
              <a:gd name="adj2" fmla="val 20790751"/>
              <a:gd name="adj3" fmla="val 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3640" y="4005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10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948000" y="4508640"/>
            <a:ext cx="1584360" cy="720720"/>
          </a:xfrm>
          <a:prstGeom prst="line">
            <a:avLst/>
          </a:prstGeom>
          <a:ln w="1908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5280" y="552600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5°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55760" y="60721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７５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1628640"/>
            <a:ext cx="1439640" cy="100836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51640" y="20620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6840" y="1824120"/>
            <a:ext cx="432000" cy="431640"/>
          </a:xfrm>
          <a:prstGeom prst="blockArc">
            <a:avLst>
              <a:gd name="adj1" fmla="val 10526494"/>
              <a:gd name="adj2" fmla="val 273506"/>
              <a:gd name="adj3" fmla="val 0"/>
            </a:avLst>
          </a:prstGeom>
          <a:solidFill>
            <a:srgbClr val="000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62840" y="1812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746840" y="1957320"/>
            <a:ext cx="12960" cy="12240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73960" y="2205000"/>
            <a:ext cx="112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半回転・・・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18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6560" y="1987560"/>
            <a:ext cx="576360" cy="431640"/>
            <a:chOff x="466560" y="1987560"/>
            <a:chExt cx="576360" cy="431640"/>
          </a:xfrm>
        </p:grpSpPr>
        <p:grpSp>
          <p:nvGrpSpPr>
            <p:cNvPr id="124" name=""/>
            <p:cNvGrpSpPr/>
            <p:nvPr/>
          </p:nvGrpSpPr>
          <p:grpSpPr>
            <a:xfrm>
              <a:off x="509040" y="1987560"/>
              <a:ext cx="466200" cy="431640"/>
              <a:chOff x="509040" y="1987560"/>
              <a:chExt cx="466200" cy="431640"/>
            </a:xfrm>
          </p:grpSpPr>
          <p:sp>
            <p:nvSpPr>
              <p:cNvPr id="125" name=""/>
              <p:cNvSpPr/>
              <p:nvPr/>
            </p:nvSpPr>
            <p:spPr>
              <a:xfrm>
                <a:off x="509040" y="1987560"/>
                <a:ext cx="466200" cy="4316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040" y="1987560"/>
                <a:ext cx="466200" cy="43164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870480" y="2181240"/>
              <a:ext cx="90360" cy="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761400" y="2181960"/>
              <a:ext cx="71280" cy="36000"/>
              <a:chOff x="761400" y="2181960"/>
              <a:chExt cx="71280" cy="36000"/>
            </a:xfrm>
          </p:grpSpPr>
          <p:sp>
            <p:nvSpPr>
              <p:cNvPr id="129" name=""/>
              <p:cNvSpPr/>
              <p:nvPr/>
            </p:nvSpPr>
            <p:spPr>
              <a:xfrm>
                <a:off x="761400" y="2181960"/>
                <a:ext cx="71280" cy="36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1400" y="2181960"/>
                <a:ext cx="71280" cy="36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46920" y="2192760"/>
              <a:ext cx="73440" cy="36000"/>
              <a:chOff x="646920" y="2192760"/>
              <a:chExt cx="73440" cy="3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6920" y="2192760"/>
                <a:ext cx="73440" cy="36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6920" y="2192760"/>
                <a:ext cx="73440" cy="36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55200" y="2278440"/>
              <a:ext cx="180720" cy="96120"/>
              <a:chOff x="655200" y="2278440"/>
              <a:chExt cx="180720" cy="9612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200" y="2278440"/>
                <a:ext cx="180720" cy="961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5200" y="2278440"/>
                <a:ext cx="180720" cy="9612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 flipV="1">
              <a:off x="519840" y="2155680"/>
              <a:ext cx="86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 flipH="1">
              <a:off x="890280" y="2036160"/>
              <a:ext cx="15264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6560" y="2083680"/>
              <a:ext cx="77400" cy="72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87280" y="1700280"/>
            <a:ext cx="3341880" cy="480960"/>
          </a:xfrm>
          <a:prstGeom prst="wedgeEllipseCallout">
            <a:avLst>
              <a:gd name="adj1" fmla="val -50523"/>
              <a:gd name="adj2" fmla="val 5792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1771560"/>
            <a:ext cx="32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角形の３つの角の大きさの和は１８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8840" y="16095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51520" y="1582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80920" y="18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（問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146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679280" y="1197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056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6600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508640"/>
            <a:ext cx="28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692360" y="3499920"/>
            <a:ext cx="143964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132000" y="3499920"/>
            <a:ext cx="144000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21440" y="2708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二等辺三角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3949200">
            <a:off x="1949760" y="4325040"/>
            <a:ext cx="239760" cy="1141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7463000">
            <a:off x="4072320" y="4320360"/>
            <a:ext cx="239760" cy="11448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894040" y="3407760"/>
            <a:ext cx="474480" cy="360360"/>
          </a:xfrm>
          <a:prstGeom prst="blockArc">
            <a:avLst>
              <a:gd name="adj1" fmla="val 12247752"/>
              <a:gd name="adj2" fmla="val 20152248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06080" y="501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38840" y="5950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2880" y="4149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440" y="376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06720" y="3822840"/>
            <a:ext cx="26352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4508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12000" y="270792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2708280"/>
            <a:ext cx="208908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4292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4292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18400">
            <a:off x="5986080" y="2882880"/>
            <a:ext cx="287280" cy="187200"/>
          </a:xfrm>
          <a:prstGeom prst="blockArc">
            <a:avLst>
              <a:gd name="adj1" fmla="val 11445012"/>
              <a:gd name="adj2" fmla="val 20954988"/>
              <a:gd name="adj3" fmla="val 2694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977400">
            <a:off x="7886520" y="4325760"/>
            <a:ext cx="475920" cy="400320"/>
          </a:xfrm>
          <a:prstGeom prst="blockArc">
            <a:avLst>
              <a:gd name="adj1" fmla="val 12529729"/>
              <a:gd name="adj2" fmla="val 1987027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2800" y="49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25000" y="5950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2560" y="3068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92720" y="39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23320" y="3995640"/>
            <a:ext cx="26352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80920" y="18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（問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177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79280" y="1197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056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66000" y="2276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4508640"/>
            <a:ext cx="28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92360" y="3499920"/>
            <a:ext cx="143964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132000" y="3499920"/>
            <a:ext cx="144000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21440" y="2708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二等辺三角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949200">
            <a:off x="1949760" y="4325040"/>
            <a:ext cx="239760" cy="1141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7463000">
            <a:off x="4072320" y="4320360"/>
            <a:ext cx="239760" cy="11448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94040" y="3407760"/>
            <a:ext cx="474480" cy="360360"/>
          </a:xfrm>
          <a:prstGeom prst="blockArc">
            <a:avLst>
              <a:gd name="adj1" fmla="val 12247752"/>
              <a:gd name="adj2" fmla="val 20152248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080" y="501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38840" y="6021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2880" y="4149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440" y="376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06720" y="3822840"/>
            <a:ext cx="26352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508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012000" y="270792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2708280"/>
            <a:ext cx="208908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4292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9518400">
            <a:off x="5986080" y="2882880"/>
            <a:ext cx="287280" cy="187200"/>
          </a:xfrm>
          <a:prstGeom prst="blockArc">
            <a:avLst>
              <a:gd name="adj1" fmla="val 11445012"/>
              <a:gd name="adj2" fmla="val 20954988"/>
              <a:gd name="adj3" fmla="val 2694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977400">
            <a:off x="7886520" y="4325760"/>
            <a:ext cx="475920" cy="400320"/>
          </a:xfrm>
          <a:prstGeom prst="blockArc">
            <a:avLst>
              <a:gd name="adj1" fmla="val 12529729"/>
              <a:gd name="adj2" fmla="val 19870271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40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26840" y="6021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2560" y="3068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92720" y="39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23320" y="3995640"/>
            <a:ext cx="26352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6680" y="476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920" y="3024360"/>
            <a:ext cx="12780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二等辺三角形で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２つの角の大きさ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等し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8400" y="41608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2600" y="508464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0720" y="6021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１１０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300720" y="3068640"/>
            <a:ext cx="1008000" cy="1152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90160" y="2708280"/>
            <a:ext cx="1265760" cy="36828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角・・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76960" y="522936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3120" y="5661000"/>
            <a:ext cx="24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°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7080" y="6021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１４０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7091000">
            <a:off x="7741440" y="4363200"/>
            <a:ext cx="185760" cy="82800"/>
          </a:xfrm>
          <a:prstGeom prst="blockArc">
            <a:avLst>
              <a:gd name="adj1" fmla="val 10113549"/>
              <a:gd name="adj2" fmla="val 686451"/>
              <a:gd name="adj3" fmla="val 333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956360" y="4581360"/>
            <a:ext cx="431640" cy="648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79280" y="4149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80920" y="18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（問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221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57280" y="1341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66000" y="2133720"/>
            <a:ext cx="2131560" cy="11890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正三角形では，３つの角の大きさ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みんな同じ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１つの角の大きさは（　　　　　　）度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70080" y="1413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（　　　）にあてはまる数字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書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4005360"/>
            <a:ext cx="2089080" cy="1727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96920" y="595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正三角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89640" y="1341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2720" y="2781360"/>
            <a:ext cx="3065400" cy="1488240"/>
            <a:chOff x="5292720" y="2781360"/>
            <a:chExt cx="3065400" cy="1488240"/>
          </a:xfrm>
        </p:grpSpPr>
        <p:grpSp>
          <p:nvGrpSpPr>
            <p:cNvPr id="230" name=""/>
            <p:cNvGrpSpPr/>
            <p:nvPr/>
          </p:nvGrpSpPr>
          <p:grpSpPr>
            <a:xfrm>
              <a:off x="5292720" y="2781360"/>
              <a:ext cx="2114640" cy="1261800"/>
              <a:chOff x="5292720" y="2781360"/>
              <a:chExt cx="2114640" cy="1261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292720" y="2781360"/>
                <a:ext cx="1655640" cy="1261800"/>
                <a:chOff x="5292720" y="2781360"/>
                <a:chExt cx="1655640" cy="1261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292720" y="3997440"/>
                  <a:ext cx="1655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5292720" y="2784240"/>
                  <a:ext cx="452520" cy="121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756400" y="2781360"/>
                  <a:ext cx="1179360" cy="12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472360" y="3575160"/>
                  <a:ext cx="49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618160" y="3005280"/>
                  <a:ext cx="638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9921600">
                  <a:off x="5663520" y="2879640"/>
                  <a:ext cx="243000" cy="174600"/>
                </a:xfrm>
                <a:prstGeom prst="blockArc">
                  <a:avLst>
                    <a:gd name="adj1" fmla="val 10800000"/>
                    <a:gd name="adj2" fmla="val 0"/>
                    <a:gd name="adj3" fmla="val 0"/>
                  </a:avLst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437800">
                  <a:off x="5322600" y="3822840"/>
                  <a:ext cx="222120" cy="168120"/>
                </a:xfrm>
                <a:prstGeom prst="blockArc">
                  <a:avLst>
                    <a:gd name="adj1" fmla="val 10482158"/>
                    <a:gd name="adj2" fmla="val 317842"/>
                    <a:gd name="adj3" fmla="val 0"/>
                  </a:avLst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751720" y="2784600"/>
                <a:ext cx="1655640" cy="1215720"/>
                <a:chOff x="5751720" y="2784600"/>
                <a:chExt cx="1655640" cy="1215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5751720" y="2784600"/>
                  <a:ext cx="1655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6954840" y="2784600"/>
                  <a:ext cx="452520" cy="121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>
                  <a:off x="5764320" y="2796840"/>
                  <a:ext cx="1179360" cy="12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9921600">
                  <a:off x="6792840" y="3726360"/>
                  <a:ext cx="242640" cy="174600"/>
                </a:xfrm>
                <a:prstGeom prst="blockArc">
                  <a:avLst>
                    <a:gd name="adj1" fmla="val 10800000"/>
                    <a:gd name="adj2" fmla="val 0"/>
                    <a:gd name="adj3" fmla="val 0"/>
                  </a:avLst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6939000" y="4000680"/>
              <a:ext cx="141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7951400">
              <a:off x="6677640" y="3786840"/>
              <a:ext cx="301680" cy="357480"/>
            </a:xfrm>
            <a:prstGeom prst="blockArc">
              <a:avLst>
                <a:gd name="adj1" fmla="val 13267291"/>
                <a:gd name="adj2" fmla="val 19132709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755200">
              <a:off x="6811560" y="3770640"/>
              <a:ext cx="411120" cy="414360"/>
            </a:xfrm>
            <a:prstGeom prst="blockArc">
              <a:avLst>
                <a:gd name="adj1" fmla="val 13267291"/>
                <a:gd name="adj2" fmla="val 19132709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555600" y="1413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37440" y="3639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1480" y="3695760"/>
            <a:ext cx="24156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52520" y="336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61160" y="3416400"/>
            <a:ext cx="24120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90640" y="3573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11880" y="3630600"/>
            <a:ext cx="24156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62200" y="51577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70120" y="55897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70120" y="5950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37440" y="5157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51480" y="5213520"/>
            <a:ext cx="24156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42840" y="5589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51480" y="5645160"/>
            <a:ext cx="24156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30240" y="59832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1480" y="6040440"/>
            <a:ext cx="24156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8440" y="357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3516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31720" y="2205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平行四辺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80920" y="18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（問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451640" y="1916280"/>
            <a:ext cx="1440000" cy="10080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50920" y="692280"/>
            <a:ext cx="1728720" cy="396720"/>
            <a:chOff x="2050920" y="692280"/>
            <a:chExt cx="1728720" cy="396720"/>
          </a:xfrm>
        </p:grpSpPr>
        <p:sp>
          <p:nvSpPr>
            <p:cNvPr id="269" name=""/>
            <p:cNvSpPr/>
            <p:nvPr/>
          </p:nvSpPr>
          <p:spPr>
            <a:xfrm>
              <a:off x="2050920" y="692280"/>
              <a:ext cx="172656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9160" y="69228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57280" y="1341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66000" y="2133720"/>
            <a:ext cx="2131560" cy="11890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正三角形では，３つの角の大きさ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みんな同じ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１つの角の大きさは（　　　　　　）度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70080" y="1413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（　　　）にあてはまる数字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書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4005360"/>
            <a:ext cx="2089080" cy="1727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96920" y="595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正三角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89640" y="1341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292720" y="2781360"/>
            <a:ext cx="1655640" cy="1261800"/>
            <a:chOff x="5292720" y="2781360"/>
            <a:chExt cx="1655640" cy="1261800"/>
          </a:xfrm>
        </p:grpSpPr>
        <p:sp>
          <p:nvSpPr>
            <p:cNvPr id="278" name=""/>
            <p:cNvSpPr/>
            <p:nvPr/>
          </p:nvSpPr>
          <p:spPr>
            <a:xfrm>
              <a:off x="5292720" y="399744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92720" y="2784240"/>
              <a:ext cx="452520" cy="12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6400" y="2781360"/>
              <a:ext cx="1179360" cy="12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72360" y="3575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8160" y="3005280"/>
              <a:ext cx="6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9921600">
              <a:off x="5663520" y="2879640"/>
              <a:ext cx="243000" cy="1746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437800">
              <a:off x="5322600" y="3822840"/>
              <a:ext cx="222120" cy="168120"/>
            </a:xfrm>
            <a:prstGeom prst="blockArc">
              <a:avLst>
                <a:gd name="adj1" fmla="val 10482158"/>
                <a:gd name="adj2" fmla="val 317842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751720" y="2784600"/>
            <a:ext cx="1655640" cy="1215720"/>
            <a:chOff x="5751720" y="2784600"/>
            <a:chExt cx="1655640" cy="1215720"/>
          </a:xfrm>
        </p:grpSpPr>
        <p:sp>
          <p:nvSpPr>
            <p:cNvPr id="286" name=""/>
            <p:cNvSpPr/>
            <p:nvPr/>
          </p:nvSpPr>
          <p:spPr>
            <a:xfrm flipH="1">
              <a:off x="5751720" y="278460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954840" y="2784600"/>
              <a:ext cx="452520" cy="12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764320" y="2796840"/>
              <a:ext cx="1179360" cy="12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 rot="9921600">
              <a:off x="6792840" y="3726360"/>
              <a:ext cx="242640" cy="1746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939000" y="4000680"/>
            <a:ext cx="141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7951400">
            <a:off x="6712560" y="3807000"/>
            <a:ext cx="228600" cy="334800"/>
          </a:xfrm>
          <a:prstGeom prst="blockArc">
            <a:avLst>
              <a:gd name="adj1" fmla="val 13267291"/>
              <a:gd name="adj2" fmla="val 19132709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2755200">
            <a:off x="6828840" y="3767400"/>
            <a:ext cx="393840" cy="425160"/>
          </a:xfrm>
          <a:prstGeom prst="blockArc">
            <a:avLst>
              <a:gd name="adj1" fmla="val 13267291"/>
              <a:gd name="adj2" fmla="val 19132709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55600" y="1413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5600" y="363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89640" y="3693960"/>
            <a:ext cx="24120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52520" y="336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61160" y="3416400"/>
            <a:ext cx="24120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90640" y="3573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11880" y="3630600"/>
            <a:ext cx="24156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2200" y="51577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70120" y="55897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70120" y="5950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37440" y="5157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51480" y="5213520"/>
            <a:ext cx="24156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42840" y="5589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51480" y="5645160"/>
            <a:ext cx="24156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30240" y="59832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51480" y="6040440"/>
            <a:ext cx="241560" cy="26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8440" y="357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4788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26680" y="476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56520" y="35733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÷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9440" y="2986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69080" y="42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83120" y="4276800"/>
            <a:ext cx="24120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05680" y="422100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97600" y="35942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34920" y="5616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0200" y="3068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58640" y="4653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79880" y="4710240"/>
            <a:ext cx="241560" cy="261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05680" y="465300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51768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57240" y="5983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50920" y="3500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7640" y="23493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62840" y="2111400"/>
            <a:ext cx="432000" cy="431640"/>
          </a:xfrm>
          <a:prstGeom prst="blockArc">
            <a:avLst>
              <a:gd name="adj1" fmla="val 10526494"/>
              <a:gd name="adj2" fmla="val 273506"/>
              <a:gd name="adj3" fmla="val 0"/>
            </a:avLst>
          </a:prstGeom>
          <a:solidFill>
            <a:srgbClr val="000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78840" y="2100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962480" y="2244600"/>
            <a:ext cx="12600" cy="12240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89960" y="2492280"/>
            <a:ext cx="112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半回転・・・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18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16080" y="2349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平行四辺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97480" y="1989000"/>
            <a:ext cx="0" cy="4605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80920" y="18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（問題）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5:10:56Z</dcterms:created>
  <dc:creator>kangawa-kaori-1</dc:creator>
  <dc:description/>
  <dc:language>en-US</dc:language>
  <cp:lastModifiedBy>kangawa-kaori-1</cp:lastModifiedBy>
  <dcterms:modified xsi:type="dcterms:W3CDTF">2007-11-14T06:14:49Z</dcterms:modified>
  <cp:revision>33</cp:revision>
  <dc:subject/>
  <dc:title>スライド 1</dc:title>
</cp:coreProperties>
</file>