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64FF-BDB1-4EF1-9ACC-A02F69CD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F71-1B05-4556-8A07-E88D69E0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F34B-4F8C-4B72-A7C9-8C8D2CA2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0E3-89EC-4A2F-8718-840E0367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EC8-CDC3-46B9-B861-C2890B42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A57-23BE-4ADA-88FA-7C2DCE6B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662-0F03-4C9B-847D-D071B0B8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766-5B66-4063-BE01-21BA968F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97E6-1B1E-4C7C-85C2-DF6502A4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638-032C-4A02-A4FC-6BFBF294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965-C117-4F93-B9D8-1407FECC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979-2AEF-43C3-BCD8-19A2E0E4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BDCB-55CA-47B0-A012-47593E321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333360"/>
            <a:ext cx="237636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筆算のしか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125360"/>
            <a:ext cx="360360" cy="36072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60240" y="1092240"/>
            <a:ext cx="32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.7÷2.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計算の仕方を考えよ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1787400" y="269568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104920" y="2611440"/>
            <a:ext cx="1292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39920" y="25938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6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58640" y="2600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98800" y="38401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9280" y="2049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3500280"/>
            <a:ext cx="113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9800" y="2060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3116160"/>
            <a:ext cx="0" cy="360360"/>
          </a:xfrm>
          <a:prstGeom prst="line">
            <a:avLst/>
          </a:prstGeom>
          <a:ln w="15840">
            <a:solidFill>
              <a:srgbClr val="ff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365720"/>
            <a:ext cx="1117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02240" y="4344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63720" y="150984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618920" y="2927520"/>
            <a:ext cx="144360" cy="142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822400" y="2916360"/>
            <a:ext cx="14472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36640" y="3078000"/>
            <a:ext cx="360360" cy="95400"/>
          </a:xfrm>
          <a:custGeom>
            <a:avLst/>
            <a:gdLst>
              <a:gd name="textAreaLeft" fmla="*/ 63000 w 360360"/>
              <a:gd name="textAreaRight" fmla="*/ 261360 w 360360"/>
              <a:gd name="textAreaTop" fmla="*/ 12600 h 95400"/>
              <a:gd name="textAreaBottom" fmla="*/ 82800 h 9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3068640"/>
            <a:ext cx="360360" cy="95400"/>
          </a:xfrm>
          <a:custGeom>
            <a:avLst/>
            <a:gdLst>
              <a:gd name="textAreaLeft" fmla="*/ 63000 w 360360"/>
              <a:gd name="textAreaRight" fmla="*/ 261360 w 360360"/>
              <a:gd name="textAreaTop" fmla="*/ 12600 h 95400"/>
              <a:gd name="textAreaBottom" fmla="*/ 82800 h 9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4354560" y="268920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672080" y="2604600"/>
            <a:ext cx="1292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56040" y="25588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6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8640" y="2565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240080" y="2862360"/>
            <a:ext cx="14472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43200" y="2890800"/>
            <a:ext cx="14436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219640" y="2492280"/>
            <a:ext cx="358920" cy="720720"/>
            <a:chOff x="5219640" y="2492280"/>
            <a:chExt cx="358920" cy="720720"/>
          </a:xfrm>
        </p:grpSpPr>
        <p:sp>
          <p:nvSpPr>
            <p:cNvPr id="67" name=""/>
            <p:cNvSpPr/>
            <p:nvPr/>
          </p:nvSpPr>
          <p:spPr>
            <a:xfrm rot="16200000">
              <a:off x="5038560" y="2673000"/>
              <a:ext cx="720720" cy="35892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5249520" y="2579040"/>
              <a:ext cx="304920" cy="24120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91280" y="299700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91280" y="306828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580000" y="2492280"/>
            <a:ext cx="358920" cy="720720"/>
            <a:chOff x="5580000" y="2492280"/>
            <a:chExt cx="358920" cy="720720"/>
          </a:xfrm>
        </p:grpSpPr>
        <p:sp>
          <p:nvSpPr>
            <p:cNvPr id="72" name=""/>
            <p:cNvSpPr/>
            <p:nvPr/>
          </p:nvSpPr>
          <p:spPr>
            <a:xfrm rot="16200000">
              <a:off x="5398920" y="2673000"/>
              <a:ext cx="720720" cy="35892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5609880" y="2579040"/>
              <a:ext cx="304920" cy="24120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51640" y="299700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51640" y="306828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787640" y="3008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9440" y="3440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2108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13080" y="344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99000" y="3435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02240" y="3835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16800" y="15048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2.3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×10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=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93320" y="19162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66.7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×10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= 6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49200" y="5324400"/>
            <a:ext cx="53013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　　小数でわる筆算のしか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わる数とわられる数の小数点を（　　　　　　　　）だけ右にうつ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わる数を（　　　　　　　　）になおして計算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5157720"/>
            <a:ext cx="6480360" cy="1224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69880" y="5567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同じけた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80880" y="5877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整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6200" y="387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6212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筆算のしかた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41200" y="716040"/>
            <a:ext cx="53013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　　小数でわる筆算のしか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わる数とわられる数の小数点を（　　　　　　　　）だけ右にうつ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わる数を（　　　　　　　　）になおして計算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549360"/>
            <a:ext cx="6480360" cy="1224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61880" y="958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同じけた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26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整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2093760"/>
            <a:ext cx="360360" cy="360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05320" y="206064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÷3.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計算の仕方を考えよ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19440" y="249228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2741040" y="308124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059280" y="2997360"/>
            <a:ext cx="1657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93920" y="29797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13000" y="2986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577960" y="3300480"/>
            <a:ext cx="14472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8680" y="3451320"/>
            <a:ext cx="360360" cy="95040"/>
          </a:xfrm>
          <a:custGeom>
            <a:avLst/>
            <a:gdLst>
              <a:gd name="textAreaLeft" fmla="*/ 63000 w 360360"/>
              <a:gd name="textAreaRight" fmla="*/ 261360 w 360360"/>
              <a:gd name="textAreaTop" fmla="*/ 12600 h 95040"/>
              <a:gd name="textAreaBottom" fmla="*/ 82440 h 9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02040" y="3438360"/>
            <a:ext cx="360360" cy="95400"/>
          </a:xfrm>
          <a:custGeom>
            <a:avLst/>
            <a:gdLst>
              <a:gd name="textAreaLeft" fmla="*/ 63000 w 360360"/>
              <a:gd name="textAreaRight" fmla="*/ 261360 w 360360"/>
              <a:gd name="textAreaTop" fmla="*/ 12600 h 95400"/>
              <a:gd name="textAreaBottom" fmla="*/ 82800 h 9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272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64000" y="2997360"/>
            <a:ext cx="358560" cy="720720"/>
            <a:chOff x="3564000" y="2997360"/>
            <a:chExt cx="358560" cy="720720"/>
          </a:xfrm>
        </p:grpSpPr>
        <p:sp>
          <p:nvSpPr>
            <p:cNvPr id="106" name=""/>
            <p:cNvSpPr/>
            <p:nvPr/>
          </p:nvSpPr>
          <p:spPr>
            <a:xfrm rot="16200000">
              <a:off x="3382920" y="3178440"/>
              <a:ext cx="720720" cy="35856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3593520" y="3084480"/>
              <a:ext cx="304920" cy="24084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5280" y="3502080"/>
              <a:ext cx="21528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35280" y="3573360"/>
              <a:ext cx="21528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948120" y="3008160"/>
            <a:ext cx="358920" cy="720720"/>
            <a:chOff x="3948120" y="3008160"/>
            <a:chExt cx="358920" cy="720720"/>
          </a:xfrm>
        </p:grpSpPr>
        <p:sp>
          <p:nvSpPr>
            <p:cNvPr id="111" name=""/>
            <p:cNvSpPr/>
            <p:nvPr/>
          </p:nvSpPr>
          <p:spPr>
            <a:xfrm rot="16200000">
              <a:off x="3767040" y="3188880"/>
              <a:ext cx="720720" cy="358920"/>
            </a:xfrm>
            <a:prstGeom prst="flowChartDelay">
              <a:avLst/>
            </a:prstGeom>
            <a:solidFill>
              <a:srgbClr val="ffcc99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3978000" y="3094920"/>
              <a:ext cx="304920" cy="241200"/>
            </a:xfrm>
            <a:prstGeom prst="flowChartDelay">
              <a:avLst/>
            </a:pr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19760" y="351288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19760" y="3584160"/>
              <a:ext cx="21564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860640" y="2484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63880" y="350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1080" y="35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31960" y="3503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5080" y="350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400536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1800" y="250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4365720"/>
            <a:ext cx="2376360" cy="1150920"/>
          </a:xfrm>
          <a:prstGeom prst="wedgeRoundRectCallout">
            <a:avLst>
              <a:gd name="adj1" fmla="val -44587"/>
              <a:gd name="adj2" fmla="val 615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308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5680" y="4508640"/>
            <a:ext cx="156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は，出てきたと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すぐに必ず書きま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75040" y="3965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25840" y="3951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6160" y="3962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3573360"/>
            <a:ext cx="0" cy="360360"/>
          </a:xfrm>
          <a:prstGeom prst="line">
            <a:avLst/>
          </a:prstGeom>
          <a:ln w="15840">
            <a:solidFill>
              <a:srgbClr val="ff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86160" y="2492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7600" y="4340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63400" y="4354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06720" y="4343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36640" y="4338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486900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00560" y="486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2565360"/>
            <a:ext cx="2808360" cy="503280"/>
          </a:xfrm>
          <a:prstGeom prst="wedgeEllipseCallout">
            <a:avLst>
              <a:gd name="adj1" fmla="val -41805"/>
              <a:gd name="adj2" fmla="val 6987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64200" y="26370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つけたすんだ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6212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筆算のしかた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flipH="1" rot="20640000">
            <a:off x="5148000" y="5300640"/>
            <a:ext cx="876240" cy="93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7873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rot="5400000">
            <a:off x="4091040" y="285732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08560" y="277128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02160" y="278136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9800" y="2781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5600" y="215280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1353960" y="2881440"/>
            <a:ext cx="50292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671480" y="2795760"/>
            <a:ext cx="115740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65080" y="28051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3080" y="28018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48880" y="217656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7041600" y="284940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359480" y="2763360"/>
            <a:ext cx="11574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87280" y="274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７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49920" y="2770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36880" y="214488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50920" y="2205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77000" y="981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の筆算を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6212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筆算のしかた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5445000"/>
            <a:ext cx="3024000" cy="1008360"/>
          </a:xfrm>
          <a:prstGeom prst="wedgeRoundRectCallout">
            <a:avLst>
              <a:gd name="adj1" fmla="val 58083"/>
              <a:gd name="adj2" fmla="val 937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11640" y="551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わる数が整数になるように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わる数，わられる数の両方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１０倍するんだ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495200" y="5717880"/>
            <a:ext cx="893160" cy="592200"/>
            <a:chOff x="7495200" y="5717880"/>
            <a:chExt cx="893160" cy="592200"/>
          </a:xfrm>
        </p:grpSpPr>
        <p:graphicFrame>
          <p:nvGraphicFramePr>
            <p:cNvPr id="162" name=""/>
            <p:cNvGraphicFramePr/>
            <p:nvPr/>
          </p:nvGraphicFramePr>
          <p:xfrm>
            <a:off x="8261280" y="5914800"/>
            <a:ext cx="127080" cy="117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261280" y="5914800"/>
                      <a:ext cx="127080" cy="11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7651800" y="5734080"/>
              <a:ext cx="658800" cy="576000"/>
            </a:xfrm>
            <a:custGeom>
              <a:avLst/>
              <a:gdLst/>
              <a:ahLst/>
              <a:rect l="l" t="t" r="r" b="b"/>
              <a:pathLst>
                <a:path w="484" h="395">
                  <a:moveTo>
                    <a:pt x="242" y="0"/>
                  </a:moveTo>
                  <a:lnTo>
                    <a:pt x="0" y="395"/>
                  </a:lnTo>
                  <a:lnTo>
                    <a:pt x="484" y="395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51800" y="5734080"/>
              <a:ext cx="658800" cy="576000"/>
            </a:xfrm>
            <a:custGeom>
              <a:avLst/>
              <a:gdLst/>
              <a:ahLst/>
              <a:rect l="l" t="t" r="r" b="b"/>
              <a:pathLst>
                <a:path w="484" h="395">
                  <a:moveTo>
                    <a:pt x="242" y="0"/>
                  </a:moveTo>
                  <a:lnTo>
                    <a:pt x="0" y="395"/>
                  </a:lnTo>
                  <a:lnTo>
                    <a:pt x="484" y="395"/>
                  </a:lnTo>
                  <a:lnTo>
                    <a:pt x="242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8163000" y="5992560"/>
              <a:ext cx="128520" cy="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8008920" y="5994360"/>
              <a:ext cx="101520" cy="47520"/>
              <a:chOff x="8008920" y="5994360"/>
              <a:chExt cx="101520" cy="47520"/>
            </a:xfrm>
          </p:grpSpPr>
          <p:sp>
            <p:nvSpPr>
              <p:cNvPr id="168" name=""/>
              <p:cNvSpPr/>
              <p:nvPr/>
            </p:nvSpPr>
            <p:spPr>
              <a:xfrm>
                <a:off x="8008920" y="5994360"/>
                <a:ext cx="101520" cy="4752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08920" y="5994360"/>
                <a:ext cx="101520" cy="4752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846920" y="6006960"/>
              <a:ext cx="103320" cy="49320"/>
              <a:chOff x="7846920" y="6006960"/>
              <a:chExt cx="103320" cy="49320"/>
            </a:xfrm>
          </p:grpSpPr>
          <p:sp>
            <p:nvSpPr>
              <p:cNvPr id="171" name=""/>
              <p:cNvSpPr/>
              <p:nvPr/>
            </p:nvSpPr>
            <p:spPr>
              <a:xfrm>
                <a:off x="7846920" y="6006960"/>
                <a:ext cx="103320" cy="4932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46920" y="6006960"/>
                <a:ext cx="103320" cy="4932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859880" y="6121440"/>
              <a:ext cx="253800" cy="128520"/>
              <a:chOff x="7859880" y="6121440"/>
              <a:chExt cx="253800" cy="128520"/>
            </a:xfrm>
          </p:grpSpPr>
          <p:sp>
            <p:nvSpPr>
              <p:cNvPr id="174" name=""/>
              <p:cNvSpPr/>
              <p:nvPr/>
            </p:nvSpPr>
            <p:spPr>
              <a:xfrm>
                <a:off x="7859880" y="6121440"/>
                <a:ext cx="253800" cy="1285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59880" y="6121440"/>
                <a:ext cx="253800" cy="1285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 flipH="1" flipV="1">
              <a:off x="7667640" y="5957640"/>
              <a:ext cx="12240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 rot="20973000">
              <a:off x="7524360" y="5734080"/>
              <a:ext cx="20952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"/>
          <p:cNvGrpSpPr/>
          <p:nvPr/>
        </p:nvGrpSpPr>
        <p:grpSpPr>
          <a:xfrm>
            <a:off x="2627280" y="549360"/>
            <a:ext cx="1798200" cy="396720"/>
            <a:chOff x="2627280" y="549360"/>
            <a:chExt cx="1798200" cy="396720"/>
          </a:xfrm>
        </p:grpSpPr>
        <p:sp>
          <p:nvSpPr>
            <p:cNvPr id="179" name=""/>
            <p:cNvSpPr/>
            <p:nvPr/>
          </p:nvSpPr>
          <p:spPr>
            <a:xfrm>
              <a:off x="2627280" y="549360"/>
              <a:ext cx="179568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77680" y="549360"/>
              <a:ext cx="174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rot="5400000">
            <a:off x="4091040" y="2857320"/>
            <a:ext cx="50328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408560" y="2771280"/>
            <a:ext cx="1157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02160" y="278136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9800" y="2781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85600" y="215280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353960" y="2881440"/>
            <a:ext cx="50292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671480" y="2795760"/>
            <a:ext cx="115740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5080" y="28051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3080" y="28018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48880" y="217656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7041600" y="284940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359480" y="2763360"/>
            <a:ext cx="11574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53080" y="2773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49920" y="2770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36880" y="214488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2205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83760" y="105264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258560" y="3119400"/>
            <a:ext cx="14436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257200" y="3121200"/>
            <a:ext cx="144360" cy="142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12760" y="2297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65080" y="321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92360" y="367668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361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20920" y="3622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58720" y="2306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400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20920" y="400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92360" y="45086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41440" y="450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974760" y="3110040"/>
            <a:ext cx="14436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960800" y="3119400"/>
            <a:ext cx="14472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7800" y="227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17800" y="3170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9320" y="3170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27640" y="3645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97280" y="3579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9080" y="3581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38560" y="357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73480" y="227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06640" y="4011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38440" y="4013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48280" y="400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27640" y="45086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78160" y="450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914880" y="3087720"/>
            <a:ext cx="144360" cy="142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67520" y="27702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78440" y="225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67640" y="3160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34000" y="3160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3645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69080" y="364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958160" y="22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12920" y="362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46400" y="310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62120" y="26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筆算のしかた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27280" y="549360"/>
            <a:ext cx="1798200" cy="396720"/>
            <a:chOff x="2627280" y="549360"/>
            <a:chExt cx="1798200" cy="396720"/>
          </a:xfrm>
        </p:grpSpPr>
        <p:sp>
          <p:nvSpPr>
            <p:cNvPr id="237" name=""/>
            <p:cNvSpPr/>
            <p:nvPr/>
          </p:nvSpPr>
          <p:spPr>
            <a:xfrm>
              <a:off x="2627280" y="549360"/>
              <a:ext cx="179568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77680" y="549360"/>
              <a:ext cx="174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2:55:57Z</dcterms:created>
  <dc:creator>kangawa-kaori-1</dc:creator>
  <dc:description/>
  <dc:language>en-US</dc:language>
  <cp:lastModifiedBy>kangawa-kaori-1</cp:lastModifiedBy>
  <dcterms:modified xsi:type="dcterms:W3CDTF">2007-11-14T06:32:20Z</dcterms:modified>
  <cp:revision>90</cp:revision>
  <dc:subject/>
  <dc:title>スライド 1</dc:title>
</cp:coreProperties>
</file>