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B78-2E2D-424E-BA62-08EE0A15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2C4-24E5-44D4-91AF-9C09941C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F7D4-8550-4307-9125-A97413F8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D0D-0338-4641-B0A3-3E338E3D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72F-CAA3-485C-9C1C-25980135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302-E632-4236-B388-1EB49E2E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8E4-4241-4F9B-9A53-40192B0A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58C-BC4B-4694-912B-2B2B2B6F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CA7-3887-48ED-89BE-841F260D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1FF9-ADCA-4A95-86B1-B5CE0D8C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81D-59DC-48C1-A6C4-DA1B0988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AA4-16C0-4F31-9494-2F88844D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DC80-A7E5-4E85-83C5-508E79266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1280" y="333360"/>
            <a:ext cx="244800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筆算のしか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1125360"/>
            <a:ext cx="100800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2440" y="112536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8 × 3.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の筆算のしかたを考え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25280" y="1835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9960" y="23493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2320" y="280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63640" y="1844640"/>
            <a:ext cx="0" cy="93672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2720" y="1844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7400" y="2359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79760" y="28130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9440" y="1844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24120" y="23590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16480" y="281304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2133720"/>
            <a:ext cx="1152360" cy="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59280" y="2565360"/>
            <a:ext cx="1008000" cy="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23840" y="2276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2720" y="2276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440" y="2276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27813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5440" y="32130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3716280"/>
            <a:ext cx="1438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5440" y="3716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0920" y="27608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9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0560" y="31924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4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6400" y="36957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0560" y="3646440"/>
            <a:ext cx="14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6 3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29080" y="27813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9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68720" y="32130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4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54560" y="37162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9080" y="3666960"/>
            <a:ext cx="14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6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3933720"/>
            <a:ext cx="1152360" cy="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4005360"/>
            <a:ext cx="1008000" cy="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74400" y="1773360"/>
            <a:ext cx="6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÷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74400" y="3573360"/>
            <a:ext cx="6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÷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82760" y="2205000"/>
            <a:ext cx="6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÷</a:t>
            </a:r>
            <a:r>
              <a:rPr b="1" lang="zh-CN" sz="2000" spc="-1" strike="noStrike">
                <a:solidFill>
                  <a:srgbClr val="ff33cc"/>
                </a:solidFill>
                <a:latin typeface="Arial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82760" y="3645000"/>
            <a:ext cx="6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÷</a:t>
            </a:r>
            <a:r>
              <a:rPr b="1" lang="zh-CN" sz="2000" spc="-1" strike="noStrike">
                <a:solidFill>
                  <a:srgbClr val="ff33cc"/>
                </a:solidFill>
                <a:latin typeface="Arial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43000" y="191628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・１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43000" y="23493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・１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531280" y="2133720"/>
            <a:ext cx="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604360" y="213372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531280" y="2637000"/>
            <a:ext cx="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604360" y="23493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48720" y="2349360"/>
            <a:ext cx="0" cy="165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532720" y="40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43000" y="37893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・２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067280" y="4149720"/>
            <a:ext cx="576000" cy="142920"/>
          </a:xfrm>
          <a:custGeom>
            <a:avLst/>
            <a:gdLst>
              <a:gd name="textAreaLeft" fmla="*/ 100800 w 576000"/>
              <a:gd name="textAreaRight" fmla="*/ 417600 w 57600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20600" y="4187880"/>
            <a:ext cx="576360" cy="142920"/>
          </a:xfrm>
          <a:custGeom>
            <a:avLst/>
            <a:gdLst>
              <a:gd name="textAreaLeft" fmla="*/ 100800 w 576360"/>
              <a:gd name="textAreaRight" fmla="*/ 417960 w 57636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34480" y="46069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数をかける筆算のしか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37640" y="5162400"/>
            <a:ext cx="4447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．小数点がないものとみて，計算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．積の小数点から下のけた数は，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かけられる数とかける数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　小数点から下のけた数の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508640"/>
            <a:ext cx="8785080" cy="0"/>
          </a:xfrm>
          <a:prstGeom prst="line">
            <a:avLst/>
          </a:prstGeom>
          <a:ln w="381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941720"/>
            <a:ext cx="26636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14000" y="353844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66ff"/>
                </a:solidFill>
                <a:latin typeface="Arial"/>
              </a:rPr>
              <a:t>（１＋１＝２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60000" y="2781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1080" y="321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1080" y="3716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4720" y="2781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15920" y="3213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4720" y="3716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4360" y="3716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4920" y="37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19760" y="36450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32840" y="36860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74120" y="36622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6480" y="4046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筆算のしかた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63640" y="1700280"/>
            <a:ext cx="360360" cy="360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33120" y="1700280"/>
            <a:ext cx="44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５．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３．５，　２．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０．２　の計算をしてみよ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6720" y="2708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71040" y="3222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63760" y="3676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4920" y="3149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7080" y="2708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71760" y="3222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64120" y="3676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35280" y="3149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160" y="836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　練習問題　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35200" y="1159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筆算のしかた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340000" y="981000"/>
            <a:ext cx="360360" cy="360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09120" y="981000"/>
            <a:ext cx="44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５．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３．５，　２．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０．２　の計算をしてみよ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2720" y="19890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7400" y="25034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39760" y="29574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2430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3440" y="19890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47760" y="25034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1640" y="2430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3640" y="4096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　練習問題　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236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7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000" y="3355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6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8200" y="38592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000" y="385920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8 9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37920" y="20606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・１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37920" y="249408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・１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5840" y="2278080"/>
            <a:ext cx="7308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98920" y="2278080"/>
            <a:ext cx="0" cy="50328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5840" y="2781360"/>
            <a:ext cx="7308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8920" y="2494080"/>
            <a:ext cx="14436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2494080"/>
            <a:ext cx="0" cy="165564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09320" y="3933720"/>
            <a:ext cx="14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・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２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8920" y="368316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66ff"/>
                </a:solidFill>
                <a:latin typeface="Arial"/>
              </a:rPr>
              <a:t>（１＋１＝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２</a:t>
            </a:r>
            <a:r>
              <a:rPr b="1" lang="zh-CN" sz="1600" spc="-1" strike="noStrike">
                <a:solidFill>
                  <a:srgbClr val="3366ff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19600" y="294624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94160" y="292428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4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93920" y="21337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・１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93920" y="25671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・１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854840" y="2298600"/>
            <a:ext cx="73080" cy="503280"/>
            <a:chOff x="7854840" y="2298600"/>
            <a:chExt cx="73080" cy="503280"/>
          </a:xfrm>
        </p:grpSpPr>
        <p:sp>
          <p:nvSpPr>
            <p:cNvPr id="145" name=""/>
            <p:cNvSpPr/>
            <p:nvPr/>
          </p:nvSpPr>
          <p:spPr>
            <a:xfrm>
              <a:off x="7854840" y="2298600"/>
              <a:ext cx="7308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27920" y="2298600"/>
              <a:ext cx="0" cy="50328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54840" y="2801880"/>
              <a:ext cx="7308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4427280" y="4149720"/>
            <a:ext cx="21564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45560" y="2492280"/>
            <a:ext cx="14436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01080" y="2492280"/>
            <a:ext cx="0" cy="72072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885080" y="3213000"/>
            <a:ext cx="21600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19320" y="3046320"/>
            <a:ext cx="14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・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２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0400" y="29242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66ff"/>
                </a:solidFill>
                <a:latin typeface="Arial"/>
              </a:rPr>
              <a:t>（１＋１＝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3933720"/>
            <a:ext cx="36036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2840" y="5157720"/>
            <a:ext cx="1907280" cy="703800"/>
          </a:xfrm>
          <a:prstGeom prst="rect">
            <a:avLst/>
          </a:prstGeom>
          <a:solidFill>
            <a:srgbClr val="ffff99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は必ず，ななめの線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消しておくんだった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64800" y="4334040"/>
            <a:ext cx="431640" cy="142560"/>
          </a:xfrm>
          <a:custGeom>
            <a:avLst/>
            <a:gdLst>
              <a:gd name="textAreaLeft" fmla="*/ 75240 w 431640"/>
              <a:gd name="textAreaRight" fmla="*/ 312840 w 431640"/>
              <a:gd name="textAreaTop" fmla="*/ 19080 h 142560"/>
              <a:gd name="textAreaBottom" fmla="*/ 123480 h 14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345760" y="4356000"/>
            <a:ext cx="431640" cy="142920"/>
          </a:xfrm>
          <a:custGeom>
            <a:avLst/>
            <a:gdLst>
              <a:gd name="textAreaLeft" fmla="*/ 75240 w 431640"/>
              <a:gd name="textAreaRight" fmla="*/ 312840 w 4316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367320" y="3397320"/>
            <a:ext cx="432000" cy="142920"/>
          </a:xfrm>
          <a:custGeom>
            <a:avLst/>
            <a:gdLst>
              <a:gd name="textAreaLeft" fmla="*/ 75600 w 432000"/>
              <a:gd name="textAreaRight" fmla="*/ 313200 w 43200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937120" y="3397320"/>
            <a:ext cx="432000" cy="131760"/>
          </a:xfrm>
          <a:custGeom>
            <a:avLst/>
            <a:gdLst>
              <a:gd name="textAreaLeft" fmla="*/ 75600 w 432000"/>
              <a:gd name="textAreaRight" fmla="*/ 313200 w 432000"/>
              <a:gd name="textAreaTop" fmla="*/ 17640 h 131760"/>
              <a:gd name="textAreaBottom" fmla="*/ 114120 h 13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28360" y="29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69440" y="33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70160" y="3860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6480" y="4046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筆算のしかた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100800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1835280" y="907920"/>
            <a:ext cx="2160000" cy="396720"/>
            <a:chOff x="1835280" y="907920"/>
            <a:chExt cx="2160000" cy="396720"/>
          </a:xfrm>
        </p:grpSpPr>
        <p:sp>
          <p:nvSpPr>
            <p:cNvPr id="166" name=""/>
            <p:cNvSpPr/>
            <p:nvPr/>
          </p:nvSpPr>
          <p:spPr>
            <a:xfrm>
              <a:off x="1835280" y="907920"/>
              <a:ext cx="215712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95760" y="907920"/>
              <a:ext cx="20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１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59160" y="1700280"/>
            <a:ext cx="17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92400" y="2587680"/>
            <a:ext cx="10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11880" y="1700280"/>
            <a:ext cx="17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00400" y="21844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45120" y="2587680"/>
            <a:ext cx="10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20240" y="1700280"/>
            <a:ext cx="17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③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39000" y="2160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53120" y="258768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20720" y="21337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2133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1337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46480" y="4046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筆算のしかた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1835280" y="907920"/>
            <a:ext cx="2160000" cy="396720"/>
            <a:chOff x="1835280" y="907920"/>
            <a:chExt cx="2160000" cy="396720"/>
          </a:xfrm>
        </p:grpSpPr>
        <p:sp>
          <p:nvSpPr>
            <p:cNvPr id="182" name=""/>
            <p:cNvSpPr/>
            <p:nvPr/>
          </p:nvSpPr>
          <p:spPr>
            <a:xfrm>
              <a:off x="1835280" y="907920"/>
              <a:ext cx="215712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95760" y="907920"/>
              <a:ext cx="20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１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27520" y="1700280"/>
            <a:ext cx="17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60400" y="258768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96240" y="1700280"/>
            <a:ext cx="17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84760" y="21844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29120" y="2587680"/>
            <a:ext cx="10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31520" y="1700280"/>
            <a:ext cx="17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③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49920" y="2160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64400" y="2587680"/>
            <a:ext cx="10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68560" y="21337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17840" y="2133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85160" y="21225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6680" y="62064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2640" y="25560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2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7600" y="2997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8120" y="349092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3840" y="34783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9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25800" y="25653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5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65440" y="29973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7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64000" y="3500280"/>
            <a:ext cx="158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5080" y="350028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5.1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61080" y="25653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0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61640" y="1773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１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61640" y="22068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１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59080" y="1773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１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59080" y="22068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１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0080" y="1773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１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40080" y="22068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１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675640" y="1916280"/>
            <a:ext cx="73080" cy="502920"/>
            <a:chOff x="8675640" y="1916280"/>
            <a:chExt cx="73080" cy="502920"/>
          </a:xfrm>
        </p:grpSpPr>
        <p:sp>
          <p:nvSpPr>
            <p:cNvPr id="213" name=""/>
            <p:cNvSpPr/>
            <p:nvPr/>
          </p:nvSpPr>
          <p:spPr>
            <a:xfrm>
              <a:off x="8675640" y="1916280"/>
              <a:ext cx="7308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748720" y="1916280"/>
              <a:ext cx="0" cy="5029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75640" y="2419200"/>
              <a:ext cx="7308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8766000" y="2109960"/>
            <a:ext cx="1447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921880" y="2109960"/>
            <a:ext cx="0" cy="72072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8705880" y="2830680"/>
            <a:ext cx="21600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41480" y="1989000"/>
            <a:ext cx="7308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14560" y="1989000"/>
            <a:ext cx="0" cy="50328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1480" y="2492280"/>
            <a:ext cx="7308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14560" y="2205000"/>
            <a:ext cx="1447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59280" y="2205000"/>
            <a:ext cx="0" cy="165564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843280" y="3860640"/>
            <a:ext cx="21600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32440" y="1944720"/>
            <a:ext cx="7308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05520" y="1944720"/>
            <a:ext cx="0" cy="50328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32440" y="2448000"/>
            <a:ext cx="7308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05520" y="2160720"/>
            <a:ext cx="14436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49880" y="2160720"/>
            <a:ext cx="0" cy="165564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933880" y="3816360"/>
            <a:ext cx="21564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04680" y="3645000"/>
            <a:ext cx="11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２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01760" y="3573360"/>
            <a:ext cx="11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２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37040" y="2637000"/>
            <a:ext cx="11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２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475640" y="3933720"/>
            <a:ext cx="431640" cy="142920"/>
          </a:xfrm>
          <a:custGeom>
            <a:avLst/>
            <a:gdLst>
              <a:gd name="textAreaLeft" fmla="*/ 75240 w 431640"/>
              <a:gd name="textAreaRight" fmla="*/ 312840 w 4316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042920" y="3933720"/>
            <a:ext cx="432000" cy="142920"/>
          </a:xfrm>
          <a:custGeom>
            <a:avLst/>
            <a:gdLst>
              <a:gd name="textAreaLeft" fmla="*/ 75600 w 432000"/>
              <a:gd name="textAreaRight" fmla="*/ 313200 w 43200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571280" y="4005360"/>
            <a:ext cx="431640" cy="142920"/>
          </a:xfrm>
          <a:custGeom>
            <a:avLst/>
            <a:gdLst>
              <a:gd name="textAreaLeft" fmla="*/ 75240 w 431640"/>
              <a:gd name="textAreaRight" fmla="*/ 312840 w 4316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138560" y="4005360"/>
            <a:ext cx="432000" cy="142920"/>
          </a:xfrm>
          <a:custGeom>
            <a:avLst/>
            <a:gdLst>
              <a:gd name="textAreaLeft" fmla="*/ 75600 w 432000"/>
              <a:gd name="textAreaRight" fmla="*/ 313200 w 43200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379640" y="3068640"/>
            <a:ext cx="431640" cy="142920"/>
          </a:xfrm>
          <a:custGeom>
            <a:avLst/>
            <a:gdLst>
              <a:gd name="textAreaLeft" fmla="*/ 75240 w 431640"/>
              <a:gd name="textAreaRight" fmla="*/ 312840 w 4316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946200" y="3068640"/>
            <a:ext cx="431640" cy="142920"/>
          </a:xfrm>
          <a:custGeom>
            <a:avLst/>
            <a:gdLst>
              <a:gd name="textAreaLeft" fmla="*/ 75240 w 431640"/>
              <a:gd name="textAreaRight" fmla="*/ 312840 w 4316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33080" y="2565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01800" y="2565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1440" y="3068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37080" y="2565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41440" y="3500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81080" y="3500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97280" y="35002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66ff"/>
                </a:solidFill>
                <a:latin typeface="Arial"/>
              </a:rPr>
              <a:t>（１＋１＝２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92920" y="34290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66ff"/>
                </a:solidFill>
                <a:latin typeface="Arial"/>
              </a:rPr>
              <a:t>（１＋１＝２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830000" y="24922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66ff"/>
                </a:solidFill>
                <a:latin typeface="Arial"/>
              </a:rPr>
              <a:t>（１＋１＝２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51200" y="4046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筆算のしかた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1835280" y="907920"/>
            <a:ext cx="2160000" cy="396720"/>
            <a:chOff x="1835280" y="907920"/>
            <a:chExt cx="2160000" cy="396720"/>
          </a:xfrm>
        </p:grpSpPr>
        <p:sp>
          <p:nvSpPr>
            <p:cNvPr id="251" name=""/>
            <p:cNvSpPr/>
            <p:nvPr/>
          </p:nvSpPr>
          <p:spPr>
            <a:xfrm>
              <a:off x="1835280" y="907920"/>
              <a:ext cx="215712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95760" y="907920"/>
              <a:ext cx="20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１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019520" y="1773360"/>
            <a:ext cx="17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08040" y="2257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52760" y="2660760"/>
            <a:ext cx="10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39160" y="1700280"/>
            <a:ext cx="17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57560" y="2160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72040" y="2587680"/>
            <a:ext cx="10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57320" y="22068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92440" y="21337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31520" y="1700280"/>
            <a:ext cx="17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③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649920" y="2160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64400" y="2587680"/>
            <a:ext cx="10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70760" y="21337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46480" y="4046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筆算のしかた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164360" y="5445000"/>
            <a:ext cx="936720" cy="8683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925800" y="5589720"/>
            <a:ext cx="2568960" cy="703800"/>
          </a:xfrm>
          <a:prstGeom prst="rect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数点をどこに　うてばいいか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よく考えよう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1835280" y="907920"/>
            <a:ext cx="2160000" cy="396720"/>
            <a:chOff x="1835280" y="907920"/>
            <a:chExt cx="2160000" cy="396720"/>
          </a:xfrm>
        </p:grpSpPr>
        <p:sp>
          <p:nvSpPr>
            <p:cNvPr id="269" name=""/>
            <p:cNvSpPr/>
            <p:nvPr/>
          </p:nvSpPr>
          <p:spPr>
            <a:xfrm>
              <a:off x="1835280" y="907920"/>
              <a:ext cx="215712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95760" y="907920"/>
              <a:ext cx="20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１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396240" y="1700280"/>
            <a:ext cx="17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14640" y="2160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029120" y="2587680"/>
            <a:ext cx="10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35480" y="21337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11040" y="69228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3520" y="1773360"/>
            <a:ext cx="17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32040" y="22575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76400" y="2660760"/>
            <a:ext cx="10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03280" y="22068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73080" y="26370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7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1280" y="30700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5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98560" y="3573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3573360"/>
            <a:ext cx="14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9.9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666800" y="4016520"/>
            <a:ext cx="432000" cy="142560"/>
          </a:xfrm>
          <a:custGeom>
            <a:avLst/>
            <a:gdLst>
              <a:gd name="textAreaLeft" fmla="*/ 75600 w 432000"/>
              <a:gd name="textAreaRight" fmla="*/ 313200 w 432000"/>
              <a:gd name="textAreaTop" fmla="*/ 19080 h 142560"/>
              <a:gd name="textAreaBottom" fmla="*/ 123480 h 14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231200" y="4033800"/>
            <a:ext cx="431640" cy="142920"/>
          </a:xfrm>
          <a:custGeom>
            <a:avLst/>
            <a:gdLst>
              <a:gd name="textAreaLeft" fmla="*/ 75240 w 431640"/>
              <a:gd name="textAreaRight" fmla="*/ 312840 w 4316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59160" y="2546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2360" y="2995560"/>
            <a:ext cx="134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60640" y="35002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06720" y="3427560"/>
            <a:ext cx="14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0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644360" y="3932280"/>
            <a:ext cx="431640" cy="142920"/>
          </a:xfrm>
          <a:custGeom>
            <a:avLst/>
            <a:gdLst>
              <a:gd name="textAreaLeft" fmla="*/ 75240 w 431640"/>
              <a:gd name="textAreaRight" fmla="*/ 312840 w 4316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210920" y="3932280"/>
            <a:ext cx="431640" cy="142920"/>
          </a:xfrm>
          <a:custGeom>
            <a:avLst/>
            <a:gdLst>
              <a:gd name="textAreaLeft" fmla="*/ 75240 w 431640"/>
              <a:gd name="textAreaRight" fmla="*/ 312840 w 4316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92360" y="3716280"/>
            <a:ext cx="36036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3500280"/>
            <a:ext cx="36036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84720" y="3500280"/>
            <a:ext cx="36036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9080" y="18446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１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79080" y="22780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１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59280" y="2060640"/>
            <a:ext cx="727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2060640"/>
            <a:ext cx="0" cy="50328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59280" y="2563920"/>
            <a:ext cx="727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32000" y="2276640"/>
            <a:ext cx="1447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2276640"/>
            <a:ext cx="0" cy="165564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060720" y="3932280"/>
            <a:ext cx="21600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22120" y="3716280"/>
            <a:ext cx="11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２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59080" y="17002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１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59080" y="21337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１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38920" y="1916280"/>
            <a:ext cx="7308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12000" y="1916280"/>
            <a:ext cx="0" cy="50292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38920" y="2419200"/>
            <a:ext cx="7308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12000" y="2131920"/>
            <a:ext cx="14436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56360" y="2131920"/>
            <a:ext cx="0" cy="16560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940360" y="3787920"/>
            <a:ext cx="21600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01760" y="3571920"/>
            <a:ext cx="11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２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13280" y="357336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66ff"/>
                </a:solidFill>
                <a:latin typeface="Arial"/>
              </a:rPr>
              <a:t>（１＋１＝２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0800" y="342756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66ff"/>
                </a:solidFill>
                <a:latin typeface="Arial"/>
              </a:rPr>
              <a:t>（１＋１＝２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31520" y="1700280"/>
            <a:ext cx="17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③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649920" y="2160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64400" y="2587680"/>
            <a:ext cx="10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70760" y="21337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21440" y="2565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27640" y="2995560"/>
            <a:ext cx="134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595920" y="35002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732720" y="3429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7379640" y="3932280"/>
            <a:ext cx="431640" cy="142920"/>
          </a:xfrm>
          <a:custGeom>
            <a:avLst/>
            <a:gdLst>
              <a:gd name="textAreaLeft" fmla="*/ 75240 w 431640"/>
              <a:gd name="textAreaRight" fmla="*/ 312840 w 4316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6946200" y="3932280"/>
            <a:ext cx="431640" cy="142920"/>
          </a:xfrm>
          <a:custGeom>
            <a:avLst/>
            <a:gdLst>
              <a:gd name="textAreaLeft" fmla="*/ 75240 w 431640"/>
              <a:gd name="textAreaRight" fmla="*/ 312840 w 4316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307280" y="3500280"/>
            <a:ext cx="36036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20000" y="3500280"/>
            <a:ext cx="36036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794360" y="17002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１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794360" y="21337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１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674200" y="1916280"/>
            <a:ext cx="7308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747280" y="1916280"/>
            <a:ext cx="0" cy="50292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674200" y="2419200"/>
            <a:ext cx="7308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747280" y="2131920"/>
            <a:ext cx="14436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891640" y="2131920"/>
            <a:ext cx="0" cy="16560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8675640" y="3787920"/>
            <a:ext cx="21600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637040" y="3571920"/>
            <a:ext cx="11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・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２け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76080" y="342756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66ff"/>
                </a:solidFill>
                <a:latin typeface="Arial"/>
              </a:rPr>
              <a:t>（１＋１＝２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06840" y="4046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筆算のしかた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06:06:39Z</dcterms:created>
  <dc:creator>kangawa-kaori-1</dc:creator>
  <dc:description/>
  <dc:language>en-US</dc:language>
  <cp:lastModifiedBy>kangawa-kaori-1</cp:lastModifiedBy>
  <dcterms:modified xsi:type="dcterms:W3CDTF">2007-11-14T06:31:45Z</dcterms:modified>
  <cp:revision>42</cp:revision>
  <dc:subject/>
  <dc:title>スライド 1</dc:title>
</cp:coreProperties>
</file>