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E39-853C-4BA3-8458-4379D9E4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85D-FCFA-40DE-A3A3-76508B93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1F5-7C78-44D1-A7D4-67386DBD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A53-37B8-4D32-92A5-EC043D53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F1B-C336-42A7-93A8-96FF2BB1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BFD-81AF-4BB6-A60D-79C440F2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74C-F208-468E-9392-7AECCD8D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700-7191-4C53-A506-7B9E41F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559-027D-406E-B2BC-791A35B3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A4B-0048-4BE8-A17B-165E002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A3F-E078-4484-9B80-7F954159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647-D59F-476E-9780-8E7D8DC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86C-7749-494A-A97B-4DBF63F6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404640"/>
            <a:ext cx="244620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わり進む筆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38160" y="1557360"/>
            <a:ext cx="49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÷ 1.5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÷2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計算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　　　　　　　　　　わり切れるまでし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15573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536120" y="341136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54360" y="332532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0440" y="33177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55600" y="33051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58640" y="366408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407960" y="363204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28840" y="2824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3120" y="3857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09760" y="38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4720" y="4346640"/>
            <a:ext cx="1104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320" y="5176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38160" y="2833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07960" y="4348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89080" y="52102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34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4880" y="4735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27120" y="3200400"/>
            <a:ext cx="358920" cy="720720"/>
            <a:chOff x="2427120" y="3200400"/>
            <a:chExt cx="358920" cy="720720"/>
          </a:xfrm>
        </p:grpSpPr>
        <p:sp>
          <p:nvSpPr>
            <p:cNvPr id="61" name=""/>
            <p:cNvSpPr/>
            <p:nvPr/>
          </p:nvSpPr>
          <p:spPr>
            <a:xfrm rot="16200000">
              <a:off x="2246040" y="338112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2457000" y="328716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98760" y="370512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98760" y="377640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66560" y="38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2860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81440" y="391464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70120" y="4735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11560" y="47354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4884840" y="34304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02360" y="3348000"/>
            <a:ext cx="16747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8440" y="33368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3600" y="3324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579640" y="366876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54160" y="366552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2752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9720" y="3854520"/>
            <a:ext cx="7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89320" y="386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92720" y="4357800"/>
            <a:ext cx="15177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0840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51640" y="4281480"/>
            <a:ext cx="8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437080" y="5207040"/>
            <a:ext cx="1449360" cy="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84640" y="3328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8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13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00760" y="28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3716280"/>
            <a:ext cx="0" cy="64944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8480" y="521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3560" y="474516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46800" y="4280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67320" y="2863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8480" y="473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6608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進む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7308720" y="5516640"/>
            <a:ext cx="974880" cy="669600"/>
            <a:chOff x="7308720" y="5516640"/>
            <a:chExt cx="974880" cy="669600"/>
          </a:xfrm>
        </p:grpSpPr>
        <p:graphicFrame>
          <p:nvGraphicFramePr>
            <p:cNvPr id="95" name=""/>
            <p:cNvGraphicFramePr/>
            <p:nvPr/>
          </p:nvGraphicFramePr>
          <p:xfrm>
            <a:off x="7308720" y="5693040"/>
            <a:ext cx="138240" cy="13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08720" y="5693040"/>
                      <a:ext cx="138240" cy="1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7" name=""/>
            <p:cNvGrpSpPr/>
            <p:nvPr/>
          </p:nvGrpSpPr>
          <p:grpSpPr>
            <a:xfrm>
              <a:off x="7404120" y="5538960"/>
              <a:ext cx="712800" cy="647280"/>
              <a:chOff x="7404120" y="5538960"/>
              <a:chExt cx="712800" cy="647280"/>
            </a:xfrm>
          </p:grpSpPr>
          <p:sp>
            <p:nvSpPr>
              <p:cNvPr id="98" name=""/>
              <p:cNvSpPr/>
              <p:nvPr/>
            </p:nvSpPr>
            <p:spPr>
              <a:xfrm>
                <a:off x="7404120" y="553896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04120" y="553896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V="1">
              <a:off x="7956720" y="5829120"/>
              <a:ext cx="13788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790040" y="5830920"/>
              <a:ext cx="109440" cy="54000"/>
              <a:chOff x="7790040" y="5830920"/>
              <a:chExt cx="109440" cy="5400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0040" y="583092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90040" y="583092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7615440" y="5847120"/>
              <a:ext cx="112680" cy="53640"/>
              <a:chOff x="7615440" y="5847120"/>
              <a:chExt cx="112680" cy="53640"/>
            </a:xfrm>
          </p:grpSpPr>
          <p:sp>
            <p:nvSpPr>
              <p:cNvPr id="105" name=""/>
              <p:cNvSpPr/>
              <p:nvPr/>
            </p:nvSpPr>
            <p:spPr>
              <a:xfrm>
                <a:off x="7615440" y="5847120"/>
                <a:ext cx="112680" cy="5364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15440" y="5847120"/>
                <a:ext cx="112680" cy="5364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7628040" y="5975640"/>
              <a:ext cx="276120" cy="144360"/>
              <a:chOff x="7628040" y="5975640"/>
              <a:chExt cx="276120" cy="14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7628040" y="5975640"/>
                <a:ext cx="27612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28040" y="5975640"/>
                <a:ext cx="27612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 flipV="1">
              <a:off x="7421760" y="5790960"/>
              <a:ext cx="13176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 flipH="1">
              <a:off x="7996320" y="5516640"/>
              <a:ext cx="28728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216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980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671480" y="2795760"/>
            <a:ext cx="115740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9280" y="27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3080" y="2801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7041600" y="28494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359480" y="2763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308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49920" y="2770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3688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2205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45000" y="1052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筆算を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5445000"/>
            <a:ext cx="3024000" cy="1008360"/>
          </a:xfrm>
          <a:prstGeom prst="wedgeRoundRectCallout">
            <a:avLst>
              <a:gd name="adj1" fmla="val 58083"/>
              <a:gd name="adj2" fmla="val 93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551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わる数が整数になるよう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わる数，わられる数の両方に同じ数をかけるんだ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6608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進む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133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08560" y="2774880"/>
            <a:ext cx="156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216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980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1480" y="2798640"/>
            <a:ext cx="151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9280" y="27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3080" y="2801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740640" y="284940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058160" y="2759040"/>
            <a:ext cx="17730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514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48240" y="2770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3520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6680" y="620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31560" y="314172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52600" y="279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7920" y="2301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58720" y="32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928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10120" y="3246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374652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9360" y="376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70000" y="376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5600" y="230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54280" y="376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12960" y="23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1960" y="4091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82600" y="4091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4092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4581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8040" y="4502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968640" y="312732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730400" y="312732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27600" y="2284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7360" y="2262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24240" y="276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8760" y="2281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90960" y="3178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498920" y="3677760"/>
            <a:ext cx="1382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49560" y="36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3720" y="36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84520" y="3633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3080" y="4127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08640" y="401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9240" y="3795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1000" y="4005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21000" y="401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60720" y="3963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03760" y="451764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21240" y="44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602040" y="311616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39040" y="2768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21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9200" y="2284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29560" y="2766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69160" y="2281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2776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0480" y="3192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70480" y="3224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078680" y="3703680"/>
            <a:ext cx="12542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2776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18160" y="372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16840" y="37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40600" y="227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18280" y="4137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50080" y="412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308720" y="4614840"/>
            <a:ext cx="14796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38800" y="4621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61240" y="4621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08800" y="461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07360" y="227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35800" y="505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52280" y="5013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42040" y="5072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59440" y="5072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73880" y="5583240"/>
            <a:ext cx="14796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1852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47360" y="4076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6608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進む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217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5:57Z</dcterms:created>
  <dc:creator>kangawa-kaori-1</dc:creator>
  <dc:description/>
  <dc:language>en-US</dc:language>
  <cp:lastModifiedBy>kangawa-kaori-1</cp:lastModifiedBy>
  <dcterms:modified xsi:type="dcterms:W3CDTF">2007-11-14T06:33:18Z</dcterms:modified>
  <cp:revision>87</cp:revision>
  <dc:subject/>
  <dc:title>スライド 1</dc:title>
</cp:coreProperties>
</file>