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0C8-6208-4125-A379-8829843C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08B-3243-4133-A173-5422D388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2CB-7247-4C85-8A4E-3703584B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6C3-3777-45FA-B687-E3CA3FAA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41B-395F-4CA0-9226-5F6BC49D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38E-6311-4F75-A972-40A283BE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295-C93A-44D5-A319-025BE6E3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275-0982-42E2-B202-F42A17EE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924-0229-4E76-8B4F-3C5C6B4A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B02-97E9-42A5-AA07-0B2D1AFE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09E-3B58-4D8C-8C2A-CF831BE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5FF-F1F3-4D08-9EA1-68670CB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C8A3-5264-4C62-8B1D-EF0F23585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620640"/>
            <a:ext cx="4248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商を四捨五入で表す計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148428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47120" y="1484280"/>
            <a:ext cx="33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6÷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商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捨五入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 の位までの概数で表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27080" y="183024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132000" y="301608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449520" y="2925720"/>
            <a:ext cx="15638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43120" y="29401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51120" y="29368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003120" y="330516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773160" y="329400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83080" y="2381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0280" y="3944880"/>
            <a:ext cx="10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98560" y="3911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3452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24280" y="2378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1160" y="2379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38320" y="390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14680" y="4830480"/>
            <a:ext cx="15415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27480" y="3903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357080" y="1341360"/>
            <a:ext cx="464040" cy="652680"/>
            <a:chOff x="4357080" y="1341360"/>
            <a:chExt cx="464040" cy="652680"/>
          </a:xfrm>
        </p:grpSpPr>
        <p:sp>
          <p:nvSpPr>
            <p:cNvPr id="62" name=""/>
            <p:cNvSpPr/>
            <p:nvPr/>
          </p:nvSpPr>
          <p:spPr>
            <a:xfrm>
              <a:off x="4425480" y="134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75080" y="1661760"/>
              <a:ext cx="42696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57080" y="1595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141720" y="3406680"/>
            <a:ext cx="287280" cy="71640"/>
          </a:xfrm>
          <a:custGeom>
            <a:avLst/>
            <a:gdLst>
              <a:gd name="textAreaLeft" fmla="*/ 50040 w 287280"/>
              <a:gd name="textAreaRight" fmla="*/ 208440 w 287280"/>
              <a:gd name="textAreaTop" fmla="*/ 9360 h 71640"/>
              <a:gd name="textAreaBottom" fmla="*/ 6228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48120" y="3406680"/>
            <a:ext cx="287280" cy="71640"/>
          </a:xfrm>
          <a:custGeom>
            <a:avLst/>
            <a:gdLst>
              <a:gd name="textAreaLeft" fmla="*/ 50040 w 287280"/>
              <a:gd name="textAreaRight" fmla="*/ 208440 w 287280"/>
              <a:gd name="textAreaTop" fmla="*/ 9360 h 71640"/>
              <a:gd name="textAreaBottom" fmla="*/ 6228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933720" y="2863800"/>
            <a:ext cx="358920" cy="720720"/>
            <a:chOff x="3933720" y="2863800"/>
            <a:chExt cx="358920" cy="720720"/>
          </a:xfrm>
        </p:grpSpPr>
        <p:sp>
          <p:nvSpPr>
            <p:cNvPr id="68" name=""/>
            <p:cNvSpPr/>
            <p:nvPr/>
          </p:nvSpPr>
          <p:spPr>
            <a:xfrm rot="16200000">
              <a:off x="3752640" y="304452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3963600" y="295056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05360" y="336852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05360" y="343980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764160" y="3429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7000" y="3541680"/>
            <a:ext cx="0" cy="360360"/>
          </a:xfrm>
          <a:prstGeom prst="line">
            <a:avLst/>
          </a:prstGeom>
          <a:ln w="158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0600" y="4313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0800" y="4309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16080" y="4303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74800" y="4303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35160" y="48085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82800" y="480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9360" y="2416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70360" y="3541680"/>
            <a:ext cx="0" cy="1241280"/>
          </a:xfrm>
          <a:prstGeom prst="line">
            <a:avLst/>
          </a:prstGeom>
          <a:ln w="158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5286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77680" y="5222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66400" y="5284800"/>
            <a:ext cx="8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481560" y="5788080"/>
            <a:ext cx="15634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01880" y="5759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0720" y="2513160"/>
            <a:ext cx="360360" cy="35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21000" y="2503440"/>
            <a:ext cx="36036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000" y="1974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45280" y="578484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3000" y="3605040"/>
            <a:ext cx="3121920" cy="1868400"/>
            <a:chOff x="153000" y="3605040"/>
            <a:chExt cx="3121920" cy="1868400"/>
          </a:xfrm>
        </p:grpSpPr>
        <p:sp>
          <p:nvSpPr>
            <p:cNvPr id="92" name=""/>
            <p:cNvSpPr/>
            <p:nvPr/>
          </p:nvSpPr>
          <p:spPr>
            <a:xfrm>
              <a:off x="755640" y="4033800"/>
              <a:ext cx="2519280" cy="1439640"/>
            </a:xfrm>
            <a:prstGeom prst="wedgeRectCallout">
              <a:avLst>
                <a:gd name="adj1" fmla="val -48740"/>
                <a:gd name="adj2" fmla="val 60254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52480" y="4033800"/>
              <a:ext cx="242244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　 の位までの概数で表すということは，その一つ下の　　　の位まで求めて四捨五入するんだった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3400" y="4002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2480" y="4282920"/>
              <a:ext cx="299880" cy="32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2920" y="42224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90520" y="463860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58840" y="4919400"/>
              <a:ext cx="374760" cy="32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1080" y="4848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9948800">
              <a:off x="178920" y="3817440"/>
              <a:ext cx="1008000" cy="3603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46440 h 360360"/>
                <a:gd name="textAreaBottom" fmla="*/ 3139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457000">
              <a:off x="403920" y="3789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ヒ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923600" y="2146320"/>
            <a:ext cx="969120" cy="664920"/>
            <a:chOff x="7923600" y="2146320"/>
            <a:chExt cx="969120" cy="664920"/>
          </a:xfrm>
        </p:grpSpPr>
        <p:graphicFrame>
          <p:nvGraphicFramePr>
            <p:cNvPr id="103" name=""/>
            <p:cNvGraphicFramePr/>
            <p:nvPr/>
          </p:nvGraphicFramePr>
          <p:xfrm>
            <a:off x="8754480" y="2366640"/>
            <a:ext cx="138240" cy="13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54480" y="2366640"/>
                      <a:ext cx="138240" cy="13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5" name=""/>
            <p:cNvGrpSpPr/>
            <p:nvPr/>
          </p:nvGrpSpPr>
          <p:grpSpPr>
            <a:xfrm>
              <a:off x="8094960" y="2163600"/>
              <a:ext cx="713520" cy="647640"/>
              <a:chOff x="8094960" y="2163600"/>
              <a:chExt cx="713520" cy="647640"/>
            </a:xfrm>
          </p:grpSpPr>
          <p:sp>
            <p:nvSpPr>
              <p:cNvPr id="106" name=""/>
              <p:cNvSpPr/>
              <p:nvPr/>
            </p:nvSpPr>
            <p:spPr>
              <a:xfrm>
                <a:off x="8094960" y="2163600"/>
                <a:ext cx="713520" cy="64764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94960" y="2163600"/>
                <a:ext cx="713520" cy="64764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 flipV="1">
              <a:off x="8648640" y="2453760"/>
              <a:ext cx="13824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8480880" y="2455920"/>
              <a:ext cx="110520" cy="54000"/>
              <a:chOff x="8480880" y="2455920"/>
              <a:chExt cx="110520" cy="54000"/>
            </a:xfrm>
          </p:grpSpPr>
          <p:sp>
            <p:nvSpPr>
              <p:cNvPr id="110" name=""/>
              <p:cNvSpPr/>
              <p:nvPr/>
            </p:nvSpPr>
            <p:spPr>
              <a:xfrm>
                <a:off x="8480880" y="245592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480880" y="2455920"/>
                <a:ext cx="11052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306640" y="2471040"/>
              <a:ext cx="111600" cy="54000"/>
              <a:chOff x="8306640" y="2471040"/>
              <a:chExt cx="111600" cy="54000"/>
            </a:xfrm>
          </p:grpSpPr>
          <p:sp>
            <p:nvSpPr>
              <p:cNvPr id="113" name=""/>
              <p:cNvSpPr/>
              <p:nvPr/>
            </p:nvSpPr>
            <p:spPr>
              <a:xfrm>
                <a:off x="8306640" y="247104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06640" y="2471040"/>
                <a:ext cx="111600" cy="540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8318880" y="2599920"/>
              <a:ext cx="276480" cy="144720"/>
              <a:chOff x="8318880" y="2599920"/>
              <a:chExt cx="276480" cy="144720"/>
            </a:xfrm>
          </p:grpSpPr>
          <p:sp>
            <p:nvSpPr>
              <p:cNvPr id="116" name=""/>
              <p:cNvSpPr/>
              <p:nvPr/>
            </p:nvSpPr>
            <p:spPr>
              <a:xfrm>
                <a:off x="8318880" y="2599920"/>
                <a:ext cx="27648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318880" y="2599920"/>
                <a:ext cx="276480" cy="1447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H="1" flipV="1">
              <a:off x="8112240" y="2415240"/>
              <a:ext cx="13104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 rot="20973000">
              <a:off x="7956720" y="2163240"/>
              <a:ext cx="226800" cy="38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 flipH="1">
            <a:off x="5796000" y="1949400"/>
            <a:ext cx="2232000" cy="717480"/>
          </a:xfrm>
          <a:prstGeom prst="wedgeEllipseCallout">
            <a:avLst>
              <a:gd name="adj1" fmla="val -53416"/>
              <a:gd name="adj2" fmla="val -509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73680" y="1989000"/>
            <a:ext cx="66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四捨五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８は，きりあげだから・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11560" y="2602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商を四捨五入で表す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06200" y="5600880"/>
            <a:ext cx="6494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30200" y="119700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55280" y="1197000"/>
            <a:ext cx="26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商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捨五入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 の位までの概数で表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41440" y="1052640"/>
            <a:ext cx="464040" cy="652680"/>
            <a:chOff x="4141440" y="1052640"/>
            <a:chExt cx="464040" cy="652680"/>
          </a:xfrm>
        </p:grpSpPr>
        <p:sp>
          <p:nvSpPr>
            <p:cNvPr id="127" name=""/>
            <p:cNvSpPr/>
            <p:nvPr/>
          </p:nvSpPr>
          <p:spPr>
            <a:xfrm>
              <a:off x="4209840" y="105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373040"/>
              <a:ext cx="42696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41440" y="1306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 rot="5400000">
            <a:off x="409104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08560" y="2771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2160" y="27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9800" y="27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5600" y="21528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353960" y="2881440"/>
            <a:ext cx="50292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71480" y="2795760"/>
            <a:ext cx="115740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5080" y="28051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3080" y="28018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48880" y="217656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7041600" y="28494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359480" y="276336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080" y="27734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49920" y="2770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36880" y="21448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2205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11560" y="2602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商を四捨五入で表す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4800" y="602136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四捨五入が分からなくなったら，前のページを見直そう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627280" y="549360"/>
            <a:ext cx="1798200" cy="396720"/>
            <a:chOff x="2627280" y="549360"/>
            <a:chExt cx="1798200" cy="396720"/>
          </a:xfrm>
        </p:grpSpPr>
        <p:sp>
          <p:nvSpPr>
            <p:cNvPr id="149" name=""/>
            <p:cNvSpPr/>
            <p:nvPr/>
          </p:nvSpPr>
          <p:spPr>
            <a:xfrm>
              <a:off x="2627280" y="549360"/>
              <a:ext cx="17956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7680" y="549360"/>
              <a:ext cx="17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30200" y="119700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55280" y="1197000"/>
            <a:ext cx="26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商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捨五入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 の位までの概数で表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141440" y="1052640"/>
            <a:ext cx="464040" cy="652680"/>
            <a:chOff x="4141440" y="1052640"/>
            <a:chExt cx="464040" cy="652680"/>
          </a:xfrm>
        </p:grpSpPr>
        <p:sp>
          <p:nvSpPr>
            <p:cNvPr id="154" name=""/>
            <p:cNvSpPr/>
            <p:nvPr/>
          </p:nvSpPr>
          <p:spPr>
            <a:xfrm>
              <a:off x="4209840" y="105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59440" y="1373040"/>
              <a:ext cx="42696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41440" y="1306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5400000">
            <a:off x="4089240" y="2477880"/>
            <a:ext cx="50292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406760" y="239184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360" y="2401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2401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4160" y="177336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1352520" y="250200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70040" y="2414160"/>
            <a:ext cx="14698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24256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280" y="24224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7080" y="179712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7040520" y="246996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358040" y="2374560"/>
            <a:ext cx="140004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23940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48480" y="23907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35440" y="176544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9480" y="1825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84120" y="40464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201320" y="276228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936600" y="276228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30400" y="274788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905520" y="2733840"/>
            <a:ext cx="144720" cy="142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696080" y="2719440"/>
            <a:ext cx="14472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50800" y="2419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5200" y="19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824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690560" y="333648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336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3336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1933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38560" y="3746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377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06560" y="427320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4273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73280" y="19191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01720" y="4278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46360" y="19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01720" y="4667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978200" y="513684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7440" y="5040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16440" y="1889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85960" y="28130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427640" y="3284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02160" y="32130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59440" y="19000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55920" y="3211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57720" y="1889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57720" y="3600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29160" y="3598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7800" y="3579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18000" y="412884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0080" y="405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41640" y="405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02160" y="4067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27360" y="1889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8000" y="441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6508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14880" y="441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29040" y="4444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643280" y="494136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7080" y="485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32160" y="4861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42160" y="19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58160" y="191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02520" y="241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02520" y="189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65840" y="283680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29080" y="27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531200" y="334116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42080" y="32925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9800" y="328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72160" y="189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99160" y="3652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59720" y="367200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34000" y="366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596360" y="414936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980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0252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6080" y="61848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（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９１．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35880" y="595008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１．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75840" y="580536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　０．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44720" y="5038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98720" y="19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44720" y="537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195640" y="587664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44720" y="580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7640" y="1916280"/>
            <a:ext cx="287280" cy="50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08720" y="1916280"/>
            <a:ext cx="287280" cy="50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19640" y="1916280"/>
            <a:ext cx="287280" cy="50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8360" y="1916280"/>
            <a:ext cx="287280" cy="50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101080" y="1916280"/>
            <a:ext cx="287280" cy="50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3216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02160" y="15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82840" y="1890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商を四捨五入で表す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27280" y="549360"/>
            <a:ext cx="1798200" cy="396720"/>
            <a:chOff x="2627280" y="549360"/>
            <a:chExt cx="1798200" cy="396720"/>
          </a:xfrm>
        </p:grpSpPr>
        <p:sp>
          <p:nvSpPr>
            <p:cNvPr id="251" name=""/>
            <p:cNvSpPr/>
            <p:nvPr/>
          </p:nvSpPr>
          <p:spPr>
            <a:xfrm>
              <a:off x="2627280" y="549360"/>
              <a:ext cx="17956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77680" y="549360"/>
              <a:ext cx="17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77120" y="2813040"/>
            <a:ext cx="605880" cy="686160"/>
            <a:chOff x="177120" y="2813040"/>
            <a:chExt cx="605880" cy="686160"/>
          </a:xfrm>
        </p:grpSpPr>
        <p:sp>
          <p:nvSpPr>
            <p:cNvPr id="254" name=""/>
            <p:cNvSpPr/>
            <p:nvPr/>
          </p:nvSpPr>
          <p:spPr>
            <a:xfrm>
              <a:off x="318960" y="281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8200" y="3133800"/>
              <a:ext cx="42696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7120" y="31003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54880" y="4779720"/>
            <a:ext cx="4546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の位まで求めるん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4880" y="1987200"/>
            <a:ext cx="454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一つ下の位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50472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55:57Z</dcterms:created>
  <dc:creator>kangawa-kaori-1</dc:creator>
  <dc:description/>
  <dc:language>en-US</dc:language>
  <cp:lastModifiedBy>kangawa-kaori-1</cp:lastModifiedBy>
  <dcterms:modified xsi:type="dcterms:W3CDTF">2007-11-14T06:33:06Z</dcterms:modified>
  <cp:revision>88</cp:revision>
  <dc:subject/>
  <dc:title>スライド 1</dc:title>
</cp:coreProperties>
</file>