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8F2-212C-4778-B5FF-C7D93F89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D3F-A585-447D-B6E0-B24F329E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123-0219-4D89-99AB-4270E0BC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DE1-3011-47D7-B5F0-3CD40C7D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389-8B48-4265-B9D1-1FB3251F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345-9E67-4DF0-8F59-7CA1398B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ED4-1A0D-41E0-94ED-CA43C48F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65E-B7A9-4F40-B834-9470509C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BE7-14B2-40AB-A400-899CB7C6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50E-5FF5-4521-ACA4-1303935A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EC4-D8A7-4CD3-ACDC-9A0DE64F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34A-1767-4A84-84DE-DE9B91B0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5A10-532C-4BF1-BA1D-5F70D2E1A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2800" y="260280"/>
            <a:ext cx="29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× 42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筆算のしか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54280" y="3429000"/>
            <a:ext cx="15523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ＤＦ特太ゴシック体"/>
              </a:rPr>
              <a:t>小数点を気にしない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ＤＦ特太ゴシック体"/>
              </a:rPr>
              <a:t>たてにそろえてか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89920" y="3645000"/>
            <a:ext cx="2919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ＤＦ特太ゴシック体"/>
              </a:rPr>
              <a:t>小数点をう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6840" y="3429000"/>
            <a:ext cx="1278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ＤＦ特太ゴシック体"/>
              </a:rPr>
              <a:t>整数と同じよ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ＤＦ特太ゴシック体"/>
              </a:rPr>
              <a:t>計算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197000"/>
            <a:ext cx="1295640" cy="1556280"/>
            <a:chOff x="900000" y="1197000"/>
            <a:chExt cx="1295640" cy="1556280"/>
          </a:xfrm>
        </p:grpSpPr>
        <p:sp>
          <p:nvSpPr>
            <p:cNvPr id="46" name=""/>
            <p:cNvSpPr/>
            <p:nvPr/>
          </p:nvSpPr>
          <p:spPr>
            <a:xfrm>
              <a:off x="1272960" y="1197000"/>
              <a:ext cx="74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7640" y="17110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00000" y="216540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11320" y="120636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12800" y="1679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708360" y="1125360"/>
            <a:ext cx="1295280" cy="2286720"/>
            <a:chOff x="3708360" y="1125360"/>
            <a:chExt cx="1295280" cy="2286720"/>
          </a:xfrm>
        </p:grpSpPr>
        <p:sp>
          <p:nvSpPr>
            <p:cNvPr id="52" name=""/>
            <p:cNvSpPr/>
            <p:nvPr/>
          </p:nvSpPr>
          <p:spPr>
            <a:xfrm>
              <a:off x="3808440" y="2441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01840" y="20383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81320" y="112536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16000" y="16398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08360" y="209376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41680" y="2039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613400" y="1584000"/>
              <a:ext cx="0" cy="144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19400" y="2398680"/>
              <a:ext cx="26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cc33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4295880" y="1595160"/>
              <a:ext cx="287280" cy="144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7920" y="1633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94280" y="163980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08320" y="2428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357800" y="1606320"/>
              <a:ext cx="215640" cy="14436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284720" y="1606320"/>
              <a:ext cx="0" cy="14436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08360" y="29034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83080" y="28209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8840" y="2830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440" y="28288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634520" y="819360"/>
            <a:ext cx="968040" cy="664560"/>
            <a:chOff x="7634520" y="819360"/>
            <a:chExt cx="968040" cy="664560"/>
          </a:xfrm>
        </p:grpSpPr>
        <p:graphicFrame>
          <p:nvGraphicFramePr>
            <p:cNvPr id="71" name=""/>
            <p:cNvGraphicFramePr/>
            <p:nvPr/>
          </p:nvGraphicFramePr>
          <p:xfrm>
            <a:off x="8464320" y="1039680"/>
            <a:ext cx="138240" cy="13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64320" y="1039680"/>
                      <a:ext cx="138240" cy="13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" name=""/>
            <p:cNvGrpSpPr/>
            <p:nvPr/>
          </p:nvGrpSpPr>
          <p:grpSpPr>
            <a:xfrm>
              <a:off x="7805520" y="836640"/>
              <a:ext cx="712440" cy="647280"/>
              <a:chOff x="7805520" y="836640"/>
              <a:chExt cx="712440" cy="647280"/>
            </a:xfrm>
          </p:grpSpPr>
          <p:sp>
            <p:nvSpPr>
              <p:cNvPr id="74" name=""/>
              <p:cNvSpPr/>
              <p:nvPr/>
            </p:nvSpPr>
            <p:spPr>
              <a:xfrm>
                <a:off x="7805520" y="836640"/>
                <a:ext cx="71244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805520" y="836640"/>
                <a:ext cx="71244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V="1">
              <a:off x="8358480" y="1126440"/>
              <a:ext cx="13824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8190720" y="1128960"/>
              <a:ext cx="110520" cy="54000"/>
              <a:chOff x="8190720" y="1128960"/>
              <a:chExt cx="110520" cy="54000"/>
            </a:xfrm>
          </p:grpSpPr>
          <p:sp>
            <p:nvSpPr>
              <p:cNvPr id="78" name=""/>
              <p:cNvSpPr/>
              <p:nvPr/>
            </p:nvSpPr>
            <p:spPr>
              <a:xfrm>
                <a:off x="8190720" y="1128960"/>
                <a:ext cx="11052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190720" y="1128960"/>
                <a:ext cx="11052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8017200" y="1143720"/>
              <a:ext cx="111600" cy="54000"/>
              <a:chOff x="8017200" y="1143720"/>
              <a:chExt cx="111600" cy="54000"/>
            </a:xfrm>
          </p:grpSpPr>
          <p:sp>
            <p:nvSpPr>
              <p:cNvPr id="81" name=""/>
              <p:cNvSpPr/>
              <p:nvPr/>
            </p:nvSpPr>
            <p:spPr>
              <a:xfrm>
                <a:off x="8017200" y="1143720"/>
                <a:ext cx="111600" cy="5400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17200" y="1143720"/>
                <a:ext cx="111600" cy="5400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029440" y="1272600"/>
              <a:ext cx="276120" cy="144720"/>
              <a:chOff x="8029440" y="1272600"/>
              <a:chExt cx="276120" cy="144720"/>
            </a:xfrm>
          </p:grpSpPr>
          <p:sp>
            <p:nvSpPr>
              <p:cNvPr id="84" name=""/>
              <p:cNvSpPr/>
              <p:nvPr/>
            </p:nvSpPr>
            <p:spPr>
              <a:xfrm>
                <a:off x="8029440" y="1272600"/>
                <a:ext cx="276120" cy="1447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029440" y="1272600"/>
                <a:ext cx="276120" cy="1447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 flipV="1">
              <a:off x="7822800" y="1088280"/>
              <a:ext cx="13104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 rot="20973000">
              <a:off x="7667640" y="836640"/>
              <a:ext cx="226440" cy="3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5580000" y="620640"/>
            <a:ext cx="2087640" cy="433440"/>
          </a:xfrm>
          <a:prstGeom prst="wedgeRoundRectCallout">
            <a:avLst>
              <a:gd name="adj1" fmla="val 46884"/>
              <a:gd name="adj2" fmla="val 6062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6206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最後に小数点を忘れないようにね！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588000" y="1125360"/>
            <a:ext cx="1295640" cy="2331720"/>
            <a:chOff x="6588000" y="1125360"/>
            <a:chExt cx="1295640" cy="2331720"/>
          </a:xfrm>
        </p:grpSpPr>
        <p:sp>
          <p:nvSpPr>
            <p:cNvPr id="91" name=""/>
            <p:cNvSpPr/>
            <p:nvPr/>
          </p:nvSpPr>
          <p:spPr>
            <a:xfrm>
              <a:off x="6959520" y="1125360"/>
              <a:ext cx="747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7280" y="16318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73920" y="1639800"/>
              <a:ext cx="4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88080" y="2441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81840" y="20383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95640" y="16398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88000" y="209376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21320" y="2039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87960" y="2428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88000" y="290340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38960" y="2832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08840" y="2830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88080" y="28288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0900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95280" y="5661000"/>
            <a:ext cx="974880" cy="669600"/>
            <a:chOff x="395280" y="5661000"/>
            <a:chExt cx="974880" cy="669600"/>
          </a:xfrm>
        </p:grpSpPr>
        <p:graphicFrame>
          <p:nvGraphicFramePr>
            <p:cNvPr id="106" name=""/>
            <p:cNvGraphicFramePr/>
            <p:nvPr/>
          </p:nvGraphicFramePr>
          <p:xfrm>
            <a:off x="395280" y="5837400"/>
            <a:ext cx="138240" cy="133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95280" y="5837400"/>
                      <a:ext cx="138240" cy="1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8" name=""/>
            <p:cNvGrpSpPr/>
            <p:nvPr/>
          </p:nvGrpSpPr>
          <p:grpSpPr>
            <a:xfrm>
              <a:off x="490680" y="5683320"/>
              <a:ext cx="712800" cy="647280"/>
              <a:chOff x="490680" y="5683320"/>
              <a:chExt cx="712800" cy="64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490680" y="5683320"/>
                <a:ext cx="71280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0680" y="5683320"/>
                <a:ext cx="71280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 flipV="1">
              <a:off x="1043280" y="5973480"/>
              <a:ext cx="13788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876600" y="5975280"/>
              <a:ext cx="109440" cy="54000"/>
              <a:chOff x="876600" y="5975280"/>
              <a:chExt cx="109440" cy="54000"/>
            </a:xfrm>
          </p:grpSpPr>
          <p:sp>
            <p:nvSpPr>
              <p:cNvPr id="113" name=""/>
              <p:cNvSpPr/>
              <p:nvPr/>
            </p:nvSpPr>
            <p:spPr>
              <a:xfrm>
                <a:off x="876600" y="597528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600" y="597528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02000" y="5991480"/>
              <a:ext cx="112680" cy="53640"/>
              <a:chOff x="702000" y="5991480"/>
              <a:chExt cx="112680" cy="53640"/>
            </a:xfrm>
          </p:grpSpPr>
          <p:sp>
            <p:nvSpPr>
              <p:cNvPr id="116" name=""/>
              <p:cNvSpPr/>
              <p:nvPr/>
            </p:nvSpPr>
            <p:spPr>
              <a:xfrm>
                <a:off x="702000" y="5991480"/>
                <a:ext cx="112680" cy="5364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02000" y="5991480"/>
                <a:ext cx="112680" cy="5364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14600" y="6120000"/>
              <a:ext cx="276120" cy="144360"/>
              <a:chOff x="714600" y="6120000"/>
              <a:chExt cx="276120" cy="144360"/>
            </a:xfrm>
          </p:grpSpPr>
          <p:sp>
            <p:nvSpPr>
              <p:cNvPr id="119" name=""/>
              <p:cNvSpPr/>
              <p:nvPr/>
            </p:nvSpPr>
            <p:spPr>
              <a:xfrm>
                <a:off x="714600" y="6120000"/>
                <a:ext cx="27612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4600" y="6120000"/>
                <a:ext cx="27612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flipH="1" flipV="1">
              <a:off x="508320" y="5935320"/>
              <a:ext cx="13176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 flipH="1">
              <a:off x="1082880" y="5661000"/>
              <a:ext cx="287280" cy="3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1258920" y="4797360"/>
            <a:ext cx="2448000" cy="662040"/>
          </a:xfrm>
          <a:prstGeom prst="wedgeRectCallout">
            <a:avLst>
              <a:gd name="adj1" fmla="val -46370"/>
              <a:gd name="adj2" fmla="val 8717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479736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かける数が１けたのとき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同じように考えよう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0" y="4221000"/>
            <a:ext cx="1295280" cy="2286360"/>
            <a:chOff x="4572000" y="4221000"/>
            <a:chExt cx="1295280" cy="2286360"/>
          </a:xfrm>
        </p:grpSpPr>
        <p:sp>
          <p:nvSpPr>
            <p:cNvPr id="126" name=""/>
            <p:cNvSpPr/>
            <p:nvPr/>
          </p:nvSpPr>
          <p:spPr>
            <a:xfrm>
              <a:off x="4971960" y="5524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57920" y="47354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81560" y="47293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71720" y="5537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65480" y="51339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44960" y="422100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79640" y="47354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51894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05320" y="5135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0" y="599904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46720" y="5916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92480" y="59259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1720" y="5924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093080" y="4221000"/>
            <a:ext cx="1295280" cy="2331720"/>
            <a:chOff x="7093080" y="4221000"/>
            <a:chExt cx="1295280" cy="2331720"/>
          </a:xfrm>
        </p:grpSpPr>
        <p:sp>
          <p:nvSpPr>
            <p:cNvPr id="140" name=""/>
            <p:cNvSpPr/>
            <p:nvPr/>
          </p:nvSpPr>
          <p:spPr>
            <a:xfrm>
              <a:off x="7464240" y="4221000"/>
              <a:ext cx="747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11640" y="4727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78640" y="47354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92440" y="5537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86200" y="51339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00360" y="47354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3080" y="51894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26040" y="5135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92680" y="5524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93080" y="599904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43320" y="5927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13200" y="59263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92440" y="5924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13720" y="60930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796000" y="4437000"/>
            <a:ext cx="1368360" cy="144360"/>
          </a:xfrm>
          <a:prstGeom prst="rightArrow">
            <a:avLst>
              <a:gd name="adj1" fmla="val 50000"/>
              <a:gd name="adj2" fmla="val 236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6165720"/>
            <a:ext cx="1297080" cy="142920"/>
          </a:xfrm>
          <a:prstGeom prst="rightArrow">
            <a:avLst>
              <a:gd name="adj1" fmla="val 50000"/>
              <a:gd name="adj2" fmla="val 2268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69960" y="458136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69960" y="630864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81280" y="605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811280" y="6381720"/>
            <a:ext cx="505080" cy="142920"/>
          </a:xfrm>
          <a:custGeom>
            <a:avLst/>
            <a:gdLst>
              <a:gd name="textAreaLeft" fmla="*/ 87840 w 505080"/>
              <a:gd name="textAreaRight" fmla="*/ 365760 w 5050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6760" y="18900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かけ算の筆算（２け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２けた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17520" y="404640"/>
            <a:ext cx="29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 × 56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筆算のしか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00000" y="1197000"/>
            <a:ext cx="1295640" cy="1556280"/>
            <a:chOff x="900000" y="1197000"/>
            <a:chExt cx="1295640" cy="1556280"/>
          </a:xfrm>
        </p:grpSpPr>
        <p:sp>
          <p:nvSpPr>
            <p:cNvPr id="163" name=""/>
            <p:cNvSpPr/>
            <p:nvPr/>
          </p:nvSpPr>
          <p:spPr>
            <a:xfrm>
              <a:off x="1272960" y="1197000"/>
              <a:ext cx="74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07640" y="17110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00000" y="216540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11320" y="120636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2800" y="1679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508720" y="549360"/>
            <a:ext cx="2950560" cy="647640"/>
            <a:chOff x="5508720" y="549360"/>
            <a:chExt cx="2950560" cy="647640"/>
          </a:xfrm>
        </p:grpSpPr>
        <p:grpSp>
          <p:nvGrpSpPr>
            <p:cNvPr id="169" name=""/>
            <p:cNvGrpSpPr/>
            <p:nvPr/>
          </p:nvGrpSpPr>
          <p:grpSpPr>
            <a:xfrm>
              <a:off x="7621560" y="678240"/>
              <a:ext cx="837720" cy="518760"/>
              <a:chOff x="7621560" y="678240"/>
              <a:chExt cx="837720" cy="518760"/>
            </a:xfrm>
          </p:grpSpPr>
          <p:graphicFrame>
            <p:nvGraphicFramePr>
              <p:cNvPr id="170" name=""/>
              <p:cNvGraphicFramePr/>
              <p:nvPr/>
            </p:nvGraphicFramePr>
            <p:xfrm>
              <a:off x="8339400" y="851400"/>
              <a:ext cx="119880" cy="102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7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339400" y="851400"/>
                        <a:ext cx="119880" cy="10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72" name=""/>
              <p:cNvGrpSpPr/>
              <p:nvPr/>
            </p:nvGrpSpPr>
            <p:grpSpPr>
              <a:xfrm>
                <a:off x="7767000" y="693720"/>
                <a:ext cx="619200" cy="503280"/>
                <a:chOff x="7767000" y="693720"/>
                <a:chExt cx="619200" cy="503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767000" y="693720"/>
                  <a:ext cx="619200" cy="50328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767000" y="693720"/>
                  <a:ext cx="619200" cy="50328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flipV="1">
                <a:off x="8247600" y="919080"/>
                <a:ext cx="119880" cy="61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8101800" y="920880"/>
                <a:ext cx="96120" cy="42120"/>
                <a:chOff x="8101800" y="920880"/>
                <a:chExt cx="96120" cy="421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8101800" y="920880"/>
                  <a:ext cx="96120" cy="42120"/>
                </a:xfrm>
                <a:custGeom>
                  <a:avLst/>
                  <a:gdLst/>
                  <a:ahLst/>
                  <a:rect l="l" t="t" r="r" b="b"/>
                  <a:pathLst>
                    <a:path w="908" h="425">
                      <a:moveTo>
                        <a:pt x="0" y="425"/>
                      </a:moveTo>
                      <a:cubicBezTo>
                        <a:pt x="6" y="188"/>
                        <a:pt x="208" y="0"/>
                        <a:pt x="454" y="0"/>
                      </a:cubicBezTo>
                      <a:cubicBezTo>
                        <a:pt x="700" y="0"/>
                        <a:pt x="901" y="188"/>
                        <a:pt x="908" y="425"/>
                      </a:cubicBezTo>
                      <a:cubicBezTo>
                        <a:pt x="901" y="188"/>
                        <a:pt x="700" y="0"/>
                        <a:pt x="454" y="0"/>
                      </a:cubicBezTo>
                      <a:cubicBezTo>
                        <a:pt x="208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101800" y="920880"/>
                  <a:ext cx="96120" cy="42120"/>
                </a:xfrm>
                <a:custGeom>
                  <a:avLst/>
                  <a:gdLst/>
                  <a:ahLst/>
                  <a:rect l="l" t="t" r="r" b="b"/>
                  <a:pathLst>
                    <a:path w="109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4" y="0"/>
                        <a:pt x="108" y="22"/>
                        <a:pt x="109" y="51"/>
                      </a:cubicBezTo>
                      <a:cubicBezTo>
                        <a:pt x="108" y="22"/>
                        <a:pt x="84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950960" y="932400"/>
                <a:ext cx="96840" cy="42120"/>
                <a:chOff x="7950960" y="932400"/>
                <a:chExt cx="96840" cy="42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950960" y="932400"/>
                  <a:ext cx="96840" cy="42120"/>
                </a:xfrm>
                <a:custGeom>
                  <a:avLst/>
                  <a:gdLst/>
                  <a:ahLst/>
                  <a:rect l="l" t="t" r="r" b="b"/>
                  <a:pathLst>
                    <a:path w="916" h="425">
                      <a:moveTo>
                        <a:pt x="0" y="425"/>
                      </a:moveTo>
                      <a:cubicBezTo>
                        <a:pt x="6" y="188"/>
                        <a:pt x="209" y="0"/>
                        <a:pt x="458" y="0"/>
                      </a:cubicBezTo>
                      <a:cubicBezTo>
                        <a:pt x="706" y="0"/>
                        <a:pt x="909" y="188"/>
                        <a:pt x="916" y="425"/>
                      </a:cubicBezTo>
                      <a:cubicBezTo>
                        <a:pt x="909" y="188"/>
                        <a:pt x="706" y="0"/>
                        <a:pt x="458" y="0"/>
                      </a:cubicBezTo>
                      <a:cubicBezTo>
                        <a:pt x="209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950960" y="932400"/>
                  <a:ext cx="96840" cy="42120"/>
                </a:xfrm>
                <a:custGeom>
                  <a:avLst/>
                  <a:gdLst/>
                  <a:ahLst/>
                  <a:rect l="l" t="t" r="r" b="b"/>
                  <a:pathLst>
                    <a:path w="110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5" y="0"/>
                        <a:pt x="109" y="22"/>
                        <a:pt x="110" y="51"/>
                      </a:cubicBezTo>
                      <a:cubicBezTo>
                        <a:pt x="109" y="22"/>
                        <a:pt x="85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7961400" y="1032480"/>
                <a:ext cx="240120" cy="112320"/>
                <a:chOff x="7961400" y="1032480"/>
                <a:chExt cx="240120" cy="1123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961400" y="1032480"/>
                  <a:ext cx="240120" cy="11232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961400" y="1032480"/>
                  <a:ext cx="240120" cy="11232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 flipH="1" flipV="1">
                <a:off x="7782120" y="889200"/>
                <a:ext cx="113760" cy="9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" name="" descr=""/>
              <p:cNvPicPr/>
              <p:nvPr/>
            </p:nvPicPr>
            <p:blipFill>
              <a:blip r:embed="rId3"/>
              <a:stretch/>
            </p:blipFill>
            <p:spPr>
              <a:xfrm rot="20973000">
                <a:off x="7647120" y="693360"/>
                <a:ext cx="196560" cy="299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"/>
            <p:cNvSpPr/>
            <p:nvPr/>
          </p:nvSpPr>
          <p:spPr>
            <a:xfrm>
              <a:off x="5508720" y="549360"/>
              <a:ext cx="2016000" cy="433440"/>
            </a:xfrm>
            <a:prstGeom prst="wedgeRoundRectCallout">
              <a:avLst>
                <a:gd name="adj1" fmla="val 50000"/>
                <a:gd name="adj2" fmla="val 67583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24360" y="549360"/>
              <a:ext cx="174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最後の小数点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　絶対忘れないように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493800" y="1125360"/>
            <a:ext cx="1509840" cy="2305440"/>
            <a:chOff x="3493800" y="1125360"/>
            <a:chExt cx="1509840" cy="2305440"/>
          </a:xfrm>
        </p:grpSpPr>
        <p:sp>
          <p:nvSpPr>
            <p:cNvPr id="190" name=""/>
            <p:cNvSpPr/>
            <p:nvPr/>
          </p:nvSpPr>
          <p:spPr>
            <a:xfrm>
              <a:off x="3789360" y="2049480"/>
              <a:ext cx="4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3400" y="2421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01840" y="20383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81320" y="112536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16000" y="16398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08360" y="209376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41680" y="2039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613400" y="1584000"/>
              <a:ext cx="0" cy="144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56120" y="239868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cc33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4295880" y="1595160"/>
              <a:ext cx="287280" cy="144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17920" y="1633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94280" y="163980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41800" y="2421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357800" y="1606320"/>
              <a:ext cx="215640" cy="14436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284720" y="1606320"/>
              <a:ext cx="0" cy="14436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8360" y="29034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83080" y="28209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8840" y="2830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8440" y="28288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57080" y="20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93800" y="2421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03520" y="2849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589440" y="1125360"/>
            <a:ext cx="1509840" cy="2331720"/>
            <a:chOff x="6589440" y="1125360"/>
            <a:chExt cx="1509840" cy="2331720"/>
          </a:xfrm>
        </p:grpSpPr>
        <p:sp>
          <p:nvSpPr>
            <p:cNvPr id="213" name=""/>
            <p:cNvSpPr/>
            <p:nvPr/>
          </p:nvSpPr>
          <p:spPr>
            <a:xfrm>
              <a:off x="7176960" y="112536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99160" y="2849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5164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6589440" y="1633680"/>
              <a:ext cx="1509840" cy="1778400"/>
              <a:chOff x="6589440" y="1633680"/>
              <a:chExt cx="1509840" cy="1778400"/>
            </a:xfrm>
          </p:grpSpPr>
          <p:sp>
            <p:nvSpPr>
              <p:cNvPr id="217" name=""/>
              <p:cNvSpPr/>
              <p:nvPr/>
            </p:nvSpPr>
            <p:spPr>
              <a:xfrm>
                <a:off x="7513560" y="16336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89920" y="163980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885000" y="2049480"/>
                <a:ext cx="409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99040" y="242100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97480" y="20383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911640" y="163980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04000" y="2093760"/>
                <a:ext cx="129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537320" y="20397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237440" y="242100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804000" y="2903400"/>
                <a:ext cx="129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78720" y="28209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224480" y="28306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03720" y="28288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89440" y="242100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96360" y="2924280"/>
                <a:ext cx="360360" cy="360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684360" y="5013360"/>
            <a:ext cx="880920" cy="647280"/>
            <a:chOff x="684360" y="5013360"/>
            <a:chExt cx="880920" cy="647280"/>
          </a:xfrm>
        </p:grpSpPr>
        <p:grpSp>
          <p:nvGrpSpPr>
            <p:cNvPr id="233" name=""/>
            <p:cNvGrpSpPr/>
            <p:nvPr/>
          </p:nvGrpSpPr>
          <p:grpSpPr>
            <a:xfrm>
              <a:off x="749520" y="5013360"/>
              <a:ext cx="712800" cy="647280"/>
              <a:chOff x="749520" y="5013360"/>
              <a:chExt cx="712800" cy="647280"/>
            </a:xfrm>
          </p:grpSpPr>
          <p:sp>
            <p:nvSpPr>
              <p:cNvPr id="234" name=""/>
              <p:cNvSpPr/>
              <p:nvPr/>
            </p:nvSpPr>
            <p:spPr>
              <a:xfrm>
                <a:off x="749520" y="5013360"/>
                <a:ext cx="71280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9520" y="5013360"/>
                <a:ext cx="71280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9933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 flipV="1">
              <a:off x="1301760" y="5303880"/>
              <a:ext cx="13824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135080" y="5305320"/>
              <a:ext cx="109440" cy="54000"/>
              <a:chOff x="1135080" y="5305320"/>
              <a:chExt cx="109440" cy="54000"/>
            </a:xfrm>
          </p:grpSpPr>
          <p:sp>
            <p:nvSpPr>
              <p:cNvPr id="238" name=""/>
              <p:cNvSpPr/>
              <p:nvPr/>
            </p:nvSpPr>
            <p:spPr>
              <a:xfrm>
                <a:off x="1135080" y="530532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35080" y="530532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960480" y="5321160"/>
              <a:ext cx="112680" cy="54000"/>
              <a:chOff x="960480" y="5321160"/>
              <a:chExt cx="112680" cy="54000"/>
            </a:xfrm>
          </p:grpSpPr>
          <p:sp>
            <p:nvSpPr>
              <p:cNvPr id="241" name=""/>
              <p:cNvSpPr/>
              <p:nvPr/>
            </p:nvSpPr>
            <p:spPr>
              <a:xfrm>
                <a:off x="960480" y="5321160"/>
                <a:ext cx="112680" cy="5400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60480" y="5321160"/>
                <a:ext cx="112680" cy="5400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973080" y="5450040"/>
              <a:ext cx="276480" cy="144360"/>
              <a:chOff x="973080" y="5450040"/>
              <a:chExt cx="276480" cy="144360"/>
            </a:xfrm>
          </p:grpSpPr>
          <p:sp>
            <p:nvSpPr>
              <p:cNvPr id="244" name=""/>
              <p:cNvSpPr/>
              <p:nvPr/>
            </p:nvSpPr>
            <p:spPr>
              <a:xfrm>
                <a:off x="973080" y="5450040"/>
                <a:ext cx="27648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73080" y="5450040"/>
                <a:ext cx="27648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ff33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 flipH="1" flipV="1">
              <a:off x="766800" y="5265360"/>
              <a:ext cx="13176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 flipH="1">
              <a:off x="1332000" y="5086440"/>
              <a:ext cx="23328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84360" y="5157720"/>
              <a:ext cx="11880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116000" y="4149720"/>
            <a:ext cx="2881440" cy="936720"/>
          </a:xfrm>
          <a:prstGeom prst="wedgeEllipseCallout">
            <a:avLst>
              <a:gd name="adj1" fmla="val -34574"/>
              <a:gd name="adj2" fmla="val 574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88120" y="4273560"/>
            <a:ext cx="157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数と同じよう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計算する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0107200">
            <a:off x="6372000" y="3573000"/>
            <a:ext cx="1449360" cy="117720"/>
          </a:xfrm>
          <a:prstGeom prst="rightArrow">
            <a:avLst>
              <a:gd name="adj1" fmla="val 50000"/>
              <a:gd name="adj2" fmla="val 3077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714920" y="4076640"/>
            <a:ext cx="3024000" cy="1079640"/>
            <a:chOff x="4714920" y="4076640"/>
            <a:chExt cx="3024000" cy="1079640"/>
          </a:xfrm>
        </p:grpSpPr>
        <p:sp>
          <p:nvSpPr>
            <p:cNvPr id="253" name=""/>
            <p:cNvSpPr/>
            <p:nvPr/>
          </p:nvSpPr>
          <p:spPr>
            <a:xfrm>
              <a:off x="4714920" y="4076640"/>
              <a:ext cx="3024000" cy="1079640"/>
            </a:xfrm>
            <a:prstGeom prst="wedgeRoundRectCallout">
              <a:avLst>
                <a:gd name="adj1" fmla="val 708"/>
                <a:gd name="adj2" fmla="val 63481"/>
                <a:gd name="adj3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57000" y="4196880"/>
              <a:ext cx="216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小数点より下のけたの０は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ななめの線で消しておくよ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5219640" y="5373720"/>
            <a:ext cx="987480" cy="103032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6443640" y="5229360"/>
            <a:ext cx="2232000" cy="1008000"/>
            <a:chOff x="6443640" y="5229360"/>
            <a:chExt cx="2232000" cy="1008000"/>
          </a:xfrm>
        </p:grpSpPr>
        <p:sp>
          <p:nvSpPr>
            <p:cNvPr id="257" name=""/>
            <p:cNvSpPr/>
            <p:nvPr/>
          </p:nvSpPr>
          <p:spPr>
            <a:xfrm>
              <a:off x="6443640" y="5229360"/>
              <a:ext cx="2232000" cy="1008000"/>
            </a:xfrm>
            <a:prstGeom prst="cloudCallout">
              <a:avLst>
                <a:gd name="adj1" fmla="val -59745"/>
                <a:gd name="adj2" fmla="val 2385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45240" y="551664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答えは，１９６だね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476760" y="18900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かけ算の筆算（２け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２けた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1928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92360" y="476280"/>
            <a:ext cx="1654920" cy="642600"/>
            <a:chOff x="1692360" y="476280"/>
            <a:chExt cx="1654920" cy="642600"/>
          </a:xfrm>
        </p:grpSpPr>
        <p:sp>
          <p:nvSpPr>
            <p:cNvPr id="262" name=""/>
            <p:cNvSpPr/>
            <p:nvPr/>
          </p:nvSpPr>
          <p:spPr>
            <a:xfrm>
              <a:off x="1692360" y="476280"/>
              <a:ext cx="1653120" cy="42696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38440" y="476280"/>
              <a:ext cx="160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3-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187280" y="2205000"/>
            <a:ext cx="1295640" cy="1556280"/>
            <a:chOff x="1187280" y="2205000"/>
            <a:chExt cx="1295640" cy="1556280"/>
          </a:xfrm>
        </p:grpSpPr>
        <p:sp>
          <p:nvSpPr>
            <p:cNvPr id="265" name=""/>
            <p:cNvSpPr/>
            <p:nvPr/>
          </p:nvSpPr>
          <p:spPr>
            <a:xfrm>
              <a:off x="1560240" y="2205000"/>
              <a:ext cx="74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4920" y="27194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87280" y="317340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0080" y="2687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8436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995640" y="2205000"/>
            <a:ext cx="1295640" cy="1556280"/>
            <a:chOff x="3995640" y="2205000"/>
            <a:chExt cx="1295640" cy="1556280"/>
          </a:xfrm>
        </p:grpSpPr>
        <p:sp>
          <p:nvSpPr>
            <p:cNvPr id="271" name=""/>
            <p:cNvSpPr/>
            <p:nvPr/>
          </p:nvSpPr>
          <p:spPr>
            <a:xfrm>
              <a:off x="4368600" y="2205000"/>
              <a:ext cx="74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.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3280" y="27194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95640" y="317340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08440" y="2687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41964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2158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804000" y="2133720"/>
            <a:ext cx="1295280" cy="1556280"/>
            <a:chOff x="6804000" y="2133720"/>
            <a:chExt cx="1295280" cy="1556280"/>
          </a:xfrm>
        </p:grpSpPr>
        <p:sp>
          <p:nvSpPr>
            <p:cNvPr id="278" name=""/>
            <p:cNvSpPr/>
            <p:nvPr/>
          </p:nvSpPr>
          <p:spPr>
            <a:xfrm>
              <a:off x="7176600" y="2133720"/>
              <a:ext cx="74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11280" y="26481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04000" y="31021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16440" y="2616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411280" y="1052640"/>
            <a:ext cx="32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計算を筆算でし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76760" y="18900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かけ算の筆算（２け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２けた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1928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330200" y="2205000"/>
            <a:ext cx="1295640" cy="1556280"/>
            <a:chOff x="1330200" y="2205000"/>
            <a:chExt cx="1295640" cy="1556280"/>
          </a:xfrm>
        </p:grpSpPr>
        <p:sp>
          <p:nvSpPr>
            <p:cNvPr id="286" name=""/>
            <p:cNvSpPr/>
            <p:nvPr/>
          </p:nvSpPr>
          <p:spPr>
            <a:xfrm>
              <a:off x="1703160" y="2205000"/>
              <a:ext cx="74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37840" y="27194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30200" y="317340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43000" y="2687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26920" y="220500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44840" y="3213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76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995640" y="2205000"/>
            <a:ext cx="1295640" cy="1556280"/>
            <a:chOff x="3995640" y="2205000"/>
            <a:chExt cx="1295640" cy="1556280"/>
          </a:xfrm>
        </p:grpSpPr>
        <p:sp>
          <p:nvSpPr>
            <p:cNvPr id="293" name=""/>
            <p:cNvSpPr/>
            <p:nvPr/>
          </p:nvSpPr>
          <p:spPr>
            <a:xfrm>
              <a:off x="4368600" y="2205000"/>
              <a:ext cx="74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.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03280" y="27194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95640" y="317340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08440" y="2687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41964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05440" y="3201840"/>
            <a:ext cx="11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2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7236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912000" y="2211480"/>
            <a:ext cx="1295280" cy="1556280"/>
            <a:chOff x="6912000" y="2211480"/>
            <a:chExt cx="1295280" cy="1556280"/>
          </a:xfrm>
        </p:grpSpPr>
        <p:sp>
          <p:nvSpPr>
            <p:cNvPr id="301" name=""/>
            <p:cNvSpPr/>
            <p:nvPr/>
          </p:nvSpPr>
          <p:spPr>
            <a:xfrm>
              <a:off x="7284600" y="2211480"/>
              <a:ext cx="74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19280" y="27259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12000" y="317988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4440" y="26938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059600" y="320508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82040" y="3268800"/>
            <a:ext cx="360360" cy="36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55400" y="62064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627280" y="692280"/>
            <a:ext cx="1654920" cy="642600"/>
            <a:chOff x="2627280" y="692280"/>
            <a:chExt cx="1654920" cy="642600"/>
          </a:xfrm>
        </p:grpSpPr>
        <p:sp>
          <p:nvSpPr>
            <p:cNvPr id="309" name=""/>
            <p:cNvSpPr/>
            <p:nvPr/>
          </p:nvSpPr>
          <p:spPr>
            <a:xfrm>
              <a:off x="2627280" y="692280"/>
              <a:ext cx="1653120" cy="42696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73360" y="692280"/>
              <a:ext cx="160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3-</a:t>
              </a:r>
              <a:r>
                <a:rPr b="0" lang="zh-CN" sz="1800" spc="-1" strike="noStrike">
                  <a:solidFill>
                    <a:srgbClr val="ff3300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476760" y="18900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かけ算の筆算（２け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２けた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1928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692360" y="476280"/>
            <a:ext cx="1726920" cy="642600"/>
            <a:chOff x="1692360" y="476280"/>
            <a:chExt cx="1726920" cy="642600"/>
          </a:xfrm>
        </p:grpSpPr>
        <p:sp>
          <p:nvSpPr>
            <p:cNvPr id="314" name=""/>
            <p:cNvSpPr/>
            <p:nvPr/>
          </p:nvSpPr>
          <p:spPr>
            <a:xfrm>
              <a:off x="1692360" y="476280"/>
              <a:ext cx="1724760" cy="42696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0600" y="476280"/>
              <a:ext cx="16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3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5564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10000" y="21686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19720" y="21286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086360" y="2168640"/>
            <a:ext cx="1295280" cy="1556280"/>
            <a:chOff x="4086360" y="2168640"/>
            <a:chExt cx="1295280" cy="1556280"/>
          </a:xfrm>
        </p:grpSpPr>
        <p:sp>
          <p:nvSpPr>
            <p:cNvPr id="320" name=""/>
            <p:cNvSpPr/>
            <p:nvPr/>
          </p:nvSpPr>
          <p:spPr>
            <a:xfrm>
              <a:off x="4448160" y="2168640"/>
              <a:ext cx="74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61960" y="27133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86360" y="312264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87640" y="2652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578640" y="2128680"/>
            <a:ext cx="1295280" cy="1556280"/>
            <a:chOff x="6578640" y="2128680"/>
            <a:chExt cx="1295280" cy="1556280"/>
          </a:xfrm>
        </p:grpSpPr>
        <p:sp>
          <p:nvSpPr>
            <p:cNvPr id="325" name=""/>
            <p:cNvSpPr/>
            <p:nvPr/>
          </p:nvSpPr>
          <p:spPr>
            <a:xfrm>
              <a:off x="6951240" y="2128680"/>
              <a:ext cx="74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.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85920" y="26431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78640" y="309708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91080" y="2611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987640" y="981000"/>
            <a:ext cx="32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計算を筆算でし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332000" y="2205000"/>
            <a:ext cx="1295280" cy="1556280"/>
            <a:chOff x="1332000" y="2205000"/>
            <a:chExt cx="1295280" cy="1556280"/>
          </a:xfrm>
        </p:grpSpPr>
        <p:sp>
          <p:nvSpPr>
            <p:cNvPr id="331" name=""/>
            <p:cNvSpPr/>
            <p:nvPr/>
          </p:nvSpPr>
          <p:spPr>
            <a:xfrm>
              <a:off x="1704600" y="2205000"/>
              <a:ext cx="74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39280" y="27194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32000" y="31734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44440" y="2687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6476760" y="18900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かけ算の筆算（２け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２けた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61928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2133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31880" y="2205000"/>
            <a:ext cx="74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66200" y="27194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8920" y="31734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71360" y="2687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19640" y="2133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00720" y="2133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47840" y="317664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79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4000" y="2179800"/>
            <a:ext cx="74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07800" y="27241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32200" y="3133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33840" y="266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1560" y="312588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51480" y="3227400"/>
            <a:ext cx="360360" cy="36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595920" y="2171880"/>
            <a:ext cx="1295640" cy="1556280"/>
            <a:chOff x="6595920" y="2171880"/>
            <a:chExt cx="1295640" cy="1556280"/>
          </a:xfrm>
        </p:grpSpPr>
        <p:sp>
          <p:nvSpPr>
            <p:cNvPr id="352" name=""/>
            <p:cNvSpPr/>
            <p:nvPr/>
          </p:nvSpPr>
          <p:spPr>
            <a:xfrm>
              <a:off x="6968880" y="2171880"/>
              <a:ext cx="74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.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03560" y="26863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95920" y="31402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08720" y="2654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719760" y="310680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34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16640" y="3179880"/>
            <a:ext cx="360360" cy="36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68120" y="549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195640" y="476280"/>
            <a:ext cx="1726560" cy="642600"/>
            <a:chOff x="2195640" y="476280"/>
            <a:chExt cx="1726560" cy="642600"/>
          </a:xfrm>
        </p:grpSpPr>
        <p:sp>
          <p:nvSpPr>
            <p:cNvPr id="360" name=""/>
            <p:cNvSpPr/>
            <p:nvPr/>
          </p:nvSpPr>
          <p:spPr>
            <a:xfrm>
              <a:off x="2195640" y="476280"/>
              <a:ext cx="1724400" cy="42696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3880" y="476280"/>
              <a:ext cx="167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3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476760" y="18900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かけ算の筆算（２け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２けた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7:50:59Z</dcterms:created>
  <dc:creator>kangawa-kaori-1</dc:creator>
  <dc:description/>
  <dc:language>en-US</dc:language>
  <cp:lastModifiedBy>kangawa-kaori-1</cp:lastModifiedBy>
  <dcterms:modified xsi:type="dcterms:W3CDTF">2007-11-14T06:25:29Z</dcterms:modified>
  <cp:revision>63</cp:revision>
  <dc:subject/>
  <dc:title>スライド 1</dc:title>
</cp:coreProperties>
</file>