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A1A-BC9A-4509-9E6D-FED92BD9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1A5-780B-4A6F-AABA-8DB79530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981-2F65-4C72-9BA3-1EB2805F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2BB-DD8E-4F17-978B-83AA3822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3FE-F5AA-4643-B575-C4931070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4F1-33F7-415D-98EB-C81032AB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9E0-A64F-4FB2-95BE-9D7FC03D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C63-C0A1-46D5-AC44-8D0828BF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560-57B8-4BFC-AC21-9CC7DCC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885-1E60-47B0-9C4A-08EBDBC4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6DF-7CC2-4A4E-AB11-BBAFB08F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06D-801E-4FB1-BA21-9203548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48C7-1790-4447-8B24-3AB9585BA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6640" y="458640"/>
            <a:ext cx="416232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倍になるかを考えて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5920" y="1224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41320" y="1257480"/>
            <a:ext cx="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みかんとりんごを１こずつ買います。みかんは４０円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りんごはみかんの３．５倍のねだ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あわせて何円になる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93080" y="1854360"/>
            <a:ext cx="479520" cy="39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1628640"/>
            <a:ext cx="645840" cy="59868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73120" y="3247920"/>
            <a:ext cx="5040360" cy="366120"/>
            <a:chOff x="573120" y="3247920"/>
            <a:chExt cx="5040360" cy="366120"/>
          </a:xfrm>
        </p:grpSpPr>
        <p:sp>
          <p:nvSpPr>
            <p:cNvPr id="48" name=""/>
            <p:cNvSpPr/>
            <p:nvPr/>
          </p:nvSpPr>
          <p:spPr>
            <a:xfrm>
              <a:off x="573120" y="324792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3120" y="342432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13480" y="32590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55640" y="33130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579240" y="3253680"/>
              <a:ext cx="6314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013400" y="3254760"/>
              <a:ext cx="630720" cy="3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47720" y="2731680"/>
            <a:ext cx="3958920" cy="1347480"/>
            <a:chOff x="1647720" y="2731680"/>
            <a:chExt cx="3958920" cy="1347480"/>
          </a:xfrm>
        </p:grpSpPr>
        <p:sp>
          <p:nvSpPr>
            <p:cNvPr id="55" name=""/>
            <p:cNvSpPr/>
            <p:nvPr/>
          </p:nvSpPr>
          <p:spPr>
            <a:xfrm flipH="1" flipV="1">
              <a:off x="1647720" y="2731320"/>
              <a:ext cx="220320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56" y="14"/>
                  </a:moveTo>
                  <a:arcTo wR="10800" hR="10800" stAng="-5573324" swAng="55733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56" y="14"/>
                  </a:moveTo>
                  <a:arcTo wR="10800" hR="10800" stAng="-5573324" swAng="557332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388320" y="2745720"/>
              <a:ext cx="221832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61920" y="3508200"/>
            <a:ext cx="308160" cy="25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2160" y="37479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４０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370320" y="3838680"/>
            <a:ext cx="646200" cy="5983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60680" y="3245040"/>
            <a:ext cx="1112760" cy="543960"/>
            <a:chOff x="1660680" y="3245040"/>
            <a:chExt cx="1112760" cy="543960"/>
          </a:xfrm>
        </p:grpSpPr>
        <p:sp>
          <p:nvSpPr>
            <p:cNvPr id="61" name=""/>
            <p:cNvSpPr/>
            <p:nvPr/>
          </p:nvSpPr>
          <p:spPr>
            <a:xfrm>
              <a:off x="2773440" y="333072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660680" y="3244680"/>
              <a:ext cx="630720" cy="35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138760" y="3254040"/>
              <a:ext cx="630720" cy="35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2077920" y="3538440"/>
              <a:ext cx="30780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0193400" y="1873080"/>
            <a:ext cx="479520" cy="3906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781360" y="3236040"/>
            <a:ext cx="1103040" cy="542160"/>
            <a:chOff x="2781360" y="3236040"/>
            <a:chExt cx="1103040" cy="542160"/>
          </a:xfrm>
        </p:grpSpPr>
        <p:sp>
          <p:nvSpPr>
            <p:cNvPr id="67" name=""/>
            <p:cNvSpPr/>
            <p:nvPr/>
          </p:nvSpPr>
          <p:spPr>
            <a:xfrm>
              <a:off x="3884400" y="332892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2781360" y="3242520"/>
              <a:ext cx="63072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249720" y="3235680"/>
              <a:ext cx="631440" cy="3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3162240" y="3527280"/>
              <a:ext cx="307800" cy="25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11331720" y="1873080"/>
            <a:ext cx="479160" cy="3906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3884760" y="3233520"/>
            <a:ext cx="1100160" cy="544680"/>
            <a:chOff x="3884760" y="3233520"/>
            <a:chExt cx="1100160" cy="544680"/>
          </a:xfrm>
        </p:grpSpPr>
        <p:sp>
          <p:nvSpPr>
            <p:cNvPr id="73" name=""/>
            <p:cNvSpPr/>
            <p:nvPr/>
          </p:nvSpPr>
          <p:spPr>
            <a:xfrm>
              <a:off x="4984920" y="332892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3884760" y="3233160"/>
              <a:ext cx="6314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342680" y="3245760"/>
              <a:ext cx="63072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4300920" y="3527280"/>
              <a:ext cx="307800" cy="25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12682440" y="3362400"/>
            <a:ext cx="479520" cy="39060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4989240" y="3207960"/>
            <a:ext cx="617400" cy="571680"/>
            <a:chOff x="4989240" y="3207960"/>
            <a:chExt cx="617400" cy="571680"/>
          </a:xfrm>
        </p:grpSpPr>
        <p:sp>
          <p:nvSpPr>
            <p:cNvPr id="79" name=""/>
            <p:cNvSpPr/>
            <p:nvPr/>
          </p:nvSpPr>
          <p:spPr>
            <a:xfrm flipH="1" flipV="1">
              <a:off x="4988880" y="3207600"/>
              <a:ext cx="482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66" y="716"/>
                  </a:moveTo>
                  <a:arcTo wR="10800" hR="10800" stAng="-4141534" swAng="4141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66" y="716"/>
                  </a:moveTo>
                  <a:arcTo wR="10800" hR="10800" stAng="-4141534" swAng="414153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124600" y="3210120"/>
              <a:ext cx="482040" cy="3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66" y="716"/>
                  </a:moveTo>
                  <a:arcTo wR="10800" hR="10800" stAng="-4141534" swAng="4141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66" y="716"/>
                  </a:moveTo>
                  <a:arcTo wR="10800" hR="10800" stAng="-4141534" swAng="414153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5191200" y="3494160"/>
            <a:ext cx="19980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91200" y="3494160"/>
                      <a:ext cx="19980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" name=""/>
          <p:cNvGrpSpPr/>
          <p:nvPr/>
        </p:nvGrpSpPr>
        <p:grpSpPr>
          <a:xfrm>
            <a:off x="574560" y="3252960"/>
            <a:ext cx="1077480" cy="358920"/>
            <a:chOff x="574560" y="3252960"/>
            <a:chExt cx="1077480" cy="358920"/>
          </a:xfrm>
        </p:grpSpPr>
        <p:sp>
          <p:nvSpPr>
            <p:cNvPr id="84" name=""/>
            <p:cNvSpPr/>
            <p:nvPr/>
          </p:nvSpPr>
          <p:spPr>
            <a:xfrm flipH="1">
              <a:off x="574560" y="3254400"/>
              <a:ext cx="631440" cy="35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21320" y="3252960"/>
              <a:ext cx="63072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658880" y="2783520"/>
            <a:ext cx="3958920" cy="1347480"/>
            <a:chOff x="1658880" y="2783520"/>
            <a:chExt cx="3958920" cy="1347480"/>
          </a:xfrm>
        </p:grpSpPr>
        <p:sp>
          <p:nvSpPr>
            <p:cNvPr id="87" name=""/>
            <p:cNvSpPr/>
            <p:nvPr/>
          </p:nvSpPr>
          <p:spPr>
            <a:xfrm flipH="1">
              <a:off x="1658880" y="2797920"/>
              <a:ext cx="220320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56" y="14"/>
                  </a:moveTo>
                  <a:arcTo wR="10800" hR="10800" stAng="-5573324" swAng="55733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56" y="14"/>
                  </a:moveTo>
                  <a:arcTo wR="10800" hR="10800" stAng="-5573324" swAng="557332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99480" y="2783520"/>
              <a:ext cx="221832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2916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6400" y="2577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2000" y="2168640"/>
            <a:ext cx="27892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90320" y="5364000"/>
            <a:ext cx="39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＋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.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9920" y="587232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.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32720" y="6238800"/>
            <a:ext cx="24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１８０円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9360" y="23558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2619360"/>
            <a:ext cx="0" cy="1935000"/>
          </a:xfrm>
          <a:prstGeom prst="line">
            <a:avLst/>
          </a:prstGeom>
          <a:ln w="19080">
            <a:solidFill>
              <a:srgbClr val="33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108840" y="3203640"/>
            <a:ext cx="714240" cy="664200"/>
            <a:chOff x="6108840" y="3203640"/>
            <a:chExt cx="714240" cy="664200"/>
          </a:xfrm>
        </p:grpSpPr>
        <p:sp>
          <p:nvSpPr>
            <p:cNvPr id="98" name=""/>
            <p:cNvSpPr/>
            <p:nvPr/>
          </p:nvSpPr>
          <p:spPr>
            <a:xfrm>
              <a:off x="6198480" y="3203640"/>
              <a:ext cx="59220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みか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08840" y="356076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４０円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958080" y="3335400"/>
            <a:ext cx="887400" cy="93600"/>
          </a:xfrm>
          <a:prstGeom prst="rightArrow">
            <a:avLst>
              <a:gd name="adj1" fmla="val 50000"/>
              <a:gd name="adj2" fmla="val 23701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028720" y="3193920"/>
            <a:ext cx="820800" cy="767520"/>
            <a:chOff x="8028720" y="3193920"/>
            <a:chExt cx="820800" cy="767520"/>
          </a:xfrm>
        </p:grpSpPr>
        <p:sp>
          <p:nvSpPr>
            <p:cNvPr id="102" name=""/>
            <p:cNvSpPr/>
            <p:nvPr/>
          </p:nvSpPr>
          <p:spPr>
            <a:xfrm>
              <a:off x="8028720" y="3193920"/>
              <a:ext cx="820800" cy="45900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りんごとみか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の代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96040" y="365436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 ？ 円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742800" y="288936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倍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1584360"/>
            <a:ext cx="1574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8480" y="1865160"/>
            <a:ext cx="2511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 rot="20595600">
            <a:off x="1413360" y="3309120"/>
            <a:ext cx="4263120" cy="13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1004400">
            <a:off x="495000" y="3309120"/>
            <a:ext cx="4251240" cy="13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82" y="0"/>
                </a:moveTo>
                <a:arcTo wR="10800" hR="10800" stAng="-5373979" swAng="5373979"/>
                <a:lnTo>
                  <a:pt x="10800" y="10800"/>
                </a:lnTo>
                <a:close/>
              </a:path>
              <a:path fill="none" w="21600" h="21600">
                <a:moveTo>
                  <a:pt x="10882" y="0"/>
                </a:moveTo>
                <a:arcTo wR="10800" hR="10800" stAng="-5373979" swAng="537397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20240" y="45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041640" y="638280"/>
            <a:ext cx="1368000" cy="396720"/>
            <a:chOff x="3041640" y="638280"/>
            <a:chExt cx="1368000" cy="396720"/>
          </a:xfrm>
        </p:grpSpPr>
        <p:sp>
          <p:nvSpPr>
            <p:cNvPr id="111" name=""/>
            <p:cNvSpPr/>
            <p:nvPr/>
          </p:nvSpPr>
          <p:spPr>
            <a:xfrm>
              <a:off x="3041640" y="63828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6382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1179360"/>
            <a:ext cx="711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分度器とコンパスを１つずつ買います。分度器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円で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パスは，分度器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倍のねだん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あわせて何円になる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179360"/>
            <a:ext cx="99036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674640" cy="5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86640" y="1538280"/>
            <a:ext cx="735120" cy="765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78520" y="4643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4400" y="53640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2240" y="2664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42000" y="2619360"/>
            <a:ext cx="0" cy="1935000"/>
          </a:xfrm>
          <a:prstGeom prst="line">
            <a:avLst/>
          </a:prstGeom>
          <a:ln w="19080">
            <a:solidFill>
              <a:srgbClr val="33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88000" y="3294000"/>
            <a:ext cx="1095120" cy="675360"/>
            <a:chOff x="5688000" y="3294000"/>
            <a:chExt cx="1095120" cy="675360"/>
          </a:xfrm>
        </p:grpSpPr>
        <p:sp>
          <p:nvSpPr>
            <p:cNvPr id="123" name=""/>
            <p:cNvSpPr/>
            <p:nvPr/>
          </p:nvSpPr>
          <p:spPr>
            <a:xfrm>
              <a:off x="5688000" y="3294000"/>
              <a:ext cx="109512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10400" y="36622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　　  円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732720" y="3429000"/>
            <a:ext cx="887400" cy="93600"/>
          </a:xfrm>
          <a:prstGeom prst="rightArrow">
            <a:avLst>
              <a:gd name="adj1" fmla="val 50000"/>
              <a:gd name="adj2" fmla="val 23701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77000" y="3249720"/>
            <a:ext cx="1305000" cy="3682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20280" y="365436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 　　 円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8480" y="30621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637000" y="638280"/>
            <a:ext cx="1368000" cy="396720"/>
            <a:chOff x="2637000" y="638280"/>
            <a:chExt cx="1368000" cy="396720"/>
          </a:xfrm>
        </p:grpSpPr>
        <p:sp>
          <p:nvSpPr>
            <p:cNvPr id="130" name=""/>
            <p:cNvSpPr/>
            <p:nvPr/>
          </p:nvSpPr>
          <p:spPr>
            <a:xfrm>
              <a:off x="2637000" y="63828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75160" y="6382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462720" y="279360"/>
            <a:ext cx="25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何倍になるかを考えて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1179360"/>
            <a:ext cx="711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分度器とコンパスを１つずつ買います。分度器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円で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パスは，分度器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倍のねだん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あわせて何円になる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1179360"/>
            <a:ext cx="99036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674640" cy="54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586640" y="1538280"/>
            <a:ext cx="735120" cy="76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78520" y="4643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383080"/>
            <a:ext cx="23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5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円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92240" y="2664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2619360"/>
            <a:ext cx="0" cy="1935000"/>
          </a:xfrm>
          <a:prstGeom prst="line">
            <a:avLst/>
          </a:prstGeom>
          <a:ln w="19080">
            <a:solidFill>
              <a:srgbClr val="33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29760" y="3325680"/>
            <a:ext cx="983160" cy="675360"/>
            <a:chOff x="5729760" y="3325680"/>
            <a:chExt cx="983160" cy="675360"/>
          </a:xfrm>
        </p:grpSpPr>
        <p:sp>
          <p:nvSpPr>
            <p:cNvPr id="142" name=""/>
            <p:cNvSpPr/>
            <p:nvPr/>
          </p:nvSpPr>
          <p:spPr>
            <a:xfrm>
              <a:off x="5883840" y="3325680"/>
              <a:ext cx="592200" cy="3682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分度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29760" y="3693960"/>
              <a:ext cx="9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140  </a:t>
              </a:r>
              <a:r>
                <a:rPr b="0" lang="zh-CN" sz="1400" spc="-1" strike="noStrike">
                  <a:solidFill>
                    <a:srgbClr val="ff3300"/>
                  </a:solidFill>
                  <a:latin typeface="Arial"/>
                </a:rPr>
                <a:t>円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656400" y="3462480"/>
            <a:ext cx="887400" cy="93600"/>
          </a:xfrm>
          <a:prstGeom prst="rightArrow">
            <a:avLst>
              <a:gd name="adj1" fmla="val 50000"/>
              <a:gd name="adj2" fmla="val 23701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79960" y="3325680"/>
            <a:ext cx="1034280" cy="5202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分度器とコンパ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の代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0160" y="385452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？ 円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67400" y="3062160"/>
            <a:ext cx="12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1.5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95040" y="368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324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3429000"/>
            <a:ext cx="32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84920" y="3236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3800" y="3216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0200" y="3240000"/>
            <a:ext cx="72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95600" y="3260880"/>
            <a:ext cx="720000" cy="3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685880" y="3244320"/>
            <a:ext cx="720000" cy="3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413440" y="3231000"/>
            <a:ext cx="72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68920" y="3429000"/>
            <a:ext cx="689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分度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140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7600" y="3203640"/>
            <a:ext cx="1050480" cy="47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691640" y="2747520"/>
            <a:ext cx="2247480" cy="136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65" y="114"/>
                </a:moveTo>
                <a:arcTo wR="10800" hR="10800" stAng="-4900136" swAng="4900136"/>
                <a:lnTo>
                  <a:pt x="10800" y="10800"/>
                </a:lnTo>
                <a:close/>
              </a:path>
              <a:path fill="none" w="21600" h="21600">
                <a:moveTo>
                  <a:pt x="12365" y="114"/>
                </a:moveTo>
                <a:arcTo wR="10800" hR="10800" stAng="-4900136" swAng="490013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41720" y="3203640"/>
            <a:ext cx="1049760" cy="47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50360" y="3006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44000" y="3009960"/>
            <a:ext cx="6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１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81960" y="392436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？ 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99360" y="4662360"/>
            <a:ext cx="37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＋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4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.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5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86600" y="1550880"/>
            <a:ext cx="1693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5440" y="1852560"/>
            <a:ext cx="2985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69920" y="2176560"/>
            <a:ext cx="30830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28800" y="2713680"/>
            <a:ext cx="2247480" cy="136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65" y="114"/>
                </a:moveTo>
                <a:arcTo wR="10800" hR="10800" stAng="-4900136" swAng="4900136"/>
                <a:lnTo>
                  <a:pt x="10800" y="10800"/>
                </a:lnTo>
                <a:close/>
              </a:path>
              <a:path fill="none" w="21600" h="21600">
                <a:moveTo>
                  <a:pt x="12365" y="114"/>
                </a:moveTo>
                <a:arcTo wR="10800" hR="10800" stAng="-4900136" swAng="490013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119400" y="3233160"/>
            <a:ext cx="720000" cy="3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413440" y="3231000"/>
            <a:ext cx="72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3119400" y="3233160"/>
            <a:ext cx="720000" cy="3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275360" y="3198240"/>
            <a:ext cx="720000" cy="3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53360" y="3460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コンパ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7:49:32Z</dcterms:created>
  <dc:creator>kangawa-kaori-1</dc:creator>
  <dc:description/>
  <dc:language>en-US</dc:language>
  <cp:lastModifiedBy>kangawa-kaori-1</cp:lastModifiedBy>
  <dcterms:modified xsi:type="dcterms:W3CDTF">2007-11-14T06:16:15Z</dcterms:modified>
  <cp:revision>31</cp:revision>
  <dc:subject/>
  <dc:title>スライド 1</dc:title>
</cp:coreProperties>
</file>