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E34-130E-4F5A-8F50-39D013C5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2C7-5287-4D06-9134-2A83F1BC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600-59D9-4417-9900-0F32E042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F82-1A2C-43CA-847F-F0E01FF7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90F-5955-49C3-BE20-1462A3C3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79D-565D-4D8F-83F0-4D6F22B1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228-64AD-4B6E-A9C6-D3238362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9DC-2491-445A-B6B0-212F0158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394-35DE-4517-8158-0B8F8FBE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31E-69D1-4B1C-8B3B-39D6B2BB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55A-16E2-46E8-9A97-E989252E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632-4B25-41D1-9E01-85E87780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BD2-7E1C-4B46-B2D3-B5686D7B3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404640"/>
            <a:ext cx="215928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角形の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213000"/>
            <a:ext cx="2808000" cy="2757600"/>
          </a:xfrm>
          <a:prstGeom prst="triangle">
            <a:avLst>
              <a:gd name="adj" fmla="val 50000"/>
            </a:avLst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905120" y="3371040"/>
            <a:ext cx="365040" cy="236520"/>
          </a:xfrm>
          <a:prstGeom prst="blockArc">
            <a:avLst>
              <a:gd name="adj1" fmla="val 12178184"/>
              <a:gd name="adj2" fmla="val 20221816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 rot="14490000">
            <a:off x="699120" y="5730840"/>
            <a:ext cx="352440" cy="226800"/>
          </a:xfrm>
          <a:prstGeom prst="blockArc">
            <a:avLst>
              <a:gd name="adj1" fmla="val 12178184"/>
              <a:gd name="adj2" fmla="val 20221816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 rot="7278000">
            <a:off x="3116520" y="5738400"/>
            <a:ext cx="352800" cy="210960"/>
          </a:xfrm>
          <a:prstGeom prst="blockArc">
            <a:avLst>
              <a:gd name="adj1" fmla="val 12178184"/>
              <a:gd name="adj2" fmla="val 20221816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22480" y="3645000"/>
            <a:ext cx="120600" cy="115920"/>
          </a:xfrm>
          <a:prstGeom prst="ellipse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23840" y="5692680"/>
            <a:ext cx="122400" cy="11592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36960" y="5703840"/>
            <a:ext cx="120600" cy="11736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1341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のような三角形の３つの角の大きさの和は何度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85680" y="1844640"/>
            <a:ext cx="30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それぞれの角を切り取って，集めてみよ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4530600"/>
            <a:ext cx="1760400" cy="1762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43480" y="3862440"/>
            <a:ext cx="1424160" cy="2089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18240" y="4681440"/>
            <a:ext cx="1886040" cy="1414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08240" y="4759200"/>
            <a:ext cx="815760" cy="1190880"/>
          </a:xfrm>
          <a:custGeom>
            <a:avLst/>
            <a:gdLst/>
            <a:ahLst/>
            <a:rect l="l" t="t" r="r" b="b"/>
            <a:pathLst>
              <a:path w="530" h="725">
                <a:moveTo>
                  <a:pt x="0" y="0"/>
                </a:moveTo>
                <a:cubicBezTo>
                  <a:pt x="56" y="8"/>
                  <a:pt x="105" y="23"/>
                  <a:pt x="159" y="39"/>
                </a:cubicBezTo>
                <a:cubicBezTo>
                  <a:pt x="193" y="62"/>
                  <a:pt x="220" y="92"/>
                  <a:pt x="239" y="129"/>
                </a:cubicBezTo>
                <a:cubicBezTo>
                  <a:pt x="244" y="138"/>
                  <a:pt x="246" y="149"/>
                  <a:pt x="249" y="159"/>
                </a:cubicBezTo>
                <a:cubicBezTo>
                  <a:pt x="253" y="172"/>
                  <a:pt x="252" y="186"/>
                  <a:pt x="258" y="198"/>
                </a:cubicBezTo>
                <a:cubicBezTo>
                  <a:pt x="285" y="252"/>
                  <a:pt x="304" y="270"/>
                  <a:pt x="358" y="288"/>
                </a:cubicBezTo>
                <a:cubicBezTo>
                  <a:pt x="376" y="306"/>
                  <a:pt x="401" y="317"/>
                  <a:pt x="417" y="337"/>
                </a:cubicBezTo>
                <a:cubicBezTo>
                  <a:pt x="456" y="385"/>
                  <a:pt x="392" y="355"/>
                  <a:pt x="457" y="377"/>
                </a:cubicBezTo>
                <a:cubicBezTo>
                  <a:pt x="479" y="443"/>
                  <a:pt x="523" y="525"/>
                  <a:pt x="527" y="596"/>
                </a:cubicBezTo>
                <a:cubicBezTo>
                  <a:pt x="530" y="639"/>
                  <a:pt x="527" y="682"/>
                  <a:pt x="527" y="725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76320" y="4791240"/>
            <a:ext cx="1008000" cy="425160"/>
          </a:xfrm>
          <a:custGeom>
            <a:avLst/>
            <a:gdLst/>
            <a:ahLst/>
            <a:rect l="l" t="t" r="r" b="b"/>
            <a:pathLst>
              <a:path w="635" h="268">
                <a:moveTo>
                  <a:pt x="0" y="268"/>
                </a:moveTo>
                <a:cubicBezTo>
                  <a:pt x="25" y="230"/>
                  <a:pt x="20" y="215"/>
                  <a:pt x="59" y="188"/>
                </a:cubicBezTo>
                <a:cubicBezTo>
                  <a:pt x="100" y="129"/>
                  <a:pt x="140" y="107"/>
                  <a:pt x="208" y="89"/>
                </a:cubicBezTo>
                <a:cubicBezTo>
                  <a:pt x="338" y="94"/>
                  <a:pt x="432" y="117"/>
                  <a:pt x="546" y="79"/>
                </a:cubicBezTo>
                <a:cubicBezTo>
                  <a:pt x="553" y="69"/>
                  <a:pt x="557" y="57"/>
                  <a:pt x="566" y="49"/>
                </a:cubicBezTo>
                <a:cubicBezTo>
                  <a:pt x="574" y="42"/>
                  <a:pt x="588" y="46"/>
                  <a:pt x="596" y="39"/>
                </a:cubicBezTo>
                <a:cubicBezTo>
                  <a:pt x="603" y="32"/>
                  <a:pt x="599" y="17"/>
                  <a:pt x="606" y="10"/>
                </a:cubicBezTo>
                <a:cubicBezTo>
                  <a:pt x="613" y="3"/>
                  <a:pt x="635" y="0"/>
                  <a:pt x="635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26000" y="5900760"/>
            <a:ext cx="2944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 flipH="1">
            <a:off x="2484360" y="2565360"/>
            <a:ext cx="728640" cy="863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81600" y="5618160"/>
            <a:ext cx="576360" cy="623880"/>
          </a:xfrm>
          <a:prstGeom prst="blockArc">
            <a:avLst>
              <a:gd name="adj1" fmla="val 11200170"/>
              <a:gd name="adj2" fmla="val 21199830"/>
              <a:gd name="adj3" fmla="val 0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520" y="2349360"/>
            <a:ext cx="25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ポイント　・・・　絶対おぼえ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27813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角形の３つの角の大きさの和は１８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408880" y="2890800"/>
            <a:ext cx="73080" cy="71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3645000"/>
            <a:ext cx="1440000" cy="1008000"/>
          </a:xfrm>
          <a:prstGeom prst="rect">
            <a:avLst/>
          </a:pr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24720" y="40784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819920" y="3840120"/>
            <a:ext cx="432000" cy="432000"/>
          </a:xfrm>
          <a:prstGeom prst="blockArc">
            <a:avLst>
              <a:gd name="adj1" fmla="val 10526494"/>
              <a:gd name="adj2" fmla="val 273506"/>
              <a:gd name="adj3" fmla="val 0"/>
            </a:avLst>
          </a:prstGeom>
          <a:solidFill>
            <a:srgbClr val="0000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5920" y="3828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819920" y="3973680"/>
            <a:ext cx="12960" cy="12204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47040" y="4221000"/>
            <a:ext cx="112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ff"/>
                </a:solidFill>
                <a:latin typeface="Arial"/>
              </a:rPr>
              <a:t>半回転・・・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18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2781360"/>
            <a:ext cx="5398920" cy="50328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14920" y="333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三角形の角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27280" y="836640"/>
            <a:ext cx="1008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8920" y="836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の角の大きさは，何度でしょう。計算で求め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3573360"/>
            <a:ext cx="28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59280" y="1545840"/>
            <a:ext cx="1677960" cy="202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737240" y="1537920"/>
            <a:ext cx="1203120" cy="20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4143600">
            <a:off x="3177720" y="3367080"/>
            <a:ext cx="308160" cy="139680"/>
          </a:xfrm>
          <a:prstGeom prst="blockArc">
            <a:avLst>
              <a:gd name="adj1" fmla="val 11522725"/>
              <a:gd name="adj2" fmla="val 20877275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8459000">
            <a:off x="5537880" y="3357000"/>
            <a:ext cx="317520" cy="182520"/>
          </a:xfrm>
          <a:prstGeom prst="blockArc">
            <a:avLst>
              <a:gd name="adj1" fmla="val 11522725"/>
              <a:gd name="adj2" fmla="val 20877275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1247600">
            <a:off x="4544640" y="1699920"/>
            <a:ext cx="363600" cy="168120"/>
          </a:xfrm>
          <a:prstGeom prst="blockArc">
            <a:avLst>
              <a:gd name="adj1" fmla="val 11522725"/>
              <a:gd name="adj2" fmla="val 20877275"/>
              <a:gd name="adj3" fmla="val 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541760" y="1844640"/>
            <a:ext cx="317880" cy="368280"/>
            <a:chOff x="4541760" y="1844640"/>
            <a:chExt cx="317880" cy="368280"/>
          </a:xfrm>
        </p:grpSpPr>
        <p:sp>
          <p:nvSpPr>
            <p:cNvPr id="79" name=""/>
            <p:cNvSpPr/>
            <p:nvPr/>
          </p:nvSpPr>
          <p:spPr>
            <a:xfrm>
              <a:off x="4541760" y="18446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50040" y="1917720"/>
              <a:ext cx="263520" cy="261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490200" y="3213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32130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6352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26800" y="58770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え（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61240" y="4745160"/>
            <a:ext cx="26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0°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0°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4941720"/>
            <a:ext cx="934920" cy="142920"/>
          </a:xfrm>
          <a:prstGeom prst="rightArrow">
            <a:avLst>
              <a:gd name="adj1" fmla="val 50000"/>
              <a:gd name="adj2" fmla="val 1635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2880" y="4437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ff"/>
                </a:solidFill>
                <a:latin typeface="Arial"/>
              </a:rPr>
              <a:t>一つの式にする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26480" y="4826160"/>
            <a:ext cx="34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（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＋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0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4365720"/>
            <a:ext cx="1512720" cy="13683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4221000"/>
            <a:ext cx="1513080" cy="13687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70028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三角形の３つの角の大きさの和は１８０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920" y="1413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ヒ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08000" y="3645000"/>
            <a:ext cx="1295640" cy="1079280"/>
          </a:xfrm>
          <a:prstGeom prst="line">
            <a:avLst/>
          </a:prstGeom>
          <a:ln w="2556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89280" y="3645000"/>
            <a:ext cx="2862360" cy="1100160"/>
          </a:xfrm>
          <a:prstGeom prst="line">
            <a:avLst/>
          </a:prstGeom>
          <a:ln w="2556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5157720"/>
            <a:ext cx="122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65400" y="586584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７０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24000" y="2205000"/>
            <a:ext cx="880920" cy="647280"/>
            <a:chOff x="324000" y="2205000"/>
            <a:chExt cx="880920" cy="647280"/>
          </a:xfrm>
        </p:grpSpPr>
        <p:grpSp>
          <p:nvGrpSpPr>
            <p:cNvPr id="99" name=""/>
            <p:cNvGrpSpPr/>
            <p:nvPr/>
          </p:nvGrpSpPr>
          <p:grpSpPr>
            <a:xfrm>
              <a:off x="389160" y="2205000"/>
              <a:ext cx="712800" cy="647280"/>
              <a:chOff x="389160" y="2205000"/>
              <a:chExt cx="712800" cy="647280"/>
            </a:xfrm>
          </p:grpSpPr>
          <p:sp>
            <p:nvSpPr>
              <p:cNvPr id="100" name=""/>
              <p:cNvSpPr/>
              <p:nvPr/>
            </p:nvSpPr>
            <p:spPr>
              <a:xfrm>
                <a:off x="389160" y="220500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9160" y="2205000"/>
                <a:ext cx="712800" cy="64728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9933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V="1">
              <a:off x="941400" y="2495520"/>
              <a:ext cx="13824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74720" y="2496960"/>
              <a:ext cx="109440" cy="54000"/>
              <a:chOff x="774720" y="2496960"/>
              <a:chExt cx="109440" cy="54000"/>
            </a:xfrm>
          </p:grpSpPr>
          <p:sp>
            <p:nvSpPr>
              <p:cNvPr id="104" name=""/>
              <p:cNvSpPr/>
              <p:nvPr/>
            </p:nvSpPr>
            <p:spPr>
              <a:xfrm>
                <a:off x="774720" y="249696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908" h="425">
                    <a:moveTo>
                      <a:pt x="0" y="425"/>
                    </a:moveTo>
                    <a:cubicBezTo>
                      <a:pt x="6" y="188"/>
                      <a:pt x="208" y="0"/>
                      <a:pt x="454" y="0"/>
                    </a:cubicBezTo>
                    <a:cubicBezTo>
                      <a:pt x="700" y="0"/>
                      <a:pt x="901" y="188"/>
                      <a:pt x="908" y="425"/>
                    </a:cubicBezTo>
                    <a:cubicBezTo>
                      <a:pt x="901" y="188"/>
                      <a:pt x="700" y="0"/>
                      <a:pt x="454" y="0"/>
                    </a:cubicBezTo>
                    <a:cubicBezTo>
                      <a:pt x="208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74720" y="249696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4" y="0"/>
                      <a:pt x="108" y="22"/>
                      <a:pt x="109" y="51"/>
                    </a:cubicBezTo>
                    <a:cubicBezTo>
                      <a:pt x="108" y="22"/>
                      <a:pt x="84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0120" y="2512800"/>
              <a:ext cx="112680" cy="54000"/>
              <a:chOff x="600120" y="2512800"/>
              <a:chExt cx="112680" cy="540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0120" y="2512800"/>
                <a:ext cx="112680" cy="54000"/>
              </a:xfrm>
              <a:custGeom>
                <a:avLst/>
                <a:gdLst/>
                <a:ahLst/>
                <a:rect l="l" t="t" r="r" b="b"/>
                <a:pathLst>
                  <a:path w="916" h="425">
                    <a:moveTo>
                      <a:pt x="0" y="425"/>
                    </a:moveTo>
                    <a:cubicBezTo>
                      <a:pt x="6" y="188"/>
                      <a:pt x="209" y="0"/>
                      <a:pt x="458" y="0"/>
                    </a:cubicBezTo>
                    <a:cubicBezTo>
                      <a:pt x="706" y="0"/>
                      <a:pt x="909" y="188"/>
                      <a:pt x="916" y="425"/>
                    </a:cubicBezTo>
                    <a:cubicBezTo>
                      <a:pt x="909" y="188"/>
                      <a:pt x="706" y="0"/>
                      <a:pt x="458" y="0"/>
                    </a:cubicBezTo>
                    <a:cubicBezTo>
                      <a:pt x="209" y="0"/>
                      <a:pt x="6" y="188"/>
                      <a:pt x="0" y="425"/>
                    </a:cubicBezTo>
                  </a:path>
                </a:pathLst>
              </a:custGeom>
              <a:solidFill>
                <a:srgbClr val="bbe0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0120" y="2512800"/>
                <a:ext cx="112680" cy="54000"/>
              </a:xfrm>
              <a:custGeom>
                <a:avLst/>
                <a:gdLst/>
                <a:ahLst/>
                <a:rect l="l" t="t" r="r" b="b"/>
                <a:pathLst>
                  <a:path w="110" h="51">
                    <a:moveTo>
                      <a:pt x="0" y="51"/>
                    </a:moveTo>
                    <a:cubicBezTo>
                      <a:pt x="1" y="22"/>
                      <a:pt x="25" y="0"/>
                      <a:pt x="55" y="0"/>
                    </a:cubicBezTo>
                    <a:cubicBezTo>
                      <a:pt x="85" y="0"/>
                      <a:pt x="109" y="22"/>
                      <a:pt x="110" y="51"/>
                    </a:cubicBezTo>
                    <a:cubicBezTo>
                      <a:pt x="109" y="22"/>
                      <a:pt x="85" y="0"/>
                      <a:pt x="55" y="0"/>
                    </a:cubicBezTo>
                    <a:cubicBezTo>
                      <a:pt x="25" y="0"/>
                      <a:pt x="1" y="22"/>
                      <a:pt x="0" y="51"/>
                    </a:cubicBezTo>
                  </a:path>
                </a:pathLst>
              </a:custGeom>
              <a:noFill/>
              <a:ln cap="rnd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12720" y="2641680"/>
              <a:ext cx="276480" cy="144360"/>
              <a:chOff x="612720" y="2641680"/>
              <a:chExt cx="276480" cy="144360"/>
            </a:xfrm>
          </p:grpSpPr>
          <p:sp>
            <p:nvSpPr>
              <p:cNvPr id="110" name=""/>
              <p:cNvSpPr/>
              <p:nvPr/>
            </p:nvSpPr>
            <p:spPr>
              <a:xfrm>
                <a:off x="612720" y="2641680"/>
                <a:ext cx="27648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2720" y="2641680"/>
                <a:ext cx="276480" cy="144360"/>
              </a:xfrm>
              <a:custGeom>
                <a:avLst/>
                <a:gdLst/>
                <a:ahLst/>
                <a:rect l="l" t="t" r="r" b="b"/>
                <a:pathLst>
                  <a:path w="1600" h="808">
                    <a:moveTo>
                      <a:pt x="0" y="404"/>
                    </a:moveTo>
                    <a:cubicBezTo>
                      <a:pt x="0" y="627"/>
                      <a:pt x="358" y="808"/>
                      <a:pt x="800" y="808"/>
                    </a:cubicBezTo>
                    <a:cubicBezTo>
                      <a:pt x="1242" y="808"/>
                      <a:pt x="1600" y="627"/>
                      <a:pt x="1600" y="404"/>
                    </a:cubicBezTo>
                    <a:lnTo>
                      <a:pt x="1600" y="0"/>
                    </a:lnTo>
                    <a:lnTo>
                      <a:pt x="0" y="0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ff33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flipH="1" flipV="1">
              <a:off x="406440" y="2457000"/>
              <a:ext cx="13176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 flipH="1">
              <a:off x="971640" y="2278080"/>
              <a:ext cx="23328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24000" y="2349360"/>
              <a:ext cx="11880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68360" y="1700280"/>
            <a:ext cx="3598920" cy="36036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14920" y="333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三角形の角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5:10:56Z</dcterms:created>
  <dc:creator>kangawa-kaori-1</dc:creator>
  <dc:description/>
  <dc:language>en-US</dc:language>
  <cp:lastModifiedBy>kangawa-kaori-1</cp:lastModifiedBy>
  <dcterms:modified xsi:type="dcterms:W3CDTF">2007-11-14T06:14:32Z</dcterms:modified>
  <cp:revision>38</cp:revision>
  <dc:subject/>
  <dc:title>スライド 1</dc:title>
</cp:coreProperties>
</file>