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B349-9212-4EEA-B067-59649B86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4A71-42FB-4B52-9D7E-891FFAB9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C2CD-5066-488C-8D19-98971579F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1797-B38F-4CC3-B3D8-2DEABD96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4373-5B01-4960-8E36-577C7EA9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F086-629E-4E58-A6BC-CF6DB2DC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C39D-B20B-4318-B32E-F8AC0002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483B-813B-4A2D-8BC4-11345F2D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2E4C-4760-42E4-8C16-63343B14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0C6C-ED15-479A-98BD-3DB9901F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6DD8-CE35-4BA0-8E46-5AA45C68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F367-A8D5-410C-8D76-BC731F56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9860-24F5-4890-A218-8A03C2F92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38080" y="765000"/>
            <a:ext cx="7071120" cy="825480"/>
            <a:chOff x="838080" y="765000"/>
            <a:chExt cx="7071120" cy="825480"/>
          </a:xfrm>
        </p:grpSpPr>
        <p:sp>
          <p:nvSpPr>
            <p:cNvPr id="42" name=""/>
            <p:cNvSpPr/>
            <p:nvPr/>
          </p:nvSpPr>
          <p:spPr>
            <a:xfrm>
              <a:off x="838080" y="820440"/>
              <a:ext cx="360360" cy="360360"/>
            </a:xfrm>
            <a:prstGeom prst="star5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329480" y="765000"/>
              <a:ext cx="6579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42.195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は，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0.001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をそれぞれ何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あわせた数ですか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7347240" y="2602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＜何こあわせた数？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45560" y="1916280"/>
            <a:ext cx="403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４　２　．１　９　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2708280"/>
            <a:ext cx="0" cy="433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95400" y="311508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Arial"/>
              </a:rPr>
              <a:t>十の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2708280"/>
            <a:ext cx="0" cy="433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22520" y="3547080"/>
            <a:ext cx="54612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Arial"/>
              </a:rPr>
              <a:t>一の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40120" y="2708280"/>
            <a:ext cx="0" cy="433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703960" y="3207960"/>
            <a:ext cx="561600" cy="1453680"/>
            <a:chOff x="2703960" y="3207960"/>
            <a:chExt cx="561600" cy="1453680"/>
          </a:xfrm>
        </p:grpSpPr>
        <p:sp>
          <p:nvSpPr>
            <p:cNvPr id="52" name=""/>
            <p:cNvSpPr/>
            <p:nvPr/>
          </p:nvSpPr>
          <p:spPr>
            <a:xfrm>
              <a:off x="2719440" y="3738240"/>
              <a:ext cx="54612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3399"/>
                  </a:solidFill>
                  <a:latin typeface="Arial"/>
                </a:rPr>
                <a:t>の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03960" y="3207960"/>
              <a:ext cx="485280" cy="4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4640" y="359424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17280" y="35481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35280" y="2708280"/>
            <a:ext cx="0" cy="433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306240" y="3192120"/>
            <a:ext cx="645120" cy="1453320"/>
            <a:chOff x="3306240" y="3192120"/>
            <a:chExt cx="645120" cy="1453320"/>
          </a:xfrm>
        </p:grpSpPr>
        <p:sp>
          <p:nvSpPr>
            <p:cNvPr id="58" name=""/>
            <p:cNvSpPr/>
            <p:nvPr/>
          </p:nvSpPr>
          <p:spPr>
            <a:xfrm>
              <a:off x="3405240" y="3722040"/>
              <a:ext cx="54612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3399"/>
                  </a:solidFill>
                  <a:latin typeface="Arial"/>
                </a:rPr>
                <a:t>の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9760" y="3192120"/>
              <a:ext cx="485280" cy="4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30440" y="357804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06240" y="353376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4284720" y="2708280"/>
            <a:ext cx="0" cy="433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952080" y="3181320"/>
            <a:ext cx="747720" cy="1453320"/>
            <a:chOff x="3952080" y="3181320"/>
            <a:chExt cx="747720" cy="1453320"/>
          </a:xfrm>
        </p:grpSpPr>
        <p:sp>
          <p:nvSpPr>
            <p:cNvPr id="64" name=""/>
            <p:cNvSpPr/>
            <p:nvPr/>
          </p:nvSpPr>
          <p:spPr>
            <a:xfrm>
              <a:off x="4067280" y="3711240"/>
              <a:ext cx="54612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3399"/>
                  </a:solidFill>
                  <a:latin typeface="Arial"/>
                </a:rPr>
                <a:t>の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51800" y="3181320"/>
              <a:ext cx="485280" cy="4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29120" y="3562200"/>
              <a:ext cx="60012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080" y="35352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11280" y="1700280"/>
            <a:ext cx="4248000" cy="316872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43480" y="1706400"/>
            <a:ext cx="3044880" cy="5031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４２．１９５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を　（　　　 　）  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１　　　  を　（　　  　 ）  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  を  （　　　 　）  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を　（　　　 　）  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を　 （　　　 　） 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あわせた数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36200" y="2154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20000" y="2708280"/>
            <a:ext cx="42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51680" y="3240000"/>
            <a:ext cx="42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72200" y="3814920"/>
            <a:ext cx="4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15040" y="4346640"/>
            <a:ext cx="4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95280" y="5084640"/>
            <a:ext cx="5403240" cy="1454400"/>
            <a:chOff x="395280" y="5084640"/>
            <a:chExt cx="5403240" cy="1454400"/>
          </a:xfrm>
        </p:grpSpPr>
        <p:sp>
          <p:nvSpPr>
            <p:cNvPr id="76" name=""/>
            <p:cNvSpPr/>
            <p:nvPr/>
          </p:nvSpPr>
          <p:spPr>
            <a:xfrm>
              <a:off x="395280" y="5084640"/>
              <a:ext cx="29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小数点から右の位は，順に，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03880" y="5373360"/>
              <a:ext cx="485280" cy="4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9933"/>
                  </a:solidFill>
                  <a:latin typeface="Arial"/>
                </a:rPr>
                <a:t>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57440" y="5759280"/>
              <a:ext cx="51912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20360" y="573408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33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964240" y="5373360"/>
              <a:ext cx="485280" cy="4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9933"/>
                  </a:solidFill>
                  <a:latin typeface="Arial"/>
                </a:rPr>
                <a:t>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941560" y="5753160"/>
              <a:ext cx="611280" cy="14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64520" y="573408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33"/>
                  </a:solidFill>
                  <a:latin typeface="Arial"/>
                </a:rPr>
                <a:t>1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1960" y="5373360"/>
              <a:ext cx="485280" cy="4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9933"/>
                  </a:solidFill>
                  <a:latin typeface="Arial"/>
                </a:rPr>
                <a:t>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2640" y="5759280"/>
              <a:ext cx="43200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9440" y="5732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33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34560" y="5594400"/>
              <a:ext cx="68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339933"/>
                  </a:solidFill>
                  <a:latin typeface="Arial"/>
                </a:rPr>
                <a:t>の位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79080" y="5589720"/>
              <a:ext cx="68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339933"/>
                  </a:solidFill>
                  <a:latin typeface="Arial"/>
                </a:rPr>
                <a:t>の位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66520" y="5589720"/>
              <a:ext cx="68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339933"/>
                  </a:solidFill>
                  <a:latin typeface="Arial"/>
                </a:rPr>
                <a:t>の位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383360" y="55944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，また，それぞれ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577520" y="6170760"/>
              <a:ext cx="26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ff"/>
                  </a:solidFill>
                  <a:latin typeface="Arial"/>
                </a:rPr>
                <a:t>小数第１位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zh-CN" sz="1800" spc="-1" strike="noStrike">
                  <a:solidFill>
                    <a:srgbClr val="3333ff"/>
                  </a:solidFill>
                  <a:latin typeface="Arial"/>
                </a:rPr>
                <a:t>小数第２位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zh-CN" sz="1800" spc="-1" strike="noStrike">
                  <a:solidFill>
                    <a:srgbClr val="3333ff"/>
                  </a:solidFill>
                  <a:latin typeface="Arial"/>
                </a:rPr>
                <a:t>小数第３位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といいます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2627280" y="189000"/>
            <a:ext cx="3240000" cy="5778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何こあわせた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08120" y="1197000"/>
            <a:ext cx="41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0.39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，</a:t>
            </a:r>
            <a:r>
              <a:rPr b="0" lang="ja-JP" sz="2400" spc="-1" strike="noStrike">
                <a:solidFill>
                  <a:srgbClr val="ff3399"/>
                </a:solidFill>
                <a:latin typeface="Arial"/>
              </a:rPr>
              <a:t>0.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何こ，</a:t>
            </a:r>
            <a:r>
              <a:rPr b="0" lang="ja-JP" sz="2400" spc="-1" strike="noStrike">
                <a:solidFill>
                  <a:srgbClr val="33cc33"/>
                </a:solidFill>
                <a:latin typeface="Arial"/>
              </a:rPr>
              <a:t>0.0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何こあわせた数です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32720" y="476280"/>
            <a:ext cx="1689480" cy="368280"/>
          </a:xfrm>
          <a:prstGeom prst="rect">
            <a:avLst/>
          </a:prstGeom>
          <a:solidFill>
            <a:srgbClr val="ffff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いっしょに考えよう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435640" y="260280"/>
            <a:ext cx="855720" cy="878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192400" y="186516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は，（　　　　　　）と（　　　　　　）をあわせた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 rot="9281400">
            <a:off x="2947680" y="2338200"/>
            <a:ext cx="741240" cy="115560"/>
          </a:xfrm>
          <a:prstGeom prst="rightArrow">
            <a:avLst>
              <a:gd name="adj1" fmla="val 50000"/>
              <a:gd name="adj2" fmla="val 160358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21080" y="18446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17000" y="1844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42000" y="2565360"/>
            <a:ext cx="285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0.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が（　　　　）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 rot="1683600">
            <a:off x="5003640" y="2349360"/>
            <a:ext cx="682920" cy="115920"/>
          </a:xfrm>
          <a:prstGeom prst="rightArrow">
            <a:avLst>
              <a:gd name="adj1" fmla="val 50000"/>
              <a:gd name="adj2" fmla="val 14728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10000" y="2565360"/>
            <a:ext cx="31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0.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が（　　　　）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87120" y="3032280"/>
            <a:ext cx="44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答え（　</a:t>
            </a:r>
            <a:r>
              <a:rPr b="0" lang="ja-JP" sz="2000" spc="-1" strike="noStrike">
                <a:solidFill>
                  <a:srgbClr val="ff00ff"/>
                </a:solidFill>
                <a:latin typeface="Arial"/>
              </a:rPr>
              <a:t>0.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３こ，</a:t>
            </a:r>
            <a:r>
              <a:rPr b="0" lang="ja-JP" sz="2000" spc="-1" strike="noStrike">
                <a:solidFill>
                  <a:srgbClr val="33cc33"/>
                </a:solidFill>
                <a:latin typeface="Arial"/>
              </a:rPr>
              <a:t>0.0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９こあわせた数　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98440" y="2565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55160" y="2565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41880" y="3716280"/>
            <a:ext cx="31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0.725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，</a:t>
            </a:r>
            <a:r>
              <a:rPr b="0" lang="ja-JP" sz="2400" spc="-1" strike="noStrike">
                <a:solidFill>
                  <a:srgbClr val="cc00ff"/>
                </a:solidFill>
                <a:latin typeface="Arial"/>
              </a:rPr>
              <a:t>0.00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何こあわせた数です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80360" y="4219560"/>
            <a:ext cx="69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7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は，（　　　　　　）と（　　　　　　）と（　　　　　　）をあわせた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65800" y="41482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61440" y="41781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35040" y="42004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 rot="1683600">
            <a:off x="6559200" y="4813920"/>
            <a:ext cx="1079640" cy="123840"/>
          </a:xfrm>
          <a:prstGeom prst="rightArrow">
            <a:avLst>
              <a:gd name="adj1" fmla="val 50000"/>
              <a:gd name="adj2" fmla="val 21795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99200" y="5181480"/>
            <a:ext cx="30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0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en-US" sz="1800" spc="-1" strike="noStrike">
                <a:solidFill>
                  <a:srgbClr val="cc00ff"/>
                </a:solidFill>
                <a:latin typeface="Arial"/>
              </a:rPr>
              <a:t>0.0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（　　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69880" y="5181480"/>
            <a:ext cx="29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en-US" sz="1800" spc="-1" strike="noStrike">
                <a:solidFill>
                  <a:srgbClr val="cc00ff"/>
                </a:solidFill>
                <a:latin typeface="Arial"/>
              </a:rPr>
              <a:t>0.0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（　　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5360" y="5156280"/>
            <a:ext cx="283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en-US" sz="1800" spc="-1" strike="noStrike">
                <a:solidFill>
                  <a:srgbClr val="cc00ff"/>
                </a:solidFill>
                <a:latin typeface="Arial"/>
              </a:rPr>
              <a:t>0.0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（　　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 rot="5322000">
            <a:off x="4948920" y="4779360"/>
            <a:ext cx="503280" cy="104760"/>
          </a:xfrm>
          <a:prstGeom prst="rightArrow">
            <a:avLst>
              <a:gd name="adj1" fmla="val 50000"/>
              <a:gd name="adj2" fmla="val 120103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 rot="9247200">
            <a:off x="2627280" y="4795920"/>
            <a:ext cx="1163520" cy="97920"/>
          </a:xfrm>
          <a:prstGeom prst="rightArrow">
            <a:avLst>
              <a:gd name="adj1" fmla="val 50000"/>
              <a:gd name="adj2" fmla="val 29705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18880" y="51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21800" y="5181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85120" y="5159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68400" y="5732640"/>
            <a:ext cx="49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答え（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0.72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は，</a:t>
            </a:r>
            <a:r>
              <a:rPr b="0" lang="ja-JP" sz="2000" spc="-1" strike="noStrike">
                <a:solidFill>
                  <a:srgbClr val="cc00ff"/>
                </a:solidFill>
                <a:latin typeface="Arial"/>
              </a:rPr>
              <a:t>0.00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72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あわせた数　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645000"/>
            <a:ext cx="8424720" cy="0"/>
          </a:xfrm>
          <a:prstGeom prst="line">
            <a:avLst/>
          </a:prstGeom>
          <a:ln w="25560">
            <a:solidFill>
              <a:srgbClr val="3333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5589720"/>
            <a:ext cx="2808360" cy="1152360"/>
          </a:xfrm>
          <a:prstGeom prst="rect">
            <a:avLst/>
          </a:prstGeom>
          <a:noFill/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8960" y="5661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０．７２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8960" y="5950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ff"/>
                </a:solidFill>
                <a:latin typeface="Arial"/>
              </a:rPr>
              <a:t>０．００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5734080"/>
            <a:ext cx="144360" cy="5745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03280" y="5734080"/>
            <a:ext cx="0" cy="574560"/>
          </a:xfrm>
          <a:prstGeom prst="line">
            <a:avLst/>
          </a:prstGeom>
          <a:ln cap="rnd" w="2232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63240" y="5670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０．３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73320" y="5958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ff"/>
                </a:solidFill>
                <a:latin typeface="Arial"/>
              </a:rPr>
              <a:t>０．００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40000" y="5734080"/>
            <a:ext cx="144360" cy="5745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1640" y="5756400"/>
            <a:ext cx="0" cy="574560"/>
          </a:xfrm>
          <a:prstGeom prst="line">
            <a:avLst/>
          </a:prstGeom>
          <a:ln cap="rnd" w="2232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61200" y="56624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2000" y="6315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＜７２５こ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76120" y="630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＜３８０こ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35280" y="5661000"/>
            <a:ext cx="0" cy="100800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47240" y="2602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＜何こあわせた数？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916360" y="404640"/>
            <a:ext cx="1368000" cy="396720"/>
            <a:chOff x="2916360" y="404640"/>
            <a:chExt cx="1368000" cy="396720"/>
          </a:xfrm>
        </p:grpSpPr>
        <p:sp>
          <p:nvSpPr>
            <p:cNvPr id="136" name=""/>
            <p:cNvSpPr/>
            <p:nvPr/>
          </p:nvSpPr>
          <p:spPr>
            <a:xfrm>
              <a:off x="2916360" y="404640"/>
              <a:ext cx="136620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54520" y="40464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616120" y="907920"/>
            <a:ext cx="39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次の（　　　　）の中にあてはまる数をかき入れ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8560" y="1413000"/>
            <a:ext cx="71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0.8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は，</a:t>
            </a:r>
            <a:r>
              <a:rPr b="0" lang="ja-JP" sz="2000" spc="-1" strike="noStrike">
                <a:solidFill>
                  <a:srgbClr val="ff3399"/>
                </a:solidFill>
                <a:latin typeface="Arial"/>
              </a:rPr>
              <a:t>0.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（　　　　）こ，</a:t>
            </a:r>
            <a:r>
              <a:rPr b="0" lang="ja-JP" sz="2000" spc="-1" strike="noStrike">
                <a:solidFill>
                  <a:srgbClr val="33cc33"/>
                </a:solidFill>
                <a:latin typeface="Arial"/>
              </a:rPr>
              <a:t>0.0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（　　　　）こあわせた数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5840" y="2205000"/>
            <a:ext cx="52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は，</a:t>
            </a:r>
            <a:r>
              <a:rPr b="0" lang="ja-JP" sz="2000" spc="-1" strike="noStrike">
                <a:solidFill>
                  <a:srgbClr val="33cc33"/>
                </a:solidFill>
                <a:latin typeface="Arial"/>
              </a:rPr>
              <a:t>0.0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（　　　　　　）こあわせた数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9760" y="3068640"/>
            <a:ext cx="525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33cc33"/>
                </a:solidFill>
                <a:latin typeface="Arial"/>
              </a:rPr>
              <a:t>0.0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7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集めた数は，（　　　　　　）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9040" y="3860640"/>
            <a:ext cx="56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cc00ff"/>
                </a:solidFill>
                <a:latin typeface="Arial"/>
              </a:rPr>
              <a:t>0.00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320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集めた数は，（　　　　　　）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01440" y="4724280"/>
            <a:ext cx="48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⑤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　　　　　　）を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580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集めた数は，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5.8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87680" y="5589720"/>
            <a:ext cx="132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⑥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94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59640" y="5373360"/>
            <a:ext cx="48528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9933"/>
                </a:solidFill>
                <a:latin typeface="Arial"/>
              </a:rPr>
              <a:t>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60720" y="5759280"/>
            <a:ext cx="51912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23640" y="5734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92120" y="5589720"/>
            <a:ext cx="24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の位の数字は（　　　　　　　）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47240" y="2602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＜何こあわせた数？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2916360" y="404640"/>
            <a:ext cx="1368000" cy="396720"/>
            <a:chOff x="2916360" y="404640"/>
            <a:chExt cx="1368000" cy="396720"/>
          </a:xfrm>
        </p:grpSpPr>
        <p:sp>
          <p:nvSpPr>
            <p:cNvPr id="151" name=""/>
            <p:cNvSpPr/>
            <p:nvPr/>
          </p:nvSpPr>
          <p:spPr>
            <a:xfrm>
              <a:off x="2916360" y="404640"/>
              <a:ext cx="136620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54520" y="40464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616120" y="907920"/>
            <a:ext cx="39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次の（　　　　）の中にあてはまる数をかき入れ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8560" y="1413000"/>
            <a:ext cx="71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0.8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は，</a:t>
            </a:r>
            <a:r>
              <a:rPr b="0" lang="ja-JP" sz="2000" spc="-1" strike="noStrike">
                <a:solidFill>
                  <a:srgbClr val="ff3399"/>
                </a:solidFill>
                <a:latin typeface="Arial"/>
              </a:rPr>
              <a:t>0.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（　　　　）こ，</a:t>
            </a:r>
            <a:r>
              <a:rPr b="0" lang="ja-JP" sz="2000" spc="-1" strike="noStrike">
                <a:solidFill>
                  <a:srgbClr val="33cc33"/>
                </a:solidFill>
                <a:latin typeface="Arial"/>
              </a:rPr>
              <a:t>0.0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（　　　　）こあわせた数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5840" y="2205000"/>
            <a:ext cx="52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は，</a:t>
            </a:r>
            <a:r>
              <a:rPr b="0" lang="ja-JP" sz="2000" spc="-1" strike="noStrike">
                <a:solidFill>
                  <a:srgbClr val="33cc33"/>
                </a:solidFill>
                <a:latin typeface="Arial"/>
              </a:rPr>
              <a:t>0.0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（　　　　　　）こあわせた数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9760" y="3068640"/>
            <a:ext cx="525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33cc33"/>
                </a:solidFill>
                <a:latin typeface="Arial"/>
              </a:rPr>
              <a:t>0.0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7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集めた数は，（　　　　　　）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9040" y="3860640"/>
            <a:ext cx="56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2000" spc="-1" strike="noStrike">
                <a:solidFill>
                  <a:srgbClr val="cc00ff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cc00ff"/>
                </a:solidFill>
                <a:latin typeface="Arial"/>
              </a:rPr>
              <a:t>0.00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320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集めた数は，（　　　　　　）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01440" y="4724280"/>
            <a:ext cx="48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⑤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　　　　　　）を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580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集めた数は，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5.8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7680" y="5589720"/>
            <a:ext cx="132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⑥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94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99240" y="5373360"/>
            <a:ext cx="48528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9933"/>
                </a:solidFill>
                <a:latin typeface="Arial"/>
              </a:rPr>
              <a:t>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60720" y="5759280"/>
            <a:ext cx="51912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23640" y="5734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92120" y="5589720"/>
            <a:ext cx="24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の位の数字は（　　　　　　　）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26680" y="18900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1640" y="1363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090760" y="1341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90160" y="21337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299280" y="1989000"/>
            <a:ext cx="1211040" cy="800280"/>
          </a:xfrm>
          <a:prstGeom prst="rect">
            <a:avLst/>
          </a:prstGeom>
          <a:noFill/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72800" y="2060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１．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82880" y="2349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０．０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59640" y="2133720"/>
            <a:ext cx="144360" cy="5745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236000" y="2133720"/>
            <a:ext cx="0" cy="574560"/>
          </a:xfrm>
          <a:prstGeom prst="line">
            <a:avLst/>
          </a:prstGeom>
          <a:ln cap="rnd" w="2232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939360" y="2057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19800" y="2855880"/>
            <a:ext cx="1211400" cy="800280"/>
          </a:xfrm>
          <a:prstGeom prst="rect">
            <a:avLst/>
          </a:prstGeom>
          <a:noFill/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65480" y="2924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７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03400" y="3216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０．０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80160" y="3000240"/>
            <a:ext cx="14436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36000" y="2997360"/>
            <a:ext cx="0" cy="574560"/>
          </a:xfrm>
          <a:prstGeom prst="line">
            <a:avLst/>
          </a:prstGeom>
          <a:ln cap="rnd" w="2232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62720" y="2924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０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4216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08640" y="3706920"/>
            <a:ext cx="1211400" cy="799920"/>
          </a:xfrm>
          <a:prstGeom prst="rect">
            <a:avLst/>
          </a:prstGeom>
          <a:noFill/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02680" y="40672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０．００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69000" y="3851280"/>
            <a:ext cx="144720" cy="5745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80360" y="3860640"/>
            <a:ext cx="0" cy="574920"/>
          </a:xfrm>
          <a:prstGeom prst="line">
            <a:avLst/>
          </a:prstGeom>
          <a:ln cap="rnd" w="2232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36080" y="377496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３　２０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17520" y="3681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Arial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3800" y="38606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61440" y="4707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57680" y="551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47240" y="2602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＜何こあわせた数？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07:36:04Z</dcterms:created>
  <dc:creator>kangawa-kaori-1</dc:creator>
  <dc:description/>
  <dc:language>en-US</dc:language>
  <cp:lastModifiedBy>kangawa-kaori-1</cp:lastModifiedBy>
  <dcterms:modified xsi:type="dcterms:W3CDTF">2007-11-14T06:19:08Z</dcterms:modified>
  <cp:revision>62</cp:revision>
  <dc:subject/>
  <dc:title>スライド 1</dc:title>
</cp:coreProperties>
</file>