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F50-E41E-4E02-B17E-AE984D2C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8FA-C8AB-4AB6-8B15-19CF582D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D73-A188-4EA1-982D-9F42A59C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CFE-4328-48D4-AF56-B35B91B5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520-4D3F-4FFC-A5D4-E4E8576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EF1-5C47-4B49-8FD9-61A14F83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594-1CAE-426B-9867-C6D4FCE1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3A7-DFBB-432E-AEE5-19BB79F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C37-3314-4678-8C72-E41D1A2C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DB0-696A-4786-B79F-5C6C9AC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466-2FC1-40BF-958C-6C38160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E7D-E02A-40E1-8636-B2AE30C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6473-B93E-440D-9EA9-DB4346DD3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549360"/>
            <a:ext cx="208764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し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61000" y="260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等しい分数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1280" y="1268280"/>
            <a:ext cx="6729480" cy="459720"/>
            <a:chOff x="611280" y="1268280"/>
            <a:chExt cx="6729480" cy="459720"/>
          </a:xfrm>
        </p:grpSpPr>
        <p:sp>
          <p:nvSpPr>
            <p:cNvPr id="44" name=""/>
            <p:cNvSpPr/>
            <p:nvPr/>
          </p:nvSpPr>
          <p:spPr>
            <a:xfrm>
              <a:off x="611280" y="1323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09400" y="1268280"/>
              <a:ext cx="50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　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のテープの長さをくらべ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19320" y="1536840"/>
            <a:ext cx="49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9520" y="1495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072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8760" y="1536840"/>
            <a:ext cx="49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98960" y="1495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192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08400" y="1536840"/>
            <a:ext cx="49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78600" y="1495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980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708280"/>
            <a:ext cx="5742000" cy="239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8480" y="2708280"/>
            <a:ext cx="2872080" cy="23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81200" y="3421080"/>
            <a:ext cx="5742000" cy="239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87680" y="3421080"/>
            <a:ext cx="2871720" cy="23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81200" y="4133880"/>
            <a:ext cx="5742000" cy="239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87680" y="4133880"/>
            <a:ext cx="2871720" cy="23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342900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342900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413856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04080" y="414828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80840" y="2382840"/>
            <a:ext cx="3957840" cy="62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46" y="62"/>
                </a:moveTo>
                <a:arcTo wR="10800" hR="10800" stAng="-5767987" swAng="5767987"/>
                <a:lnTo>
                  <a:pt x="10800" y="10800"/>
                </a:lnTo>
                <a:close/>
              </a:path>
              <a:path fill="none" w="21600" h="21600">
                <a:moveTo>
                  <a:pt x="9646" y="62"/>
                </a:moveTo>
                <a:arcTo wR="10800" hR="10800" stAng="-5767987" swAng="5767987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690560" y="2394000"/>
            <a:ext cx="3958560" cy="62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46" y="62"/>
                </a:moveTo>
                <a:arcTo wR="10800" hR="10800" stAng="-5767987" swAng="5767987"/>
                <a:lnTo>
                  <a:pt x="10800" y="10800"/>
                </a:lnTo>
                <a:close/>
              </a:path>
              <a:path fill="none" w="21600" h="21600">
                <a:moveTo>
                  <a:pt x="9646" y="62"/>
                </a:moveTo>
                <a:arcTo wR="10800" hR="10800" stAng="-5767987" swAng="5767987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16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１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36640" y="2484360"/>
            <a:ext cx="733320" cy="674640"/>
            <a:chOff x="836640" y="2484360"/>
            <a:chExt cx="733320" cy="674640"/>
          </a:xfrm>
        </p:grpSpPr>
        <p:grpSp>
          <p:nvGrpSpPr>
            <p:cNvPr id="69" name=""/>
            <p:cNvGrpSpPr/>
            <p:nvPr/>
          </p:nvGrpSpPr>
          <p:grpSpPr>
            <a:xfrm>
              <a:off x="836640" y="2484360"/>
              <a:ext cx="398520" cy="674640"/>
              <a:chOff x="836640" y="2484360"/>
              <a:chExt cx="398520" cy="674640"/>
            </a:xfrm>
          </p:grpSpPr>
          <p:sp>
            <p:nvSpPr>
              <p:cNvPr id="70" name=""/>
              <p:cNvSpPr/>
              <p:nvPr/>
            </p:nvSpPr>
            <p:spPr>
              <a:xfrm>
                <a:off x="836640" y="2822760"/>
                <a:ext cx="39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8400" y="2484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81640" y="2790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1198800" y="2619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836640" y="3192480"/>
            <a:ext cx="733320" cy="674640"/>
            <a:chOff x="836640" y="3192480"/>
            <a:chExt cx="733320" cy="674640"/>
          </a:xfrm>
        </p:grpSpPr>
        <p:sp>
          <p:nvSpPr>
            <p:cNvPr id="75" name=""/>
            <p:cNvSpPr/>
            <p:nvPr/>
          </p:nvSpPr>
          <p:spPr>
            <a:xfrm>
              <a:off x="836640" y="3530520"/>
              <a:ext cx="39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8040" y="3192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1280" y="3498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8800" y="33274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836640" y="3924360"/>
            <a:ext cx="733320" cy="674640"/>
            <a:chOff x="836640" y="3924360"/>
            <a:chExt cx="733320" cy="674640"/>
          </a:xfrm>
        </p:grpSpPr>
        <p:grpSp>
          <p:nvGrpSpPr>
            <p:cNvPr id="80" name=""/>
            <p:cNvGrpSpPr/>
            <p:nvPr/>
          </p:nvGrpSpPr>
          <p:grpSpPr>
            <a:xfrm>
              <a:off x="836640" y="3924360"/>
              <a:ext cx="398520" cy="674640"/>
              <a:chOff x="836640" y="3924360"/>
              <a:chExt cx="398520" cy="674640"/>
            </a:xfrm>
          </p:grpSpPr>
          <p:sp>
            <p:nvSpPr>
              <p:cNvPr id="81" name=""/>
              <p:cNvSpPr/>
              <p:nvPr/>
            </p:nvSpPr>
            <p:spPr>
              <a:xfrm>
                <a:off x="836640" y="4262760"/>
                <a:ext cx="39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78400" y="3924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81640" y="4230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198800" y="4059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575240" y="27162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67320" y="414648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8400" y="413388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64080" y="342900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3360" y="4143240"/>
            <a:ext cx="0" cy="225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89480" y="414828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24800" y="4148280"/>
            <a:ext cx="0" cy="225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95160" y="5138640"/>
            <a:ext cx="7957440" cy="829800"/>
            <a:chOff x="695160" y="5138640"/>
            <a:chExt cx="7957440" cy="829800"/>
          </a:xfrm>
        </p:grpSpPr>
        <p:sp>
          <p:nvSpPr>
            <p:cNvPr id="93" name=""/>
            <p:cNvSpPr/>
            <p:nvPr/>
          </p:nvSpPr>
          <p:spPr>
            <a:xfrm>
              <a:off x="695160" y="5281560"/>
              <a:ext cx="79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　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は，みんな（　　　　　　）長さです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9160" y="554976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9360" y="550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0920" y="513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28960" y="5549760"/>
              <a:ext cx="490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99160" y="550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11760" y="513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08240" y="554976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8440" y="550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50000" y="513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927040" y="5273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等し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360" y="279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分　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160" y="289080"/>
            <a:ext cx="1511280" cy="35856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2668" b="0"/>
          <a:stretch/>
        </p:blipFill>
        <p:spPr>
          <a:xfrm>
            <a:off x="341280" y="1314360"/>
            <a:ext cx="4635360" cy="5200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461000" y="260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等しい分数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69960" y="754200"/>
            <a:ext cx="6553800" cy="459720"/>
            <a:chOff x="669960" y="754200"/>
            <a:chExt cx="6553800" cy="459720"/>
          </a:xfrm>
        </p:grpSpPr>
        <p:sp>
          <p:nvSpPr>
            <p:cNvPr id="109" name=""/>
            <p:cNvSpPr/>
            <p:nvPr/>
          </p:nvSpPr>
          <p:spPr>
            <a:xfrm>
              <a:off x="669960" y="828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8160" y="754200"/>
              <a:ext cx="493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下の数直線を使って，等しい分数について調べましょ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620800" y="1301760"/>
            <a:ext cx="44640" cy="51483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14520" y="1498680"/>
            <a:ext cx="23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に等しい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021280" y="1538280"/>
            <a:ext cx="359280" cy="359280"/>
            <a:chOff x="5021280" y="1538280"/>
            <a:chExt cx="359280" cy="359280"/>
          </a:xfrm>
        </p:grpSpPr>
        <p:sp>
          <p:nvSpPr>
            <p:cNvPr id="114" name="SH_01_20071017151842"/>
            <p:cNvSpPr/>
            <p:nvPr/>
          </p:nvSpPr>
          <p:spPr>
            <a:xfrm>
              <a:off x="5021280" y="1538280"/>
              <a:ext cx="359280" cy="35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5044680" y="1561680"/>
              <a:ext cx="31212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5562720" y="1359000"/>
            <a:ext cx="398520" cy="674280"/>
            <a:chOff x="5562720" y="1359000"/>
            <a:chExt cx="398520" cy="674280"/>
          </a:xfrm>
        </p:grpSpPr>
        <p:sp>
          <p:nvSpPr>
            <p:cNvPr id="117" name=""/>
            <p:cNvSpPr/>
            <p:nvPr/>
          </p:nvSpPr>
          <p:spPr>
            <a:xfrm>
              <a:off x="5562720" y="1697040"/>
              <a:ext cx="39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04480" y="135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7720" y="166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427720" y="1989000"/>
            <a:ext cx="2205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68800" y="3463920"/>
            <a:ext cx="359640" cy="359280"/>
            <a:chOff x="5068800" y="3463920"/>
            <a:chExt cx="359640" cy="359280"/>
          </a:xfrm>
        </p:grpSpPr>
        <p:sp>
          <p:nvSpPr>
            <p:cNvPr id="122" name="SH_01_20071017151901"/>
            <p:cNvSpPr/>
            <p:nvPr/>
          </p:nvSpPr>
          <p:spPr>
            <a:xfrm>
              <a:off x="5068800" y="3463920"/>
              <a:ext cx="359640" cy="35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5092200" y="3487320"/>
              <a:ext cx="299160" cy="30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5564160" y="3303720"/>
            <a:ext cx="398520" cy="674280"/>
            <a:chOff x="5564160" y="3303720"/>
            <a:chExt cx="398520" cy="674280"/>
          </a:xfrm>
        </p:grpSpPr>
        <p:sp>
          <p:nvSpPr>
            <p:cNvPr id="125" name=""/>
            <p:cNvSpPr/>
            <p:nvPr/>
          </p:nvSpPr>
          <p:spPr>
            <a:xfrm>
              <a:off x="5564160" y="3641400"/>
              <a:ext cx="39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5560" y="330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08800" y="360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158800" y="3429000"/>
            <a:ext cx="23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に等しい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5240" y="1847880"/>
            <a:ext cx="269640" cy="270000"/>
          </a:xfrm>
          <a:prstGeom prst="ellipse">
            <a:avLst/>
          </a:pr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6040" y="3063960"/>
            <a:ext cx="270000" cy="269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94080" y="4300560"/>
            <a:ext cx="26964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94080" y="4881600"/>
            <a:ext cx="26964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94080" y="6119640"/>
            <a:ext cx="26964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81640" y="2259000"/>
            <a:ext cx="398520" cy="682560"/>
            <a:chOff x="5381640" y="2259000"/>
            <a:chExt cx="398520" cy="682560"/>
          </a:xfrm>
        </p:grpSpPr>
        <p:sp>
          <p:nvSpPr>
            <p:cNvPr id="135" name=""/>
            <p:cNvSpPr/>
            <p:nvPr/>
          </p:nvSpPr>
          <p:spPr>
            <a:xfrm>
              <a:off x="5381640" y="259704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0160" y="225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5120" y="257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81640" y="2259000"/>
            <a:ext cx="398520" cy="682560"/>
            <a:chOff x="6281640" y="2259000"/>
            <a:chExt cx="398520" cy="682560"/>
          </a:xfrm>
        </p:grpSpPr>
        <p:sp>
          <p:nvSpPr>
            <p:cNvPr id="139" name=""/>
            <p:cNvSpPr/>
            <p:nvPr/>
          </p:nvSpPr>
          <p:spPr>
            <a:xfrm>
              <a:off x="6281640" y="259740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0160" y="225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5480" y="257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137360" y="2259000"/>
            <a:ext cx="398520" cy="682560"/>
            <a:chOff x="7137360" y="2259000"/>
            <a:chExt cx="398520" cy="682560"/>
          </a:xfrm>
        </p:grpSpPr>
        <p:sp>
          <p:nvSpPr>
            <p:cNvPr id="143" name=""/>
            <p:cNvSpPr/>
            <p:nvPr/>
          </p:nvSpPr>
          <p:spPr>
            <a:xfrm>
              <a:off x="7137360" y="259740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75880" y="225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0840" y="257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904880" y="2259000"/>
            <a:ext cx="451800" cy="638280"/>
            <a:chOff x="7904880" y="2259000"/>
            <a:chExt cx="451800" cy="638280"/>
          </a:xfrm>
        </p:grpSpPr>
        <p:sp>
          <p:nvSpPr>
            <p:cNvPr id="147" name=""/>
            <p:cNvSpPr/>
            <p:nvPr/>
          </p:nvSpPr>
          <p:spPr>
            <a:xfrm>
              <a:off x="7958160" y="257508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4880" y="225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04880" y="2529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841000" y="24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3600" y="24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12840" y="24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2880" y="1298520"/>
            <a:ext cx="44280" cy="51483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71640" y="2484360"/>
            <a:ext cx="270000" cy="270000"/>
          </a:xfrm>
          <a:prstGeom prst="ellipse">
            <a:avLst/>
          </a:pr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60480" y="4302000"/>
            <a:ext cx="27000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477040" y="4138560"/>
            <a:ext cx="398160" cy="682560"/>
            <a:chOff x="5477040" y="4138560"/>
            <a:chExt cx="398160" cy="682560"/>
          </a:xfrm>
        </p:grpSpPr>
        <p:sp>
          <p:nvSpPr>
            <p:cNvPr id="157" name=""/>
            <p:cNvSpPr/>
            <p:nvPr/>
          </p:nvSpPr>
          <p:spPr>
            <a:xfrm>
              <a:off x="5477040" y="4476600"/>
              <a:ext cx="3981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14840" y="4138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10160" y="4452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92120" y="437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5499000"/>
            <a:ext cx="27000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419880" y="4156200"/>
            <a:ext cx="398520" cy="682200"/>
            <a:chOff x="6419880" y="4156200"/>
            <a:chExt cx="398520" cy="682200"/>
          </a:xfrm>
        </p:grpSpPr>
        <p:sp>
          <p:nvSpPr>
            <p:cNvPr id="163" name=""/>
            <p:cNvSpPr/>
            <p:nvPr/>
          </p:nvSpPr>
          <p:spPr>
            <a:xfrm>
              <a:off x="6419880" y="449388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58400" y="4156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3360" y="4470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834960" y="4394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71640" y="6129360"/>
            <a:ext cx="27000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396560" y="4154400"/>
            <a:ext cx="442440" cy="696600"/>
            <a:chOff x="7396560" y="4154400"/>
            <a:chExt cx="442440" cy="696600"/>
          </a:xfrm>
        </p:grpSpPr>
        <p:sp>
          <p:nvSpPr>
            <p:cNvPr id="169" name=""/>
            <p:cNvSpPr/>
            <p:nvPr/>
          </p:nvSpPr>
          <p:spPr>
            <a:xfrm>
              <a:off x="7440480" y="449244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79000" y="4154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6560" y="4482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475240" y="3913200"/>
            <a:ext cx="2205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976640" y="5364000"/>
            <a:ext cx="3916440" cy="900000"/>
            <a:chOff x="4976640" y="5364000"/>
            <a:chExt cx="3916440" cy="900000"/>
          </a:xfrm>
        </p:grpSpPr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067360" y="5584680"/>
              <a:ext cx="53964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974200" y="5905440"/>
              <a:ext cx="24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ものさしなど，まっすぐなものをあててみよ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64600" y="55321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ポイ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76640" y="5364000"/>
              <a:ext cx="3916440" cy="90000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66360" y="279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分　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160" y="289080"/>
            <a:ext cx="1511280" cy="35856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81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461000" y="260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等しい分数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3598" b="0"/>
          <a:stretch/>
        </p:blipFill>
        <p:spPr>
          <a:xfrm>
            <a:off x="341280" y="1314360"/>
            <a:ext cx="4591080" cy="5200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97800" y="998640"/>
            <a:ext cx="26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の分数と等しい分数を左の数直線の中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さがしてかき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4560" y="167328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と等しい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97360" y="1832040"/>
            <a:ext cx="3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67560" y="149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42360" y="180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4560" y="323064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と等しい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97360" y="3389400"/>
            <a:ext cx="3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81960" y="305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1320" y="489276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と等しい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94480" y="5051520"/>
            <a:ext cx="3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64680" y="471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2360" y="33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43800" y="50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137360" y="5904000"/>
            <a:ext cx="855720" cy="830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614840" y="216864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16280" y="387828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78200" y="536400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6360" y="279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分　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160" y="289080"/>
            <a:ext cx="1511280" cy="35856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205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461000" y="260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等しい分数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3598" b="0"/>
          <a:stretch/>
        </p:blipFill>
        <p:spPr>
          <a:xfrm>
            <a:off x="341280" y="1314360"/>
            <a:ext cx="4591080" cy="5200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97800" y="998640"/>
            <a:ext cx="26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の分数と等しい分数を左の数直線の中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さがしてかき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4560" y="167328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と等しい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97360" y="1832040"/>
            <a:ext cx="3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39120" y="149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2360" y="180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4560" y="323064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と等しい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97360" y="3389400"/>
            <a:ext cx="3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39120" y="305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71320" y="4892760"/>
            <a:ext cx="26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と等しい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94480" y="5051520"/>
            <a:ext cx="3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35880" y="471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42360" y="33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43800" y="50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0612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902720" y="4014720"/>
            <a:ext cx="1125360" cy="1092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55840" y="1322280"/>
            <a:ext cx="44640" cy="51483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124000"/>
            <a:ext cx="2205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2484360"/>
            <a:ext cx="270000" cy="270000"/>
          </a:xfrm>
          <a:prstGeom prst="ellipse">
            <a:avLst/>
          </a:pr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4284720"/>
            <a:ext cx="270000" cy="269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73800" y="2335320"/>
            <a:ext cx="398520" cy="682200"/>
            <a:chOff x="5473800" y="2335320"/>
            <a:chExt cx="398520" cy="682200"/>
          </a:xfrm>
        </p:grpSpPr>
        <p:sp>
          <p:nvSpPr>
            <p:cNvPr id="229" name=""/>
            <p:cNvSpPr/>
            <p:nvPr/>
          </p:nvSpPr>
          <p:spPr>
            <a:xfrm>
              <a:off x="5473800" y="267300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2320" y="233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07280" y="2649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88880" y="257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16640" y="2352600"/>
            <a:ext cx="398520" cy="682560"/>
            <a:chOff x="6416640" y="2352600"/>
            <a:chExt cx="398520" cy="682560"/>
          </a:xfrm>
        </p:grpSpPr>
        <p:sp>
          <p:nvSpPr>
            <p:cNvPr id="234" name=""/>
            <p:cNvSpPr/>
            <p:nvPr/>
          </p:nvSpPr>
          <p:spPr>
            <a:xfrm>
              <a:off x="6416640" y="269064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55160" y="2352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50120" y="266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3172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409160" y="2367000"/>
            <a:ext cx="442080" cy="696600"/>
            <a:chOff x="7409160" y="2367000"/>
            <a:chExt cx="442080" cy="696600"/>
          </a:xfrm>
        </p:grpSpPr>
        <p:sp>
          <p:nvSpPr>
            <p:cNvPr id="239" name=""/>
            <p:cNvSpPr/>
            <p:nvPr/>
          </p:nvSpPr>
          <p:spPr>
            <a:xfrm>
              <a:off x="7453080" y="2705040"/>
              <a:ext cx="3981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36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09160" y="26953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132000" y="5499000"/>
            <a:ext cx="27000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2640" y="6122880"/>
            <a:ext cx="27000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8680" y="1301760"/>
            <a:ext cx="44640" cy="51483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4840" y="3065400"/>
            <a:ext cx="270000" cy="270000"/>
          </a:xfrm>
          <a:prstGeom prst="ellipse">
            <a:avLst/>
          </a:pr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46640" y="4915080"/>
            <a:ext cx="269640" cy="269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46640" y="6129360"/>
            <a:ext cx="26964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07000" y="3699000"/>
            <a:ext cx="2205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519880" y="3860640"/>
            <a:ext cx="398160" cy="682560"/>
            <a:chOff x="5519880" y="3860640"/>
            <a:chExt cx="398160" cy="682560"/>
          </a:xfrm>
        </p:grpSpPr>
        <p:sp>
          <p:nvSpPr>
            <p:cNvPr id="250" name=""/>
            <p:cNvSpPr/>
            <p:nvPr/>
          </p:nvSpPr>
          <p:spPr>
            <a:xfrm>
              <a:off x="5519880" y="4198680"/>
              <a:ext cx="3981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57680" y="386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53000" y="4174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934960" y="409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329880" y="3878280"/>
            <a:ext cx="442440" cy="696600"/>
            <a:chOff x="6329880" y="3878280"/>
            <a:chExt cx="442440" cy="696600"/>
          </a:xfrm>
        </p:grpSpPr>
        <p:sp>
          <p:nvSpPr>
            <p:cNvPr id="255" name=""/>
            <p:cNvSpPr/>
            <p:nvPr/>
          </p:nvSpPr>
          <p:spPr>
            <a:xfrm>
              <a:off x="6373800" y="421632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12320" y="387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9880" y="4206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620800" y="1301760"/>
            <a:ext cx="44640" cy="51483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07080" y="5362560"/>
            <a:ext cx="2205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2000" y="4284720"/>
            <a:ext cx="269640" cy="269640"/>
          </a:xfrm>
          <a:prstGeom prst="ellipse">
            <a:avLst/>
          </a:pr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2000" y="1854360"/>
            <a:ext cx="269640" cy="269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8120" y="3079800"/>
            <a:ext cx="27000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6160" y="4897440"/>
            <a:ext cx="269640" cy="27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6160" y="6113520"/>
            <a:ext cx="269640" cy="269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72000" y="5589720"/>
            <a:ext cx="398520" cy="682200"/>
            <a:chOff x="5472000" y="5589720"/>
            <a:chExt cx="398520" cy="682200"/>
          </a:xfrm>
        </p:grpSpPr>
        <p:sp>
          <p:nvSpPr>
            <p:cNvPr id="266" name=""/>
            <p:cNvSpPr/>
            <p:nvPr/>
          </p:nvSpPr>
          <p:spPr>
            <a:xfrm>
              <a:off x="5472000" y="592740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0520" y="558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05480" y="590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372360" y="5589720"/>
            <a:ext cx="398160" cy="682200"/>
            <a:chOff x="6372360" y="5589720"/>
            <a:chExt cx="398160" cy="682200"/>
          </a:xfrm>
        </p:grpSpPr>
        <p:sp>
          <p:nvSpPr>
            <p:cNvPr id="270" name=""/>
            <p:cNvSpPr/>
            <p:nvPr/>
          </p:nvSpPr>
          <p:spPr>
            <a:xfrm>
              <a:off x="6372360" y="5927760"/>
              <a:ext cx="3981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0160" y="558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5480" y="590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227720" y="5589720"/>
            <a:ext cx="398520" cy="682200"/>
            <a:chOff x="7227720" y="5589720"/>
            <a:chExt cx="398520" cy="682200"/>
          </a:xfrm>
        </p:grpSpPr>
        <p:sp>
          <p:nvSpPr>
            <p:cNvPr id="274" name=""/>
            <p:cNvSpPr/>
            <p:nvPr/>
          </p:nvSpPr>
          <p:spPr>
            <a:xfrm>
              <a:off x="7227720" y="592776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66240" y="558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61200" y="590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995240" y="5589720"/>
            <a:ext cx="451800" cy="638280"/>
            <a:chOff x="7995240" y="5589720"/>
            <a:chExt cx="451800" cy="638280"/>
          </a:xfrm>
        </p:grpSpPr>
        <p:sp>
          <p:nvSpPr>
            <p:cNvPr id="278" name=""/>
            <p:cNvSpPr/>
            <p:nvPr/>
          </p:nvSpPr>
          <p:spPr>
            <a:xfrm>
              <a:off x="8048520" y="5905800"/>
              <a:ext cx="3985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85240" y="558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95240" y="5859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31720" y="581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53960" y="581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03200" y="580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6360" y="2793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分　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160" y="289080"/>
            <a:ext cx="1511280" cy="35856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5:21:33Z</dcterms:created>
  <dc:creator>kangawa-kaori-1</dc:creator>
  <dc:description/>
  <dc:language>en-US</dc:language>
  <cp:lastModifiedBy>kangawa-kaori-1</cp:lastModifiedBy>
  <dcterms:modified xsi:type="dcterms:W3CDTF">2007-11-14T06:21:24Z</dcterms:modified>
  <cp:revision>56</cp:revision>
  <dc:subject/>
  <dc:title>スライド 1</dc:title>
</cp:coreProperties>
</file>