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B8F-E324-4ECF-839E-99CA77D0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6F5-0084-4868-B1C7-D256C368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DEC-98D8-42F7-8640-3BE2A5E2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5EE-EFC6-4145-8D6D-B6589026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89E-5DE6-40DC-A986-23DAC98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AFF-D403-4E71-B17B-8A2301AE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AAC-A58B-45E7-BFFD-ADBACF09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224-A2C2-4843-BEC5-DB1868FC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736-C161-4949-9D67-BB8098A4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9B3-B7C5-4509-87A1-B5FC1BF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B92-9A67-4E00-A6A0-86101F5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FD6-3A3B-4FC6-A57B-75066770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F8F-42AF-4A1B-BE9D-7B122FA6D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2000" y="1989000"/>
            <a:ext cx="2146320" cy="1582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360" y="3240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と分数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549360"/>
            <a:ext cx="2475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わり算と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63680" y="1268280"/>
            <a:ext cx="7110720" cy="398880"/>
            <a:chOff x="463680" y="1268280"/>
            <a:chExt cx="7110720" cy="398880"/>
          </a:xfrm>
        </p:grpSpPr>
        <p:sp>
          <p:nvSpPr>
            <p:cNvPr id="45" name=""/>
            <p:cNvSpPr/>
            <p:nvPr/>
          </p:nvSpPr>
          <p:spPr>
            <a:xfrm>
              <a:off x="463680" y="127620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89720" y="1268280"/>
              <a:ext cx="558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ジュース ２ℓ を，同じように ３つ に分けると，１つ分は何ℓになりますか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059480" y="202104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　（　　　　　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69320" y="1989000"/>
            <a:ext cx="12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3440" y="2506680"/>
            <a:ext cx="2130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3440" y="3035160"/>
            <a:ext cx="213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84280" y="167328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71640" y="2438280"/>
            <a:ext cx="3286080" cy="990720"/>
          </a:xfrm>
          <a:prstGeom prst="wedgeEllipseCallout">
            <a:avLst>
              <a:gd name="adj1" fmla="val -64300"/>
              <a:gd name="adj2" fmla="val 20833"/>
            </a:avLst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91560" y="2664000"/>
            <a:ext cx="225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２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÷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0.66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・・・　でわりきれ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商を分数で表すよ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66640" y="2573280"/>
          <a:ext cx="8208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2573280"/>
                    <a:ext cx="8208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6012000" y="4149720"/>
            <a:ext cx="2146320" cy="1582920"/>
            <a:chOff x="6012000" y="4149720"/>
            <a:chExt cx="2146320" cy="1582920"/>
          </a:xfrm>
        </p:grpSpPr>
        <p:sp>
          <p:nvSpPr>
            <p:cNvPr id="57" name=""/>
            <p:cNvSpPr/>
            <p:nvPr/>
          </p:nvSpPr>
          <p:spPr>
            <a:xfrm>
              <a:off x="6012000" y="4149720"/>
              <a:ext cx="2146320" cy="158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3440" y="4667400"/>
              <a:ext cx="2130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3440" y="5195880"/>
              <a:ext cx="2130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3440" y="5207040"/>
              <a:ext cx="2141640" cy="515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10120" y="4149720"/>
            <a:ext cx="1069920" cy="1582920"/>
            <a:chOff x="5910120" y="4149720"/>
            <a:chExt cx="1069920" cy="1582920"/>
          </a:xfrm>
        </p:grpSpPr>
        <p:sp>
          <p:nvSpPr>
            <p:cNvPr id="62" name=""/>
            <p:cNvSpPr/>
            <p:nvPr/>
          </p:nvSpPr>
          <p:spPr>
            <a:xfrm>
              <a:off x="5910120" y="4149720"/>
              <a:ext cx="1069920" cy="158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10120" y="4667400"/>
              <a:ext cx="1063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10120" y="5195880"/>
              <a:ext cx="1063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11560" y="5207040"/>
              <a:ext cx="1055880" cy="514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53920" y="385452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1680" y="3843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182000" y="4149720"/>
            <a:ext cx="1069920" cy="1582920"/>
            <a:chOff x="7182000" y="4149720"/>
            <a:chExt cx="1069920" cy="1582920"/>
          </a:xfrm>
        </p:grpSpPr>
        <p:sp>
          <p:nvSpPr>
            <p:cNvPr id="69" name=""/>
            <p:cNvSpPr/>
            <p:nvPr/>
          </p:nvSpPr>
          <p:spPr>
            <a:xfrm>
              <a:off x="7182000" y="4149720"/>
              <a:ext cx="1069920" cy="158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82000" y="4667400"/>
              <a:ext cx="1063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82000" y="5195880"/>
              <a:ext cx="1063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83440" y="5207040"/>
              <a:ext cx="1055880" cy="514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838200" y="38336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203520" y="5184720"/>
            <a:ext cx="499320" cy="596880"/>
            <a:chOff x="6203520" y="5184720"/>
            <a:chExt cx="499320" cy="596880"/>
          </a:xfrm>
        </p:grpSpPr>
        <p:sp>
          <p:nvSpPr>
            <p:cNvPr id="75" name=""/>
            <p:cNvSpPr/>
            <p:nvPr/>
          </p:nvSpPr>
          <p:spPr>
            <a:xfrm>
              <a:off x="6203520" y="5184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3480" y="5491080"/>
              <a:ext cx="25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05680" y="541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49040" y="528804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497360" y="5195880"/>
            <a:ext cx="499320" cy="596880"/>
            <a:chOff x="7497360" y="5195880"/>
            <a:chExt cx="499320" cy="596880"/>
          </a:xfrm>
        </p:grpSpPr>
        <p:sp>
          <p:nvSpPr>
            <p:cNvPr id="80" name=""/>
            <p:cNvSpPr/>
            <p:nvPr/>
          </p:nvSpPr>
          <p:spPr>
            <a:xfrm>
              <a:off x="7497360" y="5195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37320" y="5502240"/>
              <a:ext cx="25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9520" y="5424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42880" y="529920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639960" y="4149720"/>
            <a:ext cx="1070280" cy="1582920"/>
            <a:chOff x="3639960" y="4149720"/>
            <a:chExt cx="1070280" cy="1582920"/>
          </a:xfrm>
        </p:grpSpPr>
        <p:sp>
          <p:nvSpPr>
            <p:cNvPr id="85" name=""/>
            <p:cNvSpPr/>
            <p:nvPr/>
          </p:nvSpPr>
          <p:spPr>
            <a:xfrm>
              <a:off x="3639960" y="4149720"/>
              <a:ext cx="1070280" cy="158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39960" y="4667400"/>
              <a:ext cx="1063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39960" y="5195880"/>
              <a:ext cx="1063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641760" y="5207040"/>
            <a:ext cx="1055520" cy="514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51280" y="4824360"/>
            <a:ext cx="990720" cy="179280"/>
          </a:xfrm>
          <a:prstGeom prst="leftArrow">
            <a:avLst>
              <a:gd name="adj1" fmla="val 50000"/>
              <a:gd name="adj2" fmla="val 13815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92760" y="4406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合わせ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1120" y="4680000"/>
            <a:ext cx="1044720" cy="514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99160" y="4869000"/>
            <a:ext cx="508320" cy="582480"/>
            <a:chOff x="3899160" y="4869000"/>
            <a:chExt cx="508320" cy="582480"/>
          </a:xfrm>
        </p:grpSpPr>
        <p:sp>
          <p:nvSpPr>
            <p:cNvPr id="93" name=""/>
            <p:cNvSpPr/>
            <p:nvPr/>
          </p:nvSpPr>
          <p:spPr>
            <a:xfrm>
              <a:off x="3899160" y="486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48120" y="5160960"/>
              <a:ext cx="25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10320" y="508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53680" y="495792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08040" y="4334040"/>
            <a:ext cx="19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　３　＝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85920" y="4183200"/>
            <a:ext cx="370080" cy="675000"/>
            <a:chOff x="2185920" y="4183200"/>
            <a:chExt cx="370080" cy="675000"/>
          </a:xfrm>
        </p:grpSpPr>
        <p:sp>
          <p:nvSpPr>
            <p:cNvPr id="99" name=""/>
            <p:cNvSpPr/>
            <p:nvPr/>
          </p:nvSpPr>
          <p:spPr>
            <a:xfrm>
              <a:off x="2233440" y="4183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85920" y="4532400"/>
              <a:ext cx="3542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33440" y="4459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6280" y="5904000"/>
            <a:ext cx="6840360" cy="642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わり算の商は，わられる数を（　　　　　　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わる数を（　　　　　　　）とする分数で表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11640" y="6173640"/>
            <a:ext cx="225360" cy="1810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46360" y="60847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97360" y="6173640"/>
            <a:ext cx="179640" cy="1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89240" y="6078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81640" y="626436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86400" y="6303960"/>
            <a:ext cx="179640" cy="1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48240" y="6045120"/>
            <a:ext cx="225720" cy="1810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06120" y="5918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分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85240" y="6173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分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6320" y="5799240"/>
            <a:ext cx="366480" cy="325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8520" y="558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ポイン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002360" y="3240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と分数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16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47360" y="135900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9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5000" y="232560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７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7360" y="329400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８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7360" y="426096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５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5000" y="522936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７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90720" y="132228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５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3440" y="2289240"/>
            <a:ext cx="24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1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3080" y="325764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9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0720" y="422424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８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３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56160" y="519264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÷ 7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30920" y="6045120"/>
            <a:ext cx="1575000" cy="439920"/>
            <a:chOff x="6730920" y="6045120"/>
            <a:chExt cx="1575000" cy="439920"/>
          </a:xfrm>
        </p:grpSpPr>
        <p:sp>
          <p:nvSpPr>
            <p:cNvPr id="129" name=""/>
            <p:cNvSpPr/>
            <p:nvPr/>
          </p:nvSpPr>
          <p:spPr>
            <a:xfrm>
              <a:off x="6730920" y="6173640"/>
              <a:ext cx="225360" cy="1810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5280" y="60847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6640" y="6173640"/>
              <a:ext cx="179640" cy="18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8520" y="6078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00920" y="6264360"/>
              <a:ext cx="40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05680" y="6303960"/>
              <a:ext cx="179640" cy="18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67520" y="6045120"/>
              <a:ext cx="225720" cy="1810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62720" y="5994360"/>
            <a:ext cx="657000" cy="72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08480" y="576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ヒ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002360" y="3240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わり算と分数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40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65000" y="135900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９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5000" y="232560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７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5000" y="329400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８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5000" y="426096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５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２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5000" y="522936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７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90720" y="132228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５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3440" y="2289240"/>
            <a:ext cx="24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1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90720" y="325764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９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90720" y="422424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８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３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3440" y="5192640"/>
            <a:ext cx="24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÷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７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730920" y="6045120"/>
            <a:ext cx="1575000" cy="439920"/>
            <a:chOff x="6730920" y="6045120"/>
            <a:chExt cx="1575000" cy="439920"/>
          </a:xfrm>
        </p:grpSpPr>
        <p:sp>
          <p:nvSpPr>
            <p:cNvPr id="153" name=""/>
            <p:cNvSpPr/>
            <p:nvPr/>
          </p:nvSpPr>
          <p:spPr>
            <a:xfrm>
              <a:off x="6730920" y="6173640"/>
              <a:ext cx="225360" cy="1810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5280" y="60847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6640" y="6173640"/>
              <a:ext cx="179640" cy="18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08520" y="6078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00920" y="6264360"/>
              <a:ext cx="40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05680" y="6303960"/>
              <a:ext cx="179640" cy="18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67520" y="6045120"/>
              <a:ext cx="225720" cy="1810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562720" y="5994360"/>
            <a:ext cx="657000" cy="72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08480" y="576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ヒ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612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04920" y="124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11400" y="158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41560" y="1650600"/>
            <a:ext cx="5065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84640" y="118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91120" y="151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821640" y="1584000"/>
            <a:ext cx="50616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11400" y="21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17520" y="250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948040" y="2571480"/>
            <a:ext cx="5065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000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6480" y="349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906640" y="3563640"/>
            <a:ext cx="5065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0000" y="410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6480" y="4441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906640" y="4508640"/>
            <a:ext cx="506520" cy="28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14640" y="509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20760" y="5432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951280" y="5498640"/>
            <a:ext cx="50616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59880" y="2124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69880" y="2484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912000" y="2528640"/>
            <a:ext cx="5065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35680" y="313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1800" y="347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772320" y="3538080"/>
            <a:ext cx="5065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81760" y="405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87880" y="439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818400" y="4462200"/>
            <a:ext cx="50616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3800" y="5049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32520" y="5386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862680" y="5452560"/>
            <a:ext cx="5065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76480" y="417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74320" y="4440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825720" y="4508640"/>
            <a:ext cx="43200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0560" y="4309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20920" y="4284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57280" y="5056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4680" y="5340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696080" y="5408640"/>
            <a:ext cx="43200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50920" y="5210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35560" y="5184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5:21:33Z</dcterms:created>
  <dc:creator>kangawa-kaori-1</dc:creator>
  <dc:description/>
  <dc:language>en-US</dc:language>
  <cp:lastModifiedBy>kangawa-kaori-1</cp:lastModifiedBy>
  <dcterms:modified xsi:type="dcterms:W3CDTF">2007-11-14T06:21:51Z</dcterms:modified>
  <cp:revision>55</cp:revision>
  <dc:subject/>
  <dc:title>スライド 1</dc:title>
</cp:coreProperties>
</file>