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C21-50B9-438D-B1E2-414F5BE0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202-5E4D-4F38-963B-8086346E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AD8-C683-45EB-8507-85066847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B81-531A-4097-8EA7-941EE263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98A-CC2D-411B-8D7C-62086DD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9F9-364F-499D-BA7B-22802BF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BF1-C482-48B8-B80B-E5626154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058-DB4A-4E9A-B3FC-A77AA41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B24-C373-424C-B8BD-647378EA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0AA-572D-4A58-815C-3CE2E5C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812-D250-49E3-A3CF-A6D675D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C09-EAC0-4AE5-B188-449BBC4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593-D813-4FB8-9E01-B5B1E567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角形の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4160" y="1341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角形の４つの角の大きさの和は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>
            <a:off x="1476360" y="558972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01520" y="537372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ポイント　・・・　絶対おぼえ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5805360"/>
            <a:ext cx="5545080" cy="459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角形の４つの角の大きさの和は３６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95640" y="2133720"/>
            <a:ext cx="3024000" cy="2232000"/>
            <a:chOff x="2195640" y="2133720"/>
            <a:chExt cx="3024000" cy="2232000"/>
          </a:xfrm>
        </p:grpSpPr>
        <p:sp>
          <p:nvSpPr>
            <p:cNvPr id="47" name=""/>
            <p:cNvSpPr/>
            <p:nvPr/>
          </p:nvSpPr>
          <p:spPr>
            <a:xfrm>
              <a:off x="2700360" y="2133720"/>
              <a:ext cx="187308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2492280"/>
              <a:ext cx="647640" cy="187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195640" y="2133720"/>
              <a:ext cx="504720" cy="22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5640" y="436572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566840" y="3125520"/>
            <a:ext cx="892440" cy="592200"/>
            <a:chOff x="7566840" y="3125520"/>
            <a:chExt cx="892440" cy="592200"/>
          </a:xfrm>
        </p:grpSpPr>
        <p:graphicFrame>
          <p:nvGraphicFramePr>
            <p:cNvPr id="52" name=""/>
            <p:cNvGraphicFramePr/>
            <p:nvPr/>
          </p:nvGraphicFramePr>
          <p:xfrm>
            <a:off x="8332560" y="3322440"/>
            <a:ext cx="126720" cy="1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32560" y="3322440"/>
                      <a:ext cx="126720" cy="1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7723080" y="3141720"/>
              <a:ext cx="65844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23080" y="3141720"/>
              <a:ext cx="658440" cy="576000"/>
            </a:xfrm>
            <a:custGeom>
              <a:avLst/>
              <a:gdLst/>
              <a:ahLst/>
              <a:rect l="l" t="t" r="r" b="b"/>
              <a:pathLst>
                <a:path w="484" h="395">
                  <a:moveTo>
                    <a:pt x="242" y="0"/>
                  </a:moveTo>
                  <a:lnTo>
                    <a:pt x="0" y="395"/>
                  </a:lnTo>
                  <a:lnTo>
                    <a:pt x="484" y="395"/>
                  </a:lnTo>
                  <a:lnTo>
                    <a:pt x="242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234280" y="3400200"/>
              <a:ext cx="12816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8080200" y="3402000"/>
              <a:ext cx="101160" cy="47520"/>
              <a:chOff x="8080200" y="3402000"/>
              <a:chExt cx="101160" cy="47520"/>
            </a:xfrm>
          </p:grpSpPr>
          <p:sp>
            <p:nvSpPr>
              <p:cNvPr id="58" name=""/>
              <p:cNvSpPr/>
              <p:nvPr/>
            </p:nvSpPr>
            <p:spPr>
              <a:xfrm>
                <a:off x="8080200" y="3402000"/>
                <a:ext cx="101160" cy="4752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080200" y="3402000"/>
                <a:ext cx="101160" cy="4752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18200" y="3414600"/>
              <a:ext cx="102960" cy="49320"/>
              <a:chOff x="7918200" y="3414600"/>
              <a:chExt cx="102960" cy="49320"/>
            </a:xfrm>
          </p:grpSpPr>
          <p:sp>
            <p:nvSpPr>
              <p:cNvPr id="61" name=""/>
              <p:cNvSpPr/>
              <p:nvPr/>
            </p:nvSpPr>
            <p:spPr>
              <a:xfrm>
                <a:off x="7918200" y="3414600"/>
                <a:ext cx="102960" cy="4932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18200" y="3414600"/>
                <a:ext cx="102960" cy="4932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7931160" y="3529080"/>
              <a:ext cx="253440" cy="128520"/>
              <a:chOff x="7931160" y="3529080"/>
              <a:chExt cx="253440" cy="128520"/>
            </a:xfrm>
          </p:grpSpPr>
          <p:sp>
            <p:nvSpPr>
              <p:cNvPr id="64" name=""/>
              <p:cNvSpPr/>
              <p:nvPr/>
            </p:nvSpPr>
            <p:spPr>
              <a:xfrm>
                <a:off x="7931160" y="3529080"/>
                <a:ext cx="25344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31160" y="3529080"/>
                <a:ext cx="253440" cy="1285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7738560" y="3365280"/>
              <a:ext cx="1220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 rot="20973000">
              <a:off x="7596000" y="3141360"/>
              <a:ext cx="20916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 rot="18613200">
            <a:off x="4880520" y="4131000"/>
            <a:ext cx="358920" cy="258480"/>
          </a:xfrm>
          <a:prstGeom prst="blockArc">
            <a:avLst>
              <a:gd name="adj1" fmla="val 12045522"/>
              <a:gd name="adj2" fmla="val 20354478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700000">
            <a:off x="2194560" y="4132800"/>
            <a:ext cx="338040" cy="231840"/>
          </a:xfrm>
          <a:prstGeom prst="blockArc">
            <a:avLst>
              <a:gd name="adj1" fmla="val 11264627"/>
              <a:gd name="adj2" fmla="val 21135373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9088800">
            <a:off x="2627280" y="2138040"/>
            <a:ext cx="331920" cy="237960"/>
          </a:xfrm>
          <a:prstGeom prst="blockArc">
            <a:avLst>
              <a:gd name="adj1" fmla="val 11321259"/>
              <a:gd name="adj2" fmla="val 2107874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3030800">
            <a:off x="4295520" y="2396880"/>
            <a:ext cx="392040" cy="304560"/>
          </a:xfrm>
          <a:prstGeom prst="blockArc">
            <a:avLst>
              <a:gd name="adj1" fmla="val 11321259"/>
              <a:gd name="adj2" fmla="val 2107874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48360" y="2060640"/>
            <a:ext cx="2952720" cy="863640"/>
          </a:xfrm>
          <a:prstGeom prst="wedgeRoundRectCallout">
            <a:avLst>
              <a:gd name="adj1" fmla="val -34731"/>
              <a:gd name="adj2" fmla="val 6433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13372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１つの頂点か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対角線をひき，２つの三角形に分けて考えると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20480" y="203832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ちょうて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2133720"/>
            <a:ext cx="2519280" cy="22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436080" y="4346640"/>
            <a:ext cx="957240" cy="680400"/>
            <a:chOff x="6436080" y="4346640"/>
            <a:chExt cx="957240" cy="680400"/>
          </a:xfrm>
        </p:grpSpPr>
        <p:grpSp>
          <p:nvGrpSpPr>
            <p:cNvPr id="77" name=""/>
            <p:cNvGrpSpPr/>
            <p:nvPr/>
          </p:nvGrpSpPr>
          <p:grpSpPr>
            <a:xfrm>
              <a:off x="6443640" y="4365720"/>
              <a:ext cx="936720" cy="627120"/>
              <a:chOff x="6443640" y="4365720"/>
              <a:chExt cx="936720" cy="627120"/>
            </a:xfrm>
          </p:grpSpPr>
          <p:sp>
            <p:nvSpPr>
              <p:cNvPr id="78" name=""/>
              <p:cNvSpPr/>
              <p:nvPr/>
            </p:nvSpPr>
            <p:spPr>
              <a:xfrm>
                <a:off x="6599880" y="4365720"/>
                <a:ext cx="580320" cy="10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79840" y="4466160"/>
                <a:ext cx="200520" cy="52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43640" y="4365720"/>
                <a:ext cx="15624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443640" y="499284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rot="18613200">
              <a:off x="7280640" y="4923360"/>
              <a:ext cx="100080" cy="79200"/>
            </a:xfrm>
            <a:prstGeom prst="blockArc">
              <a:avLst>
                <a:gd name="adj1" fmla="val 12045522"/>
                <a:gd name="adj2" fmla="val 20354478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700000">
              <a:off x="6447240" y="4923720"/>
              <a:ext cx="95400" cy="71640"/>
            </a:xfrm>
            <a:prstGeom prst="blockArc">
              <a:avLst>
                <a:gd name="adj1" fmla="val 11264627"/>
                <a:gd name="adj2" fmla="val 21135373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088800">
              <a:off x="6576840" y="4366800"/>
              <a:ext cx="102960" cy="66960"/>
            </a:xfrm>
            <a:prstGeom prst="blockArc">
              <a:avLst>
                <a:gd name="adj1" fmla="val 11321259"/>
                <a:gd name="adj2" fmla="val 21078741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3030800">
              <a:off x="7093800" y="4439880"/>
              <a:ext cx="120600" cy="85680"/>
            </a:xfrm>
            <a:prstGeom prst="blockArc">
              <a:avLst>
                <a:gd name="adj1" fmla="val 11321259"/>
                <a:gd name="adj2" fmla="val 21078741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99160" y="4365720"/>
              <a:ext cx="781200" cy="627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456240" y="4469040"/>
              <a:ext cx="735120" cy="515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635200" y="2081160"/>
            <a:ext cx="144360" cy="144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316400"/>
            <a:ext cx="96840" cy="95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1520" y="4425840"/>
            <a:ext cx="96840" cy="95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9200" y="4427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まちが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80480" y="399564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つの頂点から対角線をひいている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49880" y="4816440"/>
            <a:ext cx="385128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角形が２つだか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°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2244600"/>
            <a:ext cx="12528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70320" y="2673360"/>
            <a:ext cx="12564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10040" y="3944880"/>
            <a:ext cx="12564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8800" y="2355840"/>
            <a:ext cx="125640" cy="133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1520" y="4181400"/>
            <a:ext cx="125280" cy="133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8680" y="4119480"/>
            <a:ext cx="125280" cy="133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3097080" cy="27648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角形の３つの角の大きさの和は１８０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7360" y="6922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4:41:51Z</dcterms:created>
  <dc:creator>kangawa-kaori-1</dc:creator>
  <dc:description/>
  <dc:language>en-US</dc:language>
  <cp:lastModifiedBy>kangawa-kaori-1</cp:lastModifiedBy>
  <dcterms:modified xsi:type="dcterms:W3CDTF">2007-11-14T06:14:57Z</dcterms:modified>
  <cp:revision>15</cp:revision>
  <dc:subject/>
  <dc:title>スライド 1</dc:title>
</cp:coreProperties>
</file>