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CA0-CF0E-46B1-8C36-6F098DA6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36E-D9EC-4EC2-B962-D2B69F15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EF1-82FB-4CC7-93E5-AF4A5D23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693-2FE0-4115-8700-A23012B4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602-E1B9-41AB-99DB-D2CE3962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D21-9885-4A9B-BB15-38733833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542-F204-4720-871F-20B2E317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97A-ADA7-4A2B-AF70-6FA4F975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06E-1378-4668-982E-F753B5A4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58B-A74F-4F3C-ACCB-5F1EBD6E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E7D-653B-4AE4-8944-6BAA465F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920-E58C-4DF9-B027-BEE59612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76E4-A62F-4777-9FDA-756F041F8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0.wmf"/><Relationship Id="rId1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0.wmf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1640" y="333360"/>
            <a:ext cx="244656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数のわり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19700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まずこの問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78600" y="1052640"/>
            <a:ext cx="25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 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ジュースを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同じように分け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１人分は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なりま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50760" y="3362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816200" y="2349360"/>
            <a:ext cx="3476520" cy="432000"/>
            <a:chOff x="1816200" y="2349360"/>
            <a:chExt cx="3476520" cy="432000"/>
          </a:xfrm>
        </p:grpSpPr>
        <p:sp>
          <p:nvSpPr>
            <p:cNvPr id="49" name=""/>
            <p:cNvSpPr/>
            <p:nvPr/>
          </p:nvSpPr>
          <p:spPr>
            <a:xfrm>
              <a:off x="1816200" y="2349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35280" y="2781360"/>
              <a:ext cx="34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70384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02880" y="242100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645000"/>
            <a:ext cx="9349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89520" y="3573360"/>
            <a:ext cx="28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.6 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ジュースを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同じように分け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１人分は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なりま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960560" y="4941720"/>
            <a:ext cx="3476520" cy="432000"/>
            <a:chOff x="1960560" y="4941720"/>
            <a:chExt cx="3476520" cy="432000"/>
          </a:xfrm>
        </p:grpSpPr>
        <p:sp>
          <p:nvSpPr>
            <p:cNvPr id="56" name=""/>
            <p:cNvSpPr/>
            <p:nvPr/>
          </p:nvSpPr>
          <p:spPr>
            <a:xfrm>
              <a:off x="1960560" y="4941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79280" y="5373720"/>
              <a:ext cx="34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116000" y="6093000"/>
            <a:ext cx="3268440" cy="368280"/>
            <a:chOff x="1116000" y="6093000"/>
            <a:chExt cx="3268440" cy="368280"/>
          </a:xfrm>
        </p:grpSpPr>
        <p:sp>
          <p:nvSpPr>
            <p:cNvPr id="59" name=""/>
            <p:cNvSpPr/>
            <p:nvPr/>
          </p:nvSpPr>
          <p:spPr>
            <a:xfrm>
              <a:off x="1116000" y="609300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71800" y="6093000"/>
              <a:ext cx="231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6÷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の計算の仕方を考えよ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7164360" y="3500280"/>
            <a:ext cx="1441440" cy="1081080"/>
            <a:chOff x="7164360" y="3500280"/>
            <a:chExt cx="1441440" cy="1081080"/>
          </a:xfrm>
        </p:grpSpPr>
        <p:grpSp>
          <p:nvGrpSpPr>
            <p:cNvPr id="62" name=""/>
            <p:cNvGrpSpPr/>
            <p:nvPr/>
          </p:nvGrpSpPr>
          <p:grpSpPr>
            <a:xfrm>
              <a:off x="7862760" y="4139280"/>
              <a:ext cx="596880" cy="442080"/>
              <a:chOff x="7862760" y="4139280"/>
              <a:chExt cx="596880" cy="442080"/>
            </a:xfrm>
          </p:grpSpPr>
          <p:graphicFrame>
            <p:nvGraphicFramePr>
              <p:cNvPr id="63" name=""/>
              <p:cNvGraphicFramePr/>
              <p:nvPr/>
            </p:nvGraphicFramePr>
            <p:xfrm>
              <a:off x="8374680" y="4285080"/>
              <a:ext cx="84960" cy="88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374680" y="4285080"/>
                        <a:ext cx="84960" cy="8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5" name=""/>
              <p:cNvGrpSpPr/>
              <p:nvPr/>
            </p:nvGrpSpPr>
            <p:grpSpPr>
              <a:xfrm>
                <a:off x="7969680" y="4149720"/>
                <a:ext cx="437760" cy="431640"/>
                <a:chOff x="7969680" y="4149720"/>
                <a:chExt cx="437760" cy="43164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7969680" y="4149720"/>
                  <a:ext cx="437760" cy="431640"/>
                </a:xfrm>
                <a:custGeom>
                  <a:avLst/>
                  <a:gdLst/>
                  <a:ahLst/>
                  <a:rect l="l" t="t" r="r" b="b"/>
                  <a:pathLst>
                    <a:path w="484" h="395">
                      <a:moveTo>
                        <a:pt x="242" y="0"/>
                      </a:moveTo>
                      <a:lnTo>
                        <a:pt x="0" y="395"/>
                      </a:lnTo>
                      <a:lnTo>
                        <a:pt x="484" y="395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969680" y="4149720"/>
                  <a:ext cx="437760" cy="431640"/>
                </a:xfrm>
                <a:custGeom>
                  <a:avLst/>
                  <a:gdLst/>
                  <a:ahLst/>
                  <a:rect l="l" t="t" r="r" b="b"/>
                  <a:pathLst>
                    <a:path w="484" h="395">
                      <a:moveTo>
                        <a:pt x="242" y="0"/>
                      </a:moveTo>
                      <a:lnTo>
                        <a:pt x="0" y="395"/>
                      </a:lnTo>
                      <a:lnTo>
                        <a:pt x="484" y="395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 flipV="1">
                <a:off x="8309520" y="4342680"/>
                <a:ext cx="84960" cy="5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8206560" y="4344480"/>
                <a:ext cx="67680" cy="36000"/>
                <a:chOff x="8206560" y="4344480"/>
                <a:chExt cx="67680" cy="360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206560" y="4344480"/>
                  <a:ext cx="67680" cy="36000"/>
                </a:xfrm>
                <a:custGeom>
                  <a:avLst/>
                  <a:gdLst/>
                  <a:ahLst/>
                  <a:rect l="l" t="t" r="r" b="b"/>
                  <a:pathLst>
                    <a:path w="908" h="425">
                      <a:moveTo>
                        <a:pt x="0" y="425"/>
                      </a:moveTo>
                      <a:cubicBezTo>
                        <a:pt x="6" y="188"/>
                        <a:pt x="208" y="0"/>
                        <a:pt x="454" y="0"/>
                      </a:cubicBezTo>
                      <a:cubicBezTo>
                        <a:pt x="700" y="0"/>
                        <a:pt x="901" y="188"/>
                        <a:pt x="908" y="425"/>
                      </a:cubicBezTo>
                      <a:cubicBezTo>
                        <a:pt x="901" y="188"/>
                        <a:pt x="700" y="0"/>
                        <a:pt x="454" y="0"/>
                      </a:cubicBezTo>
                      <a:cubicBezTo>
                        <a:pt x="208" y="0"/>
                        <a:pt x="6" y="188"/>
                        <a:pt x="0" y="425"/>
                      </a:cubicBezTo>
                    </a:path>
                  </a:pathLst>
                </a:custGeom>
                <a:solidFill>
                  <a:srgbClr val="bbe0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206560" y="4344480"/>
                  <a:ext cx="67680" cy="36000"/>
                </a:xfrm>
                <a:custGeom>
                  <a:avLst/>
                  <a:gdLst/>
                  <a:ahLst/>
                  <a:rect l="l" t="t" r="r" b="b"/>
                  <a:pathLst>
                    <a:path w="109" h="51">
                      <a:moveTo>
                        <a:pt x="0" y="51"/>
                      </a:moveTo>
                      <a:cubicBezTo>
                        <a:pt x="1" y="22"/>
                        <a:pt x="25" y="0"/>
                        <a:pt x="55" y="0"/>
                      </a:cubicBezTo>
                      <a:cubicBezTo>
                        <a:pt x="84" y="0"/>
                        <a:pt x="108" y="22"/>
                        <a:pt x="109" y="51"/>
                      </a:cubicBezTo>
                      <a:cubicBezTo>
                        <a:pt x="108" y="22"/>
                        <a:pt x="84" y="0"/>
                        <a:pt x="55" y="0"/>
                      </a:cubicBezTo>
                      <a:cubicBezTo>
                        <a:pt x="25" y="0"/>
                        <a:pt x="1" y="22"/>
                        <a:pt x="0" y="51"/>
                      </a:cubicBezTo>
                    </a:path>
                  </a:pathLst>
                </a:custGeom>
                <a:noFill/>
                <a:ln cap="rnd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8100000" y="4354560"/>
                <a:ext cx="68400" cy="36000"/>
                <a:chOff x="8100000" y="4354560"/>
                <a:chExt cx="68400" cy="360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8100000" y="4354560"/>
                  <a:ext cx="68400" cy="36000"/>
                </a:xfrm>
                <a:custGeom>
                  <a:avLst/>
                  <a:gdLst/>
                  <a:ahLst/>
                  <a:rect l="l" t="t" r="r" b="b"/>
                  <a:pathLst>
                    <a:path w="916" h="425">
                      <a:moveTo>
                        <a:pt x="0" y="425"/>
                      </a:moveTo>
                      <a:cubicBezTo>
                        <a:pt x="6" y="188"/>
                        <a:pt x="209" y="0"/>
                        <a:pt x="458" y="0"/>
                      </a:cubicBezTo>
                      <a:cubicBezTo>
                        <a:pt x="706" y="0"/>
                        <a:pt x="909" y="188"/>
                        <a:pt x="916" y="425"/>
                      </a:cubicBezTo>
                      <a:cubicBezTo>
                        <a:pt x="909" y="188"/>
                        <a:pt x="706" y="0"/>
                        <a:pt x="458" y="0"/>
                      </a:cubicBezTo>
                      <a:cubicBezTo>
                        <a:pt x="209" y="0"/>
                        <a:pt x="6" y="188"/>
                        <a:pt x="0" y="425"/>
                      </a:cubicBezTo>
                    </a:path>
                  </a:pathLst>
                </a:custGeom>
                <a:solidFill>
                  <a:srgbClr val="bbe0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100000" y="4354560"/>
                  <a:ext cx="68400" cy="36000"/>
                </a:xfrm>
                <a:custGeom>
                  <a:avLst/>
                  <a:gdLst/>
                  <a:ahLst/>
                  <a:rect l="l" t="t" r="r" b="b"/>
                  <a:pathLst>
                    <a:path w="110" h="51">
                      <a:moveTo>
                        <a:pt x="0" y="51"/>
                      </a:moveTo>
                      <a:cubicBezTo>
                        <a:pt x="1" y="22"/>
                        <a:pt x="25" y="0"/>
                        <a:pt x="55" y="0"/>
                      </a:cubicBezTo>
                      <a:cubicBezTo>
                        <a:pt x="85" y="0"/>
                        <a:pt x="109" y="22"/>
                        <a:pt x="110" y="51"/>
                      </a:cubicBezTo>
                      <a:cubicBezTo>
                        <a:pt x="109" y="22"/>
                        <a:pt x="85" y="0"/>
                        <a:pt x="55" y="0"/>
                      </a:cubicBezTo>
                      <a:cubicBezTo>
                        <a:pt x="25" y="0"/>
                        <a:pt x="1" y="22"/>
                        <a:pt x="0" y="51"/>
                      </a:cubicBezTo>
                    </a:path>
                  </a:pathLst>
                </a:custGeom>
                <a:noFill/>
                <a:ln cap="rnd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8107200" y="4440240"/>
                <a:ext cx="169560" cy="96480"/>
                <a:chOff x="8107200" y="4440240"/>
                <a:chExt cx="169560" cy="964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8107200" y="4440240"/>
                  <a:ext cx="169560" cy="96480"/>
                </a:xfrm>
                <a:custGeom>
                  <a:avLst/>
                  <a:gdLst/>
                  <a:ahLst/>
                  <a:rect l="l" t="t" r="r" b="b"/>
                  <a:pathLst>
                    <a:path w="1600" h="808">
                      <a:moveTo>
                        <a:pt x="0" y="404"/>
                      </a:moveTo>
                      <a:cubicBezTo>
                        <a:pt x="0" y="627"/>
                        <a:pt x="358" y="808"/>
                        <a:pt x="800" y="808"/>
                      </a:cubicBezTo>
                      <a:cubicBezTo>
                        <a:pt x="1242" y="808"/>
                        <a:pt x="1600" y="627"/>
                        <a:pt x="1600" y="404"/>
                      </a:cubicBezTo>
                      <a:lnTo>
                        <a:pt x="1600" y="0"/>
                      </a:lnTo>
                      <a:lnTo>
                        <a:pt x="0" y="0"/>
                      </a:lnTo>
                      <a:lnTo>
                        <a:pt x="0" y="40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107200" y="4440240"/>
                  <a:ext cx="169560" cy="96480"/>
                </a:xfrm>
                <a:custGeom>
                  <a:avLst/>
                  <a:gdLst/>
                  <a:ahLst/>
                  <a:rect l="l" t="t" r="r" b="b"/>
                  <a:pathLst>
                    <a:path w="1600" h="808">
                      <a:moveTo>
                        <a:pt x="0" y="404"/>
                      </a:moveTo>
                      <a:cubicBezTo>
                        <a:pt x="0" y="627"/>
                        <a:pt x="358" y="808"/>
                        <a:pt x="800" y="808"/>
                      </a:cubicBezTo>
                      <a:cubicBezTo>
                        <a:pt x="1242" y="808"/>
                        <a:pt x="1600" y="627"/>
                        <a:pt x="1600" y="404"/>
                      </a:cubicBezTo>
                      <a:lnTo>
                        <a:pt x="1600" y="0"/>
                      </a:lnTo>
                      <a:lnTo>
                        <a:pt x="0" y="0"/>
                      </a:lnTo>
                      <a:lnTo>
                        <a:pt x="0" y="404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 flipH="1" flipV="1">
                <a:off x="7980120" y="4317480"/>
                <a:ext cx="80280" cy="85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" name="" descr=""/>
              <p:cNvPicPr/>
              <p:nvPr/>
            </p:nvPicPr>
            <p:blipFill>
              <a:blip r:embed="rId3"/>
              <a:stretch/>
            </p:blipFill>
            <p:spPr>
              <a:xfrm rot="20973000">
                <a:off x="7884720" y="4149720"/>
                <a:ext cx="138960" cy="25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"/>
            <p:cNvSpPr/>
            <p:nvPr/>
          </p:nvSpPr>
          <p:spPr>
            <a:xfrm>
              <a:off x="7164360" y="3500280"/>
              <a:ext cx="1441440" cy="432000"/>
            </a:xfrm>
            <a:prstGeom prst="wedgeRoundRectCallout">
              <a:avLst>
                <a:gd name="adj1" fmla="val -3962"/>
                <a:gd name="adj2" fmla="val 97425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00440" y="35640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同じように考えよ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6032520" y="4022280"/>
            <a:ext cx="92700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033960" y="1526760"/>
            <a:ext cx="92736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24360" y="4724280"/>
            <a:ext cx="2567160" cy="1679040"/>
            <a:chOff x="5724360" y="4724280"/>
            <a:chExt cx="2567160" cy="1679040"/>
          </a:xfrm>
        </p:grpSpPr>
        <p:grpSp>
          <p:nvGrpSpPr>
            <p:cNvPr id="85" name=""/>
            <p:cNvGrpSpPr/>
            <p:nvPr/>
          </p:nvGrpSpPr>
          <p:grpSpPr>
            <a:xfrm>
              <a:off x="6718320" y="4727520"/>
              <a:ext cx="392040" cy="312840"/>
              <a:chOff x="6718320" y="4727520"/>
              <a:chExt cx="392040" cy="312840"/>
            </a:xfrm>
          </p:grpSpPr>
          <p:pic>
            <p:nvPicPr>
              <p:cNvPr id="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718320" y="4727520"/>
                <a:ext cx="39204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720" y="4884120"/>
                <a:ext cx="223920" cy="11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"/>
            <p:cNvGrpSpPr/>
            <p:nvPr/>
          </p:nvGrpSpPr>
          <p:grpSpPr>
            <a:xfrm>
              <a:off x="7515000" y="4724280"/>
              <a:ext cx="409680" cy="344520"/>
              <a:chOff x="7515000" y="4724280"/>
              <a:chExt cx="409680" cy="344520"/>
            </a:xfrm>
          </p:grpSpPr>
          <p:pic>
            <p:nvPicPr>
              <p:cNvPr id="8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15000" y="4724280"/>
                <a:ext cx="40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00680" y="4878000"/>
                <a:ext cx="229320" cy="148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5924520" y="4746600"/>
              <a:ext cx="393480" cy="309600"/>
              <a:chOff x="5924520" y="4746600"/>
              <a:chExt cx="393480" cy="309600"/>
            </a:xfrm>
          </p:grpSpPr>
          <p:pic>
            <p:nvPicPr>
              <p:cNvPr id="9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24520" y="4746600"/>
                <a:ext cx="39348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19200" y="4904640"/>
                <a:ext cx="201960" cy="117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" descr=""/>
            <p:cNvPicPr/>
            <p:nvPr/>
          </p:nvPicPr>
          <p:blipFill>
            <a:blip r:embed="rId10"/>
            <a:stretch/>
          </p:blipFill>
          <p:spPr>
            <a:xfrm>
              <a:off x="6804000" y="5819760"/>
              <a:ext cx="32076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 flipH="1" flipV="1">
              <a:off x="6948000" y="5565600"/>
              <a:ext cx="4680" cy="228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5984640" y="5079960"/>
            <a:ext cx="293760" cy="216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84640" y="5079960"/>
                      <a:ext cx="29376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6765840" y="5087880"/>
            <a:ext cx="295200" cy="214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765840" y="5087880"/>
                      <a:ext cx="295200" cy="2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7570800" y="5094360"/>
            <a:ext cx="296640" cy="2174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570800" y="5094360"/>
                      <a:ext cx="296640" cy="2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7108200" y="6066000"/>
              <a:ext cx="584640" cy="337320"/>
            </a:xfrm>
            <a:prstGeom prst="rect">
              <a:avLst/>
            </a:prstGeom>
            <a:solidFill>
              <a:srgbClr val="ff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6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6156000" y="5565960"/>
              <a:ext cx="631800" cy="2743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724360" y="5245200"/>
              <a:ext cx="932040" cy="572400"/>
              <a:chOff x="5724360" y="5245200"/>
              <a:chExt cx="932040" cy="572400"/>
            </a:xfrm>
          </p:grpSpPr>
          <p:sp>
            <p:nvSpPr>
              <p:cNvPr id="105" name=""/>
              <p:cNvSpPr/>
              <p:nvPr/>
            </p:nvSpPr>
            <p:spPr>
              <a:xfrm>
                <a:off x="5724360" y="5297400"/>
                <a:ext cx="932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（　　　 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075360" y="5245200"/>
                <a:ext cx="35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541920" y="5297400"/>
              <a:ext cx="93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　　　 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59480" y="5286240"/>
              <a:ext cx="93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　　　 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92920" y="5256360"/>
              <a:ext cx="35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21640" y="5245200"/>
              <a:ext cx="35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092720" y="5565960"/>
              <a:ext cx="631800" cy="2743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057800" y="260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１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75880" y="227664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６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３ ＝ 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3200" y="234936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２ 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15760" y="4869000"/>
            <a:ext cx="16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0.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６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71640" y="1844640"/>
            <a:ext cx="374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1844640"/>
            <a:ext cx="381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596360" y="5229360"/>
            <a:ext cx="728640" cy="86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171400" y="90792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700360" y="1125360"/>
            <a:ext cx="1942560" cy="396720"/>
            <a:chOff x="2700360" y="1125360"/>
            <a:chExt cx="1942560" cy="396720"/>
          </a:xfrm>
        </p:grpSpPr>
        <p:sp>
          <p:nvSpPr>
            <p:cNvPr id="301" name=""/>
            <p:cNvSpPr/>
            <p:nvPr/>
          </p:nvSpPr>
          <p:spPr>
            <a:xfrm>
              <a:off x="2700360" y="1125360"/>
              <a:ext cx="19400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54720" y="1125360"/>
              <a:ext cx="188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-</a:t>
              </a:r>
              <a:r>
                <a:rPr b="0" lang="zh-CN" sz="1800" spc="-1" strike="noStrike">
                  <a:solidFill>
                    <a:srgbClr val="ff3300"/>
                  </a:solidFill>
                  <a:latin typeface="Arial"/>
                </a:rPr>
                <a:t>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057800" y="260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１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050920" y="404640"/>
            <a:ext cx="3268440" cy="368280"/>
            <a:chOff x="2050920" y="404640"/>
            <a:chExt cx="3268440" cy="368280"/>
          </a:xfrm>
        </p:grpSpPr>
        <p:sp>
          <p:nvSpPr>
            <p:cNvPr id="117" name=""/>
            <p:cNvSpPr/>
            <p:nvPr/>
          </p:nvSpPr>
          <p:spPr>
            <a:xfrm>
              <a:off x="2050920" y="40464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06720" y="404640"/>
              <a:ext cx="231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6÷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の計算の仕方を考えよ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987640" y="981000"/>
            <a:ext cx="2664000" cy="1800360"/>
            <a:chOff x="2987640" y="981000"/>
            <a:chExt cx="2664000" cy="180036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4108320" y="2155680"/>
              <a:ext cx="33192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flipH="1" flipV="1">
              <a:off x="4257360" y="1883880"/>
              <a:ext cx="4680" cy="2444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4019400" y="984240"/>
              <a:ext cx="406440" cy="617400"/>
              <a:chOff x="4019400" y="984240"/>
              <a:chExt cx="406440" cy="61740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4019400" y="984240"/>
                <a:ext cx="406440" cy="334800"/>
                <a:chOff x="4019400" y="984240"/>
                <a:chExt cx="406440" cy="334800"/>
              </a:xfrm>
            </p:grpSpPr>
            <p:pic>
              <p:nvPicPr>
                <p:cNvPr id="12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19400" y="984240"/>
                  <a:ext cx="406440" cy="334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08680" y="1152000"/>
                  <a:ext cx="232200" cy="12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aphicFrame>
            <p:nvGraphicFramePr>
              <p:cNvPr id="126" name=""/>
              <p:cNvGraphicFramePr/>
              <p:nvPr/>
            </p:nvGraphicFramePr>
            <p:xfrm>
              <a:off x="4068720" y="1371600"/>
              <a:ext cx="306360" cy="2300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2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068720" y="1371600"/>
                        <a:ext cx="306360" cy="23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28" name=""/>
            <p:cNvGrpSpPr/>
            <p:nvPr/>
          </p:nvGrpSpPr>
          <p:grpSpPr>
            <a:xfrm>
              <a:off x="4846680" y="981000"/>
              <a:ext cx="423720" cy="630360"/>
              <a:chOff x="4846680" y="981000"/>
              <a:chExt cx="423720" cy="6303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4846680" y="981000"/>
                <a:ext cx="423720" cy="370080"/>
                <a:chOff x="4846680" y="981000"/>
                <a:chExt cx="423720" cy="370080"/>
              </a:xfrm>
            </p:grpSpPr>
            <p:pic>
              <p:nvPicPr>
                <p:cNvPr id="13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46680" y="981000"/>
                  <a:ext cx="423720" cy="370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935240" y="1145880"/>
                  <a:ext cx="237240" cy="159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aphicFrame>
            <p:nvGraphicFramePr>
              <p:cNvPr id="132" name=""/>
              <p:cNvGraphicFramePr/>
              <p:nvPr/>
            </p:nvGraphicFramePr>
            <p:xfrm>
              <a:off x="4903920" y="1378080"/>
              <a:ext cx="307800" cy="23328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33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4903920" y="1378080"/>
                        <a:ext cx="307800" cy="233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4" name=""/>
            <p:cNvSpPr/>
            <p:nvPr/>
          </p:nvSpPr>
          <p:spPr>
            <a:xfrm>
              <a:off x="4424040" y="2421000"/>
              <a:ext cx="584640" cy="337320"/>
            </a:xfrm>
            <a:prstGeom prst="rect">
              <a:avLst/>
            </a:prstGeom>
            <a:solidFill>
              <a:srgbClr val="ff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6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3435120" y="1884240"/>
              <a:ext cx="655560" cy="2937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987640" y="1004760"/>
              <a:ext cx="966600" cy="1110960"/>
              <a:chOff x="2987640" y="1004760"/>
              <a:chExt cx="966600" cy="111096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3195720" y="1004760"/>
                <a:ext cx="407880" cy="588960"/>
                <a:chOff x="3195720" y="1004760"/>
                <a:chExt cx="407880" cy="58896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3195720" y="1004760"/>
                  <a:ext cx="407880" cy="331920"/>
                  <a:chOff x="3195720" y="1004760"/>
                  <a:chExt cx="407880" cy="331920"/>
                </a:xfrm>
              </p:grpSpPr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95720" y="1004760"/>
                    <a:ext cx="4078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93640" y="1174320"/>
                    <a:ext cx="209160" cy="1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aphicFrame>
              <p:nvGraphicFramePr>
                <p:cNvPr id="141" name=""/>
                <p:cNvGraphicFramePr/>
                <p:nvPr/>
              </p:nvGraphicFramePr>
              <p:xfrm>
                <a:off x="3257640" y="1362240"/>
                <a:ext cx="304560" cy="231480"/>
              </p:xfrm>
              <a:graphic>
                <a:graphicData uri="http://schemas.openxmlformats.org/presentationml/2006/ole">
                  <p:oleObj r:id="rId12" spid="">
                    <p:embed/>
                    <p:pic>
                      <p:nvPicPr>
                        <p:cNvPr id="142" name="" descr=""/>
                        <p:cNvPicPr/>
                        <p:nvPr/>
                      </p:nvPicPr>
                      <p:blipFill>
                        <a:blip r:embed="rId13"/>
                        <a:stretch/>
                      </p:blipFill>
                      <p:spPr>
                        <a:xfrm>
                          <a:off x="3257640" y="1362240"/>
                          <a:ext cx="304560" cy="231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43" name=""/>
              <p:cNvGrpSpPr/>
              <p:nvPr/>
            </p:nvGrpSpPr>
            <p:grpSpPr>
              <a:xfrm>
                <a:off x="2987640" y="1539720"/>
                <a:ext cx="966600" cy="576000"/>
                <a:chOff x="2987640" y="1539720"/>
                <a:chExt cx="966600" cy="576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2987640" y="1595520"/>
                  <a:ext cx="966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（　　　 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351600" y="1539720"/>
                  <a:ext cx="363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ℓ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" name=""/>
            <p:cNvSpPr/>
            <p:nvPr/>
          </p:nvSpPr>
          <p:spPr>
            <a:xfrm>
              <a:off x="3835440" y="1595520"/>
              <a:ext cx="96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　　　 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84680" y="158436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（　　　 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00480" y="1550880"/>
              <a:ext cx="36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59440" y="153972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408560" y="1884240"/>
              <a:ext cx="655560" cy="2937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778040" y="2852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3400" y="366228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64040" y="3556080"/>
            <a:ext cx="0" cy="21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98800" y="3557520"/>
            <a:ext cx="0" cy="21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08360" y="3565440"/>
            <a:ext cx="0" cy="21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42040" y="3565440"/>
            <a:ext cx="0" cy="21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 rot="457200">
            <a:off x="3162960" y="3487320"/>
            <a:ext cx="1293480" cy="49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27" y="287"/>
                </a:moveTo>
                <a:arcTo wR="10800" hR="10800" stAng="-6194157" swAng="6194157"/>
                <a:lnTo>
                  <a:pt x="10800" y="10800"/>
                </a:lnTo>
                <a:close/>
              </a:path>
              <a:path fill="none" w="21600" h="21600">
                <a:moveTo>
                  <a:pt x="8327" y="287"/>
                </a:moveTo>
                <a:arcTo wR="10800" hR="10800" stAng="-6194157" swAng="61941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 rot="21142800">
            <a:off x="4044240" y="3497040"/>
            <a:ext cx="1294200" cy="49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27" y="287"/>
                </a:moveTo>
                <a:arcTo wR="10800" hR="10800" stAng="-6194157" swAng="6194157"/>
                <a:lnTo>
                  <a:pt x="10800" y="10800"/>
                </a:lnTo>
                <a:close/>
              </a:path>
              <a:path fill="none" w="21600" h="21600">
                <a:moveTo>
                  <a:pt x="8327" y="287"/>
                </a:moveTo>
                <a:arcTo wR="10800" hR="10800" stAng="-6194157" swAng="61941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3800">
            <a:off x="3311640" y="3504600"/>
            <a:ext cx="577800" cy="28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97" y="396"/>
                </a:moveTo>
                <a:arcTo wR="10800" hR="10800" stAng="-4466301" swAng="4466301"/>
                <a:lnTo>
                  <a:pt x="10800" y="10800"/>
                </a:lnTo>
                <a:close/>
              </a:path>
              <a:path fill="none" w="21600" h="21600">
                <a:moveTo>
                  <a:pt x="13697" y="396"/>
                </a:moveTo>
                <a:arcTo wR="10800" hR="10800" stAng="-4466301" swAng="446630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rot="21376200">
            <a:off x="3177720" y="3514320"/>
            <a:ext cx="577800" cy="28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97" y="396"/>
                </a:moveTo>
                <a:arcTo wR="10800" hR="10800" stAng="-4466301" swAng="4466301"/>
                <a:lnTo>
                  <a:pt x="10800" y="10800"/>
                </a:lnTo>
                <a:close/>
              </a:path>
              <a:path fill="none" w="21600" h="21600">
                <a:moveTo>
                  <a:pt x="13697" y="396"/>
                </a:moveTo>
                <a:arcTo wR="10800" hR="10800" stAng="-4466301" swAng="446630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44520" y="381492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21720" y="3357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１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rot="20802600">
            <a:off x="3152880" y="3214440"/>
            <a:ext cx="1508040" cy="55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97" y="4"/>
                </a:moveTo>
                <a:arcTo wR="10800" hR="10800" stAng="-5305293" swAng="5305293"/>
                <a:lnTo>
                  <a:pt x="10800" y="10800"/>
                </a:lnTo>
                <a:close/>
              </a:path>
              <a:path fill="none" w="21600" h="21600">
                <a:moveTo>
                  <a:pt x="11097" y="4"/>
                </a:moveTo>
                <a:arcTo wR="10800" hR="10800" stAng="-5305293" swAng="530529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797400">
            <a:off x="3835080" y="3222360"/>
            <a:ext cx="1508040" cy="55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97" y="4"/>
                </a:moveTo>
                <a:arcTo wR="10800" hR="10800" stAng="-5305293" swAng="5305293"/>
                <a:lnTo>
                  <a:pt x="10800" y="10800"/>
                </a:lnTo>
                <a:close/>
              </a:path>
              <a:path fill="none" w="21600" h="21600">
                <a:moveTo>
                  <a:pt x="11097" y="4"/>
                </a:moveTo>
                <a:arcTo wR="10800" hR="10800" stAng="-5305293" swAng="530529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4520" y="30686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３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99080" y="4292640"/>
            <a:ext cx="2282760" cy="1017360"/>
            <a:chOff x="6499080" y="4292640"/>
            <a:chExt cx="2282760" cy="1017360"/>
          </a:xfrm>
        </p:grpSpPr>
        <p:sp>
          <p:nvSpPr>
            <p:cNvPr id="167" name=""/>
            <p:cNvSpPr/>
            <p:nvPr/>
          </p:nvSpPr>
          <p:spPr>
            <a:xfrm>
              <a:off x="6559560" y="4643280"/>
              <a:ext cx="2160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49840" y="4537080"/>
              <a:ext cx="0" cy="21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84960" y="4538520"/>
              <a:ext cx="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94520" y="4546440"/>
              <a:ext cx="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727840" y="4546440"/>
              <a:ext cx="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 rot="901200">
              <a:off x="6540480" y="4557240"/>
              <a:ext cx="12952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21" y="542"/>
                  </a:moveTo>
                  <a:arcTo wR="10800" hR="10800" stAng="-6493802" swAng="6493802"/>
                  <a:lnTo>
                    <a:pt x="10800" y="10800"/>
                  </a:lnTo>
                  <a:close/>
                </a:path>
                <a:path fill="none" w="21600" h="21600">
                  <a:moveTo>
                    <a:pt x="7421" y="542"/>
                  </a:moveTo>
                  <a:arcTo wR="10800" hR="10800" stAng="-6493802" swAng="64938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23800">
              <a:off x="6697800" y="4485600"/>
              <a:ext cx="577800" cy="28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7" y="396"/>
                  </a:moveTo>
                  <a:arcTo wR="10800" hR="10800" stAng="-4466301" swAng="44663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7" y="396"/>
                  </a:moveTo>
                  <a:arcTo wR="10800" hR="10800" stAng="-4466301" swAng="446630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21376200">
              <a:off x="6563880" y="4495320"/>
              <a:ext cx="577080" cy="28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7" y="396"/>
                  </a:moveTo>
                  <a:arcTo wR="10800" hR="10800" stAng="-4466301" swAng="44663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7" y="396"/>
                  </a:moveTo>
                  <a:arcTo wR="10800" hR="10800" stAng="-4466301" swAng="446630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44720" y="4941720"/>
              <a:ext cx="57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6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21920" y="4292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１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21360" y="4581360"/>
              <a:ext cx="1800" cy="144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30920" y="4573440"/>
              <a:ext cx="1800" cy="144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58120" y="4572000"/>
              <a:ext cx="1440" cy="144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570000" y="4570560"/>
              <a:ext cx="288360" cy="14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68" y="75"/>
                  </a:moveTo>
                  <a:arcTo wR="10800" hR="10800" stAng="-4995514" swAng="49955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68" y="75"/>
                  </a:moveTo>
                  <a:arcTo wR="10800" hR="10800" stAng="-4995514" swAng="4995514"/>
                </a:path>
              </a:pathLst>
            </a:cu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624720" y="4574160"/>
              <a:ext cx="28836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68" y="75"/>
                  </a:moveTo>
                  <a:arcTo wR="10800" hR="10800" stAng="-4995514" swAng="49955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68" y="75"/>
                  </a:moveTo>
                  <a:arcTo wR="10800" hR="10800" stAng="-4995514" swAng="4995514"/>
                </a:path>
              </a:pathLst>
            </a:cu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34720" y="4662360"/>
              <a:ext cx="41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0.1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20698800">
              <a:off x="7443720" y="4575600"/>
              <a:ext cx="1296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21" y="542"/>
                  </a:moveTo>
                  <a:arcTo wR="10800" hR="10800" stAng="-6493802" swAng="6493802"/>
                  <a:lnTo>
                    <a:pt x="10800" y="10800"/>
                  </a:lnTo>
                  <a:close/>
                </a:path>
                <a:path fill="none" w="21600" h="21600">
                  <a:moveTo>
                    <a:pt x="7421" y="542"/>
                  </a:moveTo>
                  <a:arcTo wR="10800" hR="10800" stAng="-6493802" swAng="64938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7290720" y="4525200"/>
              <a:ext cx="331560" cy="196920"/>
            </a:xfrm>
            <a:prstGeom prst="blockArc">
              <a:avLst>
                <a:gd name="adj1" fmla="val 11740322"/>
                <a:gd name="adj2" fmla="val 20659678"/>
                <a:gd name="adj3" fmla="val 0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642080" y="4526640"/>
              <a:ext cx="341280" cy="196920"/>
            </a:xfrm>
            <a:prstGeom prst="blockArc">
              <a:avLst>
                <a:gd name="adj1" fmla="val 11740322"/>
                <a:gd name="adj2" fmla="val 20659678"/>
                <a:gd name="adj3" fmla="val 0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8002440" y="4529160"/>
              <a:ext cx="341280" cy="196560"/>
            </a:xfrm>
            <a:prstGeom prst="blockArc">
              <a:avLst>
                <a:gd name="adj1" fmla="val 11740322"/>
                <a:gd name="adj2" fmla="val 20659678"/>
                <a:gd name="adj3" fmla="val 0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8369280" y="4525200"/>
              <a:ext cx="341280" cy="196920"/>
            </a:xfrm>
            <a:prstGeom prst="blockArc">
              <a:avLst>
                <a:gd name="adj1" fmla="val 11740322"/>
                <a:gd name="adj2" fmla="val 20659678"/>
                <a:gd name="adj3" fmla="val 0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6935760" y="4529160"/>
              <a:ext cx="341280" cy="196560"/>
            </a:xfrm>
            <a:prstGeom prst="blockArc">
              <a:avLst>
                <a:gd name="adj1" fmla="val 11740322"/>
                <a:gd name="adj2" fmla="val 20659678"/>
                <a:gd name="adj3" fmla="val 0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18400" y="4581360"/>
            <a:ext cx="67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・・・・・・・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（　　　 　　）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8000" y="5013360"/>
            <a:ext cx="57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 ÷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 ・・・・・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30440" y="595008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 ÷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 ＝　（　　　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35200" y="602136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ℓ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87560" y="5470560"/>
            <a:ext cx="56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 ÷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 ・・・・・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    （　　　）  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89800" y="458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3800" y="501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64000" y="501336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8520" y="544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75040" y="58960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21440" y="58770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57800" y="260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１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8280" y="1052640"/>
            <a:ext cx="9417600" cy="28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・・・・・・・・・・・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（　　　　　）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・・・・・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（　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）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・・・・・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　　（　　　　　）　　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8280" y="3860640"/>
            <a:ext cx="9417600" cy="28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・・・・・・・・・・・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（　　　　　）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・・・・・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（　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）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・・・・・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　　（　　　　　）　　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56480" y="1197000"/>
            <a:ext cx="28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÷ 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を計算してみよ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56480" y="3933720"/>
            <a:ext cx="28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1 ÷ 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を計算してみよ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627280" y="620640"/>
            <a:ext cx="1870920" cy="396720"/>
            <a:chOff x="2627280" y="620640"/>
            <a:chExt cx="1870920" cy="396720"/>
          </a:xfrm>
        </p:grpSpPr>
        <p:sp>
          <p:nvSpPr>
            <p:cNvPr id="206" name=""/>
            <p:cNvSpPr/>
            <p:nvPr/>
          </p:nvSpPr>
          <p:spPr>
            <a:xfrm>
              <a:off x="2627280" y="620640"/>
              <a:ext cx="18687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79480" y="620640"/>
              <a:ext cx="18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-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7057800" y="260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１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57200" y="1197000"/>
            <a:ext cx="26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÷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を計算してみよ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920" y="1052640"/>
            <a:ext cx="9406800" cy="28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・・・・・・・・・・・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（　　　　　）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・・・・・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（　　　　　　　　　）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・・・・・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　　（　　　　　）　　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57200" y="3933720"/>
            <a:ext cx="26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1÷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を計算してみよ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920" y="3860640"/>
            <a:ext cx="9406800" cy="28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・・・・・・・・・・・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（　　　　　）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・・・・・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（　　　　　　　　　）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・・・・・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　　（　　　　　）　　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84120" y="260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87280" y="148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１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0400" y="2060640"/>
            <a:ext cx="15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１２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÷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9080" y="2492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13080" y="2924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36960" y="43340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43640" y="4862520"/>
            <a:ext cx="17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81 ÷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9080" y="5300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6160" y="57340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484360" y="549360"/>
            <a:ext cx="1870920" cy="396720"/>
            <a:chOff x="2484360" y="549360"/>
            <a:chExt cx="1870920" cy="396720"/>
          </a:xfrm>
        </p:grpSpPr>
        <p:sp>
          <p:nvSpPr>
            <p:cNvPr id="223" name=""/>
            <p:cNvSpPr/>
            <p:nvPr/>
          </p:nvSpPr>
          <p:spPr>
            <a:xfrm>
              <a:off x="2484360" y="549360"/>
              <a:ext cx="18687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36560" y="549360"/>
              <a:ext cx="18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-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057800" y="260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１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662200" y="1052640"/>
            <a:ext cx="3867120" cy="158436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19440" y="4869000"/>
            <a:ext cx="3868560" cy="165564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09720" y="2916360"/>
            <a:ext cx="3867120" cy="165564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96960" y="1052640"/>
            <a:ext cx="403236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１）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124000" y="404640"/>
            <a:ext cx="1870920" cy="396720"/>
            <a:chOff x="2124000" y="404640"/>
            <a:chExt cx="1870920" cy="396720"/>
          </a:xfrm>
        </p:grpSpPr>
        <p:sp>
          <p:nvSpPr>
            <p:cNvPr id="232" name=""/>
            <p:cNvSpPr/>
            <p:nvPr/>
          </p:nvSpPr>
          <p:spPr>
            <a:xfrm>
              <a:off x="2124000" y="404640"/>
              <a:ext cx="18687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76200" y="404640"/>
              <a:ext cx="18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-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394880" y="4046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計算をし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5240" y="4840200"/>
            <a:ext cx="40320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３）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451640" y="4149720"/>
            <a:ext cx="733680" cy="7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914840" y="2924280"/>
            <a:ext cx="52588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２）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57800" y="260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１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47800" y="4869000"/>
            <a:ext cx="3868920" cy="165564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49600" y="2997360"/>
            <a:ext cx="3867120" cy="165564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4869000"/>
            <a:ext cx="403236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３）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05400" y="2997360"/>
            <a:ext cx="54874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２）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56000" y="1125360"/>
            <a:ext cx="40320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１）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49600" y="1125360"/>
            <a:ext cx="3867120" cy="158436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23200" y="1417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72560" y="1708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54600" y="171144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55080" y="2000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08840" y="23097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05560" y="326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67520" y="358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51720" y="3600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40680" y="385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14960" y="41720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81360" y="5172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19200" y="548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82960" y="5475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83080" y="5775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54120" y="6060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07760" y="18900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979640" y="404640"/>
            <a:ext cx="1870920" cy="396720"/>
            <a:chOff x="1979640" y="404640"/>
            <a:chExt cx="1870920" cy="396720"/>
          </a:xfrm>
        </p:grpSpPr>
        <p:sp>
          <p:nvSpPr>
            <p:cNvPr id="263" name=""/>
            <p:cNvSpPr/>
            <p:nvPr/>
          </p:nvSpPr>
          <p:spPr>
            <a:xfrm>
              <a:off x="1979640" y="404640"/>
              <a:ext cx="18687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31840" y="404640"/>
              <a:ext cx="18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-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7057800" y="260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１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2340000" y="907920"/>
            <a:ext cx="1870920" cy="396720"/>
            <a:chOff x="2340000" y="907920"/>
            <a:chExt cx="1870920" cy="396720"/>
          </a:xfrm>
        </p:grpSpPr>
        <p:sp>
          <p:nvSpPr>
            <p:cNvPr id="267" name=""/>
            <p:cNvSpPr/>
            <p:nvPr/>
          </p:nvSpPr>
          <p:spPr>
            <a:xfrm>
              <a:off x="2340000" y="907920"/>
              <a:ext cx="18687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92200" y="907920"/>
              <a:ext cx="18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-</a:t>
              </a:r>
              <a:r>
                <a:rPr b="0" lang="zh-CN" sz="1800" spc="-1" strike="noStrike">
                  <a:solidFill>
                    <a:srgbClr val="ff3300"/>
                  </a:solidFill>
                  <a:latin typeface="Arial"/>
                </a:rPr>
                <a:t>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610880" y="9079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計算をし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71640" y="1557360"/>
            <a:ext cx="2900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4437000"/>
            <a:ext cx="290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380360" y="5084640"/>
            <a:ext cx="728640" cy="8636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 flipH="1">
            <a:off x="4500720" y="5011560"/>
            <a:ext cx="3024000" cy="432000"/>
          </a:xfrm>
          <a:prstGeom prst="wedgeEllipseCallout">
            <a:avLst>
              <a:gd name="adj1" fmla="val -38560"/>
              <a:gd name="adj2" fmla="val 52203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67440" y="50846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１００点目指してがんばろう！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93680" y="1557360"/>
            <a:ext cx="3362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6788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00000" y="1773360"/>
            <a:ext cx="3959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00000" y="4724280"/>
            <a:ext cx="41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885080" y="4076640"/>
            <a:ext cx="728640" cy="863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811040" y="98100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49320" y="1773360"/>
            <a:ext cx="4388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340000" y="1197000"/>
            <a:ext cx="1870920" cy="396720"/>
            <a:chOff x="2340000" y="1197000"/>
            <a:chExt cx="1870920" cy="396720"/>
          </a:xfrm>
        </p:grpSpPr>
        <p:sp>
          <p:nvSpPr>
            <p:cNvPr id="283" name=""/>
            <p:cNvSpPr/>
            <p:nvPr/>
          </p:nvSpPr>
          <p:spPr>
            <a:xfrm>
              <a:off x="2340000" y="1197000"/>
              <a:ext cx="18687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92200" y="1197000"/>
              <a:ext cx="18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-</a:t>
              </a:r>
              <a:r>
                <a:rPr b="0" lang="zh-CN" sz="1800" spc="-1" strike="noStrike">
                  <a:solidFill>
                    <a:srgbClr val="ff3300"/>
                  </a:solidFill>
                  <a:latin typeface="Arial"/>
                </a:rPr>
                <a:t>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7057800" y="260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１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H="1">
            <a:off x="4715640" y="5302080"/>
            <a:ext cx="3024360" cy="432000"/>
          </a:xfrm>
          <a:prstGeom prst="wedgeEllipseCallout">
            <a:avLst>
              <a:gd name="adj1" fmla="val -38560"/>
              <a:gd name="adj2" fmla="val 52203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42520" y="1125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計算をし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71640" y="1844640"/>
            <a:ext cx="2900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3640" y="1844640"/>
            <a:ext cx="2900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627280" y="1125360"/>
            <a:ext cx="1944360" cy="396720"/>
            <a:chOff x="2627280" y="1125360"/>
            <a:chExt cx="1944360" cy="396720"/>
          </a:xfrm>
        </p:grpSpPr>
        <p:sp>
          <p:nvSpPr>
            <p:cNvPr id="291" name=""/>
            <p:cNvSpPr/>
            <p:nvPr/>
          </p:nvSpPr>
          <p:spPr>
            <a:xfrm>
              <a:off x="2627280" y="1125360"/>
              <a:ext cx="19418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81640" y="1125360"/>
              <a:ext cx="18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-</a:t>
              </a:r>
              <a:r>
                <a:rPr b="0" lang="zh-CN" sz="1800" spc="-1" strike="noStrike">
                  <a:solidFill>
                    <a:srgbClr val="ff3300"/>
                  </a:solidFill>
                  <a:latin typeface="Arial"/>
                </a:rPr>
                <a:t>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7740720" y="5373720"/>
            <a:ext cx="728640" cy="863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311800" y="53737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１００点目指してがんばろう！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7800" y="260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わり算（１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18:36Z</dcterms:created>
  <dc:creator>kangawa-kaori-1</dc:creator>
  <dc:description/>
  <dc:language>en-US</dc:language>
  <cp:lastModifiedBy>kangawa-kaori-1</cp:lastModifiedBy>
  <dcterms:modified xsi:type="dcterms:W3CDTF">2007-11-14T06:23:39Z</dcterms:modified>
  <cp:revision>128</cp:revision>
  <dc:subject/>
  <dc:title>スライド 1</dc:title>
</cp:coreProperties>
</file>