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4FF-5E18-4CB0-BA9C-47E85DE9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25A-19B5-4EB1-AF09-975D6F7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665-D929-4FF3-9E64-B6E580A1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192-084A-4CF4-8697-F0F3DD05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F0D-B7B7-4756-8A6A-A51D8F1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B27-568A-4944-A8ED-A920C5AA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111-1348-4B0B-AFAA-7A441A6B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EB4-093B-45DD-9286-1236B689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D83-C233-46CE-B0A9-EA953E2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9ED-20EA-491C-8848-28CA2A3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94F-4C4E-451D-A4CE-7D1A401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299-DD69-4553-AA8B-1DF910B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9CF2-AC7B-4591-B12F-DEFD5923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68360" y="404640"/>
            <a:ext cx="1657080" cy="396720"/>
            <a:chOff x="2268360" y="404640"/>
            <a:chExt cx="1657080" cy="396720"/>
          </a:xfrm>
        </p:grpSpPr>
        <p:sp>
          <p:nvSpPr>
            <p:cNvPr id="42" name=""/>
            <p:cNvSpPr/>
            <p:nvPr/>
          </p:nvSpPr>
          <p:spPr>
            <a:xfrm>
              <a:off x="2268360" y="404640"/>
              <a:ext cx="16549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14800" y="404640"/>
              <a:ext cx="16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730240" y="1216080"/>
            <a:ext cx="33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本の長さが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のロープ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作ります。ロープの長さ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全部で何ｍい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4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27800" y="26416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300720" y="1760400"/>
            <a:ext cx="1584360" cy="1597320"/>
            <a:chOff x="6300720" y="1760400"/>
            <a:chExt cx="1584360" cy="1597320"/>
          </a:xfrm>
        </p:grpSpPr>
        <p:sp>
          <p:nvSpPr>
            <p:cNvPr id="49" name=""/>
            <p:cNvSpPr/>
            <p:nvPr/>
          </p:nvSpPr>
          <p:spPr>
            <a:xfrm>
              <a:off x="6300720" y="1773360"/>
              <a:ext cx="158436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14560" y="176040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【筆算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407400" y="3716280"/>
            <a:ext cx="20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箱の重さ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ｋｇの段ボール箱があります。この段ボール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１２箱の段ボールの重さは何ｋｇ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5160" y="4653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013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8320" y="54450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00720" y="4508640"/>
            <a:ext cx="1584360" cy="1596600"/>
            <a:chOff x="6300720" y="4508640"/>
            <a:chExt cx="1584360" cy="1596600"/>
          </a:xfrm>
        </p:grpSpPr>
        <p:sp>
          <p:nvSpPr>
            <p:cNvPr id="56" name=""/>
            <p:cNvSpPr/>
            <p:nvPr/>
          </p:nvSpPr>
          <p:spPr>
            <a:xfrm>
              <a:off x="6300720" y="4521240"/>
              <a:ext cx="1584360" cy="15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14560" y="450864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【筆算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788240" y="1037520"/>
            <a:ext cx="817560" cy="483480"/>
            <a:chOff x="7788240" y="1037520"/>
            <a:chExt cx="817560" cy="483480"/>
          </a:xfrm>
        </p:grpSpPr>
        <p:graphicFrame>
          <p:nvGraphicFramePr>
            <p:cNvPr id="59" name=""/>
            <p:cNvGraphicFramePr/>
            <p:nvPr/>
          </p:nvGraphicFramePr>
          <p:xfrm>
            <a:off x="8488440" y="1199520"/>
            <a:ext cx="117360" cy="9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88440" y="1199520"/>
                      <a:ext cx="117360" cy="9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1" name=""/>
            <p:cNvGrpSpPr/>
            <p:nvPr/>
          </p:nvGrpSpPr>
          <p:grpSpPr>
            <a:xfrm>
              <a:off x="7929000" y="1052640"/>
              <a:ext cx="604800" cy="468360"/>
              <a:chOff x="7929000" y="1052640"/>
              <a:chExt cx="604800" cy="468360"/>
            </a:xfrm>
          </p:grpSpPr>
          <p:sp>
            <p:nvSpPr>
              <p:cNvPr id="62" name=""/>
              <p:cNvSpPr/>
              <p:nvPr/>
            </p:nvSpPr>
            <p:spPr>
              <a:xfrm>
                <a:off x="7929000" y="1052640"/>
                <a:ext cx="604800" cy="46836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29000" y="1052640"/>
                <a:ext cx="604800" cy="46836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 flipV="1">
              <a:off x="8398440" y="1262160"/>
              <a:ext cx="1173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8256240" y="1263960"/>
              <a:ext cx="93600" cy="39240"/>
              <a:chOff x="8256240" y="1263960"/>
              <a:chExt cx="93600" cy="39240"/>
            </a:xfrm>
          </p:grpSpPr>
          <p:sp>
            <p:nvSpPr>
              <p:cNvPr id="66" name=""/>
              <p:cNvSpPr/>
              <p:nvPr/>
            </p:nvSpPr>
            <p:spPr>
              <a:xfrm>
                <a:off x="8256240" y="1263960"/>
                <a:ext cx="93600" cy="3924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56240" y="1263960"/>
                <a:ext cx="93600" cy="3924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108640" y="1274760"/>
              <a:ext cx="94680" cy="39240"/>
              <a:chOff x="8108640" y="1274760"/>
              <a:chExt cx="94680" cy="39240"/>
            </a:xfrm>
          </p:grpSpPr>
          <p:sp>
            <p:nvSpPr>
              <p:cNvPr id="69" name=""/>
              <p:cNvSpPr/>
              <p:nvPr/>
            </p:nvSpPr>
            <p:spPr>
              <a:xfrm>
                <a:off x="8108640" y="1274760"/>
                <a:ext cx="94680" cy="3924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08640" y="1274760"/>
                <a:ext cx="94680" cy="3924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119080" y="1368000"/>
              <a:ext cx="234360" cy="104400"/>
              <a:chOff x="8119080" y="1368000"/>
              <a:chExt cx="234360" cy="104400"/>
            </a:xfrm>
          </p:grpSpPr>
          <p:sp>
            <p:nvSpPr>
              <p:cNvPr id="72" name=""/>
              <p:cNvSpPr/>
              <p:nvPr/>
            </p:nvSpPr>
            <p:spPr>
              <a:xfrm>
                <a:off x="8119080" y="1368000"/>
                <a:ext cx="234360" cy="10440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9080" y="1368000"/>
                <a:ext cx="234360" cy="10440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H="1" flipV="1">
              <a:off x="7943400" y="1234800"/>
              <a:ext cx="111240" cy="9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811640" y="1052640"/>
              <a:ext cx="19224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6012000" y="765000"/>
            <a:ext cx="1657080" cy="360360"/>
          </a:xfrm>
          <a:prstGeom prst="wedgeRoundRectCallout">
            <a:avLst>
              <a:gd name="adj1" fmla="val 45976"/>
              <a:gd name="adj2" fmla="val 671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765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がんばろう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42440" y="2602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（文章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30240" y="1216080"/>
            <a:ext cx="33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本の長さが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のロープ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作ります。ロープの長さ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全部で何ｍい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24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5520" y="263052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2.2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00720" y="1760400"/>
            <a:ext cx="1584360" cy="1597320"/>
            <a:chOff x="6300720" y="1760400"/>
            <a:chExt cx="1584360" cy="1597320"/>
          </a:xfrm>
        </p:grpSpPr>
        <p:sp>
          <p:nvSpPr>
            <p:cNvPr id="84" name=""/>
            <p:cNvSpPr/>
            <p:nvPr/>
          </p:nvSpPr>
          <p:spPr>
            <a:xfrm>
              <a:off x="6300720" y="1773360"/>
              <a:ext cx="158436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4560" y="176040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【筆算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407400" y="3716280"/>
            <a:ext cx="20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１箱の重さ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ｋｇの段ボール箱があります。この段ボール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箱の段ボールの重さは何ｋｇ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5160" y="4653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5013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20760" y="5433840"/>
            <a:ext cx="22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ｋｇ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00720" y="4508640"/>
            <a:ext cx="1584360" cy="1596600"/>
            <a:chOff x="6300720" y="4508640"/>
            <a:chExt cx="1584360" cy="1596600"/>
          </a:xfrm>
        </p:grpSpPr>
        <p:sp>
          <p:nvSpPr>
            <p:cNvPr id="91" name=""/>
            <p:cNvSpPr/>
            <p:nvPr/>
          </p:nvSpPr>
          <p:spPr>
            <a:xfrm>
              <a:off x="6300720" y="4521240"/>
              <a:ext cx="1584360" cy="15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560" y="450864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【筆算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018680" y="260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43000" y="1989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4 × 23 = 3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8640" y="459432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5 × 12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79640" y="476280"/>
            <a:ext cx="1584000" cy="396720"/>
            <a:chOff x="1979640" y="476280"/>
            <a:chExt cx="1584000" cy="396720"/>
          </a:xfrm>
        </p:grpSpPr>
        <p:sp>
          <p:nvSpPr>
            <p:cNvPr id="97" name=""/>
            <p:cNvSpPr/>
            <p:nvPr/>
          </p:nvSpPr>
          <p:spPr>
            <a:xfrm>
              <a:off x="1979640" y="476280"/>
              <a:ext cx="15818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3920" y="476280"/>
              <a:ext cx="15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　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42440" y="2602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のかけ算（文章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50:59Z</dcterms:created>
  <dc:creator>kangawa-kaori-1</dc:creator>
  <dc:description/>
  <dc:language>en-US</dc:language>
  <cp:lastModifiedBy>kangawa-kaori-1</cp:lastModifiedBy>
  <dcterms:modified xsi:type="dcterms:W3CDTF">2007-11-14T06:25:12Z</dcterms:modified>
  <cp:revision>55</cp:revision>
  <dc:subject/>
  <dc:title>スライド 1</dc:title>
</cp:coreProperties>
</file>