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966-5588-4BF2-B232-9365D1E4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A6A-C29D-4153-850C-ED36DD59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958-DCD2-49AA-96D0-2BB33747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399-F035-4130-8A5A-8B048371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6CA-62F2-42C2-83C9-AF3C20F5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16C-4CC4-4128-8A4A-F48E259F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B39-D740-40A6-BC3A-54BDF2EE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B9A-B6BC-46F1-87B9-ABDFB502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6CCE-1540-4ABA-BA32-1EA3ABC8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A8D-62D5-4065-BCBA-E9F81070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A8D-1DEA-4566-99A0-9E147F0A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938-405A-4F34-9DC0-2403B83E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45F9-3CC1-47E1-AEC4-5BC6450B5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765000"/>
            <a:ext cx="5327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垂直な直線のかき方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4870440"/>
            <a:ext cx="712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1840" y="1341360"/>
            <a:ext cx="2052360" cy="3528720"/>
            <a:chOff x="321840" y="1341360"/>
            <a:chExt cx="2052360" cy="3528720"/>
          </a:xfrm>
        </p:grpSpPr>
        <p:sp>
          <p:nvSpPr>
            <p:cNvPr id="44" name=""/>
            <p:cNvSpPr/>
            <p:nvPr/>
          </p:nvSpPr>
          <p:spPr>
            <a:xfrm flipH="1">
              <a:off x="321480" y="1341360"/>
              <a:ext cx="2052360" cy="352872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532520" y="3513960"/>
              <a:ext cx="374400" cy="36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835280" y="4870440"/>
            <a:ext cx="3457440" cy="1727280"/>
            <a:chOff x="1835280" y="4870440"/>
            <a:chExt cx="3457440" cy="1727280"/>
          </a:xfrm>
        </p:grpSpPr>
        <p:sp>
          <p:nvSpPr>
            <p:cNvPr id="47" name=""/>
            <p:cNvSpPr/>
            <p:nvPr/>
          </p:nvSpPr>
          <p:spPr>
            <a:xfrm rot="10800000">
              <a:off x="1835280" y="4870440"/>
              <a:ext cx="3457440" cy="1727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3418920" y="5302440"/>
              <a:ext cx="282600" cy="28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130560" y="30700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86160" y="2925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42560" y="1341360"/>
            <a:ext cx="2123640" cy="3528720"/>
            <a:chOff x="1042560" y="1341360"/>
            <a:chExt cx="2123640" cy="3528720"/>
          </a:xfrm>
        </p:grpSpPr>
        <p:sp>
          <p:nvSpPr>
            <p:cNvPr id="52" name=""/>
            <p:cNvSpPr/>
            <p:nvPr/>
          </p:nvSpPr>
          <p:spPr>
            <a:xfrm flipH="1">
              <a:off x="1042200" y="1341360"/>
              <a:ext cx="2123640" cy="352872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294640" y="3513960"/>
              <a:ext cx="387720" cy="36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 flipH="1">
            <a:off x="1403280" y="4367160"/>
            <a:ext cx="1440000" cy="287280"/>
          </a:xfrm>
          <a:prstGeom prst="leftArrow">
            <a:avLst>
              <a:gd name="adj1" fmla="val 50000"/>
              <a:gd name="adj2" fmla="val 1253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3640" y="2133720"/>
            <a:ext cx="0" cy="2736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59280" y="1486080"/>
            <a:ext cx="1439640" cy="1081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76720" y="189000"/>
            <a:ext cx="4608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＜垂直や平行な直線のかき方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03280" y="836640"/>
            <a:ext cx="532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行な直線のかき方①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4437000"/>
            <a:ext cx="712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55640" y="1989000"/>
            <a:ext cx="1727280" cy="3457440"/>
            <a:chOff x="755640" y="1989000"/>
            <a:chExt cx="1727280" cy="3457440"/>
          </a:xfrm>
        </p:grpSpPr>
        <p:sp>
          <p:nvSpPr>
            <p:cNvPr id="61" name=""/>
            <p:cNvSpPr/>
            <p:nvPr/>
          </p:nvSpPr>
          <p:spPr>
            <a:xfrm rot="16200000">
              <a:off x="-109080" y="2854080"/>
              <a:ext cx="3457440" cy="1727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5400000">
              <a:off x="1765080" y="3569760"/>
              <a:ext cx="282600" cy="28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484360" y="4437000"/>
            <a:ext cx="3600000" cy="2016000"/>
            <a:chOff x="2484360" y="4437000"/>
            <a:chExt cx="3600000" cy="2016000"/>
          </a:xfrm>
        </p:grpSpPr>
        <p:sp>
          <p:nvSpPr>
            <p:cNvPr id="64" name=""/>
            <p:cNvSpPr/>
            <p:nvPr/>
          </p:nvSpPr>
          <p:spPr>
            <a:xfrm flipH="1" flipV="1" rot="16200000">
              <a:off x="3276360" y="3645000"/>
              <a:ext cx="2016000" cy="360000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 rot="16200000">
              <a:off x="3498840" y="4894920"/>
              <a:ext cx="367920" cy="37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564000" y="263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59240" y="2133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2708280"/>
            <a:ext cx="273708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1440000" cy="108108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2484360" y="2749680"/>
            <a:ext cx="3600000" cy="1871280"/>
            <a:chOff x="2484360" y="2749680"/>
            <a:chExt cx="3600000" cy="1871280"/>
          </a:xfrm>
        </p:grpSpPr>
        <p:sp>
          <p:nvSpPr>
            <p:cNvPr id="71" name=""/>
            <p:cNvSpPr/>
            <p:nvPr/>
          </p:nvSpPr>
          <p:spPr>
            <a:xfrm flipH="1" flipV="1" rot="16200000">
              <a:off x="3348720" y="1885320"/>
              <a:ext cx="1871280" cy="360000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 rot="16200000">
              <a:off x="3511800" y="3161160"/>
              <a:ext cx="341640" cy="37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 flipH="1" rot="16200000">
            <a:off x="2195280" y="4005000"/>
            <a:ext cx="1871640" cy="287280"/>
          </a:xfrm>
          <a:prstGeom prst="leftArrow">
            <a:avLst>
              <a:gd name="adj1" fmla="val 50000"/>
              <a:gd name="adj2" fmla="val 16287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9640" y="189000"/>
            <a:ext cx="3024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＜垂直や平行な直線のかき方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56000" y="836640"/>
            <a:ext cx="532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行な直線のかき方②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900000" y="4365720"/>
            <a:ext cx="705672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40120" y="2075040"/>
            <a:ext cx="3190320" cy="3861000"/>
            <a:chOff x="240120" y="2075040"/>
            <a:chExt cx="3190320" cy="3861000"/>
          </a:xfrm>
        </p:grpSpPr>
        <p:sp>
          <p:nvSpPr>
            <p:cNvPr id="78" name=""/>
            <p:cNvSpPr/>
            <p:nvPr/>
          </p:nvSpPr>
          <p:spPr>
            <a:xfrm rot="14455200">
              <a:off x="106200" y="3141720"/>
              <a:ext cx="3457440" cy="1727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3654600">
              <a:off x="1942560" y="3718080"/>
              <a:ext cx="282600" cy="28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564000" y="263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9240" y="2133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2708280"/>
            <a:ext cx="30974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1440000" cy="10810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3094200" y="2648880"/>
            <a:ext cx="4259520" cy="3574800"/>
            <a:chOff x="3094200" y="2648880"/>
            <a:chExt cx="4259520" cy="3574800"/>
          </a:xfrm>
        </p:grpSpPr>
        <p:sp>
          <p:nvSpPr>
            <p:cNvPr id="85" name=""/>
            <p:cNvSpPr/>
            <p:nvPr/>
          </p:nvSpPr>
          <p:spPr>
            <a:xfrm flipH="1" rot="3670800">
              <a:off x="4215960" y="2559600"/>
              <a:ext cx="2015640" cy="375264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3670800">
              <a:off x="4666320" y="4865400"/>
              <a:ext cx="367920" cy="385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140200" y="955800"/>
            <a:ext cx="4252680" cy="3571200"/>
            <a:chOff x="2140200" y="955800"/>
            <a:chExt cx="4252680" cy="3571200"/>
          </a:xfrm>
        </p:grpSpPr>
        <p:sp>
          <p:nvSpPr>
            <p:cNvPr id="88" name=""/>
            <p:cNvSpPr/>
            <p:nvPr/>
          </p:nvSpPr>
          <p:spPr>
            <a:xfrm flipH="1" rot="3670800">
              <a:off x="3258000" y="869040"/>
              <a:ext cx="2016000" cy="374436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3670800">
              <a:off x="3709800" y="3170160"/>
              <a:ext cx="367920" cy="38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 flipH="1" rot="14221200">
            <a:off x="2626560" y="4005360"/>
            <a:ext cx="1871640" cy="286920"/>
          </a:xfrm>
          <a:prstGeom prst="leftArrow">
            <a:avLst>
              <a:gd name="adj1" fmla="val 50000"/>
              <a:gd name="adj2" fmla="val 16308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0"/>
            <a:ext cx="4608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＜垂直や平行な直線のかき方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763640" y="981000"/>
            <a:ext cx="1655280" cy="396720"/>
            <a:chOff x="1763640" y="981000"/>
            <a:chExt cx="1655280" cy="396720"/>
          </a:xfrm>
        </p:grpSpPr>
        <p:sp>
          <p:nvSpPr>
            <p:cNvPr id="93" name=""/>
            <p:cNvSpPr/>
            <p:nvPr/>
          </p:nvSpPr>
          <p:spPr>
            <a:xfrm>
              <a:off x="1763640" y="981000"/>
              <a:ext cx="165348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09720" y="981000"/>
              <a:ext cx="160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071440" y="1844640"/>
            <a:ext cx="46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の図で，点アを通って直線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あ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垂直な直線，点イを通って直線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平行な直線をかき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187280" y="3644640"/>
            <a:ext cx="2592720" cy="18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3500280"/>
            <a:ext cx="1224000" cy="237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7960" y="544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7760" y="5877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1840" y="3495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45480" y="40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28720" y="3357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04440" y="39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189000"/>
            <a:ext cx="3025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＜垂直や平行な直線のかき方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01:59:16Z</dcterms:created>
  <dc:creator>kangawa-kaori-1</dc:creator>
  <dc:description/>
  <dc:language>en-US</dc:language>
  <cp:lastModifiedBy>kangawa-kaori-1</cp:lastModifiedBy>
  <dcterms:modified xsi:type="dcterms:W3CDTF">2007-11-14T06:22:28Z</dcterms:modified>
  <cp:revision>15</cp:revision>
  <dc:subject/>
  <dc:title>スライド 1</dc:title>
</cp:coreProperties>
</file>