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7750-BB1A-415F-876C-0E501D8F2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A4E5-2DA8-48AC-9F98-A0760948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B18E-DE49-4B69-BC94-88E31E93F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B928-A4C5-42E5-847C-3BD1A6CE3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0BF4-8D81-4723-AF01-55DC4896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E09F-DA0A-4C9A-8517-1B0F5049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B0DB-F59A-4C0D-BE27-0AFD71EF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FE81-F102-4C75-962C-19608DBB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1EEE-C27B-41C8-AAD4-09A13E78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2930-3939-4DCA-AFC8-0FAEF856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7DF1-52BE-4450-81F2-C0AFF59B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2178-A148-4908-8AA5-F4064CBD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1EFC-BCA4-43BB-B67E-B7E8C7D3F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77680" y="1746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＜計算のきまりを使って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07800" y="1143000"/>
            <a:ext cx="291960" cy="368280"/>
          </a:xfrm>
          <a:prstGeom prst="rect">
            <a:avLst/>
          </a:prstGeom>
          <a:noFill/>
          <a:ln w="1908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くふうして，次の計算をしてみましょ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1840" y="198108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ア　３６＋９６＋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5760" y="2590920"/>
            <a:ext cx="170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９６＋４＝１００だか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　 ３６＋（９６＋４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＝３６＋１０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＝１３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73920" y="1981080"/>
            <a:ext cx="13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イ　２５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２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70720" y="2590920"/>
            <a:ext cx="1791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２５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４＝１００だか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　 ２５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４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７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＝（２５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４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＝１００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＝７０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04600" y="1981080"/>
            <a:ext cx="145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ウ  ９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３４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33360" y="2590920"/>
            <a:ext cx="2030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９９＝１００ー１だか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　 （１００－１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３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＝１００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３４－１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３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＝３４００－３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＝３３６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1143000"/>
            <a:ext cx="934920" cy="358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問　 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627280" y="549360"/>
            <a:ext cx="1584000" cy="396720"/>
            <a:chOff x="2627280" y="549360"/>
            <a:chExt cx="1584000" cy="396720"/>
          </a:xfrm>
        </p:grpSpPr>
        <p:sp>
          <p:nvSpPr>
            <p:cNvPr id="51" name=""/>
            <p:cNvSpPr/>
            <p:nvPr/>
          </p:nvSpPr>
          <p:spPr>
            <a:xfrm>
              <a:off x="2627280" y="549360"/>
              <a:ext cx="158184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671560" y="549360"/>
              <a:ext cx="153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cc"/>
                  </a:solidFill>
                  <a:latin typeface="Times New Roman"/>
                </a:rPr>
                <a:t>確認テスト　</a:t>
              </a: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  <a:ea typeface="lr oSVb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6251400" y="3159000"/>
            <a:ext cx="189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7080" y="1165320"/>
            <a:ext cx="7731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　　　　くふうして，次の小数の計算をしましょ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５．６＋９．８＋０．２　　　　　　②２．５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３２ 　　　　　　　　③９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０．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２４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９．８　　　　　　　　　　　  ⑤５０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４．２　　　　　　　　 ⑥１０２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４．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20640" y="3333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＜計算のきまりを使って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2200" y="1165320"/>
            <a:ext cx="8954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　　　　くふうして，次の小数の計算をしましょ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５．６＋９．８＋０．２　　　　　②２．５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３２ 　　　　　　　③９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０．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　 ＝５．６＋（９．８＋０．２）　　　 ＝（２．５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４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８              ＝（１００ー１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０．６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＝５．６＋１０　　　　　　　　　　 ＝１０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８                           ＝１００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０．６－１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０．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　 ＝１５．６　　　　　　　　　　　　   ＝８０                                 ＝６０－０．６　　　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　　　　　　　　　　　             ＝５９．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２４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９．８　　　　　　　　　　  ⑤５０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４．２　　　　　　　⑥１０２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４．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＝２４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１０－０．２）                ＝（５０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２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２．１           ＝（１００－２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４．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＝２４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１０－２４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０．２          ＝１００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２．１                  ＝１００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４．３－２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４．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＝２４０－４．８                          ＝２１０                              ＝４３０－８．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＝２３５．２                                                                              ＝４２１．４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603040" y="69228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627280" y="549360"/>
            <a:ext cx="1584000" cy="396720"/>
            <a:chOff x="2627280" y="549360"/>
            <a:chExt cx="1584000" cy="396720"/>
          </a:xfrm>
        </p:grpSpPr>
        <p:sp>
          <p:nvSpPr>
            <p:cNvPr id="59" name=""/>
            <p:cNvSpPr/>
            <p:nvPr/>
          </p:nvSpPr>
          <p:spPr>
            <a:xfrm>
              <a:off x="2627280" y="549360"/>
              <a:ext cx="158184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671560" y="549360"/>
              <a:ext cx="153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cc"/>
                  </a:solidFill>
                  <a:latin typeface="Times New Roman"/>
                </a:rPr>
                <a:t>確認テスト　</a:t>
              </a: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  <a:ea typeface="lr oSVb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6236640" y="1890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＜計算のきまりを使って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00:49:45Z</dcterms:created>
  <dc:creator>板野東小学校</dc:creator>
  <dc:description/>
  <dc:language>en-US</dc:language>
  <cp:lastModifiedBy>kangawa-kaori-1</cp:lastModifiedBy>
  <dcterms:modified xsi:type="dcterms:W3CDTF">2007-11-14T06:27:20Z</dcterms:modified>
  <cp:revision>28</cp:revision>
  <dc:subject/>
  <dc:title>PowerPoint プレゼンテーション</dc:title>
</cp:coreProperties>
</file>