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676-4CCD-4785-8C58-BA0331FA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446-2FA6-48F2-91A4-25C4AD6B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603-36E2-4067-9A47-D7ED8ACC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AC0-94E1-4441-ABC2-0DF223FA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531-C35C-46EE-804C-41C21A37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EE4-4236-4542-97CB-0B9F86B5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46B-C5C3-470F-AC20-0AD9F115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37D-2F38-49D3-918F-4706B404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F66-5CF6-43C8-9B16-79F227A1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729-A77D-4A88-9DCC-321A72DA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602-5EAB-4499-8D6A-F9C68ACD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C69-F836-4A56-B05A-5A37784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0A94-57EA-48E7-BBB7-2FD7E4EB4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840" y="457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式のよみ方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0680" y="99072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右の図の☆と◎をあわせた数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次のようにして求めまし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92080" y="1066680"/>
            <a:ext cx="236304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☆☆☆☆☆☆☆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☆☆☆☆☆☆☆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☆☆☆☆☆☆☆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◎◎◎◎◎◎◎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◎◎◎◎◎◎◎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6480" y="1752480"/>
            <a:ext cx="171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ア　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８＋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イ　（３＋２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ウ　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３＋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1080" y="3657600"/>
            <a:ext cx="291960" cy="36828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それぞれ下のどの図で考えたのでしょう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9480" y="4114800"/>
            <a:ext cx="7948440" cy="1699920"/>
            <a:chOff x="609480" y="4114800"/>
            <a:chExt cx="7948440" cy="1699920"/>
          </a:xfrm>
        </p:grpSpPr>
        <p:sp>
          <p:nvSpPr>
            <p:cNvPr id="47" name=""/>
            <p:cNvSpPr/>
            <p:nvPr/>
          </p:nvSpPr>
          <p:spPr>
            <a:xfrm>
              <a:off x="712800" y="4114800"/>
              <a:ext cx="20095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☆☆☆☆☆☆☆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☆☆☆☆☆☆☆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☆☆☆☆☆☆☆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◎◎◎◎◎◎◎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◎◎◎◎◎◎◎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84600" y="4114800"/>
              <a:ext cx="20095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☆☆☆☆☆☆☆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☆☆☆☆☆☆☆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☆☆☆☆☆☆☆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◎◎◎◎◎◎◎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◎◎◎◎◎◎◎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48400" y="4114800"/>
              <a:ext cx="20095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☆☆☆☆☆☆☆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☆☆☆☆☆☆☆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☆☆☆☆☆☆☆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◎◎◎◎◎◎◎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◎◎◎◎◎◎◎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4214520"/>
              <a:ext cx="228600" cy="83844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4400" y="4214520"/>
              <a:ext cx="228600" cy="83844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8960" y="4214520"/>
              <a:ext cx="228600" cy="83844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560" y="4214520"/>
              <a:ext cx="228600" cy="83844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6160" y="4214520"/>
              <a:ext cx="228600" cy="83844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4214520"/>
              <a:ext cx="228600" cy="83844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214520"/>
              <a:ext cx="228600" cy="83844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14600" y="4214520"/>
              <a:ext cx="228600" cy="83844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5052960"/>
              <a:ext cx="228600" cy="68580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14400" y="5052960"/>
              <a:ext cx="228600" cy="68580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052960"/>
              <a:ext cx="228600" cy="68580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7560" y="5052960"/>
              <a:ext cx="228600" cy="68580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52480" y="5052960"/>
              <a:ext cx="228600" cy="68580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81080" y="5052960"/>
              <a:ext cx="228600" cy="68580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09680" y="5052960"/>
              <a:ext cx="228600" cy="68580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14600" y="5052960"/>
              <a:ext cx="228600" cy="68580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480" y="4214520"/>
              <a:ext cx="2209680" cy="8384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80" y="5052960"/>
              <a:ext cx="2209680" cy="76176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57600" y="4214520"/>
              <a:ext cx="2133360" cy="22860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57600" y="4519440"/>
              <a:ext cx="2133360" cy="22860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4824360"/>
              <a:ext cx="2133360" cy="22860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57600" y="5128920"/>
              <a:ext cx="2133360" cy="22860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57600" y="5433840"/>
              <a:ext cx="2133360" cy="22860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57600" y="4214520"/>
              <a:ext cx="2057400" cy="8384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57600" y="5128920"/>
              <a:ext cx="2057400" cy="5335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53080" y="4214520"/>
              <a:ext cx="228600" cy="83844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080" y="5052960"/>
              <a:ext cx="228600" cy="60948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53080" y="4138560"/>
              <a:ext cx="228600" cy="16002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81680" y="4138560"/>
              <a:ext cx="228600" cy="16002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10280" y="4138560"/>
              <a:ext cx="228600" cy="16002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15200" y="4138560"/>
              <a:ext cx="228600" cy="16002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43800" y="4138560"/>
              <a:ext cx="228600" cy="16002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2400" y="4138560"/>
              <a:ext cx="228600" cy="16002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76960" y="4138560"/>
              <a:ext cx="228600" cy="16002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05560" y="4138560"/>
              <a:ext cx="228600" cy="16002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831600" y="579132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ア　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８＋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0" y="579132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ウ　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３＋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40280" y="5791320"/>
            <a:ext cx="16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イ　（３＋２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3213000"/>
            <a:ext cx="93528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556000" y="476280"/>
            <a:ext cx="1654920" cy="396720"/>
            <a:chOff x="2556000" y="476280"/>
            <a:chExt cx="1654920" cy="396720"/>
          </a:xfrm>
        </p:grpSpPr>
        <p:sp>
          <p:nvSpPr>
            <p:cNvPr id="90" name=""/>
            <p:cNvSpPr/>
            <p:nvPr/>
          </p:nvSpPr>
          <p:spPr>
            <a:xfrm>
              <a:off x="2556000" y="476280"/>
              <a:ext cx="16531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02080" y="476280"/>
              <a:ext cx="16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</a:rPr>
                <a:t>確認テスト　</a:t>
              </a: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500120" y="114300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バナナが２ふさずつ入った入れ物が４こあ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１ふさには３本ずつバナナがつい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次の２つの式は，どのように考えてバナナの本数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求めたのでしょうか。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72200" y="91440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5880" y="220968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010280" y="91440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010280" y="220968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172200" y="365760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010280" y="358128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6172200" y="502920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7010280" y="5029200"/>
            <a:ext cx="882720" cy="781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5880" y="685800"/>
            <a:ext cx="1981440" cy="10666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1981080"/>
            <a:ext cx="1981080" cy="10670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352680"/>
            <a:ext cx="1981440" cy="10670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800600"/>
            <a:ext cx="1981440" cy="10666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1320" y="3375000"/>
            <a:ext cx="18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（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7160" y="4495680"/>
            <a:ext cx="18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33640" y="260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式のよみ方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2124000" y="620640"/>
            <a:ext cx="1584000" cy="396720"/>
            <a:chOff x="2124000" y="620640"/>
            <a:chExt cx="1584000" cy="396720"/>
          </a:xfrm>
        </p:grpSpPr>
        <p:sp>
          <p:nvSpPr>
            <p:cNvPr id="109" name=""/>
            <p:cNvSpPr/>
            <p:nvPr/>
          </p:nvSpPr>
          <p:spPr>
            <a:xfrm>
              <a:off x="2124000" y="620640"/>
              <a:ext cx="1581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68280" y="620640"/>
              <a:ext cx="15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</a:rPr>
                <a:t>確認テスト　</a:t>
              </a: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503720" y="1143000"/>
            <a:ext cx="342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バナナが２ふさずつ入った入れ物が４こあ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１ふさには３本ずつバナナがつい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次の２つの式は，どのように考えてバナナの数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求めたのでしょうか。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72200" y="91440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95880" y="220968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010280" y="91440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010280" y="220968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172200" y="365760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010280" y="358128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172200" y="5029200"/>
            <a:ext cx="882720" cy="781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010280" y="5029200"/>
            <a:ext cx="882720" cy="781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5880" y="685800"/>
            <a:ext cx="1981440" cy="10666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1981080"/>
            <a:ext cx="1981080" cy="10670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3352680"/>
            <a:ext cx="1981440" cy="10670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4800600"/>
            <a:ext cx="1981440" cy="10666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1200" y="2666880"/>
            <a:ext cx="18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（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7160" y="4495680"/>
            <a:ext cx="18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43320" y="327672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まず，一つの入れ物に入るバナナの数を求め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次に，入れ物の数をかけ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4720" y="52038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まず，ふさの数をもとめる。つぎに，バナナ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にふさの数をかけ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63400" y="333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06720" y="333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式のよみ方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0:49:45Z</dcterms:created>
  <dc:creator>板野東小学校</dc:creator>
  <dc:description/>
  <dc:language>en-US</dc:language>
  <cp:lastModifiedBy>kangawa-kaori-1</cp:lastModifiedBy>
  <dcterms:modified xsi:type="dcterms:W3CDTF">2007-11-14T06:31:05Z</dcterms:modified>
  <cp:revision>27</cp:revision>
  <dc:subject/>
  <dc:title>PowerPoint プレゼンテーション</dc:title>
</cp:coreProperties>
</file>