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4E7C4-C930-4C2A-A26E-D959C7D4EF7E}"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14051-6968-41AE-A908-5286A35D7258}"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384A5-6D8C-41C1-BDF6-DF5E0C2583BF}"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B6CD9-D01C-42D0-8642-BD52C11CF46B}"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F91B2-56F4-45BE-8B64-ED1982EAF933}"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A5348-6260-4C2B-8DD2-FC1801EA379E}"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F50BF-C8CA-4BB9-846C-93A27816531F}"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9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046C7-D635-499F-8C40-5FD2EAC52A20}"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9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FBB4F-2D76-4109-B0CB-CDA51C709E17}"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9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FF8F1-809C-437C-B3D8-5EA2E34FE071}"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B49C87-104B-4565-8A9F-4653F8C46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D63B2-F55B-48CF-8C0B-CF404867F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3D643-9910-420D-8AD0-7322625241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E58D8-91F6-47D1-A3BA-75BA71F6E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50C93-3806-4E0F-8B00-95B56DF1B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6A784-2D9D-4D1C-9D1C-2C17077CD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D45EA-E1CA-4B68-8DD6-E5F02D97F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593F2-0E64-4252-868D-757558685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D2E2C-6175-40A7-A0EB-F9F7151DC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92C8D-D313-4967-A0B8-E92731C2B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98D26-92CA-441F-82B8-01CC76E11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C2389-E0B0-4D84-9F07-F7E52803FE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AD6A4-A529-42F6-8808-5D32E52FCF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ピアノ音楽へのお誘い</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その魅力を探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バロック音楽</a:t>
            </a:r>
            <a:endParaRPr b="0" lang="en-US" sz="4400" spc="-1" strike="noStrike">
              <a:solidFill>
                <a:srgbClr val="000000"/>
              </a:solidFill>
              <a:latin typeface="Arial"/>
            </a:endParaRPr>
          </a:p>
        </p:txBody>
      </p:sp>
      <p:sp>
        <p:nvSpPr>
          <p:cNvPr id="51" name="PlaceHolder 2"/>
          <p:cNvSpPr>
            <a:spLocks noGrp="1"/>
          </p:cNvSpPr>
          <p:nvPr>
            <p:ph/>
          </p:nvPr>
        </p:nvSpPr>
        <p:spPr>
          <a:xfrm>
            <a:off x="457200" y="3938760"/>
            <a:ext cx="8229600" cy="2187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この時代にはまだ現在のようなピアノは発明されていませんでした。バッハはハープシコードやパイプオルガンなどを使って作曲。複数の旋律を自在に組み合わせ，その絶妙な絡み合いに神の啓示さえ感じることも・・・。</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代表作</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半音階的幻想曲とフーガ」（バッハ）</a:t>
            </a:r>
            <a:endParaRPr b="0" lang="en-US" sz="2400" spc="-1" strike="noStrike">
              <a:solidFill>
                <a:srgbClr val="000000"/>
              </a:solidFill>
              <a:latin typeface="Arial"/>
            </a:endParaRPr>
          </a:p>
        </p:txBody>
      </p:sp>
      <p:pic>
        <p:nvPicPr>
          <p:cNvPr id="52" name="Picture 13" descr="j0189207"/>
          <p:cNvPicPr/>
          <p:nvPr/>
        </p:nvPicPr>
        <p:blipFill>
          <a:blip r:embed="rId1"/>
          <a:stretch/>
        </p:blipFill>
        <p:spPr>
          <a:xfrm>
            <a:off x="5597640" y="1413000"/>
            <a:ext cx="1650960" cy="1974600"/>
          </a:xfrm>
          <a:prstGeom prst="rect">
            <a:avLst/>
          </a:prstGeom>
          <a:ln w="0">
            <a:noFill/>
          </a:ln>
        </p:spPr>
      </p:pic>
      <p:sp>
        <p:nvSpPr>
          <p:cNvPr id="53" name=""/>
          <p:cNvSpPr txBox="1"/>
          <p:nvPr/>
        </p:nvSpPr>
        <p:spPr>
          <a:xfrm>
            <a:off x="457200" y="1600200"/>
            <a:ext cx="4038480" cy="218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古典派音楽</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モーツァルト，ベートーベンに代表される音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ソナタ形式」という音楽上の決まった形が確立し、重んじられました。和声の進行に美しい旋律が・・・。</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モーツァルトの軽快・優美さに比べ，ベートーベンは音域やダイナミックレンジにも幅を広げ，重厚で物憂げな表現は哲学的でさえありま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代表作</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ソナタ熱情」（ベートーベン）</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ソナタ８番イ短調」（モーツァルト）</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ロマン派音楽</a:t>
            </a:r>
            <a:endParaRPr b="0" lang="en-US" sz="4400" spc="-1" strike="noStrike">
              <a:solidFill>
                <a:srgbClr val="000000"/>
              </a:solidFill>
              <a:latin typeface="Arial"/>
            </a:endParaRPr>
          </a:p>
        </p:txBody>
      </p:sp>
      <p:sp>
        <p:nvSpPr>
          <p:cNvPr id="57"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ピアノ音楽百花繚乱の時代。</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ューベルトがメロディーの美しさを強調。</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ューマンが文学とのつながりを見せま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ョパンはピアノの表現力を最大限にひきのばしました。</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トが技巧性や音階などの解釈の幅を広げました。</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ブラームスは古典的な形式を重視しながらも，重厚で思索的な作品を発表しました。</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代表作　う～ん，多すぎて難し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後期ロマン派・国民楽派音楽</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ムソルグスキーやバラキレフなどによって民族音楽独特の音階やリズムを取り入れたピアノ音楽が・・・。国際色豊かな表現でピアノ音楽にも奥行きが広がりました。</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一方，ラフマニノフなどによってアカデミックな手法はさらに精緻を極め，より色彩豊かに，よりきらびやかに。</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代表作</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展覧会の絵」（ムソルグスキー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東洋風幻想曲イスラメイ」（バラキレフ）</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前奏曲集」（ラフマニノフ）</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印象派</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solidFill>
            <a:srgbClr val="ccffff"/>
          </a:solidFill>
          <a:ln w="9360">
            <a:solidFill>
              <a:srgbClr val="ccffff"/>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ドビュッシー，ラベルが確立したといわれま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見たままの対象（風景など）をそのまま音楽に表現した写実的なものや心に感じたそのものを表現した印象派そのものといったものまで・・・。</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しかし，この両者には明確な違いが・・・分かる人には分かるのですが・・・。</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代表作</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夜のガスパール」（ラヴェル）</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プレリュード」（ドビュッシ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近代音楽</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ストラヴィンスキーに代表される音楽。原始的なリズム，調性や音階に制約されない曲作りが特徴。映画音楽などで複雑な心境や非現実的な場面などを表現するのに効果的です。しかし，一般の鑑賞には難解なものが多いと敬遠されがち。</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代表作</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ペトルーシュカからの３楽章」（ストラヴィンスキ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ピアノ曲をお楽しみください</a:t>
            </a:r>
            <a:endParaRPr b="0" lang="en-US" sz="4400" spc="-1" strike="noStrike">
              <a:solidFill>
                <a:srgbClr val="000000"/>
              </a:solidFill>
              <a:latin typeface="Arial"/>
            </a:endParaRPr>
          </a:p>
        </p:txBody>
      </p:sp>
      <p:sp>
        <p:nvSpPr>
          <p:cNvPr id="65" name="PlaceHolder 2"/>
          <p:cNvSpPr>
            <a:spLocks noGrp="1"/>
          </p:cNvSpPr>
          <p:nvPr>
            <p:ph/>
          </p:nvPr>
        </p:nvSpPr>
        <p:spPr>
          <a:xfrm>
            <a:off x="3419280" y="1413000"/>
            <a:ext cx="5267160" cy="47131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さて、ここでは、私が作曲したピアノ独奏のための曲を聞いてもらいましょう。</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パッション</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ロマンス</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ルカロール（舟歌）</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ケルツォ</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次の曲は、ピアノと打楽器のための曲です。</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ＮＡＫＡＴＵＮＯ（ピアノと打楽器のための祭り囃子）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曲をきくためには、上の曲名をクリックしてください。</a:t>
            </a:r>
            <a:endParaRPr b="0" lang="en-US" sz="1600" spc="-1" strike="noStrike">
              <a:solidFill>
                <a:srgbClr val="000000"/>
              </a:solidFill>
              <a:latin typeface="Arial"/>
            </a:endParaRPr>
          </a:p>
        </p:txBody>
      </p:sp>
      <p:pic>
        <p:nvPicPr>
          <p:cNvPr id="66" name="Picture 16" descr="j0198905"/>
          <p:cNvPicPr/>
          <p:nvPr/>
        </p:nvPicPr>
        <p:blipFill>
          <a:blip r:embed="rId1"/>
          <a:stretch/>
        </p:blipFill>
        <p:spPr>
          <a:xfrm>
            <a:off x="611280" y="1484280"/>
            <a:ext cx="1722240" cy="1630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ここでクイズゲームです！</a:t>
            </a:r>
            <a:endParaRPr b="0" lang="en-US" sz="4400" spc="-1" strike="noStrike">
              <a:solidFill>
                <a:srgbClr val="000000"/>
              </a:solidFill>
              <a:latin typeface="Arial"/>
            </a:endParaRPr>
          </a:p>
        </p:txBody>
      </p:sp>
      <p:sp>
        <p:nvSpPr>
          <p:cNvPr id="68" name="Rectangle 11"/>
          <p:cNvSpPr/>
          <p:nvPr/>
        </p:nvSpPr>
        <p:spPr>
          <a:xfrm>
            <a:off x="1979640" y="3357720"/>
            <a:ext cx="3672000" cy="122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ゲーム開始ボタン</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ここをクリックしてください</a:t>
            </a:r>
            <a:endParaRPr b="0" lang="en-US" sz="2000" spc="-1" strike="noStrike">
              <a:solidFill>
                <a:srgbClr val="000000"/>
              </a:solidFill>
              <a:latin typeface="Arial"/>
            </a:endParaRPr>
          </a:p>
        </p:txBody>
      </p:sp>
      <p:sp>
        <p:nvSpPr>
          <p:cNvPr id="69" name="Text Box 13"/>
          <p:cNvSpPr/>
          <p:nvPr/>
        </p:nvSpPr>
        <p:spPr>
          <a:xfrm>
            <a:off x="2752560" y="1989000"/>
            <a:ext cx="1460880" cy="106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Arial"/>
              </a:rPr>
              <a:t>ゲームの始め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u="sng">
                <a:solidFill>
                  <a:srgbClr val="000000"/>
                </a:solidFill>
                <a:uFillTx/>
                <a:latin typeface="Arial"/>
              </a:rPr>
              <a:t>１．この下をクリックしてくださ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u="sng">
                <a:solidFill>
                  <a:srgbClr val="000000"/>
                </a:solidFill>
                <a:uFillTx/>
                <a:latin typeface="Arial"/>
              </a:rPr>
              <a:t>２．出てきたファイル（音楽ゲーム）を開いてください。</a:t>
            </a:r>
            <a:endParaRPr b="0" lang="en-US" sz="2000" spc="-1" strike="noStrike">
              <a:solidFill>
                <a:srgbClr val="000000"/>
              </a:solidFill>
              <a:latin typeface="Arial"/>
            </a:endParaRPr>
          </a:p>
        </p:txBody>
      </p:sp>
      <p:sp>
        <p:nvSpPr>
          <p:cNvPr id="70" name="Text Box 14"/>
          <p:cNvSpPr/>
          <p:nvPr/>
        </p:nvSpPr>
        <p:spPr>
          <a:xfrm>
            <a:off x="900000" y="4876920"/>
            <a:ext cx="7313760" cy="198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Arial"/>
              </a:rPr>
              <a:t>ゲームのルール</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u="sng">
                <a:solidFill>
                  <a:srgbClr val="000000"/>
                </a:solidFill>
                <a:uFillTx/>
                <a:latin typeface="Arial"/>
              </a:rPr>
              <a:t>１．上から作曲者の名前が降りてきま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u="sng">
                <a:solidFill>
                  <a:srgbClr val="000000"/>
                </a:solidFill>
                <a:uFillTx/>
                <a:latin typeface="Arial"/>
              </a:rPr>
              <a:t>２．その作曲者に当てはまるボックスをダブルクリックしてくださ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u="sng">
                <a:solidFill>
                  <a:srgbClr val="000000"/>
                </a:solidFill>
                <a:uFillTx/>
                <a:latin typeface="Arial"/>
              </a:rPr>
              <a:t>３．正解の場合は、「正解」と表示され、まちがった場合は、そのま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u="sng">
                <a:solidFill>
                  <a:srgbClr val="000000"/>
                </a:solidFill>
                <a:uFillTx/>
                <a:latin typeface="Arial"/>
              </a:rPr>
              <a:t>　　作曲者名が降りてきま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WordArt 16"/>
          <p:cNvSpPr txBox="1"/>
          <p:nvPr/>
        </p:nvSpPr>
        <p:spPr>
          <a:xfrm>
            <a:off x="395280" y="907920"/>
            <a:ext cx="8209080" cy="936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ＭＳ Ｐゴシック"/>
              </a:rPr>
              <a:t>さあ、君は何問続けて正解することができるかな？！</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ＭＳ Ｐゴシック"/>
              <a:ea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9T05:36:26Z</dcterms:created>
  <dc:creator/>
  <dc:description/>
  <dc:language>en-US</dc:language>
  <cp:lastModifiedBy/>
  <dcterms:modified xsi:type="dcterms:W3CDTF">2010-09-09T05:37:58Z</dcterms:modified>
  <cp:revision>1</cp:revision>
  <dc:subject/>
  <dc:title/>
</cp:coreProperties>
</file>