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877-A09C-4E06-9B3A-4DFCF2E4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BC1-1B31-4563-94B1-8188EB4A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E27-1C0E-46E8-9BC7-B002091A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273-9E92-495F-918B-EF8FEA9D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8B8-E560-489F-9B0D-0F45AAB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6F5-D124-497A-8A12-9965775B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7E7-45BC-4042-9511-318D45C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033-0292-4435-9EBE-50F3AF51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C28-CF2C-4902-ACE8-5B969B2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82E-ABD7-40F6-879A-EF25321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A70-8992-48FD-B9A7-0E79422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634-39CA-4820-B1BE-7E86057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B514-8CF0-4394-9106-D58D2AEB3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76920" y="1447920"/>
            <a:ext cx="251604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ＭＳ Ｐゴシック"/>
              </a:rPr>
              <a:t>２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ＭＳ Ｐゴシック"/>
              <a:ea typeface="ＭＳ Ｐゴシック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66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962520" y="1447920"/>
            <a:ext cx="166680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174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078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85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89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962520" y="1447920"/>
            <a:ext cx="166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9625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952880" y="1447920"/>
            <a:ext cx="1667160" cy="266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74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078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985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9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1447920"/>
            <a:ext cx="6620040" cy="2666880"/>
            <a:chOff x="0" y="1447920"/>
            <a:chExt cx="6620040" cy="26668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99072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1981080" y="1447920"/>
              <a:ext cx="1667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97180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396252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4952880" y="1447920"/>
              <a:ext cx="166716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9625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9528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943600" y="1447920"/>
            <a:ext cx="1666800" cy="266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174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078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985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89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96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703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625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9528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943600" y="1447920"/>
            <a:ext cx="166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27144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1928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0964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70036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69108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468144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567216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6662880" y="1447920"/>
            <a:ext cx="1666800" cy="2666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456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3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70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174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816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888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9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7144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928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0964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70036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69108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68144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67216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6662880" y="1447920"/>
            <a:ext cx="166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0492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6765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6668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6576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6483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56386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62940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7620120" y="1447920"/>
            <a:ext cx="1666800" cy="2666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982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25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032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36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843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50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654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561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68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304920" y="1447920"/>
            <a:ext cx="16671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685800" y="1447920"/>
            <a:ext cx="7610400" cy="2666880"/>
            <a:chOff x="685800" y="1447920"/>
            <a:chExt cx="7610400" cy="26668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8580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67652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2666880" y="1447920"/>
              <a:ext cx="1667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365760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464832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7"/>
            <a:stretch/>
          </p:blipFill>
          <p:spPr>
            <a:xfrm>
              <a:off x="5638680" y="1447920"/>
              <a:ext cx="1667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629400" y="1447920"/>
              <a:ext cx="1666800" cy="26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7620120" y="1447920"/>
            <a:ext cx="1666800" cy="2666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9828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5444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6668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5052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3433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181400" y="1523880"/>
            <a:ext cx="1857600" cy="2971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501984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5857920" y="1523880"/>
            <a:ext cx="185724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6696000" y="1523880"/>
            <a:ext cx="1857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85724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74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74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78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6680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744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078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852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9736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166680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166716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6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6:17:21Z</dcterms:modified>
  <cp:revision>34</cp:revision>
  <dc:subject/>
  <dc:title>PowerPoint プレゼンテーション</dc:title>
</cp:coreProperties>
</file>