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F06B-4D1F-4807-A9CF-6EF8858C8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33E0-BC93-4CAE-9A2B-E466BF0D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CE87-D939-4FB9-A4C3-D8BBF3ECF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0008-DB86-4A74-943C-30F116197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2BCD-100D-4C39-BD3D-B27DC7D7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8311-B192-4CA2-A1D1-7E35463E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F783-65C3-4ECE-9EF4-7D254B13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9F70-8D49-4126-8F22-108E3752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D9F3-8BF1-49DD-A56A-16308131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0340-FA45-4064-951C-6595D59F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C9FC-7FB6-4E9B-843B-51A005CE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E1DE-B885-4CF1-983F-04140046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91CA-FF8F-425E-9A15-3685EA6D725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76920" y="1447920"/>
            <a:ext cx="2516040" cy="366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5840">
                  <a:solidFill>
                    <a:srgbClr val="ffcc99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ＭＳ Ｐゴシック"/>
              </a:rPr>
              <a:t>３</a:t>
            </a:r>
            <a:endParaRPr b="0" lang="en-US" sz="9600" spc="1" strike="noStrike">
              <a:ln w="15840">
                <a:solidFill>
                  <a:srgbClr val="ffcc99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ＭＳ Ｐゴシック"/>
              <a:ea typeface="ＭＳ Ｐゴシック"/>
            </a:endParaRPr>
          </a:p>
        </p:txBody>
      </p:sp>
      <p:pic>
        <p:nvPicPr>
          <p:cNvPr id="42" name="３×１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253656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79648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330120" y="685800"/>
            <a:ext cx="1585800" cy="3276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5800" y="685800"/>
            <a:ext cx="1585800" cy="3276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706400" y="685800"/>
            <a:ext cx="1586160" cy="3276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727360" y="685800"/>
            <a:ext cx="1585800" cy="3276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3746520" y="685800"/>
            <a:ext cx="1585800" cy="3276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82280" y="1981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73000" y="1981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39680" y="1981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30400" y="1981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79648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51560" y="4651200"/>
            <a:ext cx="250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５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-330120" y="685800"/>
            <a:ext cx="5662440" cy="3276720"/>
            <a:chOff x="-330120" y="685800"/>
            <a:chExt cx="5662440" cy="327672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-330120" y="685800"/>
              <a:ext cx="1585800" cy="327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685800" y="685800"/>
              <a:ext cx="1585800" cy="327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3"/>
            <a:stretch/>
          </p:blipFill>
          <p:spPr>
            <a:xfrm>
              <a:off x="1706400" y="685800"/>
              <a:ext cx="1586160" cy="327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2727360" y="685800"/>
              <a:ext cx="1585800" cy="327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5"/>
            <a:stretch/>
          </p:blipFill>
          <p:spPr>
            <a:xfrm>
              <a:off x="3746520" y="685800"/>
              <a:ext cx="1585800" cy="327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9648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330120" y="762120"/>
            <a:ext cx="1585800" cy="3276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5800" y="762120"/>
            <a:ext cx="1585800" cy="3276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06400" y="762120"/>
            <a:ext cx="1586160" cy="3276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2727360" y="762120"/>
            <a:ext cx="1585800" cy="3276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3746520" y="762120"/>
            <a:ext cx="1585800" cy="3276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4767120" y="762120"/>
            <a:ext cx="1586160" cy="3276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8228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7300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3968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3040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2076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50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79648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51560" y="4651200"/>
            <a:ext cx="250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６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-330120" y="762120"/>
            <a:ext cx="6683400" cy="3276360"/>
            <a:chOff x="-330120" y="762120"/>
            <a:chExt cx="6683400" cy="327636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-330120" y="762120"/>
              <a:ext cx="1585800" cy="32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685800" y="762120"/>
              <a:ext cx="1585800" cy="32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3"/>
            <a:stretch/>
          </p:blipFill>
          <p:spPr>
            <a:xfrm>
              <a:off x="1706400" y="762120"/>
              <a:ext cx="1586160" cy="32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4"/>
            <a:stretch/>
          </p:blipFill>
          <p:spPr>
            <a:xfrm>
              <a:off x="2727360" y="762120"/>
              <a:ext cx="1585800" cy="32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3746520" y="762120"/>
              <a:ext cx="1585800" cy="32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6"/>
            <a:stretch/>
          </p:blipFill>
          <p:spPr>
            <a:xfrm>
              <a:off x="4767120" y="762120"/>
              <a:ext cx="1586160" cy="32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79648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-304920" y="685800"/>
            <a:ext cx="1586160" cy="3276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11360" y="685800"/>
            <a:ext cx="1585800" cy="3276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731960" y="685800"/>
            <a:ext cx="1585800" cy="3276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2752560" y="685800"/>
            <a:ext cx="1586160" cy="3276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3772080" y="685800"/>
            <a:ext cx="1585800" cy="3276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792680" y="685800"/>
            <a:ext cx="1585800" cy="3276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5813280" y="685800"/>
            <a:ext cx="1586160" cy="3276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807840" y="1981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98200" y="1981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65240" y="1981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55600" y="1981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46320" y="1981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13000" y="1981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500"/>
                            </p:stCondLst>
                            <p:childTnLst>
                              <p:par>
                                <p:cTn id="2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500"/>
                            </p:stCondLst>
                            <p:childTnLst>
                              <p:par>
                                <p:cTn id="2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0"/>
                            </p:stCondLst>
                            <p:childTnLst>
                              <p:par>
                                <p:cTn id="3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500"/>
                            </p:stCondLst>
                            <p:childTnLst>
                              <p:par>
                                <p:cTn id="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79648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51560" y="4651200"/>
            <a:ext cx="250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７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-304920" y="685800"/>
            <a:ext cx="7704360" cy="3276720"/>
            <a:chOff x="-304920" y="685800"/>
            <a:chExt cx="7704360" cy="327672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-304920" y="685800"/>
              <a:ext cx="1586160" cy="327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711360" y="685800"/>
              <a:ext cx="1585800" cy="327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1731960" y="685800"/>
              <a:ext cx="1585800" cy="327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4"/>
            <a:stretch/>
          </p:blipFill>
          <p:spPr>
            <a:xfrm>
              <a:off x="2752560" y="685800"/>
              <a:ext cx="1586160" cy="327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5"/>
            <a:stretch/>
          </p:blipFill>
          <p:spPr>
            <a:xfrm>
              <a:off x="3772080" y="685800"/>
              <a:ext cx="1585800" cy="327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6"/>
            <a:stretch/>
          </p:blipFill>
          <p:spPr>
            <a:xfrm>
              <a:off x="4792680" y="685800"/>
              <a:ext cx="1585800" cy="327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7"/>
            <a:stretch/>
          </p:blipFill>
          <p:spPr>
            <a:xfrm>
              <a:off x="5813280" y="685800"/>
              <a:ext cx="1586160" cy="327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79648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-330120" y="762120"/>
            <a:ext cx="1585800" cy="3276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85800" y="762120"/>
            <a:ext cx="1585800" cy="3276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706400" y="762120"/>
            <a:ext cx="1586160" cy="3276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2727360" y="762120"/>
            <a:ext cx="1585800" cy="3276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3746520" y="762120"/>
            <a:ext cx="1585800" cy="3276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4767120" y="762120"/>
            <a:ext cx="1586160" cy="3276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7"/>
          <a:stretch/>
        </p:blipFill>
        <p:spPr>
          <a:xfrm>
            <a:off x="5788080" y="762120"/>
            <a:ext cx="1585800" cy="3276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8"/>
          <a:stretch/>
        </p:blipFill>
        <p:spPr>
          <a:xfrm>
            <a:off x="6808680" y="762120"/>
            <a:ext cx="1586160" cy="32763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8228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7300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3968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3040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2076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8780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7816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500"/>
                            </p:stCondLst>
                            <p:childTnLst>
                              <p:par>
                                <p:cTn id="3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000"/>
                            </p:stCondLst>
                            <p:childTnLst>
                              <p:par>
                                <p:cTn id="3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500"/>
                            </p:stCondLst>
                            <p:childTnLst>
                              <p:par>
                                <p:cTn id="3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000"/>
                            </p:stCondLst>
                            <p:childTnLst>
                              <p:par>
                                <p:cTn id="3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500"/>
                            </p:stCondLst>
                            <p:childTnLst>
                              <p:par>
                                <p:cTn id="3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500"/>
                            </p:stCondLst>
                            <p:childTnLst>
                              <p:par>
                                <p:cTn id="3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500"/>
                            </p:stCondLst>
                            <p:childTnLst>
                              <p:par>
                                <p:cTn id="3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000"/>
                            </p:stCondLst>
                            <p:childTnLst>
                              <p:par>
                                <p:cTn id="3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79648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51560" y="4651200"/>
            <a:ext cx="250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８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-330120" y="762120"/>
            <a:ext cx="8724960" cy="3276360"/>
            <a:chOff x="-330120" y="762120"/>
            <a:chExt cx="8724960" cy="3276360"/>
          </a:xfrm>
        </p:grpSpPr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-330120" y="762120"/>
              <a:ext cx="1585800" cy="32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685800" y="762120"/>
              <a:ext cx="1585800" cy="32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3"/>
            <a:stretch/>
          </p:blipFill>
          <p:spPr>
            <a:xfrm>
              <a:off x="1706400" y="762120"/>
              <a:ext cx="1586160" cy="32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4"/>
            <a:stretch/>
          </p:blipFill>
          <p:spPr>
            <a:xfrm>
              <a:off x="2727360" y="762120"/>
              <a:ext cx="1585800" cy="32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5"/>
            <a:stretch/>
          </p:blipFill>
          <p:spPr>
            <a:xfrm>
              <a:off x="3746520" y="762120"/>
              <a:ext cx="1585800" cy="32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6"/>
            <a:stretch/>
          </p:blipFill>
          <p:spPr>
            <a:xfrm>
              <a:off x="4767120" y="762120"/>
              <a:ext cx="1586160" cy="32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7"/>
            <a:stretch/>
          </p:blipFill>
          <p:spPr>
            <a:xfrm>
              <a:off x="5788080" y="762120"/>
              <a:ext cx="1585800" cy="32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8"/>
            <a:stretch/>
          </p:blipFill>
          <p:spPr>
            <a:xfrm>
              <a:off x="6808680" y="762120"/>
              <a:ext cx="1586160" cy="32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79648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-343080" y="685800"/>
            <a:ext cx="1586160" cy="32767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73200" y="685800"/>
            <a:ext cx="1585800" cy="3276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1693800" y="685800"/>
            <a:ext cx="1585800" cy="3276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2714760" y="685800"/>
            <a:ext cx="1585800" cy="3276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3733920" y="685800"/>
            <a:ext cx="1585800" cy="3276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4754520" y="685800"/>
            <a:ext cx="1585800" cy="3276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7"/>
          <a:stretch/>
        </p:blipFill>
        <p:spPr>
          <a:xfrm>
            <a:off x="5775480" y="685800"/>
            <a:ext cx="1585800" cy="32767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8"/>
          <a:stretch/>
        </p:blipFill>
        <p:spPr>
          <a:xfrm>
            <a:off x="6796080" y="685800"/>
            <a:ext cx="1585800" cy="3276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9"/>
          <a:stretch/>
        </p:blipFill>
        <p:spPr>
          <a:xfrm>
            <a:off x="7810560" y="685800"/>
            <a:ext cx="1585800" cy="32767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69680" y="1981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60040" y="1981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27080" y="1981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17440" y="1981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08160" y="1981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74840" y="1981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65560" y="1981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932240" y="1981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500"/>
                            </p:stCondLst>
                            <p:childTnLst>
                              <p:par>
                                <p:cTn id="4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4000"/>
                            </p:stCondLst>
                            <p:childTnLst>
                              <p:par>
                                <p:cTn id="4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4500"/>
                            </p:stCondLst>
                            <p:childTnLst>
                              <p:par>
                                <p:cTn id="4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0"/>
                            </p:stCondLst>
                            <p:childTnLst>
                              <p:par>
                                <p:cTn id="4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500"/>
                            </p:stCondLst>
                            <p:childTnLst>
                              <p:par>
                                <p:cTn id="4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6000"/>
                            </p:stCondLst>
                            <p:childTnLst>
                              <p:par>
                                <p:cTn id="4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6500"/>
                            </p:stCondLst>
                            <p:childTnLst>
                              <p:par>
                                <p:cTn id="4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7000"/>
                            </p:stCondLst>
                            <p:childTnLst>
                              <p:par>
                                <p:cTn id="4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7500"/>
                            </p:stCondLst>
                            <p:childTnLst>
                              <p:par>
                                <p:cTn id="4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8000"/>
                            </p:stCondLst>
                            <p:childTnLst>
                              <p:par>
                                <p:cTn id="4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79648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-343080" y="685800"/>
            <a:ext cx="1586160" cy="327672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673200" y="685800"/>
            <a:ext cx="8723160" cy="3276720"/>
            <a:chOff x="673200" y="685800"/>
            <a:chExt cx="8723160" cy="3276720"/>
          </a:xfrm>
        </p:grpSpPr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673200" y="685800"/>
              <a:ext cx="1585800" cy="327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3"/>
            <a:stretch/>
          </p:blipFill>
          <p:spPr>
            <a:xfrm>
              <a:off x="1693800" y="685800"/>
              <a:ext cx="1585800" cy="327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4"/>
            <a:stretch/>
          </p:blipFill>
          <p:spPr>
            <a:xfrm>
              <a:off x="2714760" y="685800"/>
              <a:ext cx="1585800" cy="327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5"/>
            <a:stretch/>
          </p:blipFill>
          <p:spPr>
            <a:xfrm>
              <a:off x="3733920" y="685800"/>
              <a:ext cx="1585800" cy="327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6"/>
            <a:stretch/>
          </p:blipFill>
          <p:spPr>
            <a:xfrm>
              <a:off x="4754520" y="685800"/>
              <a:ext cx="1585800" cy="327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7"/>
            <a:stretch/>
          </p:blipFill>
          <p:spPr>
            <a:xfrm>
              <a:off x="5775480" y="685800"/>
              <a:ext cx="1585800" cy="327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8"/>
            <a:stretch/>
          </p:blipFill>
          <p:spPr>
            <a:xfrm>
              <a:off x="6796080" y="685800"/>
              <a:ext cx="1585800" cy="327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9"/>
            <a:stretch/>
          </p:blipFill>
          <p:spPr>
            <a:xfrm>
              <a:off x="7810560" y="685800"/>
              <a:ext cx="1585800" cy="327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"/>
          <p:cNvSpPr/>
          <p:nvPr/>
        </p:nvSpPr>
        <p:spPr>
          <a:xfrm>
            <a:off x="3751560" y="4651200"/>
            <a:ext cx="250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９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79648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04920" y="685800"/>
            <a:ext cx="15861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３－１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1714680" cy="3543480"/>
          </a:xfrm>
          <a:prstGeom prst="rect">
            <a:avLst/>
          </a:prstGeom>
          <a:ln w="0">
            <a:noFill/>
          </a:ln>
        </p:spPr>
      </p:pic>
      <p:pic>
        <p:nvPicPr>
          <p:cNvPr id="204" name="３－２" descr=""/>
          <p:cNvPicPr/>
          <p:nvPr/>
        </p:nvPicPr>
        <p:blipFill>
          <a:blip r:embed="rId2"/>
          <a:stretch/>
        </p:blipFill>
        <p:spPr>
          <a:xfrm>
            <a:off x="990720" y="838080"/>
            <a:ext cx="1714320" cy="3543480"/>
          </a:xfrm>
          <a:prstGeom prst="rect">
            <a:avLst/>
          </a:prstGeom>
          <a:ln w="0">
            <a:noFill/>
          </a:ln>
        </p:spPr>
      </p:pic>
      <p:pic>
        <p:nvPicPr>
          <p:cNvPr id="205" name="３－３" descr=""/>
          <p:cNvPicPr/>
          <p:nvPr/>
        </p:nvPicPr>
        <p:blipFill>
          <a:blip r:embed="rId3"/>
          <a:stretch/>
        </p:blipFill>
        <p:spPr>
          <a:xfrm>
            <a:off x="1752480" y="838080"/>
            <a:ext cx="1714680" cy="3543480"/>
          </a:xfrm>
          <a:prstGeom prst="rect">
            <a:avLst/>
          </a:prstGeom>
          <a:ln w="0">
            <a:noFill/>
          </a:ln>
        </p:spPr>
      </p:pic>
      <p:pic>
        <p:nvPicPr>
          <p:cNvPr id="206" name="３－４" descr=""/>
          <p:cNvPicPr/>
          <p:nvPr/>
        </p:nvPicPr>
        <p:blipFill>
          <a:blip r:embed="rId4"/>
          <a:stretch/>
        </p:blipFill>
        <p:spPr>
          <a:xfrm>
            <a:off x="2514600" y="838080"/>
            <a:ext cx="1714680" cy="3543480"/>
          </a:xfrm>
          <a:prstGeom prst="rect">
            <a:avLst/>
          </a:prstGeom>
          <a:ln w="0">
            <a:noFill/>
          </a:ln>
        </p:spPr>
      </p:pic>
      <p:pic>
        <p:nvPicPr>
          <p:cNvPr id="207" name="３－５" descr=""/>
          <p:cNvPicPr/>
          <p:nvPr/>
        </p:nvPicPr>
        <p:blipFill>
          <a:blip r:embed="rId5"/>
          <a:stretch/>
        </p:blipFill>
        <p:spPr>
          <a:xfrm>
            <a:off x="3276720" y="838080"/>
            <a:ext cx="1714320" cy="3543480"/>
          </a:xfrm>
          <a:prstGeom prst="rect">
            <a:avLst/>
          </a:prstGeom>
          <a:ln w="0">
            <a:noFill/>
          </a:ln>
        </p:spPr>
      </p:pic>
      <p:pic>
        <p:nvPicPr>
          <p:cNvPr id="208" name="３－６" descr=""/>
          <p:cNvPicPr/>
          <p:nvPr/>
        </p:nvPicPr>
        <p:blipFill>
          <a:blip r:embed="rId6"/>
          <a:stretch/>
        </p:blipFill>
        <p:spPr>
          <a:xfrm>
            <a:off x="4038480" y="838080"/>
            <a:ext cx="1714680" cy="3543480"/>
          </a:xfrm>
          <a:prstGeom prst="rect">
            <a:avLst/>
          </a:prstGeom>
          <a:ln w="0">
            <a:noFill/>
          </a:ln>
        </p:spPr>
      </p:pic>
      <p:pic>
        <p:nvPicPr>
          <p:cNvPr id="209" name="３－７" descr=""/>
          <p:cNvPicPr/>
          <p:nvPr/>
        </p:nvPicPr>
        <p:blipFill>
          <a:blip r:embed="rId7"/>
          <a:stretch/>
        </p:blipFill>
        <p:spPr>
          <a:xfrm>
            <a:off x="4800600" y="838080"/>
            <a:ext cx="1714680" cy="3543480"/>
          </a:xfrm>
          <a:prstGeom prst="rect">
            <a:avLst/>
          </a:prstGeom>
          <a:ln w="0">
            <a:noFill/>
          </a:ln>
        </p:spPr>
      </p:pic>
      <p:pic>
        <p:nvPicPr>
          <p:cNvPr id="210" name="３－８" descr=""/>
          <p:cNvPicPr/>
          <p:nvPr/>
        </p:nvPicPr>
        <p:blipFill>
          <a:blip r:embed="rId8"/>
          <a:stretch/>
        </p:blipFill>
        <p:spPr>
          <a:xfrm>
            <a:off x="5562720" y="838080"/>
            <a:ext cx="1714320" cy="3543480"/>
          </a:xfrm>
          <a:prstGeom prst="rect">
            <a:avLst/>
          </a:prstGeom>
          <a:ln w="0">
            <a:noFill/>
          </a:ln>
        </p:spPr>
      </p:pic>
      <p:pic>
        <p:nvPicPr>
          <p:cNvPr id="211" name="３－９" descr=""/>
          <p:cNvPicPr/>
          <p:nvPr/>
        </p:nvPicPr>
        <p:blipFill>
          <a:blip r:embed="rId9"/>
          <a:stretch/>
        </p:blipFill>
        <p:spPr>
          <a:xfrm>
            <a:off x="6324480" y="838080"/>
            <a:ext cx="17146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79648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51560" y="4651200"/>
            <a:ext cx="250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１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04920" y="685800"/>
            <a:ext cx="15861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9648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04920" y="685800"/>
            <a:ext cx="1586160" cy="3276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11360" y="685800"/>
            <a:ext cx="1585800" cy="3276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07840" y="1981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79648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51560" y="4651200"/>
            <a:ext cx="250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２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304920" y="685800"/>
            <a:ext cx="1586160" cy="3276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11360" y="685800"/>
            <a:ext cx="15858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79648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330120" y="673200"/>
            <a:ext cx="1585800" cy="3276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5800" y="685800"/>
            <a:ext cx="1585800" cy="327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706400" y="673200"/>
            <a:ext cx="1586160" cy="3276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82280" y="1968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73000" y="1968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79648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51560" y="4651200"/>
            <a:ext cx="250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-330120" y="673200"/>
            <a:ext cx="3622680" cy="3289320"/>
            <a:chOff x="-330120" y="673200"/>
            <a:chExt cx="3622680" cy="328932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-330120" y="673200"/>
              <a:ext cx="1585800" cy="32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685800" y="685800"/>
              <a:ext cx="1585800" cy="327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3"/>
            <a:stretch/>
          </p:blipFill>
          <p:spPr>
            <a:xfrm>
              <a:off x="1706400" y="673200"/>
              <a:ext cx="1586160" cy="32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79648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360360" y="685800"/>
            <a:ext cx="1585800" cy="3276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55560" y="685800"/>
            <a:ext cx="1586160" cy="3276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676520" y="685800"/>
            <a:ext cx="1585800" cy="3276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2697120" y="685800"/>
            <a:ext cx="1585800" cy="3276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52040" y="1981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42760" y="1981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09440" y="1981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79648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51560" y="4651200"/>
            <a:ext cx="250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４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-360360" y="685800"/>
            <a:ext cx="4643280" cy="3276720"/>
            <a:chOff x="-360360" y="685800"/>
            <a:chExt cx="4643280" cy="3276720"/>
          </a:xfrm>
        </p:grpSpPr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-360360" y="685800"/>
              <a:ext cx="1585800" cy="327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655560" y="685800"/>
              <a:ext cx="1586160" cy="327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1676520" y="685800"/>
              <a:ext cx="1585800" cy="327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4"/>
            <a:stretch/>
          </p:blipFill>
          <p:spPr>
            <a:xfrm>
              <a:off x="2697120" y="685800"/>
              <a:ext cx="1585800" cy="327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04:04:00Z</dcterms:created>
  <dc:creator>ikka14</dc:creator>
  <dc:description/>
  <dc:language>en-US</dc:language>
  <cp:lastModifiedBy>T.Takeuchi</cp:lastModifiedBy>
  <dcterms:modified xsi:type="dcterms:W3CDTF">2004-03-10T06:36:30Z</dcterms:modified>
  <cp:revision>33</cp:revision>
  <dc:subject/>
  <dc:title>PowerPoint プレゼンテーション</dc:title>
</cp:coreProperties>
</file>