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6BF-2333-42DA-9BE1-80C38AF5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327-0735-4504-ACD5-A44A7CAE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550-1DD8-4CEE-BCD6-EC623423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CDC-F93B-42DE-B419-8A8EA92E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CDC-8545-435E-B860-D0CAF610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E23-935E-41E2-81C8-8C944EBC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8D5-BC84-4DEF-955D-2DB5D2F4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BEB-429A-4C86-8E33-F7D0DF2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42D-4AB4-4C59-8360-5D71831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D52-7BE0-4648-85B1-1CAC496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5F-F3B9-4C43-9CE4-C848960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9E4-6201-4E31-9E2D-9B99E70D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DDD-A391-4658-A4DB-527D50888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0696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5840">
                  <a:solidFill>
                    <a:srgbClr val="ffff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９</a:t>
            </a:r>
            <a:endParaRPr b="0" lang="en-US" sz="9600" spc="1" strike="noStrike">
              <a:ln w="15840">
                <a:solidFill>
                  <a:srgbClr val="ffff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84360" y="0"/>
            <a:ext cx="142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895560" y="0"/>
            <a:ext cx="1163880" cy="5584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948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0"/>
            <a:ext cx="4525920" cy="5584680"/>
            <a:chOff x="533520" y="0"/>
            <a:chExt cx="4525920" cy="55846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38955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8955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35440" y="0"/>
            <a:ext cx="1163880" cy="5584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948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404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3520" y="0"/>
            <a:ext cx="5365800" cy="5584680"/>
            <a:chOff x="533520" y="0"/>
            <a:chExt cx="5365800" cy="55846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955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3544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955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73544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576760" y="0"/>
            <a:ext cx="1163880" cy="5584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948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9404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386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520" y="0"/>
            <a:ext cx="6207120" cy="5584680"/>
            <a:chOff x="533520" y="0"/>
            <a:chExt cx="6207120" cy="55846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38955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473544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55767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955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473544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5767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4166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948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404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6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02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0"/>
            <a:ext cx="7046640" cy="5584680"/>
            <a:chOff x="533520" y="0"/>
            <a:chExt cx="7046640" cy="55846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38955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473544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55767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64166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8955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73544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576760" y="0"/>
            <a:ext cx="1163880" cy="5584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4166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7256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4948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404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386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02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147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0"/>
            <a:ext cx="7886520" cy="5584680"/>
            <a:chOff x="533520" y="0"/>
            <a:chExt cx="7886520" cy="55846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8955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73544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576760" y="0"/>
              <a:ext cx="116388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64166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7256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402300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5880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32732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0480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27050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40848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07664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757760" y="-196920"/>
            <a:ext cx="1163520" cy="5585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5400720" y="-196920"/>
            <a:ext cx="1163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484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14720" y="0"/>
            <a:ext cx="1163520" cy="558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56040" y="0"/>
            <a:ext cx="1163520" cy="558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400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7296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03120" y="245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0760" y="5060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0"/>
            <a:ext cx="3686040" cy="5584680"/>
            <a:chOff x="533520" y="0"/>
            <a:chExt cx="3686040" cy="558468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335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3748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221472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3056040" y="0"/>
              <a:ext cx="1163520" cy="55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4026240" y="5060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7:47:40Z</dcterms:modified>
  <cp:revision>16</cp:revision>
  <dc:subject/>
  <dc:title>PowerPoint プレゼンテーション</dc:title>
</cp:coreProperties>
</file>