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D1A-9557-4631-B3E9-AF99D21E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209-AAE8-46BA-891E-4F6AEFE4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FCA-7ED0-4DEE-8DFA-659A3ADA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21C-1DDB-44D1-BB1C-70FFDACD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D4C-1430-4B22-8360-3F3E901E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E03-9F4F-4AE0-805E-280D8E4C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90F-540A-430F-8710-D3CFEF24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024-00C0-4D10-9385-88F5EEF2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A43-C084-4DFD-86AE-FEEB064E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109-ADFB-4F8E-B97C-61FE879E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ADA-11E6-413A-AE88-632A8800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9E7-37CB-4C4B-B22A-383DDC85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791B-065B-4C46-B44C-D43D85F26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181480" y="1447920"/>
            <a:ext cx="2516400" cy="36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ＪＳＰ明朝"/>
              </a:rPr>
              <a:t>１</a:t>
            </a:r>
            <a:endParaRPr b="0" lang="en-US" sz="9600" spc="1" strike="noStrike">
              <a:ln w="28440">
                <a:solidFill>
                  <a:srgbClr val="ff66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ＪＳＰ明朝"/>
              <a:ea typeface="ＪＳＰ明朝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111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22860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9056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80972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82888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848040" y="1676520"/>
            <a:ext cx="1587600" cy="1904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6328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8244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0160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2076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0708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228600" y="1676520"/>
            <a:ext cx="5664240" cy="1904760"/>
            <a:chOff x="-228600" y="1676520"/>
            <a:chExt cx="5664240" cy="190476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-22860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79056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180972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282888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384804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2860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056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80972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82888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84804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867200" y="1676520"/>
            <a:ext cx="1587600" cy="1904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6328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8244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0160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2076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3992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0708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６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-228600" y="1676520"/>
            <a:ext cx="6683400" cy="1904760"/>
            <a:chOff x="-228600" y="1676520"/>
            <a:chExt cx="6683400" cy="190476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-22860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79056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180972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282888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384804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486720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25704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78128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80044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81960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483876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5857920" y="1676520"/>
            <a:ext cx="1587600" cy="1904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3484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5400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7316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9232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1148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064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0708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257040" y="1676520"/>
            <a:ext cx="7702560" cy="1904760"/>
            <a:chOff x="-257040" y="1676520"/>
            <a:chExt cx="7702560" cy="19047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-257040" y="1676520"/>
              <a:ext cx="15872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762120" y="1676520"/>
              <a:ext cx="15872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1781280" y="1676520"/>
              <a:ext cx="15872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4"/>
            <a:stretch/>
          </p:blipFill>
          <p:spPr>
            <a:xfrm>
              <a:off x="2800440" y="1676520"/>
              <a:ext cx="15872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5"/>
            <a:stretch/>
          </p:blipFill>
          <p:spPr>
            <a:xfrm>
              <a:off x="381960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6"/>
            <a:stretch/>
          </p:blipFill>
          <p:spPr>
            <a:xfrm>
              <a:off x="483876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7"/>
            <a:stretch/>
          </p:blipFill>
          <p:spPr>
            <a:xfrm>
              <a:off x="585792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25704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78128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80044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81960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483876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585792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6877080" y="1676520"/>
            <a:ext cx="1587600" cy="1904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484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5400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7316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9232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1148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064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4980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5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0708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25704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78128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280044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381960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83876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585792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6877080" y="1676520"/>
            <a:ext cx="1587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30492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1424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73340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275256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77208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479124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581040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682956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7848720" y="1676520"/>
            <a:ext cx="1587240" cy="1904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696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0612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2528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4444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6396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8312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0228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144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5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5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65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0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304920" y="1676520"/>
            <a:ext cx="1587600" cy="190476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714240" y="1676520"/>
            <a:ext cx="8721720" cy="1904760"/>
            <a:chOff x="714240" y="1676520"/>
            <a:chExt cx="8721720" cy="1904760"/>
          </a:xfrm>
        </p:grpSpPr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71424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173340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4"/>
            <a:stretch/>
          </p:blipFill>
          <p:spPr>
            <a:xfrm>
              <a:off x="2752560" y="1676520"/>
              <a:ext cx="1587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5"/>
            <a:stretch/>
          </p:blipFill>
          <p:spPr>
            <a:xfrm>
              <a:off x="3772080" y="1676520"/>
              <a:ext cx="15872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6"/>
            <a:stretch/>
          </p:blipFill>
          <p:spPr>
            <a:xfrm>
              <a:off x="4791240" y="1676520"/>
              <a:ext cx="15872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7"/>
            <a:stretch/>
          </p:blipFill>
          <p:spPr>
            <a:xfrm>
              <a:off x="5810400" y="1676520"/>
              <a:ext cx="15872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8"/>
            <a:stretch/>
          </p:blipFill>
          <p:spPr>
            <a:xfrm>
              <a:off x="6829560" y="1676520"/>
              <a:ext cx="15872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9"/>
            <a:stretch/>
          </p:blipFill>
          <p:spPr>
            <a:xfrm>
              <a:off x="7848720" y="1676520"/>
              <a:ext cx="1587240" cy="19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0708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71468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82880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6668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35053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434340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5181480" y="1752480"/>
            <a:ext cx="1714680" cy="2057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6019920" y="1752480"/>
            <a:ext cx="171432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6858000" y="1752480"/>
            <a:ext cx="1714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714680" cy="2057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0708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5704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1587240" cy="1904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484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0708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25704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15872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492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424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33400" y="1676520"/>
            <a:ext cx="1587600" cy="190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8696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0612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0708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0492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14240" y="1676520"/>
            <a:ext cx="1587600" cy="1904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33400" y="1676520"/>
            <a:ext cx="1587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25704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81280" y="16765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800440" y="1676520"/>
            <a:ext cx="1587240" cy="1904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484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5400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316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941200" y="4648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07080" y="4724280"/>
            <a:ext cx="25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0000"/>
                </a:solidFill>
                <a:latin typeface="Times New Roman"/>
              </a:rPr>
              <a:t>× </a:t>
            </a:r>
            <a:r>
              <a:rPr b="1" lang="zh-CN" sz="9600" spc="-1" strike="noStrike">
                <a:solidFill>
                  <a:srgbClr val="cc0000"/>
                </a:solidFill>
                <a:latin typeface="Times New Roman"/>
              </a:rPr>
              <a:t>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-257040" y="1676520"/>
            <a:ext cx="4644720" cy="1904760"/>
            <a:chOff x="-257040" y="1676520"/>
            <a:chExt cx="4644720" cy="190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-257040" y="1676520"/>
              <a:ext cx="15872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762120" y="1676520"/>
              <a:ext cx="15872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81280" y="1676520"/>
              <a:ext cx="15872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2800440" y="1676520"/>
              <a:ext cx="1587240" cy="19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04:00Z</dcterms:created>
  <dc:creator>ikka14</dc:creator>
  <dc:description/>
  <dc:language>en-US</dc:language>
  <cp:lastModifiedBy>T.Takeuchi</cp:lastModifiedBy>
  <dcterms:modified xsi:type="dcterms:W3CDTF">2004-03-10T06:04:40Z</dcterms:modified>
  <cp:revision>39</cp:revision>
  <dc:subject/>
  <dc:title>PowerPoint プレゼンテーション</dc:title>
</cp:coreProperties>
</file>