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EA22-EE39-4A33-B59A-C3DAC8F4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CE7-D03C-4EDC-B033-701DAA08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7A4D-5B86-4D60-BEF8-5941EF38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27D-D815-4907-9ADB-B46160E4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C07-A12B-4461-91D0-0EE3A32A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2F91-29F6-4970-9C24-F164054D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FC95-082D-4C07-8CAB-1E5725D5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149E-C4CB-43A1-BCB4-C63D417E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8BF-588E-476D-BC0D-A32DF400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0D6-1D78-492E-89BD-B12780D7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E4E-A726-4E32-B2B8-E55DB4C3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B0FB-3BD9-4B7C-A5B4-DDDBB043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D3C8-949E-4546-A7B0-100ED8C2A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105520" y="1523880"/>
            <a:ext cx="2516040" cy="366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６</a:t>
            </a:r>
            <a:endParaRPr b="0" lang="en-US" sz="9600" spc="1" strike="noStrike">
              <a:ln w="28440">
                <a:solidFill>
                  <a:srgbClr val="ff66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1952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7432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657600" y="0"/>
            <a:ext cx="1571760" cy="5029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0314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458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02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746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56480" y="48006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0"/>
            <a:ext cx="5229360" cy="5029200"/>
            <a:chOff x="0" y="0"/>
            <a:chExt cx="5229360" cy="50292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9144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18288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27432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36576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7432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6576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572000" y="0"/>
            <a:ext cx="1571760" cy="5029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314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458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602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746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90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56480" y="48006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0" y="0"/>
            <a:ext cx="6143760" cy="5029200"/>
            <a:chOff x="0" y="0"/>
            <a:chExt cx="6143760" cy="502920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9144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18288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4"/>
            <a:stretch/>
          </p:blipFill>
          <p:spPr>
            <a:xfrm>
              <a:off x="27432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36576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45720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7432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6576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5486400" y="0"/>
            <a:ext cx="1571760" cy="5029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314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458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602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746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890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034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56480" y="48006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0"/>
            <a:ext cx="7058160" cy="5029200"/>
            <a:chOff x="0" y="0"/>
            <a:chExt cx="7058160" cy="502920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9144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18288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27432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5"/>
            <a:stretch/>
          </p:blipFill>
          <p:spPr>
            <a:xfrm>
              <a:off x="36576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6"/>
            <a:stretch/>
          </p:blipFill>
          <p:spPr>
            <a:xfrm>
              <a:off x="45720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7"/>
            <a:stretch/>
          </p:blipFill>
          <p:spPr>
            <a:xfrm>
              <a:off x="54864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27432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36576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45720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54864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6400800" y="0"/>
            <a:ext cx="1571760" cy="5029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314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458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602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746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90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034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78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50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56480" y="48006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0" y="0"/>
            <a:ext cx="7972560" cy="5029200"/>
            <a:chOff x="0" y="0"/>
            <a:chExt cx="7972560" cy="502920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9144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3"/>
            <a:stretch/>
          </p:blipFill>
          <p:spPr>
            <a:xfrm>
              <a:off x="18288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4"/>
            <a:stretch/>
          </p:blipFill>
          <p:spPr>
            <a:xfrm>
              <a:off x="27432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5"/>
            <a:stretch/>
          </p:blipFill>
          <p:spPr>
            <a:xfrm>
              <a:off x="36576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6"/>
            <a:stretch/>
          </p:blipFill>
          <p:spPr>
            <a:xfrm>
              <a:off x="45720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7"/>
            <a:stretch/>
          </p:blipFill>
          <p:spPr>
            <a:xfrm>
              <a:off x="54864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8"/>
            <a:stretch/>
          </p:blipFill>
          <p:spPr>
            <a:xfrm>
              <a:off x="64008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27432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36576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45720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54864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64008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7315200" y="0"/>
            <a:ext cx="1571760" cy="50292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0314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458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602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746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90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034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178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322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4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5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5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000"/>
                            </p:stCondLst>
                            <p:childTnLst>
                              <p:par>
                                <p:cTn id="4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650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7000"/>
                            </p:stCondLst>
                            <p:childTnLst>
                              <p:par>
                                <p:cTn id="4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000"/>
                            </p:stCondLst>
                            <p:childTnLst>
                              <p:par>
                                <p:cTn id="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0"/>
            <a:ext cx="8886960" cy="5029200"/>
            <a:chOff x="0" y="0"/>
            <a:chExt cx="8886960" cy="502920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9144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18288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27432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5"/>
            <a:stretch/>
          </p:blipFill>
          <p:spPr>
            <a:xfrm>
              <a:off x="36576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6"/>
            <a:stretch/>
          </p:blipFill>
          <p:spPr>
            <a:xfrm>
              <a:off x="45720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7"/>
            <a:stretch/>
          </p:blipFill>
          <p:spPr>
            <a:xfrm>
              <a:off x="54864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8"/>
            <a:stretch/>
          </p:blipFill>
          <p:spPr>
            <a:xfrm>
              <a:off x="64008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9"/>
            <a:stretch/>
          </p:blipFill>
          <p:spPr>
            <a:xfrm>
              <a:off x="73152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4056480" y="48006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3716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0574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27432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34290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41148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48006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5486400" y="0"/>
            <a:ext cx="1571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5029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56480" y="48006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1571760" cy="5029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314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56480" y="48006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1571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571760" cy="5029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314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458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56480" y="48006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0"/>
            <a:ext cx="3400560" cy="5029200"/>
            <a:chOff x="0" y="0"/>
            <a:chExt cx="3400560" cy="50292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9144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>
              <a:off x="18288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571760" cy="5029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743200" y="0"/>
            <a:ext cx="1571760" cy="5029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14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458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602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56480" y="48006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4314960" cy="5029200"/>
            <a:chOff x="0" y="0"/>
            <a:chExt cx="4314960" cy="502920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9144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8288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2743200" y="0"/>
              <a:ext cx="1571760" cy="502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4:04:00Z</dcterms:created>
  <dc:creator>ikka14</dc:creator>
  <dc:description/>
  <dc:language>en-US</dc:language>
  <cp:lastModifiedBy>T.Takeuchi</cp:lastModifiedBy>
  <dcterms:modified xsi:type="dcterms:W3CDTF">2004-03-10T07:03:56Z</dcterms:modified>
  <cp:revision>23</cp:revision>
  <dc:subject/>
  <dc:title>PowerPoint プレゼンテーション</dc:title>
</cp:coreProperties>
</file>