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957-D720-498E-BB67-C912D17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537-6EEC-4678-A6AC-42DDBC1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14D-61A4-424E-B010-CD6C619E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FD8-396D-4A76-B11B-ECFF6304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036-2704-4F0B-B511-20B1361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DD2-D72E-496A-9195-388B23E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3A3-B03E-47CF-BF55-46039C12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548-CD25-49AE-9621-2EB01CA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303-8488-4849-8AA9-6B638C8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BD7-550C-4B74-881D-80DCDF3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FBF-4DCB-4137-8857-A87A7A8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AD7-660F-4E81-9668-C677219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56A-31D5-492B-A964-AA2C633A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1523880"/>
            <a:ext cx="251640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5840">
                  <a:solidFill>
                    <a:srgbClr val="ffff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８</a:t>
            </a:r>
            <a:endParaRPr b="0" lang="en-US" sz="9600" spc="1" strike="noStrike">
              <a:ln w="15840">
                <a:solidFill>
                  <a:srgbClr val="ffff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1563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7504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4156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6280" y="0"/>
            <a:ext cx="4940280" cy="5413320"/>
            <a:chOff x="206280" y="0"/>
            <a:chExt cx="4940280" cy="54133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87504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750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9268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4156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74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6280" y="0"/>
            <a:ext cx="5857920" cy="5413320"/>
            <a:chOff x="206280" y="0"/>
            <a:chExt cx="5857920" cy="54133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87504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79268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750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7926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71032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56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574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750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6280" y="0"/>
            <a:ext cx="6775560" cy="5413320"/>
            <a:chOff x="206280" y="0"/>
            <a:chExt cx="6775560" cy="54133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87504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79268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7103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750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7926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103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62796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4156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74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50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26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6280" y="0"/>
            <a:ext cx="7693200" cy="5413320"/>
            <a:chOff x="206280" y="0"/>
            <a:chExt cx="7693200" cy="54133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87504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79268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7103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6279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8750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7926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7103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6279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754380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156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574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750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26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103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06280" y="0"/>
            <a:ext cx="8609040" cy="5413320"/>
            <a:chOff x="206280" y="0"/>
            <a:chExt cx="8609040" cy="54133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87504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79268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7103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66279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75438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14040" y="4952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161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4256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03508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644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25440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38354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442764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005440" y="0"/>
            <a:ext cx="12715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14040" y="495288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56480" y="495288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3244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6280" y="0"/>
            <a:ext cx="3106800" cy="5413320"/>
            <a:chOff x="206280" y="0"/>
            <a:chExt cx="3106800" cy="54133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6280" y="0"/>
            <a:ext cx="1271520" cy="541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2392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41560" y="0"/>
            <a:ext cx="1271520" cy="541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959200" y="0"/>
            <a:ext cx="1271520" cy="5413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886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6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2392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036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648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06280" y="0"/>
            <a:ext cx="4024440" cy="5413320"/>
            <a:chOff x="206280" y="0"/>
            <a:chExt cx="4024440" cy="54133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06280" y="0"/>
              <a:ext cx="1271520" cy="54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112392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04156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959200" y="0"/>
              <a:ext cx="1271520" cy="541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7:24:37Z</dcterms:modified>
  <cp:revision>22</cp:revision>
  <dc:subject/>
  <dc:title>PowerPoint プレゼンテーション</dc:title>
</cp:coreProperties>
</file>