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FB1F-DA7B-416E-9DF0-2396F47FC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C437-129D-4482-BC44-D31F9E27B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743C-E8DD-4177-8900-2B5DA2455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93A4-45F9-4D4C-88FA-C7EB7F687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AEF7-8C03-4F70-B7BC-7BF09C28D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5F95-04CE-4B72-AEDA-179294ECC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AA6D-8B2D-48CC-BA5E-E48AFBB73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707F-518F-4550-A884-EA956D2D3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E619-815F-4AB9-9B96-B2B3B0D94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3A07-B1BD-48AC-BE46-8837E65A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A8F7-0556-4BD5-9B8A-35AF04EF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B445-25C3-46C7-A55F-225E43B4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2D0B8-08A3-40A5-AC93-BEA35692B46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9.gi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9.gi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9.gif"/><Relationship Id="rId9" Type="http://schemas.openxmlformats.org/officeDocument/2006/relationships/image" Target="../media/image10.gif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9.gif"/><Relationship Id="rId9" Type="http://schemas.openxmlformats.org/officeDocument/2006/relationships/image" Target="../media/image10.gi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9.gif"/><Relationship Id="rId9" Type="http://schemas.openxmlformats.org/officeDocument/2006/relationships/image" Target="../media/image10.gi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800600" y="1447920"/>
            <a:ext cx="2516040" cy="366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28440">
                  <a:solidFill>
                    <a:srgbClr val="ff6600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ＭＳ Ｐゴシック"/>
              </a:rPr>
              <a:t>５</a:t>
            </a:r>
            <a:endParaRPr b="0" lang="en-US" sz="9600" spc="1" strike="noStrike">
              <a:ln w="28440">
                <a:solidFill>
                  <a:srgbClr val="ff6600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ＭＳ Ｐゴシック"/>
              <a:ea typeface="ＭＳ Ｐゴシック"/>
            </a:endParaRPr>
          </a:p>
        </p:txBody>
      </p:sp>
      <p:pic>
        <p:nvPicPr>
          <p:cNvPr id="42" name="５×１" descr=""/>
          <p:cNvPicPr/>
          <p:nvPr/>
        </p:nvPicPr>
        <p:blipFill>
          <a:blip r:embed="rId1"/>
          <a:stretch/>
        </p:blipFill>
        <p:spPr>
          <a:xfrm>
            <a:off x="1371600" y="304920"/>
            <a:ext cx="2154240" cy="59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790360" y="480060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５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-155520" y="0"/>
            <a:ext cx="1636560" cy="48006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825480" y="0"/>
            <a:ext cx="1636560" cy="48006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806480" y="0"/>
            <a:ext cx="1636920" cy="4800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2787480" y="0"/>
            <a:ext cx="1636920" cy="4800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3768840" y="0"/>
            <a:ext cx="1636560" cy="48006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941040" y="2057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22040" y="2057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903040" y="2057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84400" y="2057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000"/>
                            </p:stCondLst>
                            <p:childTnLst>
                              <p:par>
                                <p:cTn id="1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500"/>
                            </p:stCondLst>
                            <p:childTnLst>
                              <p:par>
                                <p:cTn id="1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790360" y="480060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５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56480" y="4800600"/>
            <a:ext cx="220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５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-155520" y="0"/>
            <a:ext cx="5560920" cy="4800600"/>
            <a:chOff x="-155520" y="0"/>
            <a:chExt cx="5560920" cy="480060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-155520" y="0"/>
              <a:ext cx="1636560" cy="48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>
              <a:off x="825480" y="0"/>
              <a:ext cx="1636560" cy="48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3"/>
            <a:stretch/>
          </p:blipFill>
          <p:spPr>
            <a:xfrm>
              <a:off x="1806480" y="0"/>
              <a:ext cx="1636920" cy="48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2787480" y="0"/>
              <a:ext cx="1636920" cy="48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5"/>
            <a:stretch/>
          </p:blipFill>
          <p:spPr>
            <a:xfrm>
              <a:off x="3768840" y="0"/>
              <a:ext cx="1636560" cy="4800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790360" y="480060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５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-219240" y="0"/>
            <a:ext cx="1636920" cy="48006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62120" y="0"/>
            <a:ext cx="1636560" cy="4800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43120" y="0"/>
            <a:ext cx="1636560" cy="4800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2724120" y="0"/>
            <a:ext cx="1636920" cy="48006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3705120" y="0"/>
            <a:ext cx="1636920" cy="4800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4686480" y="0"/>
            <a:ext cx="1636560" cy="48006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877680" y="2057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858680" y="2057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39680" y="2057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20680" y="2057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02040" y="2057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500"/>
                            </p:stCondLst>
                            <p:childTnLst>
                              <p:par>
                                <p:cTn id="2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300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4500"/>
                            </p:stCondLst>
                            <p:childTnLst>
                              <p:par>
                                <p:cTn id="2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0"/>
                            </p:stCondLst>
                            <p:childTnLst>
                              <p:par>
                                <p:cTn id="2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790360" y="480060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５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56480" y="4800600"/>
            <a:ext cx="220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６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-219240" y="0"/>
            <a:ext cx="6542280" cy="4800600"/>
            <a:chOff x="-219240" y="0"/>
            <a:chExt cx="6542280" cy="4800600"/>
          </a:xfrm>
        </p:grpSpPr>
        <p:pic>
          <p:nvPicPr>
            <p:cNvPr id="116" name="" descr=""/>
            <p:cNvPicPr/>
            <p:nvPr/>
          </p:nvPicPr>
          <p:blipFill>
            <a:blip r:embed="rId1"/>
            <a:stretch/>
          </p:blipFill>
          <p:spPr>
            <a:xfrm>
              <a:off x="-219240" y="0"/>
              <a:ext cx="1636920" cy="48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2"/>
            <a:stretch/>
          </p:blipFill>
          <p:spPr>
            <a:xfrm>
              <a:off x="762120" y="0"/>
              <a:ext cx="1636560" cy="48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3"/>
            <a:stretch/>
          </p:blipFill>
          <p:spPr>
            <a:xfrm>
              <a:off x="1743120" y="0"/>
              <a:ext cx="1636560" cy="48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4"/>
            <a:stretch/>
          </p:blipFill>
          <p:spPr>
            <a:xfrm>
              <a:off x="2724120" y="0"/>
              <a:ext cx="1636920" cy="48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5"/>
            <a:stretch/>
          </p:blipFill>
          <p:spPr>
            <a:xfrm>
              <a:off x="3705120" y="0"/>
              <a:ext cx="1636920" cy="48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6"/>
            <a:stretch/>
          </p:blipFill>
          <p:spPr>
            <a:xfrm>
              <a:off x="4686480" y="0"/>
              <a:ext cx="1636560" cy="4800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790360" y="480060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５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-174600" y="0"/>
            <a:ext cx="1636560" cy="48006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806400" y="0"/>
            <a:ext cx="1636920" cy="48006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787400" y="0"/>
            <a:ext cx="1636920" cy="48006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2768760" y="0"/>
            <a:ext cx="1636560" cy="4800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3749760" y="0"/>
            <a:ext cx="1636560" cy="48006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4730760" y="0"/>
            <a:ext cx="1636560" cy="48006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5711760" y="0"/>
            <a:ext cx="1636920" cy="48006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921960" y="2057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02960" y="2057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84320" y="2057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65320" y="2057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46320" y="2057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827320" y="2057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500"/>
                            </p:stCondLst>
                            <p:childTnLst>
                              <p:par>
                                <p:cTn id="2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500"/>
                            </p:stCondLst>
                            <p:childTnLst>
                              <p:par>
                                <p:cTn id="2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000"/>
                            </p:stCondLst>
                            <p:childTnLst>
                              <p:par>
                                <p:cTn id="2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4500"/>
                            </p:stCondLst>
                            <p:childTnLst>
                              <p:par>
                                <p:cTn id="2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0"/>
                            </p:stCondLst>
                            <p:childTnLst>
                              <p:par>
                                <p:cTn id="3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500"/>
                            </p:stCondLst>
                            <p:childTnLst>
                              <p:par>
                                <p:cTn id="3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6000"/>
                            </p:stCondLst>
                            <p:childTnLst>
                              <p:par>
                                <p:cTn id="3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790360" y="480060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５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56480" y="4800600"/>
            <a:ext cx="220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７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-174600" y="0"/>
            <a:ext cx="7523280" cy="4800600"/>
            <a:chOff x="-174600" y="0"/>
            <a:chExt cx="7523280" cy="4800600"/>
          </a:xfrm>
        </p:grpSpPr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>
              <a:off x="-174600" y="0"/>
              <a:ext cx="1636560" cy="48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2"/>
            <a:stretch/>
          </p:blipFill>
          <p:spPr>
            <a:xfrm>
              <a:off x="806400" y="0"/>
              <a:ext cx="1636920" cy="48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3"/>
            <a:stretch/>
          </p:blipFill>
          <p:spPr>
            <a:xfrm>
              <a:off x="1787400" y="0"/>
              <a:ext cx="1636920" cy="48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4"/>
            <a:stretch/>
          </p:blipFill>
          <p:spPr>
            <a:xfrm>
              <a:off x="2768760" y="0"/>
              <a:ext cx="1636560" cy="48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5"/>
            <a:stretch/>
          </p:blipFill>
          <p:spPr>
            <a:xfrm>
              <a:off x="3749760" y="0"/>
              <a:ext cx="1636560" cy="48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6"/>
            <a:stretch/>
          </p:blipFill>
          <p:spPr>
            <a:xfrm>
              <a:off x="4730760" y="0"/>
              <a:ext cx="1636560" cy="48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7"/>
            <a:stretch/>
          </p:blipFill>
          <p:spPr>
            <a:xfrm>
              <a:off x="5711760" y="0"/>
              <a:ext cx="1636920" cy="4800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790360" y="480060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５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1636560" cy="48006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828720" y="0"/>
            <a:ext cx="1636560" cy="48006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1809720" y="0"/>
            <a:ext cx="1636920" cy="48006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2790720" y="0"/>
            <a:ext cx="1636920" cy="48006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3772080" y="0"/>
            <a:ext cx="1636560" cy="48006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6"/>
          <a:stretch/>
        </p:blipFill>
        <p:spPr>
          <a:xfrm>
            <a:off x="4753080" y="0"/>
            <a:ext cx="1636560" cy="48006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7"/>
          <a:stretch/>
        </p:blipFill>
        <p:spPr>
          <a:xfrm>
            <a:off x="5734080" y="0"/>
            <a:ext cx="1636560" cy="48006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8"/>
          <a:stretch/>
        </p:blipFill>
        <p:spPr>
          <a:xfrm>
            <a:off x="6715080" y="0"/>
            <a:ext cx="1636920" cy="48006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944280" y="2057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25280" y="2057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906280" y="2057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87640" y="2057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68640" y="2057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849640" y="2057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30640" y="2057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500"/>
                            </p:stCondLst>
                            <p:childTnLst>
                              <p:par>
                                <p:cTn id="3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500"/>
                            </p:stCondLst>
                            <p:childTnLst>
                              <p:par>
                                <p:cTn id="3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3000"/>
                            </p:stCondLst>
                            <p:childTnLst>
                              <p:par>
                                <p:cTn id="3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500"/>
                            </p:stCondLst>
                            <p:childTnLst>
                              <p:par>
                                <p:cTn id="3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4000"/>
                            </p:stCondLst>
                            <p:childTnLst>
                              <p:par>
                                <p:cTn id="3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4500"/>
                            </p:stCondLst>
                            <p:childTnLst>
                              <p:par>
                                <p:cTn id="3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0"/>
                            </p:stCondLst>
                            <p:childTnLst>
                              <p:par>
                                <p:cTn id="3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500"/>
                            </p:stCondLst>
                            <p:childTnLst>
                              <p:par>
                                <p:cTn id="3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6000"/>
                            </p:stCondLst>
                            <p:childTnLst>
                              <p:par>
                                <p:cTn id="3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6500"/>
                            </p:stCondLst>
                            <p:childTnLst>
                              <p:par>
                                <p:cTn id="3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7000"/>
                            </p:stCondLst>
                            <p:childTnLst>
                              <p:par>
                                <p:cTn id="3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790360" y="480060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５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056480" y="4800600"/>
            <a:ext cx="220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８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-152280" y="0"/>
            <a:ext cx="8504280" cy="4800600"/>
            <a:chOff x="-152280" y="0"/>
            <a:chExt cx="8504280" cy="4800600"/>
          </a:xfrm>
        </p:grpSpPr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-152280" y="0"/>
              <a:ext cx="1636560" cy="48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2"/>
            <a:stretch/>
          </p:blipFill>
          <p:spPr>
            <a:xfrm>
              <a:off x="828720" y="0"/>
              <a:ext cx="1636560" cy="48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3"/>
            <a:stretch/>
          </p:blipFill>
          <p:spPr>
            <a:xfrm>
              <a:off x="1809720" y="0"/>
              <a:ext cx="1636920" cy="48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4"/>
            <a:stretch/>
          </p:blipFill>
          <p:spPr>
            <a:xfrm>
              <a:off x="2790720" y="0"/>
              <a:ext cx="1636920" cy="48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5"/>
            <a:stretch/>
          </p:blipFill>
          <p:spPr>
            <a:xfrm>
              <a:off x="3772080" y="0"/>
              <a:ext cx="1636560" cy="48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" descr=""/>
            <p:cNvPicPr/>
            <p:nvPr/>
          </p:nvPicPr>
          <p:blipFill>
            <a:blip r:embed="rId6"/>
            <a:stretch/>
          </p:blipFill>
          <p:spPr>
            <a:xfrm>
              <a:off x="4753080" y="0"/>
              <a:ext cx="1636560" cy="48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7"/>
            <a:stretch/>
          </p:blipFill>
          <p:spPr>
            <a:xfrm>
              <a:off x="5734080" y="0"/>
              <a:ext cx="1636560" cy="48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8"/>
            <a:stretch/>
          </p:blipFill>
          <p:spPr>
            <a:xfrm>
              <a:off x="6715080" y="0"/>
              <a:ext cx="1636920" cy="4800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1636560" cy="48006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828720" y="0"/>
            <a:ext cx="1636560" cy="48006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1809720" y="0"/>
            <a:ext cx="1636920" cy="48006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2790720" y="0"/>
            <a:ext cx="1636920" cy="48006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3772080" y="0"/>
            <a:ext cx="1636560" cy="48006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6"/>
          <a:stretch/>
        </p:blipFill>
        <p:spPr>
          <a:xfrm>
            <a:off x="4753080" y="0"/>
            <a:ext cx="1636560" cy="48006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7"/>
          <a:stretch/>
        </p:blipFill>
        <p:spPr>
          <a:xfrm>
            <a:off x="5734080" y="0"/>
            <a:ext cx="1636560" cy="48006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8"/>
          <a:stretch/>
        </p:blipFill>
        <p:spPr>
          <a:xfrm>
            <a:off x="6715080" y="0"/>
            <a:ext cx="1636920" cy="48006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9"/>
          <a:stretch/>
        </p:blipFill>
        <p:spPr>
          <a:xfrm>
            <a:off x="7696080" y="0"/>
            <a:ext cx="1636920" cy="48006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790360" y="480060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５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44280" y="2057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25280" y="2057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906280" y="2057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87640" y="2057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68640" y="2057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849640" y="2057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30640" y="2057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811640" y="2057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500"/>
                            </p:stCondLst>
                            <p:childTnLst>
                              <p:par>
                                <p:cTn id="4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2500"/>
                            </p:stCondLst>
                            <p:childTnLst>
                              <p:par>
                                <p:cTn id="4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3500"/>
                            </p:stCondLst>
                            <p:childTnLst>
                              <p:par>
                                <p:cTn id="4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4000"/>
                            </p:stCondLst>
                            <p:childTnLst>
                              <p:par>
                                <p:cTn id="4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4500"/>
                            </p:stCondLst>
                            <p:childTnLst>
                              <p:par>
                                <p:cTn id="4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0"/>
                            </p:stCondLst>
                            <p:childTnLst>
                              <p:par>
                                <p:cTn id="4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500"/>
                            </p:stCondLst>
                            <p:childTnLst>
                              <p:par>
                                <p:cTn id="4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6000"/>
                            </p:stCondLst>
                            <p:childTnLst>
                              <p:par>
                                <p:cTn id="4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6500"/>
                            </p:stCondLst>
                            <p:childTnLst>
                              <p:par>
                                <p:cTn id="4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7000"/>
                            </p:stCondLst>
                            <p:childTnLst>
                              <p:par>
                                <p:cTn id="4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7500"/>
                            </p:stCondLst>
                            <p:childTnLst>
                              <p:par>
                                <p:cTn id="4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8000"/>
                            </p:stCondLst>
                            <p:childTnLst>
                              <p:par>
                                <p:cTn id="4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"/>
          <p:cNvGrpSpPr/>
          <p:nvPr/>
        </p:nvGrpSpPr>
        <p:grpSpPr>
          <a:xfrm>
            <a:off x="-152280" y="0"/>
            <a:ext cx="8504280" cy="4800600"/>
            <a:chOff x="-152280" y="0"/>
            <a:chExt cx="8504280" cy="4800600"/>
          </a:xfrm>
        </p:grpSpPr>
        <p:pic>
          <p:nvPicPr>
            <p:cNvPr id="192" name="" descr=""/>
            <p:cNvPicPr/>
            <p:nvPr/>
          </p:nvPicPr>
          <p:blipFill>
            <a:blip r:embed="rId1"/>
            <a:stretch/>
          </p:blipFill>
          <p:spPr>
            <a:xfrm>
              <a:off x="-152280" y="0"/>
              <a:ext cx="1636560" cy="48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2"/>
            <a:stretch/>
          </p:blipFill>
          <p:spPr>
            <a:xfrm>
              <a:off x="828720" y="0"/>
              <a:ext cx="1636560" cy="48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3"/>
            <a:stretch/>
          </p:blipFill>
          <p:spPr>
            <a:xfrm>
              <a:off x="1809720" y="0"/>
              <a:ext cx="1636920" cy="48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4"/>
            <a:stretch/>
          </p:blipFill>
          <p:spPr>
            <a:xfrm>
              <a:off x="2790720" y="0"/>
              <a:ext cx="1636920" cy="48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5"/>
            <a:stretch/>
          </p:blipFill>
          <p:spPr>
            <a:xfrm>
              <a:off x="3772080" y="0"/>
              <a:ext cx="1636560" cy="48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6"/>
            <a:stretch/>
          </p:blipFill>
          <p:spPr>
            <a:xfrm>
              <a:off x="4753080" y="0"/>
              <a:ext cx="1636560" cy="48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7"/>
            <a:stretch/>
          </p:blipFill>
          <p:spPr>
            <a:xfrm>
              <a:off x="5734080" y="0"/>
              <a:ext cx="1636560" cy="48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8"/>
            <a:stretch/>
          </p:blipFill>
          <p:spPr>
            <a:xfrm>
              <a:off x="6715080" y="0"/>
              <a:ext cx="1636920" cy="4800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0" name="" descr=""/>
          <p:cNvPicPr/>
          <p:nvPr/>
        </p:nvPicPr>
        <p:blipFill>
          <a:blip r:embed="rId9"/>
          <a:stretch/>
        </p:blipFill>
        <p:spPr>
          <a:xfrm>
            <a:off x="7696080" y="0"/>
            <a:ext cx="1636920" cy="48006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2790360" y="480060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５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56480" y="4800600"/>
            <a:ext cx="220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９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14680" cy="5029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790360" y="480060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５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５－１" descr=""/>
          <p:cNvPicPr/>
          <p:nvPr/>
        </p:nvPicPr>
        <p:blipFill>
          <a:blip r:embed="rId1"/>
          <a:stretch/>
        </p:blipFill>
        <p:spPr>
          <a:xfrm>
            <a:off x="0" y="0"/>
            <a:ext cx="1714680" cy="5029200"/>
          </a:xfrm>
          <a:prstGeom prst="rect">
            <a:avLst/>
          </a:prstGeom>
          <a:ln w="0">
            <a:noFill/>
          </a:ln>
        </p:spPr>
      </p:pic>
      <p:pic>
        <p:nvPicPr>
          <p:cNvPr id="204" name="５－２" descr=""/>
          <p:cNvPicPr/>
          <p:nvPr/>
        </p:nvPicPr>
        <p:blipFill>
          <a:blip r:embed="rId2"/>
          <a:stretch/>
        </p:blipFill>
        <p:spPr>
          <a:xfrm>
            <a:off x="838080" y="0"/>
            <a:ext cx="1714680" cy="5029200"/>
          </a:xfrm>
          <a:prstGeom prst="rect">
            <a:avLst/>
          </a:prstGeom>
          <a:ln w="0">
            <a:noFill/>
          </a:ln>
        </p:spPr>
      </p:pic>
      <p:pic>
        <p:nvPicPr>
          <p:cNvPr id="205" name="５－３" descr=""/>
          <p:cNvPicPr/>
          <p:nvPr/>
        </p:nvPicPr>
        <p:blipFill>
          <a:blip r:embed="rId3"/>
          <a:stretch/>
        </p:blipFill>
        <p:spPr>
          <a:xfrm>
            <a:off x="1676520" y="0"/>
            <a:ext cx="1714320" cy="5029200"/>
          </a:xfrm>
          <a:prstGeom prst="rect">
            <a:avLst/>
          </a:prstGeom>
          <a:ln w="0">
            <a:noFill/>
          </a:ln>
        </p:spPr>
      </p:pic>
      <p:pic>
        <p:nvPicPr>
          <p:cNvPr id="206" name="５－４" descr=""/>
          <p:cNvPicPr/>
          <p:nvPr/>
        </p:nvPicPr>
        <p:blipFill>
          <a:blip r:embed="rId4"/>
          <a:stretch/>
        </p:blipFill>
        <p:spPr>
          <a:xfrm>
            <a:off x="2438280" y="0"/>
            <a:ext cx="1714680" cy="5029200"/>
          </a:xfrm>
          <a:prstGeom prst="rect">
            <a:avLst/>
          </a:prstGeom>
          <a:ln w="0">
            <a:noFill/>
          </a:ln>
        </p:spPr>
      </p:pic>
      <p:pic>
        <p:nvPicPr>
          <p:cNvPr id="207" name="５－５" descr=""/>
          <p:cNvPicPr/>
          <p:nvPr/>
        </p:nvPicPr>
        <p:blipFill>
          <a:blip r:embed="rId5"/>
          <a:stretch/>
        </p:blipFill>
        <p:spPr>
          <a:xfrm>
            <a:off x="3200400" y="0"/>
            <a:ext cx="1714680" cy="5029200"/>
          </a:xfrm>
          <a:prstGeom prst="rect">
            <a:avLst/>
          </a:prstGeom>
          <a:ln w="0">
            <a:noFill/>
          </a:ln>
        </p:spPr>
      </p:pic>
      <p:pic>
        <p:nvPicPr>
          <p:cNvPr id="208" name="５－６" descr=""/>
          <p:cNvPicPr/>
          <p:nvPr/>
        </p:nvPicPr>
        <p:blipFill>
          <a:blip r:embed="rId6"/>
          <a:stretch/>
        </p:blipFill>
        <p:spPr>
          <a:xfrm>
            <a:off x="3962520" y="0"/>
            <a:ext cx="1714320" cy="5029200"/>
          </a:xfrm>
          <a:prstGeom prst="rect">
            <a:avLst/>
          </a:prstGeom>
          <a:ln w="0">
            <a:noFill/>
          </a:ln>
        </p:spPr>
      </p:pic>
      <p:pic>
        <p:nvPicPr>
          <p:cNvPr id="209" name="５－７" descr=""/>
          <p:cNvPicPr/>
          <p:nvPr/>
        </p:nvPicPr>
        <p:blipFill>
          <a:blip r:embed="rId7"/>
          <a:stretch/>
        </p:blipFill>
        <p:spPr>
          <a:xfrm>
            <a:off x="4724280" y="0"/>
            <a:ext cx="1714680" cy="5029200"/>
          </a:xfrm>
          <a:prstGeom prst="rect">
            <a:avLst/>
          </a:prstGeom>
          <a:ln w="0">
            <a:noFill/>
          </a:ln>
        </p:spPr>
      </p:pic>
      <p:pic>
        <p:nvPicPr>
          <p:cNvPr id="210" name="５－８" descr=""/>
          <p:cNvPicPr/>
          <p:nvPr/>
        </p:nvPicPr>
        <p:blipFill>
          <a:blip r:embed="rId8"/>
          <a:stretch/>
        </p:blipFill>
        <p:spPr>
          <a:xfrm>
            <a:off x="5486400" y="0"/>
            <a:ext cx="1714680" cy="5029200"/>
          </a:xfrm>
          <a:prstGeom prst="rect">
            <a:avLst/>
          </a:prstGeom>
          <a:ln w="0">
            <a:noFill/>
          </a:ln>
        </p:spPr>
      </p:pic>
      <p:pic>
        <p:nvPicPr>
          <p:cNvPr id="211" name="５－９" descr=""/>
          <p:cNvPicPr/>
          <p:nvPr/>
        </p:nvPicPr>
        <p:blipFill>
          <a:blip r:embed="rId9"/>
          <a:stretch/>
        </p:blipFill>
        <p:spPr>
          <a:xfrm>
            <a:off x="6248520" y="0"/>
            <a:ext cx="17143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14680" cy="5029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790360" y="480060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５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056480" y="4800600"/>
            <a:ext cx="220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１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790360" y="480060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５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36560" cy="4800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81000" y="0"/>
            <a:ext cx="1636920" cy="4800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096560" y="2057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790360" y="480060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５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056480" y="4800600"/>
            <a:ext cx="220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２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36560" cy="4800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81000" y="0"/>
            <a:ext cx="16369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790360" y="480060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５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36560" cy="4800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981000" y="0"/>
            <a:ext cx="1636920" cy="480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962000" y="0"/>
            <a:ext cx="1636920" cy="4800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096560" y="2057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77560" y="2057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790360" y="480060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５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56480" y="4800600"/>
            <a:ext cx="220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３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0" y="0"/>
            <a:ext cx="3598920" cy="4800600"/>
            <a:chOff x="0" y="0"/>
            <a:chExt cx="3598920" cy="4800600"/>
          </a:xfrm>
        </p:grpSpPr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636560" cy="48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981000" y="0"/>
              <a:ext cx="1636920" cy="48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3"/>
            <a:stretch/>
          </p:blipFill>
          <p:spPr>
            <a:xfrm>
              <a:off x="1962000" y="0"/>
              <a:ext cx="1636920" cy="4800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790360" y="480060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５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36560" cy="4800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981000" y="0"/>
            <a:ext cx="1636920" cy="4800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962000" y="0"/>
            <a:ext cx="1636920" cy="48006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2943360" y="0"/>
            <a:ext cx="1636560" cy="4800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096560" y="2057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77560" y="2057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58920" y="2057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790360" y="480060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５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56480" y="4800600"/>
            <a:ext cx="220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４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0" y="0"/>
            <a:ext cx="4579920" cy="4800600"/>
            <a:chOff x="0" y="0"/>
            <a:chExt cx="4579920" cy="4800600"/>
          </a:xfrm>
        </p:grpSpPr>
        <p:pic>
          <p:nvPicPr>
            <p:cNvPr id="7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636560" cy="48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981000" y="0"/>
              <a:ext cx="1636920" cy="48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1962000" y="0"/>
              <a:ext cx="1636920" cy="48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4"/>
            <a:stretch/>
          </p:blipFill>
          <p:spPr>
            <a:xfrm>
              <a:off x="2943360" y="0"/>
              <a:ext cx="1636560" cy="4800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04:04:00Z</dcterms:created>
  <dc:creator>ikka14</dc:creator>
  <dc:description/>
  <dc:language>en-US</dc:language>
  <cp:lastModifiedBy>T.Takeuchi</cp:lastModifiedBy>
  <dcterms:modified xsi:type="dcterms:W3CDTF">2004-03-10T06:55:19Z</dcterms:modified>
  <cp:revision>26</cp:revision>
  <dc:subject/>
  <dc:title>PowerPoint プレゼンテーション</dc:title>
</cp:coreProperties>
</file>