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E24-6AF5-4DA8-8BBB-1EDAC510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558-3143-4C43-8A39-8B3D92F8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686-E5DD-449D-9124-4661AC59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2D3-4CC4-4F2C-8460-BDD8BD54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33A-8DFD-4A01-B389-EE63A0B8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C6A-B675-432E-A0C5-6C537F93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AF0-F2D0-46FA-ADD0-69E8936F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B35-85C7-4EFF-85FD-59CBF40B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3D8-6CF2-4F6C-9422-3471D188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00A-EC06-4068-A1C6-F773836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587-8E49-45EB-B161-4C57A7B1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D8F-4B72-4F61-BBAC-1A6BCFA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6CB9-B693-4A8F-9795-1890391CB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257800" y="1523880"/>
            <a:ext cx="251604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７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18162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94796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87964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813120" y="0"/>
            <a:ext cx="1470240" cy="5486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74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62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3976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3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016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1000" y="0"/>
            <a:ext cx="5202360" cy="5486400"/>
            <a:chOff x="81000" y="0"/>
            <a:chExt cx="5202360" cy="54864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810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99072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194796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287964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381312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4796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87964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81312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466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74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062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3976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49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8016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1000" y="0"/>
            <a:ext cx="6135480" cy="5486400"/>
            <a:chOff x="81000" y="0"/>
            <a:chExt cx="6135480" cy="54864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810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99072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194796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287964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81312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47466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94796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87964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81312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746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567864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74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062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3976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73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49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384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8016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1000" y="0"/>
            <a:ext cx="7067520" cy="5486400"/>
            <a:chOff x="81000" y="0"/>
            <a:chExt cx="7067520" cy="5486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810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99072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94796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287964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81312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47466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567864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94796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87964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81312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746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67864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6611760" y="0"/>
            <a:ext cx="147024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74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062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3976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3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49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384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718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8016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1000" y="0"/>
            <a:ext cx="8001000" cy="5486400"/>
            <a:chOff x="81000" y="0"/>
            <a:chExt cx="8001000" cy="54864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810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99072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194796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287964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381312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"/>
            <a:stretch/>
          </p:blipFill>
          <p:spPr>
            <a:xfrm>
              <a:off x="47466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7"/>
            <a:stretch/>
          </p:blipFill>
          <p:spPr>
            <a:xfrm>
              <a:off x="567864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661176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94796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87964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81312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4746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567864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611760" y="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75438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74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62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3976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73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49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384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718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039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500"/>
                            </p:stCondLst>
                            <p:childTnLst>
                              <p:par>
                                <p:cTn id="4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5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000"/>
                            </p:stCondLst>
                            <p:childTnLst>
                              <p:par>
                                <p:cTn id="5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81000" y="0"/>
            <a:ext cx="8932680" cy="5486400"/>
            <a:chOff x="81000" y="0"/>
            <a:chExt cx="8932680" cy="54864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810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99072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194796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287964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381312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47466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567864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661176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75438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0384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87320" y="12600"/>
            <a:ext cx="1470240" cy="5486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452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1384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8242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510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1958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48816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5567400" y="0"/>
            <a:ext cx="1469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8016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74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8016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1469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47960" y="0"/>
            <a:ext cx="146988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74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62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8016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1000" y="0"/>
            <a:ext cx="3336840" cy="5486400"/>
            <a:chOff x="81000" y="0"/>
            <a:chExt cx="3336840" cy="54864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810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99072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194796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100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47960" y="0"/>
            <a:ext cx="1469880" cy="5486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879640" y="0"/>
            <a:ext cx="1470240" cy="5486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74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062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3976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14040" y="50292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80160" y="50292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000" y="0"/>
            <a:ext cx="4268880" cy="5486400"/>
            <a:chOff x="81000" y="0"/>
            <a:chExt cx="4268880" cy="54864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8100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9072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947960" y="0"/>
              <a:ext cx="146988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2879640" y="0"/>
              <a:ext cx="147024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T.Takeuchi</cp:lastModifiedBy>
  <dcterms:modified xsi:type="dcterms:W3CDTF">2004-03-10T07:12:31Z</dcterms:modified>
  <cp:revision>20</cp:revision>
  <dc:subject/>
  <dc:title>PowerPoint プレゼンテーション</dc:title>
</cp:coreProperties>
</file>