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916-6BC6-49B1-9785-A0832CAC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157-6DD8-4591-A3FC-7C922ED2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EEA-73FE-4814-85CF-5B0239FA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FDD-A4BB-4D9D-954C-166C817F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D78-0A5E-4B14-B15C-6E7A56C8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0FE-FE9D-4C4B-8B32-910CD7B6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71E-63A6-4BEB-BAC8-CB70CCE6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61E-6702-4127-AE3B-C7AC21A9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8A2-4E03-4E0A-BC7E-1B258943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1C3-571F-49E6-ACEE-C84990B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A92-7061-469B-82E8-DD7B8C2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FF9-58FC-496F-858E-FA11C26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86FC-8589-4E95-97DA-BAAE5330F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724280" y="1523880"/>
            <a:ext cx="251640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４</a:t>
            </a:r>
            <a:endParaRPr b="0" lang="en-US" sz="9600" spc="1" strike="noStrike">
              <a:ln w="19080">
                <a:solidFill>
                  <a:srgbClr val="ffcc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23259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54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908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86056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814920" y="457200"/>
            <a:ext cx="16682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99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2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06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457200"/>
            <a:ext cx="5483160" cy="4114800"/>
            <a:chOff x="0" y="457200"/>
            <a:chExt cx="5483160" cy="41148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954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1908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86056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81492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54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8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86056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814920" y="457200"/>
            <a:ext cx="16682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68920" y="457200"/>
            <a:ext cx="166824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99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2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06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0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129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457200"/>
            <a:ext cx="6437160" cy="4114800"/>
            <a:chOff x="0" y="457200"/>
            <a:chExt cx="6437160" cy="4114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954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1908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286056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81492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476892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54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908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86056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814920" y="457200"/>
            <a:ext cx="166824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768920" y="457200"/>
            <a:ext cx="166824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721480" y="457200"/>
            <a:ext cx="166824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99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2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6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0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129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69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457200"/>
            <a:ext cx="7389720" cy="4114800"/>
            <a:chOff x="0" y="457200"/>
            <a:chExt cx="7389720" cy="41148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954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908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286056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81492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476892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572148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54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908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86056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814920" y="457200"/>
            <a:ext cx="166824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768920" y="457200"/>
            <a:ext cx="166824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721480" y="457200"/>
            <a:ext cx="1668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6675480" y="457200"/>
            <a:ext cx="166860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99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2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06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0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129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69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2128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457200"/>
            <a:ext cx="8344080" cy="4114800"/>
            <a:chOff x="0" y="457200"/>
            <a:chExt cx="8344080" cy="41148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954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1908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286056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381492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"/>
            <a:stretch/>
          </p:blipFill>
          <p:spPr>
            <a:xfrm>
              <a:off x="476892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7"/>
            <a:stretch/>
          </p:blipFill>
          <p:spPr>
            <a:xfrm>
              <a:off x="572148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667548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152280" y="457200"/>
            <a:ext cx="1668240" cy="411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0172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5572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70828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66228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461628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556884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6523200" y="457200"/>
            <a:ext cx="166824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7475400" y="457200"/>
            <a:ext cx="1668600" cy="4114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475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008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5408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08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6064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464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6864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500"/>
                            </p:stCondLst>
                            <p:childTnLst>
                              <p:par>
                                <p:cTn id="4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5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000"/>
                            </p:stCondLst>
                            <p:childTnLst>
                              <p:par>
                                <p:cTn id="5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152280" y="457200"/>
            <a:ext cx="8343720" cy="4114800"/>
            <a:chOff x="-152280" y="457200"/>
            <a:chExt cx="8343720" cy="41148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-15228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80172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175572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270828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366228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461628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56884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6523200" y="457200"/>
              <a:ext cx="1668240" cy="411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7475400" y="457200"/>
            <a:ext cx="1668600" cy="4114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43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905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666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3429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4191120" y="533520"/>
            <a:ext cx="1714320" cy="4228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95288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5715000" y="533520"/>
            <a:ext cx="1714680" cy="4228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6477120" y="533520"/>
            <a:ext cx="17143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714680" cy="422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54000" y="457200"/>
            <a:ext cx="16686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9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54000" y="457200"/>
            <a:ext cx="166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54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08000" y="457200"/>
            <a:ext cx="16686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99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457200"/>
            <a:ext cx="3576600" cy="4114800"/>
            <a:chOff x="0" y="457200"/>
            <a:chExt cx="3576600" cy="4114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954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1908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54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08000" y="457200"/>
            <a:ext cx="166860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860560" y="457200"/>
            <a:ext cx="16686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9980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2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636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51560" y="464832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457200"/>
            <a:ext cx="4529160" cy="4114800"/>
            <a:chOff x="0" y="457200"/>
            <a:chExt cx="4529160" cy="41148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54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90800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2860560" y="457200"/>
              <a:ext cx="166860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6:46:18Z</dcterms:modified>
  <cp:revision>32</cp:revision>
  <dc:subject/>
  <dc:title>PowerPoint プレゼンテーション</dc:title>
</cp:coreProperties>
</file>